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6.gif" ContentType="image/gif"/>
  <Override PartName="/ppt/media/image7.png" ContentType="image/png"/>
  <Override PartName="/ppt/media/image9.jpeg" ContentType="image/jpeg"/>
  <Override PartName="/ppt/media/type.wav" ContentType="audio/x-wav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887-BCA4-495D-AF9D-627F6C92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A5B-704C-44B9-908A-E956692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AA9-C8CF-43E0-8C5F-48AD2E92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704-1CC9-4B8B-819F-6E3BBB6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45E6-C8CB-4003-8FA9-DC5CBD05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CD82-1B57-4F2B-855A-482EC9E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33BC-422B-4530-9FBF-2E89A5E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1EC2-4C8F-4F26-9554-CC6CA4A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BF9-3F18-4450-B94B-BEF5AA0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5278-D02A-4A9F-87BA-D017167C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E110-79D5-45D9-9FA8-BCF95E2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8FD-9C5A-4933-9839-E02DE4A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64D-EEB2-43A9-8788-1E5AFBAB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E8AE-92F9-4CF5-9E0D-BEE5478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481-A452-45A7-8CFC-AA3904F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1902-6C02-463E-BDF1-ACB40CC9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3B02-6283-4FB6-A5EE-6CA6318F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416-5B00-409C-8471-C8916D7C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729-C8E1-4D98-860D-82926889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F41-E173-441F-A986-8F42312C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6B2-2BCE-490A-A877-E5DA92C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FE0-71E3-45B9-8E32-71FC8C2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D52-047A-4C25-8519-8976A0B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775-28CF-4E02-8C3B-03F509C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479-3DD5-4F31-A625-F7CC19CF0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D64A-E99F-43E3-B399-29E282467E2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image" Target="../media/image2.jpeg"/><Relationship Id="rId5" Type="http://schemas.openxmlformats.org/officeDocument/2006/relationships/slide" Target="slide14.xml"/><Relationship Id="rId6" Type="http://schemas.openxmlformats.org/officeDocument/2006/relationships/image" Target="../media/image2.jpeg"/><Relationship Id="rId7" Type="http://schemas.openxmlformats.org/officeDocument/2006/relationships/slide" Target="slide13.xml"/><Relationship Id="rId8" Type="http://schemas.openxmlformats.org/officeDocument/2006/relationships/image" Target="../media/image2.jpeg"/><Relationship Id="rId9" Type="http://schemas.openxmlformats.org/officeDocument/2006/relationships/slide" Target="slide12.xml"/><Relationship Id="rId10" Type="http://schemas.openxmlformats.org/officeDocument/2006/relationships/image" Target="../media/image2.jpeg"/><Relationship Id="rId11" Type="http://schemas.openxmlformats.org/officeDocument/2006/relationships/slide" Target="slide11.xml"/><Relationship Id="rId12" Type="http://schemas.openxmlformats.org/officeDocument/2006/relationships/image" Target="../media/image2.jpeg"/><Relationship Id="rId13" Type="http://schemas.openxmlformats.org/officeDocument/2006/relationships/slide" Target="slide10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8.xml"/><Relationship Id="rId18" Type="http://schemas.openxmlformats.org/officeDocument/2006/relationships/image" Target="../media/image2.jpeg"/><Relationship Id="rId19" Type="http://schemas.openxmlformats.org/officeDocument/2006/relationships/slide" Target="slide7.xml"/><Relationship Id="rId20" Type="http://schemas.openxmlformats.org/officeDocument/2006/relationships/image" Target="../media/image2.jpeg"/><Relationship Id="rId21" Type="http://schemas.openxmlformats.org/officeDocument/2006/relationships/slide" Target="slide6.xml"/><Relationship Id="rId22" Type="http://schemas.openxmlformats.org/officeDocument/2006/relationships/image" Target="../media/image2.jpeg"/><Relationship Id="rId23" Type="http://schemas.openxmlformats.org/officeDocument/2006/relationships/slide" Target="slide5.xml"/><Relationship Id="rId24" Type="http://schemas.openxmlformats.org/officeDocument/2006/relationships/image" Target="../media/image2.jpeg"/><Relationship Id="rId25" Type="http://schemas.openxmlformats.org/officeDocument/2006/relationships/slide" Target="slide4.xml"/><Relationship Id="rId26" Type="http://schemas.openxmlformats.org/officeDocument/2006/relationships/image" Target="../media/image2.jpeg"/><Relationship Id="rId27" Type="http://schemas.openxmlformats.org/officeDocument/2006/relationships/slide" Target="slide3.xml"/><Relationship Id="rId28" Type="http://schemas.openxmlformats.org/officeDocument/2006/relationships/image" Target="../media/image2.jpeg"/><Relationship Id="rId29" Type="http://schemas.openxmlformats.org/officeDocument/2006/relationships/slide" Target="slide2.xml"/><Relationship Id="rId30" Type="http://schemas.openxmlformats.org/officeDocument/2006/relationships/image" Target="../media/image2.jpeg"/><Relationship Id="rId31" Type="http://schemas.openxmlformats.org/officeDocument/2006/relationships/slide" Target="slide19.xml"/><Relationship Id="rId32" Type="http://schemas.openxmlformats.org/officeDocument/2006/relationships/image" Target="../media/image3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slide" Target="slide5.xml"/><Relationship Id="rId7" Type="http://schemas.openxmlformats.org/officeDocument/2006/relationships/image" Target="../media/image8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image" Target="../media/image4.gif"/><Relationship Id="rId5" Type="http://schemas.openxmlformats.org/officeDocument/2006/relationships/image" Target="../media/image9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image" Target="../media/image7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9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4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4" descr="62379db25f2988af944847970208de7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Diagram 5"/>
          <p:cNvGrpSpPr/>
          <p:nvPr/>
        </p:nvGrpSpPr>
        <p:grpSpPr>
          <a:xfrm>
            <a:off x="646920" y="0"/>
            <a:ext cx="7227360" cy="6455520"/>
            <a:chOff x="646920" y="0"/>
            <a:chExt cx="7227360" cy="6455520"/>
          </a:xfrm>
        </p:grpSpPr>
        <p:sp>
          <p:nvSpPr>
            <p:cNvPr id="215" name="_s1028"/>
            <p:cNvSpPr/>
            <p:nvPr/>
          </p:nvSpPr>
          <p:spPr>
            <a:xfrm flipH="1" flipV="1">
              <a:off x="3102120" y="1099080"/>
              <a:ext cx="950400" cy="1737000"/>
            </a:xfrm>
            <a:prstGeom prst="line">
              <a:avLst/>
            </a:prstGeom>
            <a:ln cap="rnd" w="57240">
              <a:solidFill>
                <a:srgbClr val="99ff33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_s1029"/>
            <p:cNvSpPr/>
            <p:nvPr/>
          </p:nvSpPr>
          <p:spPr>
            <a:xfrm>
              <a:off x="2357640" y="265320"/>
              <a:ext cx="991080" cy="86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3" action="ppaction://hlinksldjump"/>
                </a:rPr>
                <a:t>14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_s1030"/>
            <p:cNvSpPr/>
            <p:nvPr/>
          </p:nvSpPr>
          <p:spPr>
            <a:xfrm flipH="1" flipV="1">
              <a:off x="2163600" y="1750680"/>
              <a:ext cx="1722960" cy="1206000"/>
            </a:xfrm>
            <a:prstGeom prst="line">
              <a:avLst/>
            </a:prstGeom>
            <a:ln cap="rnd" w="5724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1031"/>
            <p:cNvSpPr/>
            <p:nvPr/>
          </p:nvSpPr>
          <p:spPr>
            <a:xfrm>
              <a:off x="1253520" y="1050120"/>
              <a:ext cx="994320" cy="869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33cc33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5" action="ppaction://hlinksldjump"/>
                </a:rPr>
                <a:t>13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 flipH="1" flipV="1">
              <a:off x="1641600" y="2691360"/>
              <a:ext cx="2151360" cy="434880"/>
            </a:xfrm>
            <a:prstGeom prst="line">
              <a:avLst/>
            </a:prstGeom>
            <a:ln cap="rnd" w="57240">
              <a:solidFill>
                <a:srgbClr val="99ffcc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646920" y="2171880"/>
              <a:ext cx="994320" cy="869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7" action="ppaction://hlinksldjump"/>
                </a:rPr>
                <a:t>12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_s1034"/>
            <p:cNvSpPr/>
            <p:nvPr/>
          </p:nvSpPr>
          <p:spPr>
            <a:xfrm flipH="1">
              <a:off x="1641600" y="3306960"/>
              <a:ext cx="2151360" cy="432000"/>
            </a:xfrm>
            <a:prstGeom prst="line">
              <a:avLst/>
            </a:prstGeom>
            <a:ln cap="rnd" w="57240">
              <a:solidFill>
                <a:srgbClr val="a50021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646920" y="3413880"/>
              <a:ext cx="994320" cy="8697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57240">
              <a:solidFill>
                <a:srgbClr val="0066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9" action="ppaction://hlinksldjump"/>
                </a:rPr>
                <a:t>11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_s1036"/>
            <p:cNvSpPr/>
            <p:nvPr/>
          </p:nvSpPr>
          <p:spPr>
            <a:xfrm flipH="1">
              <a:off x="2163600" y="3474000"/>
              <a:ext cx="1722960" cy="1206000"/>
            </a:xfrm>
            <a:prstGeom prst="line">
              <a:avLst/>
            </a:prstGeom>
            <a:ln cap="rnd" w="57240">
              <a:solidFill>
                <a:srgbClr val="ccff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1269360" y="4538160"/>
              <a:ext cx="991080" cy="866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57240">
              <a:solidFill>
                <a:srgbClr val="ffcccc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1" action="ppaction://hlinksldjump"/>
                </a:rPr>
                <a:t>10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_s1038"/>
            <p:cNvSpPr/>
            <p:nvPr/>
          </p:nvSpPr>
          <p:spPr>
            <a:xfrm flipH="1">
              <a:off x="3102120" y="3597120"/>
              <a:ext cx="950400" cy="1737000"/>
            </a:xfrm>
            <a:prstGeom prst="line">
              <a:avLst/>
            </a:prstGeom>
            <a:ln cap="rnd" w="57240">
              <a:solidFill>
                <a:srgbClr val="ff0066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39"/>
            <p:cNvSpPr/>
            <p:nvPr/>
          </p:nvSpPr>
          <p:spPr>
            <a:xfrm>
              <a:off x="2385720" y="5309280"/>
              <a:ext cx="991080" cy="86688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57240">
              <a:solidFill>
                <a:srgbClr val="cc00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3" action="ppaction://hlinksldjump"/>
                </a:rPr>
                <a:t>9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40"/>
            <p:cNvSpPr/>
            <p:nvPr/>
          </p:nvSpPr>
          <p:spPr>
            <a:xfrm>
              <a:off x="4259160" y="3632400"/>
              <a:ext cx="0" cy="1928160"/>
            </a:xfrm>
            <a:prstGeom prst="line">
              <a:avLst/>
            </a:prstGeom>
            <a:ln cap="rnd" w="57240">
              <a:solidFill>
                <a:srgbClr val="ff0066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41"/>
            <p:cNvSpPr/>
            <p:nvPr/>
          </p:nvSpPr>
          <p:spPr>
            <a:xfrm>
              <a:off x="3777480" y="5585760"/>
              <a:ext cx="994320" cy="86976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57240">
              <a:solidFill>
                <a:srgbClr val="6600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5" action="ppaction://hlinksldjump"/>
                </a:rPr>
                <a:t>8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_s1042"/>
            <p:cNvSpPr/>
            <p:nvPr/>
          </p:nvSpPr>
          <p:spPr>
            <a:xfrm>
              <a:off x="4468680" y="3583440"/>
              <a:ext cx="950400" cy="1750680"/>
            </a:xfrm>
            <a:prstGeom prst="line">
              <a:avLst/>
            </a:prstGeom>
            <a:ln cap="rnd" w="57240">
              <a:solidFill>
                <a:srgbClr val="ff99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1043"/>
            <p:cNvSpPr/>
            <p:nvPr/>
          </p:nvSpPr>
          <p:spPr>
            <a:xfrm>
              <a:off x="5169240" y="5295600"/>
              <a:ext cx="994320" cy="8697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7" action="ppaction://hlinksldjump"/>
                </a:rPr>
                <a:t>7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_s1044"/>
            <p:cNvSpPr/>
            <p:nvPr/>
          </p:nvSpPr>
          <p:spPr>
            <a:xfrm>
              <a:off x="4631400" y="3462840"/>
              <a:ext cx="1726200" cy="1217160"/>
            </a:xfrm>
            <a:prstGeom prst="line">
              <a:avLst/>
            </a:prstGeom>
            <a:ln cap="rnd" w="57240">
              <a:solidFill>
                <a:srgbClr val="00ff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_s1045"/>
            <p:cNvSpPr/>
            <p:nvPr/>
          </p:nvSpPr>
          <p:spPr>
            <a:xfrm>
              <a:off x="6273360" y="4513320"/>
              <a:ext cx="994320" cy="86688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57240">
              <a:solidFill>
                <a:srgbClr val="339966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19" action="ppaction://hlinksldjump"/>
                </a:rPr>
                <a:t>6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_s1046"/>
            <p:cNvSpPr/>
            <p:nvPr/>
          </p:nvSpPr>
          <p:spPr>
            <a:xfrm>
              <a:off x="4715640" y="3293280"/>
              <a:ext cx="2163960" cy="445680"/>
            </a:xfrm>
            <a:prstGeom prst="line">
              <a:avLst/>
            </a:prstGeom>
            <a:ln cap="rnd" w="57240">
              <a:solidFill>
                <a:srgbClr val="9900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_s1047"/>
            <p:cNvSpPr/>
            <p:nvPr/>
          </p:nvSpPr>
          <p:spPr>
            <a:xfrm>
              <a:off x="6879960" y="3391920"/>
              <a:ext cx="994320" cy="86688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1" action="ppaction://hlinksldjump"/>
                </a:rPr>
                <a:t>5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1048"/>
            <p:cNvSpPr/>
            <p:nvPr/>
          </p:nvSpPr>
          <p:spPr>
            <a:xfrm flipV="1">
              <a:off x="4715640" y="2691360"/>
              <a:ext cx="2163960" cy="421200"/>
            </a:xfrm>
            <a:prstGeom prst="line">
              <a:avLst/>
            </a:prstGeom>
            <a:ln cap="rnd" w="57240">
              <a:solidFill>
                <a:srgbClr val="0080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_s1049"/>
            <p:cNvSpPr/>
            <p:nvPr/>
          </p:nvSpPr>
          <p:spPr>
            <a:xfrm>
              <a:off x="6867360" y="2147040"/>
              <a:ext cx="991080" cy="8697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57240">
              <a:solidFill>
                <a:srgbClr val="990099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22640" rIns="422640" tIns="211320" bIns="21132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3" action="ppaction://hlinksldjump"/>
                </a:rPr>
                <a:t>4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_s1050"/>
            <p:cNvSpPr/>
            <p:nvPr/>
          </p:nvSpPr>
          <p:spPr>
            <a:xfrm flipV="1">
              <a:off x="4618800" y="1750680"/>
              <a:ext cx="1738800" cy="1192320"/>
            </a:xfrm>
            <a:prstGeom prst="line">
              <a:avLst/>
            </a:prstGeom>
            <a:ln cap="rnd" w="57240">
              <a:solidFill>
                <a:srgbClr val="ff00ff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_s1051"/>
            <p:cNvSpPr/>
            <p:nvPr/>
          </p:nvSpPr>
          <p:spPr>
            <a:xfrm>
              <a:off x="6244920" y="1039320"/>
              <a:ext cx="994320" cy="86688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57240">
              <a:solidFill>
                <a:srgbClr val="00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520" rIns="0" tIns="185400" bIns="5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5" action="ppaction://hlinksldjump"/>
                </a:rPr>
                <a:t>3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_s1052"/>
            <p:cNvSpPr/>
            <p:nvPr/>
          </p:nvSpPr>
          <p:spPr>
            <a:xfrm flipV="1">
              <a:off x="4453200" y="1099080"/>
              <a:ext cx="966240" cy="173700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_s1053"/>
            <p:cNvSpPr/>
            <p:nvPr/>
          </p:nvSpPr>
          <p:spPr>
            <a:xfrm>
              <a:off x="5128560" y="265320"/>
              <a:ext cx="994320" cy="869760"/>
            </a:xfrm>
            <a:prstGeom prst="rect">
              <a:avLst/>
            </a:prstGeom>
            <a:blipFill rotWithShape="0">
              <a:blip r:embed="rId26"/>
              <a:srcRect/>
              <a:stretch/>
            </a:blip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7" action="ppaction://hlinksldjump"/>
                </a:rPr>
                <a:t>2</a:t>
              </a:r>
              <a:endParaRPr b="0" lang="en-US" sz="5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_s1054"/>
            <p:cNvSpPr/>
            <p:nvPr/>
          </p:nvSpPr>
          <p:spPr>
            <a:xfrm flipV="1">
              <a:off x="4246560" y="869760"/>
              <a:ext cx="0" cy="193104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_s1055"/>
            <p:cNvSpPr/>
            <p:nvPr/>
          </p:nvSpPr>
          <p:spPr>
            <a:xfrm>
              <a:off x="3749400" y="0"/>
              <a:ext cx="994320" cy="869760"/>
            </a:xfrm>
            <a:prstGeom prst="rect">
              <a:avLst/>
            </a:prstGeom>
            <a:blipFill rotWithShape="0">
              <a:blip r:embed="rId28"/>
              <a:srcRect/>
              <a:stretch/>
            </a:blipFill>
            <a:ln w="57240">
              <a:solidFill>
                <a:srgbClr val="ffff00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0520" rIns="470520" tIns="235440" bIns="235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aeaea"/>
                  </a:solidFill>
                  <a:latin typeface="Snap ITC"/>
                </a:rPr>
                <a:t> </a:t>
              </a:r>
              <a:r>
                <a:rPr b="0" lang="en-US" sz="2200" spc="-1" strike="noStrike">
                  <a:solidFill>
                    <a:srgbClr val="eaeaea"/>
                  </a:solidFill>
                  <a:latin typeface="Arial"/>
                </a:rPr>
                <a:t>    </a:t>
              </a:r>
              <a:r>
                <a:rPr b="0" lang="en-US" sz="5400" spc="-1" strike="noStrike" u="sng">
                  <a:solidFill>
                    <a:srgbClr val="65b2ff"/>
                  </a:solidFill>
                  <a:uFillTx/>
                  <a:latin typeface="Snap ITC"/>
                  <a:hlinkClick r:id="rId29" action="ppaction://hlinksldjump"/>
                </a:rPr>
                <a:t>1</a:t>
              </a:r>
              <a:r>
                <a:rPr b="1" lang="en-US" sz="7700" spc="-1" strike="noStrike">
                  <a:solidFill>
                    <a:srgbClr val="eaeaea"/>
                  </a:solidFill>
                  <a:latin typeface="Snap ITC"/>
                </a:rPr>
                <a:t>	</a:t>
              </a:r>
              <a:endParaRPr b="0" lang="en-US" sz="7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_s1056"/>
            <p:cNvSpPr/>
            <p:nvPr/>
          </p:nvSpPr>
          <p:spPr>
            <a:xfrm>
              <a:off x="3749400" y="2800800"/>
              <a:ext cx="994320" cy="866880"/>
            </a:xfrm>
            <a:prstGeom prst="rect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73040" rIns="473040" tIns="236520" bIns="236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4" name="Rectangle 39"/>
          <p:cNvSpPr/>
          <p:nvPr/>
        </p:nvSpPr>
        <p:spPr>
          <a:xfrm>
            <a:off x="2124000" y="903240"/>
            <a:ext cx="48974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0" rIns="331200" tIns="165600" bIns="165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Без зла смотри на мирозданье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А взглядом разума, добра, любв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Жизнь - это море из благих деяний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Agency FB"/>
              </a:rPr>
              <a:t>Построй корабль и по волнам плыв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Рисунок 6" descr="http://www.bel.ru/pics/news/2004/12/04/12835_25711.jp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3995640" y="2997360"/>
            <a:ext cx="1081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собенно важно в конфликтной ситу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Применить физическую си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Позвать друзей на помощ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Быть предельно вежливым, коррект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«Наехать» перв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0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аши сло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в данной ситуаци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е плачь, ты же мужик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Она и так была старой и некрасиво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Извините, это произошло случай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Я вам потом новую купл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0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психология меланхол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00720" y="1428840"/>
            <a:ext cx="4103640" cy="223200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pic>
        <p:nvPicPr>
          <p:cNvPr id="302" name="Picture 6" descr="AG00208_"/>
          <p:cNvPicPr/>
          <p:nvPr/>
        </p:nvPicPr>
        <p:blipFill>
          <a:blip r:embed="rId8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303" name="Line 7"/>
          <p:cNvSpPr/>
          <p:nvPr/>
        </p:nvSpPr>
        <p:spPr>
          <a:xfrm>
            <a:off x="6372360" y="1700280"/>
            <a:ext cx="358560" cy="14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31200" rIns="331200" tIns="-21240" bIns="-212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1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8101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Ваши действия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Закричу в отв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Стукну его как следу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Извинюсь, потребую отпусти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6" name="Picture 4" descr="j0254425"/>
          <p:cNvPicPr/>
          <p:nvPr/>
        </p:nvPicPr>
        <p:blipFill>
          <a:blip r:embed="rId4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психология холерик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4572000" y="1628640"/>
            <a:ext cx="3960720" cy="216072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sp>
        <p:nvSpPr>
          <p:cNvPr id="308" name="Line 7"/>
          <p:cNvSpPr/>
          <p:nvPr/>
        </p:nvSpPr>
        <p:spPr>
          <a:xfrm>
            <a:off x="6372360" y="1844640"/>
            <a:ext cx="287280" cy="144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331200" rIns="331200" tIns="-21240" bIns="-212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Picture 8" descr="AG00208_"/>
          <p:cNvPicPr/>
          <p:nvPr/>
        </p:nvPicPr>
        <p:blipFill>
          <a:blip r:embed="rId6"/>
          <a:stretch/>
        </p:blipFill>
        <p:spPr>
          <a:xfrm>
            <a:off x="7308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5280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ля того, чтобы понимать других людей, нужно быть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Умны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Иметь хорошие слух и зре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Быть внимательным к ни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-52380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Знать психолог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6b99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2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1600" y="1458720"/>
            <a:ext cx="83120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Умение избегать отрицательных эмоций, спокойно реагировать на сложные ситуации помогает человеку сохранить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Деньг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Сил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Здоровь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6" name="Picture 4" descr="j0254425"/>
          <p:cNvPicPr/>
          <p:nvPr/>
        </p:nvPicPr>
        <p:blipFill>
          <a:blip r:embed="rId1"/>
          <a:stretch/>
        </p:blipFill>
        <p:spPr>
          <a:xfrm>
            <a:off x="900000" y="0"/>
            <a:ext cx="165600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4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ля того, чтобы лучше понимать собеседника нужно обратить внимание не только на его слова, но и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то, как он од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мимику, жес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На его возрас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0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AG00208_"/>
          <p:cNvPicPr/>
          <p:nvPr/>
        </p:nvPicPr>
        <p:blipFill>
          <a:blip r:embed="rId2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931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바탕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Увы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Ваш ответ 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не верен.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6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2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050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673272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바탕"/>
              </a:rPr>
              <a:t>         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Браво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В</a:t>
            </a: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ы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о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т</a:t>
            </a:r>
            <a:r>
              <a:rPr b="1" lang="en-US" sz="4800" spc="-1" strike="noStrike">
                <a:solidFill>
                  <a:srgbClr val="65b2ff"/>
                </a:solidFill>
                <a:latin typeface="Comic Sans MS"/>
              </a:rPr>
              <a:t>в</a:t>
            </a:r>
            <a:r>
              <a:rPr b="1" lang="en-US" sz="4800" spc="-1" strike="noStrike">
                <a:solidFill>
                  <a:srgbClr val="9900ff"/>
                </a:solidFill>
                <a:latin typeface="Comic Sans MS"/>
              </a:rPr>
              <a:t>е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т</a:t>
            </a: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008080"/>
                </a:solidFill>
                <a:latin typeface="Comic Sans MS"/>
              </a:rPr>
              <a:t>и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             </a:t>
            </a:r>
            <a:r>
              <a:rPr b="1" lang="en-US" sz="4800" spc="-1" strike="noStrike">
                <a:solidFill>
                  <a:srgbClr val="ff00ff"/>
                </a:solidFill>
                <a:latin typeface="Comic Sans MS"/>
              </a:rPr>
              <a:t>верно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0,-4,-27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99640" y="981000"/>
            <a:ext cx="7704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К  сожалению,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Вы ошиблись.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1196640"/>
            <a:ext cx="85723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того, кто сквернословит, есть 2 пути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000160"/>
            <a:ext cx="8569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Первый путь – зная, что это плохо, продолжать нецензурно выражаться и тем самым включить программу самоуничтожения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Второй путь – это путь духовного роста, самосовершенствования, путь красоты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450"/>
                            </p:stCondLst>
                            <p:childTnLst>
                              <p:par>
                                <p:cTn id="1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1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усская пословица гласит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От гнилого сердца и  …… слова 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доб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гряз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гнил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мил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AG00208_"/>
          <p:cNvPicPr/>
          <p:nvPr/>
        </p:nvPicPr>
        <p:blipFill>
          <a:blip r:embed="rId7"/>
          <a:stretch/>
        </p:blipFill>
        <p:spPr>
          <a:xfrm>
            <a:off x="6516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Обратная связ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занятия мне стало понятно, что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м полезным для меня было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е всего мне понравилось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занятии мне не понравилось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оё кредо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143000"/>
            <a:ext cx="8226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я речь- эт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е зеркало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е достоин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 мне все прекрасно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мысли, и слова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 поступк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4" descr="DSC_1306-2"/>
          <p:cNvPicPr/>
          <p:nvPr/>
        </p:nvPicPr>
        <p:blipFill>
          <a:blip r:embed="rId1"/>
          <a:stretch/>
        </p:blipFill>
        <p:spPr>
          <a:xfrm>
            <a:off x="706320" y="993600"/>
            <a:ext cx="3122640" cy="2279880"/>
          </a:xfrm>
          <a:prstGeom prst="rect">
            <a:avLst/>
          </a:prstGeom>
          <a:ln w="0">
            <a:noFill/>
          </a:ln>
        </p:spPr>
      </p:pic>
      <p:sp>
        <p:nvSpPr>
          <p:cNvPr id="334" name="WordArt 6"/>
          <p:cNvSpPr txBox="1"/>
          <p:nvPr/>
        </p:nvSpPr>
        <p:spPr>
          <a:xfrm>
            <a:off x="214200" y="6172200"/>
            <a:ext cx="8720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 меня начинается честь и культура Росси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5" name="Picture 8" descr="E:\фото детки\DSC_2369.jpg"/>
          <p:cNvPicPr/>
          <p:nvPr/>
        </p:nvPicPr>
        <p:blipFill>
          <a:blip r:embed="rId2"/>
          <a:stretch/>
        </p:blipFill>
        <p:spPr>
          <a:xfrm>
            <a:off x="5003640" y="2852640"/>
            <a:ext cx="2157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e55909d0660d[1]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cap="rnd" w="76320">
            <a:solidFill>
              <a:srgbClr val="65b2ff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Алгоритм отказа от сквернослов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j0254425"/>
          <p:cNvPicPr/>
          <p:nvPr/>
        </p:nvPicPr>
        <p:blipFill>
          <a:blip r:embed="rId1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1258920" y="2421000"/>
            <a:ext cx="216072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995640" y="2421000"/>
            <a:ext cx="21607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Примене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физической сил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732720" y="2421000"/>
            <a:ext cx="2160360" cy="93672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4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5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258920" y="3789360"/>
            <a:ext cx="2160720" cy="93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995640" y="3789360"/>
            <a:ext cx="2160720" cy="93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Побегать, послуша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музыку 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засмеятьс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732720" y="3789360"/>
            <a:ext cx="2160360" cy="93492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8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9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258920" y="5013360"/>
            <a:ext cx="2160720" cy="936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Желани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выругаться мато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6732720" y="4941720"/>
            <a:ext cx="2160360" cy="100836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11" action="ppaction://hlinksldjump"/>
              </a:rPr>
              <a:t>Отказ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5b2ff"/>
                </a:solidFill>
                <a:uFillTx/>
                <a:latin typeface="Arial"/>
                <a:hlinkClick r:id="rId12" action="ppaction://hlinksldjump"/>
              </a:rPr>
              <a:t>от сквернослов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3995640" y="5013360"/>
            <a:ext cx="2160720" cy="936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1200" rIns="331200" tIns="165600" bIns="165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Устный счет до 1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Произнести букв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3419640" y="285264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6156360" y="285264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>
            <a:off x="3419640" y="422100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3419640" y="5445000"/>
            <a:ext cx="57600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6156360" y="5445000"/>
            <a:ext cx="576360" cy="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331200" rIns="331200" tIns="-165600" bIns="-1656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Picture 21" descr="AG00208_"/>
          <p:cNvPicPr/>
          <p:nvPr/>
        </p:nvPicPr>
        <p:blipFill>
          <a:blip r:embed="rId14"/>
          <a:stretch/>
        </p:blipFill>
        <p:spPr>
          <a:xfrm>
            <a:off x="8496360" y="6021360"/>
            <a:ext cx="647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160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усская пословица гласи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Доброе слово и ………..приятн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мыш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дерев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кош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сте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AG00208_"/>
          <p:cNvPicPr/>
          <p:nvPr/>
        </p:nvPicPr>
        <p:blipFill>
          <a:blip r:embed="rId6"/>
          <a:stretch/>
        </p:blipFill>
        <p:spPr>
          <a:xfrm>
            <a:off x="651672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4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овите имя японского ученого, изучавшего воздействие различных слов на вод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1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Насари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 Кио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2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5" action="ppaction://hlinksldjump"/>
              </a:rPr>
              <a:t>Такати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7" action="ppaction://hlinksldjump"/>
              </a:rPr>
              <a:t>Хирок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8" action="ppaction://hlinksldjump"/>
              </a:rPr>
              <a:t>3.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9" action="ppaction://hlinksldjump"/>
              </a:rPr>
              <a:t>Масару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r>
              <a:rPr b="0" lang="ru-RU" sz="3200" spc="-1" strike="noStrike" u="sng">
                <a:solidFill>
                  <a:srgbClr val="65b2ff"/>
                </a:solidFill>
                <a:uFillTx/>
                <a:latin typeface="Times New Roman"/>
                <a:hlinkClick r:id="rId11" action="ppaction://hlinksldjump"/>
              </a:rPr>
              <a:t>Эмо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j0254425"/>
          <p:cNvPicPr/>
          <p:nvPr/>
        </p:nvPicPr>
        <p:blipFill>
          <a:blip r:embed="rId12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AG00208_"/>
          <p:cNvPicPr/>
          <p:nvPr/>
        </p:nvPicPr>
        <p:blipFill>
          <a:blip r:embed="rId13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5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Верный способ расслабитьс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Выкурить сигарет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Выругаться мат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3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Послушать любимую музык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Поспа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6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Бранные слова негативно воздействуют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а почву и воздух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Ни на ч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На наследственност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На атмосфе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7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31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аш организм состоит из воды на…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1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4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8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10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60360" y="928800"/>
            <a:ext cx="5110200" cy="39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Вопрос № 8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599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Согласно заключению экспертов ВОЗ состояние здоровья населения на 50% определяетс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1" action="ppaction://hlinksldjump"/>
              </a:rPr>
              <a:t>Наследственным факторо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2" action="ppaction://hlinksldjump"/>
              </a:rPr>
              <a:t>Уровнем развития медици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3" action="ppaction://hlinksldjump"/>
              </a:rPr>
              <a:t>Образом жиз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6b6b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Times New Roman"/>
                <a:hlinkClick r:id="rId4" action="ppaction://hlinksldjump"/>
              </a:rPr>
              <a:t>Состоянием окружающ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2" name="Picture 4" descr="j0254425"/>
          <p:cNvPicPr/>
          <p:nvPr/>
        </p:nvPicPr>
        <p:blipFill>
          <a:blip r:embed="rId5"/>
          <a:stretch/>
        </p:blipFill>
        <p:spPr>
          <a:xfrm>
            <a:off x="1116000" y="1890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AG00208_"/>
          <p:cNvPicPr/>
          <p:nvPr/>
        </p:nvPicPr>
        <p:blipFill>
          <a:blip r:embed="rId6"/>
          <a:stretch/>
        </p:blipFill>
        <p:spPr>
          <a:xfrm>
            <a:off x="7020000" y="501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55:03Z</dcterms:created>
  <dc:creator>Elena</dc:creator>
  <dc:description/>
  <dc:language>en-US</dc:language>
  <cp:lastModifiedBy>iru</cp:lastModifiedBy>
  <dcterms:modified xsi:type="dcterms:W3CDTF">2015-04-14T16:34:36Z</dcterms:modified>
  <cp:revision>56</cp:revision>
  <dc:subject/>
  <dc:title>Слайд 1</dc:title>
</cp:coreProperties>
</file>