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387-8A5F-4BCE-99E1-0B4630F8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6BC-4440-4B3F-85CB-98D94D0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E4B-6C1A-4856-B09C-13B1D1E6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550-7CA2-444B-8717-47A19ECD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DEED-6E2C-4F5A-87B2-3D414049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2A46-DE08-46E9-9F13-2BF2EC32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4A8-D52A-4DA0-A00C-6296EDA7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0380-20DA-4F61-A7B3-DB1461E7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2FC-925D-4FAF-9899-17359BC4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A8A-C4C4-4565-AF7C-6C68AEDD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29E1-01AC-4AC2-8B7E-5117415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886-8211-40C7-8878-D29BC8B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00E2-42CC-4222-AC05-83B77A3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17E7-55A6-41EF-99FF-C7DCF21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A291-D1C0-4753-B080-CF9F251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929E-C602-4410-8340-2D4A8F5A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7A9D-8A8F-4736-ADFE-B4DA2403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EC4E-249A-4933-BDCB-D4C2D2A8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EE1D-8821-45FA-B770-F0B99313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87C4-E950-4510-A43A-2DA9FAD7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68D3-F8F6-4A06-A0B3-9D6E593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9E0F-C692-447E-A564-70364AF2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AD3-4BEB-46C8-AD74-70429104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A64A-5FB4-4713-8E2C-44709167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0EB8-F6A8-46BF-88F7-780A717C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D29A-4E90-40D9-9215-0B177CE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26B5-6A14-4A60-9E0D-3E4928B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9713-D3F5-45A6-8C03-9ED1D0AE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51E2-48DD-405B-8BA9-FBC81A33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4C61-16D3-4F94-8D96-658791B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DA4B-823A-4E68-A082-C4D8C476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27F3-67BB-403C-A1CB-E3FCD825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CE47-BF8C-4853-880B-BC319C96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689-C1A3-4551-AE0F-3887E042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E491-9E34-4332-B328-34202E71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95CF-B315-43A0-8F34-E55A9A4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B4B7-FCFE-445F-A1C3-77F5C277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25B4-C25C-41DC-AF1E-45541F2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BFA6-72B8-499E-BB17-19214DE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6228-5532-40C1-ACCF-110E5C6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A3727-BBBB-4B36-B88C-C4427002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A250-3A42-4D95-B699-0A7F564E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BE50-80E5-48A3-AC07-B3DA2A6D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79644-50E4-4895-936E-27F01B48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49D-4ACD-4B67-8D49-45D8E28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887E0-6CC2-4A28-A239-80651918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9EFA-D420-4048-A171-F9453AA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3FF5-28A5-48EE-BBE0-34B382F9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15F0-F5FE-4877-97ED-853E5954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60EA-3596-426A-AC64-5045513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E516-F0CA-4D6C-8238-7CE6C45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A4A72-1876-4881-8CA5-477DAF6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20A67-6E55-4A39-8C3B-7D35E5C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B02DF-4117-4BB8-918E-E332BE27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F243-97C9-4B01-B812-DC112066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6E0-C309-4F6F-8833-1B72658A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E7EF-335C-432F-BB22-E6638D7D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83ACA-1016-40BC-9252-20F69ABE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1444B-AC5F-4CF1-AFAC-924B3967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35FE-A46D-482A-9C6A-D6469BCA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0C4F-2193-475E-AEAA-7508243D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233A-D5E2-4BE9-82CB-8D1C9AD0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4CAC-A2B3-4B41-884A-585DB04A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D77BF-6909-489C-A670-034C3F43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38540-F0EC-4814-8A96-35C8C28C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D080F-86DC-4BF9-86C4-59A9C6E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422-883C-48AA-88BB-2AC2E82C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5F9DE-835E-4428-A0FC-B83CC784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742A-EA69-498B-8670-49777E40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6584A-46FB-48C0-B6F3-0E5368E8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E73-0D88-466A-95BD-E0F4FA8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6B5-39AD-4E9B-A3E2-473E9F0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6FCD-2D48-46AF-9A9F-54EBA0CE87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B8E7-1CEE-4CBB-BD53-764DE7FF30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0E83-C725-4923-B674-AC049F22AD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E909-FF9F-43E8-B87B-8B3E8E1C69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43F9-B9C9-4AF4-B3AF-14FC204E6B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66B7-3BF0-4365-8673-A3965C6D1E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Муниципальная бюджетная общеобразовательная школа 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средняя общеобразовательная школа № 21 г. Белгорода</a:t>
            </a: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ворческий проект</a:t>
            </a:r>
            <a:br>
              <a:rPr sz="5500"/>
            </a:br>
            <a:r>
              <a:rPr b="1" lang="ru-RU" sz="5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  <a:ea typeface="Times New Roman"/>
              </a:rPr>
              <a:t>Тема:  Дизайн интерьера</a:t>
            </a:r>
            <a:br>
              <a:rPr sz="2400"/>
            </a:br>
            <a:r>
              <a:rPr b="1" lang="ru-RU" sz="2400" spc="-1" strike="noStrike">
                <a:solidFill>
                  <a:srgbClr val="cc2504"/>
                </a:solidFill>
                <a:latin typeface="Calibri"/>
              </a:rPr>
              <a:t>       </a:t>
            </a:r>
            <a:r>
              <a:rPr b="1" lang="ru-RU" sz="4800" spc="-1" strike="noStrike">
                <a:solidFill>
                  <a:srgbClr val="cc2504"/>
                </a:solidFill>
                <a:latin typeface="Times New Roman"/>
              </a:rPr>
              <a:t>«Пасхальное яйцо»</a:t>
            </a:r>
            <a:br>
              <a:rPr sz="4800"/>
            </a:br>
            <a:r>
              <a:rPr b="1" lang="ru-RU" sz="2400" spc="-1" strike="noStrike">
                <a:solidFill>
                  <a:srgbClr val="cc2504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орнамент из нит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Выполнила: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ученица  6 «А»  класса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Варавина Дарина Денисов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руководитель-консультант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учитель ИЗО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Безрук Светлана Владимировн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Когда красят яйца"/>
          <p:cNvPicPr/>
          <p:nvPr/>
        </p:nvPicPr>
        <p:blipFill>
          <a:blip r:embed="rId1"/>
          <a:stretch/>
        </p:blipFill>
        <p:spPr>
          <a:xfrm>
            <a:off x="395280" y="33577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поделка Варавина"/>
          <p:cNvPicPr/>
          <p:nvPr/>
        </p:nvPicPr>
        <p:blipFill>
          <a:blip r:embed="rId2"/>
          <a:stretch/>
        </p:blipFill>
        <p:spPr>
          <a:xfrm>
            <a:off x="6959520" y="765000"/>
            <a:ext cx="190512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В то же время  в Славакии традиционные для этой местности обычаи медленно, но верно уступают место веяниям англо-саксонских и немецких ритуалов.  И лишь такие мастера как пани Адамицова способны сохранить и передать следующим поколениям традиции и обычаи своих пред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Она делится своим мастерством украшения пасхальных яиц с энтузиастами всех возрастов, устраивая мастер-классы в родном селе и в Братеславе, где живет сейча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6" descr="Техника  пасхальных  яиц"/>
          <p:cNvPicPr/>
          <p:nvPr/>
        </p:nvPicPr>
        <p:blipFill>
          <a:blip r:embed="rId1"/>
          <a:stretch/>
        </p:blipFill>
        <p:spPr>
          <a:xfrm>
            <a:off x="1908000" y="3429000"/>
            <a:ext cx="4824720" cy="318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800" spc="-1" strike="noStrike">
                <a:solidFill>
                  <a:srgbClr val="e40059"/>
                </a:solidFill>
                <a:latin typeface="Calibri"/>
              </a:rPr>
              <a:t>банк идей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5ea4"/>
                </a:solidFill>
                <a:latin typeface="Arial"/>
                <a:ea typeface="Times New Roman"/>
              </a:rPr>
              <a:t>    </a:t>
            </a:r>
            <a:r>
              <a:rPr b="1" i="1" lang="ru-RU" sz="3300" spc="-1" strike="noStrike">
                <a:solidFill>
                  <a:srgbClr val="005ea4"/>
                </a:solidFill>
                <a:latin typeface="Arial"/>
                <a:ea typeface="Times New Roman"/>
              </a:rPr>
              <a:t>В процессе сбора информации был рассмотрен ряд вариантов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1. Украсить яйцо узорами в технике «писан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2. Украсить яйцо в технике «орна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из нит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3. Украсить яйцо в технике плетения бис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эскизная проработка   вариант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5" descr="uDNordiF8Z8"/>
          <p:cNvPicPr/>
          <p:nvPr/>
        </p:nvPicPr>
        <p:blipFill>
          <a:blip r:embed="rId1"/>
          <a:stretch/>
        </p:blipFill>
        <p:spPr>
          <a:xfrm>
            <a:off x="5148360" y="1628640"/>
            <a:ext cx="3652920" cy="4892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vS7FbpfY1Ac"/>
          <p:cNvPicPr/>
          <p:nvPr/>
        </p:nvPicPr>
        <p:blipFill>
          <a:blip r:embed="rId2"/>
          <a:stretch/>
        </p:blipFill>
        <p:spPr>
          <a:xfrm>
            <a:off x="324000" y="2637000"/>
            <a:ext cx="4483080" cy="334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нструменты и</a:t>
            </a:r>
            <a:br>
              <a:rPr sz="4300"/>
            </a:b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оборудование</a:t>
            </a:r>
            <a:br>
              <a:rPr sz="43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Основа (пасхальное яйц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Зубочис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Сантимет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Каранда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5.    Ножниц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6.    Ки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7.    Кл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7" descr="PrUZNs_UK3U"/>
          <p:cNvPicPr/>
          <p:nvPr/>
        </p:nvPicPr>
        <p:blipFill>
          <a:blip r:embed="rId1"/>
          <a:stretch/>
        </p:blipFill>
        <p:spPr>
          <a:xfrm>
            <a:off x="3203640" y="2565360"/>
            <a:ext cx="5186160" cy="387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материалы</a:t>
            </a: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40059"/>
                </a:solidFill>
                <a:latin typeface="Calibri"/>
              </a:rPr>
              <a:t>                                   </a:t>
            </a:r>
            <a:r>
              <a:rPr b="1" lang="ru-RU" sz="3000" spc="-1" strike="noStrike">
                <a:solidFill>
                  <a:srgbClr val="0033cc"/>
                </a:solidFill>
                <a:latin typeface="Calibri"/>
              </a:rPr>
              <a:t>Нитки  «Ирис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Вязальные нитки в 2 сложения "Ирис" изготовлены из 100% хлопка. Такие нитки используются для вязания крючком. Нити крученые, матовые, мерсеризованные. Устойчивость окраски - особо прочная.</a:t>
            </a:r>
            <a:r>
              <a:rPr b="0" lang="ru-RU" sz="1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6" descr="DCqA_Mc49hs"/>
          <p:cNvPicPr/>
          <p:nvPr/>
        </p:nvPicPr>
        <p:blipFill>
          <a:blip r:embed="rId1"/>
          <a:stretch/>
        </p:blipFill>
        <p:spPr>
          <a:xfrm>
            <a:off x="2124000" y="2924280"/>
            <a:ext cx="4969080" cy="37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правила поведения  во время работ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1.   Во время работы ножницы предметы должны лежать справа на столе  с сомкнутыми лезвиями или в отдельной шкатул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2.  Брать и передавать ножницы предметы нужно сомкнутыми лезвиями к себе, кольцами  и ручкой впер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3.  Острые, колющиеся и режущие предметы хранятся  в специальной шкатулке с крыш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подготовка   основы для  работы,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нанести контурный рисунок  на осно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6" descr="w1l3lO83was"/>
          <p:cNvPicPr/>
          <p:nvPr/>
        </p:nvPicPr>
        <p:blipFill>
          <a:blip r:embed="rId1"/>
          <a:stretch/>
        </p:blipFill>
        <p:spPr>
          <a:xfrm>
            <a:off x="2700360" y="1700280"/>
            <a:ext cx="3546360" cy="47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нанесение клея на контур рису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7" descr="aWvcP-oi3Yk"/>
          <p:cNvPicPr/>
          <p:nvPr/>
        </p:nvPicPr>
        <p:blipFill>
          <a:blip r:embed="rId1"/>
          <a:stretch/>
        </p:blipFill>
        <p:spPr>
          <a:xfrm>
            <a:off x="2411280" y="1557360"/>
            <a:ext cx="3814920" cy="510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использование нити в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j4ePCEELtvQ"/>
          <p:cNvPicPr/>
          <p:nvPr/>
        </p:nvPicPr>
        <p:blipFill>
          <a:blip r:embed="rId1"/>
          <a:stretch/>
        </p:blipFill>
        <p:spPr>
          <a:xfrm>
            <a:off x="2556000" y="1484280"/>
            <a:ext cx="3867120" cy="518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закрепление нит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8" descr="-rX63t6tN8Q"/>
          <p:cNvPicPr/>
          <p:nvPr/>
        </p:nvPicPr>
        <p:blipFill>
          <a:blip r:embed="rId1"/>
          <a:stretch/>
        </p:blipFill>
        <p:spPr>
          <a:xfrm>
            <a:off x="2700360" y="1484280"/>
            <a:ext cx="3652920" cy="489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609480" y="1600200"/>
            <a:ext cx="7429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2504"/>
                </a:solidFill>
                <a:latin typeface="Arial Black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697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Обоснование возникшей проблемы и потре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хема обдумы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стория и соврем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Теоретические све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Банк и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етка принятых реш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Эскизная проработка базового вариа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нструменты и оборуд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Правила безопасности во время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анитарно-гигиенические треб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Технология изгото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Контроль к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6" descr="Крашеные яйца - символ Пасхи"/>
          <p:cNvPicPr/>
          <p:nvPr/>
        </p:nvPicPr>
        <p:blipFill>
          <a:blip r:embed="rId1"/>
          <a:stretch/>
        </p:blipFill>
        <p:spPr>
          <a:xfrm>
            <a:off x="6443640" y="3141720"/>
            <a:ext cx="2381400" cy="337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фиксирование нити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7" descr="snO2KIMjiRs"/>
          <p:cNvPicPr/>
          <p:nvPr/>
        </p:nvPicPr>
        <p:blipFill>
          <a:blip r:embed="rId1"/>
          <a:stretch/>
        </p:blipFill>
        <p:spPr>
          <a:xfrm>
            <a:off x="1258920" y="1413000"/>
            <a:ext cx="6696000" cy="499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одолжение работы в «цветном варианте»</a:t>
            </a:r>
            <a:br>
              <a:rPr sz="3200"/>
            </a:br>
            <a:br>
              <a:rPr sz="4300"/>
            </a:b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7" descr="3shcIMup_4o"/>
          <p:cNvPicPr/>
          <p:nvPr/>
        </p:nvPicPr>
        <p:blipFill>
          <a:blip r:embed="rId1"/>
          <a:stretch/>
        </p:blipFill>
        <p:spPr>
          <a:xfrm>
            <a:off x="2700360" y="1628640"/>
            <a:ext cx="3706920" cy="496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иксация лаком, последние штрихи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7" descr="IMG_5265"/>
          <p:cNvPicPr/>
          <p:nvPr/>
        </p:nvPicPr>
        <p:blipFill>
          <a:blip r:embed="rId1"/>
          <a:stretch/>
        </p:blipFill>
        <p:spPr>
          <a:xfrm>
            <a:off x="1332000" y="134136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348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2504"/>
                </a:solidFill>
                <a:latin typeface="Calibri"/>
              </a:rPr>
              <a:t>Готовое изделие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5" descr="7HsbBEg5yhk"/>
          <p:cNvPicPr/>
          <p:nvPr/>
        </p:nvPicPr>
        <p:blipFill>
          <a:blip r:embed="rId1"/>
          <a:stretch/>
        </p:blipFill>
        <p:spPr>
          <a:xfrm>
            <a:off x="324000" y="3573360"/>
            <a:ext cx="2205000" cy="2955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o4XHyZrxSTo"/>
          <p:cNvPicPr/>
          <p:nvPr/>
        </p:nvPicPr>
        <p:blipFill>
          <a:blip r:embed="rId2"/>
          <a:stretch/>
        </p:blipFill>
        <p:spPr>
          <a:xfrm>
            <a:off x="6588000" y="189000"/>
            <a:ext cx="2284560" cy="3062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C-0udHOt8mk"/>
          <p:cNvPicPr/>
          <p:nvPr/>
        </p:nvPicPr>
        <p:blipFill>
          <a:blip r:embed="rId3"/>
          <a:stretch/>
        </p:blipFill>
        <p:spPr>
          <a:xfrm>
            <a:off x="2771640" y="1125360"/>
            <a:ext cx="3598920" cy="482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583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2504"/>
                </a:solidFill>
                <a:latin typeface="Calibri"/>
              </a:rPr>
              <a:t>Готовое изделие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7" descr="wO-yYDLBPHU"/>
          <p:cNvPicPr/>
          <p:nvPr/>
        </p:nvPicPr>
        <p:blipFill>
          <a:blip r:embed="rId1"/>
          <a:stretch/>
        </p:blipFill>
        <p:spPr>
          <a:xfrm>
            <a:off x="2556000" y="1125360"/>
            <a:ext cx="3917880" cy="525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FT_vlw827K4"/>
          <p:cNvPicPr/>
          <p:nvPr/>
        </p:nvPicPr>
        <p:blipFill>
          <a:blip r:embed="rId2"/>
          <a:stretch/>
        </p:blipFill>
        <p:spPr>
          <a:xfrm>
            <a:off x="324000" y="260280"/>
            <a:ext cx="2016000" cy="2703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wZuefF7SshY"/>
          <p:cNvPicPr/>
          <p:nvPr/>
        </p:nvPicPr>
        <p:blipFill>
          <a:blip r:embed="rId3"/>
          <a:stretch/>
        </p:blipFill>
        <p:spPr>
          <a:xfrm>
            <a:off x="6659640" y="3573360"/>
            <a:ext cx="2313000" cy="310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 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контроль  качества</a:t>
            </a:r>
            <a:br>
              <a:rPr sz="4300"/>
            </a:br>
            <a:br>
              <a:rPr sz="4900"/>
            </a:br>
            <a:r>
              <a:rPr b="0" lang="ru-RU" sz="4900" spc="-1" strike="noStrike">
                <a:solidFill>
                  <a:srgbClr val="cc2504"/>
                </a:solidFill>
                <a:latin typeface="Calibri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Готовое изделие отвечает 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следующим требованиям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1. Цветовое сочетание материа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гармонично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2. Все элементы композиции выполн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ровно и аккуратно, в соответствии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технологией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3. Работа оформлена в законченную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композицию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4. В целом композиция производ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благоприятное впечатление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5. Предмет готов для  украшен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интерьера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Спасибо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за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28036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техника украшения яиц"/>
          <p:cNvPicPr/>
          <p:nvPr/>
        </p:nvPicPr>
        <p:blipFill>
          <a:blip r:embed="rId1"/>
          <a:stretch/>
        </p:blipFill>
        <p:spPr>
          <a:xfrm>
            <a:off x="468360" y="33336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пани Адамицова"/>
          <p:cNvPicPr/>
          <p:nvPr/>
        </p:nvPicPr>
        <p:blipFill>
          <a:blip r:embed="rId2"/>
          <a:stretch/>
        </p:blipFill>
        <p:spPr>
          <a:xfrm>
            <a:off x="6300720" y="4005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обоснование возникшей </a:t>
            </a:r>
            <a:br>
              <a:rPr sz="4300"/>
            </a:b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   проблемы и потребности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Весной вся природа пробуждается от долгого зимнего сна. На Руси празднование Пасхи по времени совпадает с древним Праздником возрождения весенних сил Прир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Яйцо – символ Пасхи, символ возрождения, символ новой жизни, чистой, светлой, символ надеж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В древности сложилась такая легенда: «Был вначале род человеческий заключен в яйце. Был он семенем не пророщенным, почкой нераскрывшейся, но конец пришел заточению. Род родил любовь - Ладу Матушку. Любовью мир наполнилс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Выполнив свою работу, я тоже хочу подарить любовь, нежность и теплоту своим родным и близк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стория и современность</a:t>
            </a:r>
            <a:br>
              <a:rPr sz="6500"/>
            </a:br>
            <a:br>
              <a:rPr sz="49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о преданию, обычай крашения яиц ведет свою историю с I века от Рождества Христова… Одна из учениц Христа, святая Мария Магдалина, с проповедью веры пришла в Рим и, попав во дворец императора Тиберия, стала рассказывать ему о Воскресении Христовом. В те времена было принято, посещая императора, приносить ему что–либо в дар; святая Мария была бедна и принесла в дар правителю Римского государства обычное куриное яйцо. Выслушав ее, император не поверил святой и сказал: “Как может кто–то воскреснуть из мертвых? Это так же невозможно, как если бы это яйцо стало красным”. И тут же на глазах императора совершилось чудо: яйцо само по себе сменило цвет на красный, свидетельствуя этим истинность Христова Воскресения. С тех пор христиане стали на Пасху окрашивать яйца и дарить их друг другу со словами пасхального приветствия: “Христос воскреси!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В древнейших представлениях многих народов мира яйцо воплощало в себе источник жизни. Так, финны, древние персы, индусы, византийцы, прибалтийские народы, а также греки и римляне считали, что Вселенная возникла из яйца. Геродот записал предание, в котором говорилось, что мир создан из яйца птицы Феникс, помещенного в святилище Гелиос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В одной из русских рукописей «О яйце свидетельство Иоанна Дамаскина» сказано: «Небо и земля по всему подобны яйцу - скорлупа аки небо, плева аки облака, белок аки вода, желток аки земл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асхальные яйца традиционно окрашивались не только в красный и золотистый цвета, но и расписывались всеми цветами радуги растительным или геометрическими орнаментами, что по своему ритуальному значению одно и то же.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стория и современность</a:t>
            </a:r>
            <a:br>
              <a:rPr sz="6500"/>
            </a:br>
            <a:br>
              <a:rPr sz="49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Обереги эти везде на Руси называли по-разному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«крашенками» - окрашенные в один цвет, например, красный, синий, зеленый; «крапинками» - исполненные «в крапинку» - пятнами,  «писанками» - расписанные узорами.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Яйца , изготовленные из дерева, глины, мрамора, иных материалов, повсюду называли «яйчатам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Считалось, что лучше красить яйца в четверг. Воду было принято брать снеговую или чисто родниковую, и вставать надо было утром рано, идти за водой, степенно сосредоточившись, не поворачиваясь ни назад, ни в сторону и ни с кем не вступая в разговор. Прежде чем приступить к раскраске яиц, надевали праздничный народный костю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Раскрашивали яйца восковым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способом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растительными красками. Желтую краску, например, добывали из дикорастущих яблонь, цветов бузины, отвара купавок, шелухи лука;  синюю - из луковичных растений, из сушеных цветов синей мальвы;  голубую - из весенних цветов «барашка»,  зеленую - из сережек осины, мха, из ягод черники или ее смеси с дикорастущей бузиной и раствором желтой краски, черную вырабатывали из коры ольхи, а для обесцвечивания краски применяли свекольный ква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Орнамент пасхальных яиц был самым разнообразным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Весенние цветы, цветы – солнышки, тюльпаны и лошадки, черное море и дубовые листья, северные олени, веточки – снежинки, геометрические композиции, библейские истор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В 19 веке «крашенки» делали из цветного стекла, хрусталя и самоцветов. Особой техникой, напоминающей эмалевую, расписывали фарфоровые яйц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В собрании Оружейной палаты, Эрмитажа есть большая коллекция изысканно-вычурных яиц фирм Фаберже, Овчинникова и других.  Богатые собрания «писанок» сохранились в музеях на Гуцулыцине. Особенный интерес представляет коллекция музея города Коломыя. Некоторые музеи пополняют свои фонды очень интересными по сюжетной росписи деревянными яйцами из сел Крутец и Полхов-Майд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Производство раскрашенных, разрисованных яиц является любопытным народным промыслом, который пользуется широкой популярностью.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стория и современность</a:t>
            </a:r>
            <a:br>
              <a:rPr sz="6500"/>
            </a:br>
            <a:br>
              <a:rPr sz="49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На Руси в весенний праздник было принято раздаривать яйца не только куриные, но и гусиные, утиные, деревянные, расписанные по золоту яркими красками. В старину их приготовлением занимались пекари, иконописцы, травщики Оружейной палаты, монахи Троице Сергиевой лав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Многие традиции и обряды, связанные с яйцом, дошли и до наших дней. Совсем еще недавно существовал на Урале обычай приготавливать на тарелке земляную горку, густо усыпанную проросшими семенами пшеницы. Когда «горка» прорастала, ее обкладывали крашеными яйцами и ставили на стол .По сложившемуся обычаю крестьяне в этот день ставили на стол кадку с готовящимися для посева зернами пшеницы и зарывали в нее ритуальное яйц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Яйцо объединяло целую череду магически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ри постройке дома яйцо замуровывали в фундамент, чтобы оно оберегало дом и хозяев от всех б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ростолюдины в этот день не только катали яйца, об­менивались ими, но в обязательном порядке «бились» ими. Монастырские указы в 17 веке запретили такой обычай, усмотрев в нем дело, противное вере. Однако народная традиция «биться яйцами» не исчезла, а сохра­нилась и до наших дн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На Пасху умывались с золота, серебра и красного яичка в надежде разбогатеть и стать красивы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В развитии обряда яйцо приобрело все новые и новые смыслы и значения. Как символ бессмертия оно фигурирует в Радоницу - день поминовения усопших, когда на могилах принято крошить яйца и «христосоватьс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 Black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Яйцо, как символ в различных его интерпретациях, присутствует во многих религиях мира. Не стало исключением  и христианство. Не возможно представить день Воскресения Христова без пасхальных яиц. Пираку думает, что тем кто уже сейчас начинает готовиться к этому важному для католиков и православных людей празднику,  будет интересно узнать о технике украшения яиц от словацкой мастерицы Адамицовой Бажены (Adamicová Bože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Пасхальные яйца, украшенные нитью от Adamicová Božena – настоящие произведения искусства – хорошо известны на просторах Рунета.  То и дело натыкаешься на их фотографии при поиске идей декора к Пасхе. Меж тем информация о самой создательнице оригинальных рукотворных поделок-яиц в блогах обычно отсутствует. Пираку решила исправить эту досадную оплошность.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Яйцо, как символ в различных его интерпретациях, присутствует во многих религиях мира. Не стало исключением  и христианство. Не возможно представить день Воскресения Христова без пасхальных яиц. Тем кто уже сейчас начинает готовиться к этому важному для католиков и православных людей празднику,  будет интересно узнать о технике украшения яиц от словацкой мастерицы Адамицовой Бажены (Adamicová Božen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Пасхальные яйца, украшенные нитью от Adamicová Božena – настоящие произведения искусства – хорошо известны на просторах Рунета.  То и дело натыкаешься на их фотографии при поиске идей декора к Пасхе. Меж тем информация о самой создательнице оригинальных рукотворных поделок-яиц в блогах обычно отсутствует.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9" descr="%D0%90%D0%B4%D0%B0%D0%BC%D0%B8%D1%86%D0%BE%D0%B2%D0%B0-%D0%91%D0%B0%D0%B6%D0%B5%D0%BD%D0%B0-150x150"/>
          <p:cNvPicPr/>
          <p:nvPr/>
        </p:nvPicPr>
        <p:blipFill>
          <a:blip r:embed="rId1"/>
          <a:stretch/>
        </p:blipFill>
        <p:spPr>
          <a:xfrm>
            <a:off x="179280" y="11592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украшение пасхальных яиц"/>
          <p:cNvPicPr/>
          <p:nvPr/>
        </p:nvPicPr>
        <p:blipFill>
          <a:blip r:embed="rId2"/>
          <a:stretch/>
        </p:blipFill>
        <p:spPr>
          <a:xfrm>
            <a:off x="5148360" y="4797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Божена Адамицова родилась в 1934 в селе Moravské Lieskové (судя по названию, местность богата  на лесной орех). По профессии она – учитель русского языка, по состоянию души – мастер Центра народного художественного творчества. Основное увлечение пани Адамицовой – народная одежда и бытовой текстиль из конопляного полотна. Она даже выпустила книгу, посвященную этой отрасли народного творч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Но всемирного признания и звания мастера народного искусства Божена Адамицова была удостоена за украшение пасхальных яиц. Дело в том, что украшение пасхальных яиц в той технике, что использует словацкая мастерица, имеет древние корни. Кроме того, при оформлении яйца она использует цвета родного региона и традиционные для него узоры вышив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5" descr="Божена Адамицова"/>
          <p:cNvPicPr/>
          <p:nvPr/>
        </p:nvPicPr>
        <p:blipFill>
          <a:blip r:embed="rId1"/>
          <a:stretch/>
        </p:blipFill>
        <p:spPr>
          <a:xfrm>
            <a:off x="3635280" y="4929120"/>
            <a:ext cx="2611440" cy="173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</dc:creator>
  <dc:description/>
  <dc:language>en-US</dc:language>
  <cp:lastModifiedBy>Безрук-СВ</cp:lastModifiedBy>
  <dcterms:modified xsi:type="dcterms:W3CDTF">2015-04-14T09:42:23Z</dcterms:modified>
  <cp:revision>81</cp:revision>
  <dc:subject/>
  <dc:title>PowerPoint Presentation</dc:title>
</cp:coreProperties>
</file>