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F531-FF30-468F-AD59-9C5EBC626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FB9B-75CB-4D33-A4B1-F32D8B2F6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C5BC-616C-45AA-B2D6-AE557AE8C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183F-4514-496D-B954-214C71D1B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15A5E-5C83-445F-8416-155171B34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6E519-8F51-406B-9AF7-D31FEDC74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35188-EC76-47D0-8195-D98D5BF01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6FBDC-9FFA-41ED-96F9-C1D545F33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85C80-C6E7-49A0-BBBC-74D49E2B7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389CE-9EC7-411D-AEF0-7C2ABD733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F7352-196A-4A70-B708-1C72B5BB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6387-0360-404D-98C3-BC6C4A654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45ED2-6C1B-42D2-8C16-F1B52502C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89B29-91F3-434E-9765-8952A2A18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00D84-F2CB-45B7-9A7F-62B2247A1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B7209-EDFC-4A30-997C-756A997CA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D8D38-EB7D-4651-8747-A541B736F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C2224-98E0-4BED-91AA-C25F6B4B1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B7696-70E4-499D-A838-487B7378A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B1C30-39E3-44DC-B236-BE16D57B3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6A884-7B29-467A-AA1E-C7AF1A94A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5B9CF-30BA-4064-99B8-66C5CCC53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2930-A33B-40DC-AE3C-4CB71AA4B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2AE20-7788-4CA9-8173-E1917E6D4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6034C-B3F0-4609-A243-6FF141D6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AD478-4997-4239-9E54-33CC8FA0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9F05F-4D52-4741-BAAC-92557A83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DB118-6BA2-4924-B580-27A82D384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09E61-5562-4FBB-8C36-8E299BC44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B69F9-45C6-47C5-B573-D2565DFAA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B9855-07FA-4E8A-A5DB-8A04A3972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890B6-F634-43E2-A705-03B7C547A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8B512-C315-47D2-8357-AD581C109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C57D-273B-42A0-AD69-E3DBCB148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EBBC6-1CE3-486C-A530-C1AEDFC48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2311E-EB8E-416F-B1A8-EABB87737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D4556-6192-48C4-A63A-DFD572967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23E11-8CC7-4363-9EE7-F500FE7AA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3A16F-04F5-483E-A056-C7D04E1C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E80C6-B312-42E5-95B1-A22C49078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CA0DE-62A9-4858-B0CA-F0D1B0D20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90572-6EB9-47B9-B9E5-CD42B2BAE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07037-47B0-49B5-8C94-9F539A0AB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D31A64-1C0F-4166-80C1-A05BAA819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25F0-4916-43C0-B452-17EA78E4D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B39549-8F66-4205-9211-7E8199D26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EB3452-230A-495B-8E92-B9BA3AEC2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980CA7-2407-47F4-9825-DF59726E5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D17783-19FF-46A1-B231-E6C749403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72D496-5228-4E97-822F-51077AB29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084D5-512E-4FF0-B010-737D12A9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EF6AD7-DCAA-4924-80A6-D7667B703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8E2E29-8E94-428D-802E-12872A0B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F41F6-A707-4E52-8437-3DA1C3653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2BA2C-2AC0-47AC-8E83-6D1F587F7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B462-EFC9-4265-BEEF-19431179C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DED37-CADF-4A96-9058-BB87B6E21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887B17-1CFD-4435-AC32-E73F155A4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431ABD-E534-4848-BE1F-A04F34710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C4298A-FBA5-416D-A5A0-096D2B6E2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7C39FA-17FB-4DDF-870D-BB6E2CFA8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A396E0-C70A-43C9-BB36-3044D96BC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8A030D-ED06-4350-9AFC-083797C05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AB0533-9E20-413A-A1E1-6EDAC2DF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BC9CDE-2849-4529-90EA-6DC33E357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460A88-3E43-44A6-9E65-12A9F3AAB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C828-5CEB-42BC-A61D-AE88A9272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F440D2-032D-4805-BD4A-0BF5CB39A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5CC59-B373-48BA-8E8A-87D61AFDF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898914-BF65-4085-9BD6-289123445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F40C-3F42-4759-8CD1-FD8CEF462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EFF3-FCFA-4A86-915C-2ECD36E6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E0E4C-9D67-46A3-9F76-B2B995F5F03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93732-2EEF-47A4-BAE4-A56E93B980C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46121-6236-46E8-A2EE-DEA1920A16F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45113-804D-4359-B6A9-2C5066542D7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EA9DC-9D00-45B2-9F41-BEB7A0FA3EB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41A69-1E7D-4EA1-BD6F-351A534D9FF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467840" cy="11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Arial Black"/>
              </a:rPr>
              <a:t>Муниципальная бюджетная общеобразовательная школа </a:t>
            </a:r>
            <a:br>
              <a:rPr sz="1400"/>
            </a:br>
            <a:r>
              <a:rPr b="1" lang="ru-RU" sz="1400" spc="-1" strike="noStrike">
                <a:solidFill>
                  <a:srgbClr val="0033cc"/>
                </a:solidFill>
                <a:latin typeface="Arial Black"/>
              </a:rPr>
              <a:t>средняя общеобразовательная школа № 21 г. Белгорода</a:t>
            </a:r>
            <a:br>
              <a:rPr sz="1600"/>
            </a:br>
            <a:br>
              <a:rPr sz="16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71680" y="157140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4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Творческий проект</a:t>
            </a:r>
            <a:br>
              <a:rPr sz="5500"/>
            </a:br>
            <a:r>
              <a:rPr b="1" lang="ru-RU" sz="55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       </a:t>
            </a:r>
            <a:r>
              <a:rPr b="1" lang="ru-RU" sz="2400" spc="-1" strike="noStrike">
                <a:solidFill>
                  <a:srgbClr val="0033cc"/>
                </a:solidFill>
                <a:latin typeface="Calibri"/>
                <a:ea typeface="Times New Roman"/>
              </a:rPr>
              <a:t>Тема:  Дизайн интерьера</a:t>
            </a:r>
            <a:br>
              <a:rPr sz="2400"/>
            </a:br>
            <a:r>
              <a:rPr b="1" lang="ru-RU" sz="2400" spc="-1" strike="noStrike">
                <a:solidFill>
                  <a:srgbClr val="cc2504"/>
                </a:solidFill>
                <a:latin typeface="Calibri"/>
              </a:rPr>
              <a:t>       </a:t>
            </a:r>
            <a:r>
              <a:rPr b="1" lang="ru-RU" sz="4800" spc="-1" strike="noStrike">
                <a:solidFill>
                  <a:srgbClr val="cc2504"/>
                </a:solidFill>
                <a:latin typeface="Times New Roman"/>
              </a:rPr>
              <a:t>«Пасхальное яйцо»</a:t>
            </a:r>
            <a:br>
              <a:rPr sz="4800"/>
            </a:br>
            <a:r>
              <a:rPr b="1" lang="ru-RU" sz="2400" spc="-1" strike="noStrike">
                <a:solidFill>
                  <a:srgbClr val="cc2504"/>
                </a:solidFill>
                <a:latin typeface="Times New Roman"/>
              </a:rPr>
              <a:t>                          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(орнамент из нити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</a:t>
            </a:r>
            <a:r>
              <a:rPr b="1" lang="ru-RU" sz="1400" spc="-1" strike="noStrike">
                <a:solidFill>
                  <a:srgbClr val="0033cc"/>
                </a:solidFill>
                <a:latin typeface="Arial Black"/>
                <a:ea typeface="Times New Roman"/>
              </a:rPr>
              <a:t>Выполнила:</a:t>
            </a:r>
            <a:br>
              <a:rPr sz="1400"/>
            </a:br>
            <a:r>
              <a:rPr b="1" lang="ru-RU" sz="1400" spc="-1" strike="noStrike">
                <a:solidFill>
                  <a:srgbClr val="0033cc"/>
                </a:solidFill>
                <a:latin typeface="Arial Black"/>
                <a:ea typeface="Times New Roman"/>
              </a:rPr>
              <a:t>                                                                        ученица  6 «А»  класса</a:t>
            </a:r>
            <a:br>
              <a:rPr sz="1400"/>
            </a:br>
            <a:r>
              <a:rPr b="1" lang="ru-RU" sz="1400" spc="-1" strike="noStrike">
                <a:solidFill>
                  <a:srgbClr val="0033cc"/>
                </a:solidFill>
                <a:latin typeface="Arial Black"/>
                <a:ea typeface="Times New Roman"/>
              </a:rPr>
              <a:t>                                                                        Варавина Дарина Денисовна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Arial Black"/>
                <a:ea typeface="Times New Roman"/>
              </a:rPr>
              <a:t>                                                                              </a:t>
            </a:r>
            <a:r>
              <a:rPr b="1" lang="ru-RU" sz="1400" spc="-1" strike="noStrike">
                <a:solidFill>
                  <a:srgbClr val="0033cc"/>
                </a:solidFill>
                <a:latin typeface="Arial Black"/>
                <a:ea typeface="Times New Roman"/>
              </a:rPr>
              <a:t>руководитель-консультант</a:t>
            </a:r>
            <a:br>
              <a:rPr sz="1400"/>
            </a:br>
            <a:r>
              <a:rPr b="1" lang="ru-RU" sz="1400" spc="-1" strike="noStrike">
                <a:solidFill>
                  <a:srgbClr val="0033cc"/>
                </a:solidFill>
                <a:latin typeface="Arial Black"/>
                <a:ea typeface="Times New Roman"/>
              </a:rPr>
              <a:t>                                                                        учитель ИЗО</a:t>
            </a:r>
            <a:br>
              <a:rPr sz="1400"/>
            </a:br>
            <a:r>
              <a:rPr b="1" lang="ru-RU" sz="1400" spc="-1" strike="noStrike">
                <a:solidFill>
                  <a:srgbClr val="0033cc"/>
                </a:solidFill>
                <a:latin typeface="Arial Black"/>
                <a:ea typeface="Times New Roman"/>
              </a:rPr>
              <a:t>                                                                        Безрук Светлана Владимировна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8" name="Picture 7" descr="Когда красят яйца"/>
          <p:cNvPicPr/>
          <p:nvPr/>
        </p:nvPicPr>
        <p:blipFill>
          <a:blip r:embed="rId1"/>
          <a:stretch/>
        </p:blipFill>
        <p:spPr>
          <a:xfrm>
            <a:off x="395280" y="3357720"/>
            <a:ext cx="2381400" cy="33336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8" descr="поделка Варавина"/>
          <p:cNvPicPr/>
          <p:nvPr/>
        </p:nvPicPr>
        <p:blipFill>
          <a:blip r:embed="rId2"/>
          <a:stretch/>
        </p:blipFill>
        <p:spPr>
          <a:xfrm>
            <a:off x="6959520" y="765000"/>
            <a:ext cx="1905120" cy="2664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4300" spc="-1" strike="noStrike">
                <a:solidFill>
                  <a:srgbClr val="cc2504"/>
                </a:solidFill>
                <a:latin typeface="Calibri"/>
              </a:rPr>
              <a:t>теоретические сведения</a:t>
            </a:r>
            <a:br>
              <a:rPr sz="4300"/>
            </a:b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1800" spc="-1" strike="noStrike">
                <a:solidFill>
                  <a:srgbClr val="0033cc"/>
                </a:solidFill>
                <a:latin typeface="Arial Black"/>
              </a:rPr>
              <a:t>В то же время  в Славакии традиционные для этой местности обычаи медленно, но верно уступают место веяниям англо-саксонских и немецких ритуалов.  И лишь такие мастера как пани Адамицова способны сохранить и передать следующим поколениям традиции и обычаи своих предк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 Black"/>
              </a:rPr>
              <a:t>        </a:t>
            </a:r>
            <a:r>
              <a:rPr b="1" lang="ru-RU" sz="1800" spc="-1" strike="noStrike">
                <a:solidFill>
                  <a:srgbClr val="0033cc"/>
                </a:solidFill>
                <a:latin typeface="Arial Black"/>
              </a:rPr>
              <a:t>Она делится своим мастерством украшения пасхальных яиц с энтузиастами всех возрастов, устраивая мастер-классы в родном селе и в Братеславе, где живет сейчас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Picture 6" descr="Техника  пасхальных  яиц"/>
          <p:cNvPicPr/>
          <p:nvPr/>
        </p:nvPicPr>
        <p:blipFill>
          <a:blip r:embed="rId1"/>
          <a:stretch/>
        </p:blipFill>
        <p:spPr>
          <a:xfrm>
            <a:off x="1908000" y="3429000"/>
            <a:ext cx="4824720" cy="3184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800" spc="-1" strike="noStrike">
                <a:solidFill>
                  <a:srgbClr val="e40059"/>
                </a:solidFill>
                <a:latin typeface="Calibri"/>
              </a:rPr>
              <a:t>банк идей</a:t>
            </a:r>
            <a:endParaRPr b="0" lang="en-US" sz="7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5ea4"/>
                </a:solidFill>
                <a:latin typeface="Arial"/>
                <a:ea typeface="Times New Roman"/>
              </a:rPr>
              <a:t>    </a:t>
            </a:r>
            <a:r>
              <a:rPr b="1" i="1" lang="ru-RU" sz="3300" spc="-1" strike="noStrike">
                <a:solidFill>
                  <a:srgbClr val="005ea4"/>
                </a:solidFill>
                <a:latin typeface="Arial"/>
                <a:ea typeface="Times New Roman"/>
              </a:rPr>
              <a:t>В процессе сбора информации был рассмотрен ряд вариантов:</a:t>
            </a:r>
            <a:br>
              <a:rPr sz="3300"/>
            </a:b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528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3200" spc="-1" strike="noStrike">
                <a:solidFill>
                  <a:srgbClr val="cc2504"/>
                </a:solidFill>
                <a:latin typeface="Times New Roman"/>
                <a:ea typeface="Times New Roman"/>
              </a:rPr>
              <a:t>1. Украсить яйцо узорами в технике «писанка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28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2504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cc2504"/>
                </a:solidFill>
                <a:latin typeface="Times New Roman"/>
                <a:ea typeface="Times New Roman"/>
              </a:rPr>
              <a:t>2. Украсить яйцо в технике «орнамен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28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2504"/>
                </a:solidFill>
                <a:latin typeface="Times New Roman"/>
                <a:ea typeface="Times New Roman"/>
              </a:rPr>
              <a:t>      </a:t>
            </a:r>
            <a:r>
              <a:rPr b="1" lang="ru-RU" sz="3200" spc="-1" strike="noStrike">
                <a:solidFill>
                  <a:srgbClr val="cc2504"/>
                </a:solidFill>
                <a:latin typeface="Times New Roman"/>
                <a:ea typeface="Times New Roman"/>
              </a:rPr>
              <a:t>из нити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28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2504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cc2504"/>
                </a:solidFill>
                <a:latin typeface="Times New Roman"/>
                <a:ea typeface="Times New Roman"/>
              </a:rPr>
              <a:t>3. Украсить яйцо в технике плетения бисер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cc2504"/>
                </a:solidFill>
                <a:latin typeface="Calibri"/>
              </a:rPr>
              <a:t>эскизная проработка   варианта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5" descr="uDNordiF8Z8"/>
          <p:cNvPicPr/>
          <p:nvPr/>
        </p:nvPicPr>
        <p:blipFill>
          <a:blip r:embed="rId1"/>
          <a:stretch/>
        </p:blipFill>
        <p:spPr>
          <a:xfrm>
            <a:off x="5148360" y="1628640"/>
            <a:ext cx="3652920" cy="48927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vS7FbpfY1Ac"/>
          <p:cNvPicPr/>
          <p:nvPr/>
        </p:nvPicPr>
        <p:blipFill>
          <a:blip r:embed="rId2"/>
          <a:stretch/>
        </p:blipFill>
        <p:spPr>
          <a:xfrm>
            <a:off x="324000" y="2637000"/>
            <a:ext cx="4483080" cy="334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14716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cc2504"/>
                </a:solidFill>
                <a:latin typeface="Calibri"/>
              </a:rPr>
              <a:t>инструменты и</a:t>
            </a:r>
            <a:br>
              <a:rPr sz="4300"/>
            </a:br>
            <a:r>
              <a:rPr b="1" i="1" lang="ru-RU" sz="4300" spc="-1" strike="noStrike">
                <a:solidFill>
                  <a:srgbClr val="cc2504"/>
                </a:solidFill>
                <a:latin typeface="Calibri"/>
              </a:rPr>
              <a:t>оборудование</a:t>
            </a:r>
            <a:br>
              <a:rPr sz="4300"/>
            </a:b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51868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 algn="just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cc"/>
                </a:solidFill>
                <a:latin typeface="Calibri"/>
              </a:rPr>
              <a:t>Основа (пасхальное яйцо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05800" indent="-505800" algn="just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cc"/>
                </a:solidFill>
                <a:latin typeface="Calibri"/>
              </a:rPr>
              <a:t>Зубочистк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05800" indent="-505800" algn="just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cc"/>
                </a:solidFill>
                <a:latin typeface="Calibri"/>
              </a:rPr>
              <a:t>Сантиметр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05800" indent="-505800" algn="just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cc"/>
                </a:solidFill>
                <a:latin typeface="Calibri"/>
              </a:rPr>
              <a:t>Карандаш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0580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cc"/>
                </a:solidFill>
                <a:latin typeface="Calibri"/>
              </a:rPr>
              <a:t>5.    Ножницы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0580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cc"/>
                </a:solidFill>
                <a:latin typeface="Calibri"/>
              </a:rPr>
              <a:t>6.    Кисть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0580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cc"/>
                </a:solidFill>
                <a:latin typeface="Calibri"/>
              </a:rPr>
              <a:t>7.    Кле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Picture 7" descr="PrUZNs_UK3U"/>
          <p:cNvPicPr/>
          <p:nvPr/>
        </p:nvPicPr>
        <p:blipFill>
          <a:blip r:embed="rId1"/>
          <a:stretch/>
        </p:blipFill>
        <p:spPr>
          <a:xfrm>
            <a:off x="3203640" y="2565360"/>
            <a:ext cx="5186160" cy="3871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07552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cc2504"/>
                </a:solidFill>
                <a:latin typeface="Calibri"/>
              </a:rPr>
              <a:t>материалы</a:t>
            </a:r>
            <a:br>
              <a:rPr sz="4300"/>
            </a:br>
            <a:br>
              <a:rPr sz="4300"/>
            </a:b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64216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40059"/>
                </a:solidFill>
                <a:latin typeface="Calibri"/>
              </a:rPr>
              <a:t>                                   </a:t>
            </a:r>
            <a:r>
              <a:rPr b="1" lang="ru-RU" sz="3000" spc="-1" strike="noStrike">
                <a:solidFill>
                  <a:srgbClr val="0033cc"/>
                </a:solidFill>
                <a:latin typeface="Calibri"/>
              </a:rPr>
              <a:t>Нитки  «Ирис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1800" spc="-1" strike="noStrike">
                <a:solidFill>
                  <a:srgbClr val="0033cc"/>
                </a:solidFill>
                <a:latin typeface="Arial Black"/>
              </a:rPr>
              <a:t>Вязальные нитки в 2 сложения "Ирис" изготовлены из 100% хлопка. Такие нитки используются для вязания крючком. Нити крученые, матовые, мерсеризованные. Устойчивость окраски - особо прочная.</a:t>
            </a:r>
            <a:r>
              <a:rPr b="0" lang="ru-RU" sz="1800" spc="-1" strike="noStrike">
                <a:solidFill>
                  <a:srgbClr val="0033cc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4" name="Picture 6" descr="DCqA_Mc49hs"/>
          <p:cNvPicPr/>
          <p:nvPr/>
        </p:nvPicPr>
        <p:blipFill>
          <a:blip r:embed="rId1"/>
          <a:stretch/>
        </p:blipFill>
        <p:spPr>
          <a:xfrm>
            <a:off x="2124000" y="2924280"/>
            <a:ext cx="4969080" cy="3705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cc2504"/>
                </a:solidFill>
                <a:latin typeface="Calibri"/>
              </a:rPr>
              <a:t>правила поведения  во время работы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 Black"/>
              </a:rPr>
              <a:t>1.   Во время работы ножницы предметы должны лежать справа на столе  с сомкнутыми лезвиями или в отдельной шкатул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 Black"/>
              </a:rPr>
              <a:t>2.  Брать и передавать ножницы предметы нужно сомкнутыми лезвиями к себе, кольцами  и ручкой впере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 Black"/>
              </a:rPr>
              <a:t>3.  Острые, колющиеся и режущие предметы хранятся  в специальной шкатулке с крышк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21844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cc2504"/>
                </a:solidFill>
                <a:latin typeface="Calibri"/>
              </a:rPr>
              <a:t>технология изготовления</a:t>
            </a: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 </a:t>
            </a:r>
            <a:br>
              <a:rPr sz="3200"/>
            </a:b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     подготовка   основы для  работы,</a:t>
            </a:r>
            <a:br>
              <a:rPr sz="3200"/>
            </a:b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 нанести контурный рисунок  на основ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9" name="Picture 6" descr="w1l3lO83was"/>
          <p:cNvPicPr/>
          <p:nvPr/>
        </p:nvPicPr>
        <p:blipFill>
          <a:blip r:embed="rId1"/>
          <a:stretch/>
        </p:blipFill>
        <p:spPr>
          <a:xfrm>
            <a:off x="2700360" y="1700280"/>
            <a:ext cx="3546360" cy="4748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cc2504"/>
                </a:solidFill>
                <a:latin typeface="Calibri"/>
              </a:rPr>
              <a:t>технология изготовления</a:t>
            </a: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 нанесение клея на контур рисун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2" name="Picture 7" descr="aWvcP-oi3Yk"/>
          <p:cNvPicPr/>
          <p:nvPr/>
        </p:nvPicPr>
        <p:blipFill>
          <a:blip r:embed="rId1"/>
          <a:stretch/>
        </p:blipFill>
        <p:spPr>
          <a:xfrm>
            <a:off x="2411280" y="1557360"/>
            <a:ext cx="3814920" cy="5108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cc2504"/>
                </a:solidFill>
                <a:latin typeface="Calibri"/>
              </a:rPr>
              <a:t>технология изготовления</a:t>
            </a: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 </a:t>
            </a:r>
            <a:br>
              <a:rPr sz="3200"/>
            </a:b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использование нити в рабо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Picture 6" descr="j4ePCEELtvQ"/>
          <p:cNvPicPr/>
          <p:nvPr/>
        </p:nvPicPr>
        <p:blipFill>
          <a:blip r:embed="rId1"/>
          <a:stretch/>
        </p:blipFill>
        <p:spPr>
          <a:xfrm>
            <a:off x="2556000" y="1484280"/>
            <a:ext cx="3867120" cy="5180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cc2504"/>
                </a:solidFill>
                <a:latin typeface="Calibri"/>
              </a:rPr>
              <a:t>технология изготовления</a:t>
            </a:r>
            <a:br>
              <a:rPr sz="3200"/>
            </a:b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закрепление нити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Содержимое 2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1125"/>
              </a:spcBef>
              <a:buClr>
                <a:srgbClr val="e400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9" name="Picture 8" descr="-rX63t6tN8Q"/>
          <p:cNvPicPr/>
          <p:nvPr/>
        </p:nvPicPr>
        <p:blipFill>
          <a:blip r:embed="rId1"/>
          <a:stretch/>
        </p:blipFill>
        <p:spPr>
          <a:xfrm>
            <a:off x="2700360" y="1484280"/>
            <a:ext cx="3652920" cy="4892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Прямоугольник 1"/>
          <p:cNvSpPr/>
          <p:nvPr/>
        </p:nvSpPr>
        <p:spPr>
          <a:xfrm>
            <a:off x="609480" y="1600200"/>
            <a:ext cx="74296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966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2504"/>
                </a:solidFill>
                <a:latin typeface="Arial Black"/>
              </a:rPr>
              <a:t>содержа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258560" y="1268280"/>
            <a:ext cx="66978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Calibri"/>
              </a:rPr>
              <a:t>Обоснование возникшей проблемы и потреб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Calibri"/>
              </a:rPr>
              <a:t>Схема обдумы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Calibri"/>
              </a:rPr>
              <a:t>История и современно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Calibri"/>
              </a:rPr>
              <a:t>Теоретические свед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Calibri"/>
              </a:rPr>
              <a:t>Банк ид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Calibri"/>
              </a:rPr>
              <a:t>Сетка принятых реше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Calibri"/>
              </a:rPr>
              <a:t>Эскизная проработка базового вариан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Calibri"/>
              </a:rPr>
              <a:t>Инструменты и оборудова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Calibri"/>
              </a:rPr>
              <a:t>Материал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Calibri"/>
              </a:rPr>
              <a:t>Правила безопасности во время работ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Calibri"/>
              </a:rPr>
              <a:t>Санитарно-гигиенические треб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Calibri"/>
              </a:rPr>
              <a:t>Технология изготовл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Calibri"/>
              </a:rPr>
              <a:t>Контроль качес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Calibri"/>
              </a:rPr>
              <a:t>Литератур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Picture 6" descr="Крашеные яйца - символ Пасхи"/>
          <p:cNvPicPr/>
          <p:nvPr/>
        </p:nvPicPr>
        <p:blipFill>
          <a:blip r:embed="rId1"/>
          <a:stretch/>
        </p:blipFill>
        <p:spPr>
          <a:xfrm>
            <a:off x="6443640" y="3141720"/>
            <a:ext cx="2381400" cy="3371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cc2504"/>
                </a:solidFill>
                <a:latin typeface="Calibri"/>
              </a:rPr>
              <a:t>технология изготовления</a:t>
            </a: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 </a:t>
            </a:r>
            <a:br>
              <a:rPr sz="3200"/>
            </a:br>
            <a:r>
              <a:rPr b="1" i="1" lang="ru-RU" sz="3600" spc="-1" strike="noStrike">
                <a:solidFill>
                  <a:srgbClr val="0070c0"/>
                </a:solidFill>
                <a:latin typeface="Calibri"/>
              </a:rPr>
              <a:t>фиксирование нити</a:t>
            </a: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Содержимое 2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1125"/>
              </a:spcBef>
              <a:buClr>
                <a:srgbClr val="e400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3" name="Picture 7" descr="snO2KIMjiRs"/>
          <p:cNvPicPr/>
          <p:nvPr/>
        </p:nvPicPr>
        <p:blipFill>
          <a:blip r:embed="rId1"/>
          <a:stretch/>
        </p:blipFill>
        <p:spPr>
          <a:xfrm>
            <a:off x="1258920" y="1413000"/>
            <a:ext cx="6696000" cy="49989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8000" y="260280"/>
            <a:ext cx="9036000" cy="26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cc2504"/>
                </a:solidFill>
                <a:latin typeface="Calibri"/>
              </a:rPr>
              <a:t>технология изготовления</a:t>
            </a:r>
            <a:br>
              <a:rPr sz="3200"/>
            </a:b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продолжение работы в «цветном варианте»</a:t>
            </a:r>
            <a:br>
              <a:rPr sz="3200"/>
            </a:br>
            <a:br>
              <a:rPr sz="4300"/>
            </a:br>
            <a:br>
              <a:rPr sz="3200"/>
            </a:b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Содержимое 2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1125"/>
              </a:spcBef>
              <a:buClr>
                <a:srgbClr val="e400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7" name="Picture 7" descr="3shcIMup_4o"/>
          <p:cNvPicPr/>
          <p:nvPr/>
        </p:nvPicPr>
        <p:blipFill>
          <a:blip r:embed="rId1"/>
          <a:stretch/>
        </p:blipFill>
        <p:spPr>
          <a:xfrm>
            <a:off x="2700360" y="1628640"/>
            <a:ext cx="3706920" cy="4964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cc2504"/>
                </a:solidFill>
                <a:latin typeface="Calibri"/>
              </a:rPr>
              <a:t>технология изготовления</a:t>
            </a: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 </a:t>
            </a:r>
            <a:br>
              <a:rPr sz="3200"/>
            </a:b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фиксация лаком, последние штрихи</a:t>
            </a:r>
            <a:br>
              <a:rPr sz="3200"/>
            </a:b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Содержимое 2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1125"/>
              </a:spcBef>
              <a:buClr>
                <a:srgbClr val="e400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1" name="Picture 7" descr="IMG_5265"/>
          <p:cNvPicPr/>
          <p:nvPr/>
        </p:nvPicPr>
        <p:blipFill>
          <a:blip r:embed="rId1"/>
          <a:stretch/>
        </p:blipFill>
        <p:spPr>
          <a:xfrm>
            <a:off x="1332000" y="1341360"/>
            <a:ext cx="6624720" cy="4969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6348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2504"/>
                </a:solidFill>
                <a:latin typeface="Calibri"/>
              </a:rPr>
              <a:t>Готовое изделие</a:t>
            </a:r>
            <a:r>
              <a:rPr b="1" i="1" lang="ru-RU" sz="3600" spc="-1" strike="noStrike">
                <a:solidFill>
                  <a:srgbClr val="0070c0"/>
                </a:solidFill>
                <a:latin typeface="Calibri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Содержимое 2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1125"/>
              </a:spcBef>
              <a:buClr>
                <a:srgbClr val="e400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5" name="Picture 5" descr="7HsbBEg5yhk"/>
          <p:cNvPicPr/>
          <p:nvPr/>
        </p:nvPicPr>
        <p:blipFill>
          <a:blip r:embed="rId1"/>
          <a:stretch/>
        </p:blipFill>
        <p:spPr>
          <a:xfrm>
            <a:off x="324000" y="3573360"/>
            <a:ext cx="2205000" cy="295596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6" descr="o4XHyZrxSTo"/>
          <p:cNvPicPr/>
          <p:nvPr/>
        </p:nvPicPr>
        <p:blipFill>
          <a:blip r:embed="rId2"/>
          <a:stretch/>
        </p:blipFill>
        <p:spPr>
          <a:xfrm>
            <a:off x="6588000" y="189000"/>
            <a:ext cx="2284560" cy="306216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7" descr="C-0udHOt8mk"/>
          <p:cNvPicPr/>
          <p:nvPr/>
        </p:nvPicPr>
        <p:blipFill>
          <a:blip r:embed="rId3"/>
          <a:stretch/>
        </p:blipFill>
        <p:spPr>
          <a:xfrm>
            <a:off x="2771640" y="1125360"/>
            <a:ext cx="3598920" cy="4824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626920" y="0"/>
            <a:ext cx="583236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cc2504"/>
                </a:solidFill>
                <a:latin typeface="Calibri"/>
              </a:rPr>
              <a:t>Готовое изделие</a:t>
            </a:r>
            <a:r>
              <a:rPr b="1" i="1" lang="ru-RU" sz="3600" spc="-1" strike="noStrike">
                <a:solidFill>
                  <a:srgbClr val="0070c0"/>
                </a:solidFill>
                <a:latin typeface="Calibri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Содержимое 2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1125"/>
              </a:spcBef>
              <a:buClr>
                <a:srgbClr val="e400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1" name="Picture 7" descr="wO-yYDLBPHU"/>
          <p:cNvPicPr/>
          <p:nvPr/>
        </p:nvPicPr>
        <p:blipFill>
          <a:blip r:embed="rId1"/>
          <a:stretch/>
        </p:blipFill>
        <p:spPr>
          <a:xfrm>
            <a:off x="2556000" y="1125360"/>
            <a:ext cx="3917880" cy="525636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8" descr="FT_vlw827K4"/>
          <p:cNvPicPr/>
          <p:nvPr/>
        </p:nvPicPr>
        <p:blipFill>
          <a:blip r:embed="rId2"/>
          <a:stretch/>
        </p:blipFill>
        <p:spPr>
          <a:xfrm>
            <a:off x="324000" y="260280"/>
            <a:ext cx="2016000" cy="27036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9" descr="wZuefF7SshY"/>
          <p:cNvPicPr/>
          <p:nvPr/>
        </p:nvPicPr>
        <p:blipFill>
          <a:blip r:embed="rId3"/>
          <a:stretch/>
        </p:blipFill>
        <p:spPr>
          <a:xfrm>
            <a:off x="6659640" y="3573360"/>
            <a:ext cx="2313000" cy="3100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20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cc2504"/>
                </a:solidFill>
                <a:latin typeface="Calibri"/>
              </a:rPr>
              <a:t>  </a:t>
            </a:r>
            <a:r>
              <a:rPr b="1" i="1" lang="ru-RU" sz="4300" spc="-1" strike="noStrike">
                <a:solidFill>
                  <a:srgbClr val="cc2504"/>
                </a:solidFill>
                <a:latin typeface="Calibri"/>
              </a:rPr>
              <a:t>контроль  качества</a:t>
            </a:r>
            <a:br>
              <a:rPr sz="4300"/>
            </a:br>
            <a:br>
              <a:rPr sz="4900"/>
            </a:br>
            <a:r>
              <a:rPr b="0" lang="ru-RU" sz="4900" spc="-1" strike="noStrike">
                <a:solidFill>
                  <a:srgbClr val="cc2504"/>
                </a:solidFill>
                <a:latin typeface="Calibri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1" lang="ru-RU" sz="2400" spc="-1" strike="noStrike">
                <a:solidFill>
                  <a:srgbClr val="0033cc"/>
                </a:solidFill>
                <a:latin typeface="Arial Black"/>
              </a:rPr>
              <a:t>Готовое изделие отвечает </a:t>
            </a:r>
            <a:br>
              <a:rPr sz="2400"/>
            </a:br>
            <a:r>
              <a:rPr b="1" lang="ru-RU" sz="2400" spc="-1" strike="noStrike">
                <a:solidFill>
                  <a:srgbClr val="0033cc"/>
                </a:solidFill>
                <a:latin typeface="Arial Black"/>
              </a:rPr>
              <a:t>         следующим требованиям: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33cc"/>
                </a:solidFill>
                <a:latin typeface="Arial Black"/>
              </a:rPr>
              <a:t>1. Цветовое сочетание материало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 Black"/>
              </a:rPr>
              <a:t>         </a:t>
            </a:r>
            <a:r>
              <a:rPr b="1" lang="ru-RU" sz="2400" spc="-1" strike="noStrike">
                <a:solidFill>
                  <a:srgbClr val="0033cc"/>
                </a:solidFill>
                <a:latin typeface="Arial Black"/>
              </a:rPr>
              <a:t>гармонично.</a:t>
            </a:r>
            <a:br>
              <a:rPr sz="2400"/>
            </a:br>
            <a:r>
              <a:rPr b="1" lang="ru-RU" sz="2400" spc="-1" strike="noStrike">
                <a:solidFill>
                  <a:srgbClr val="0033cc"/>
                </a:solidFill>
                <a:latin typeface="Arial Black"/>
              </a:rPr>
              <a:t>2. Все элементы композиции выполне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 Black"/>
              </a:rPr>
              <a:t>         </a:t>
            </a:r>
            <a:r>
              <a:rPr b="1" lang="ru-RU" sz="2400" spc="-1" strike="noStrike">
                <a:solidFill>
                  <a:srgbClr val="0033cc"/>
                </a:solidFill>
                <a:latin typeface="Arial Black"/>
              </a:rPr>
              <a:t>ровно и аккуратно, в соответствии с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 Black"/>
              </a:rPr>
              <a:t>         </a:t>
            </a:r>
            <a:r>
              <a:rPr b="1" lang="ru-RU" sz="2400" spc="-1" strike="noStrike">
                <a:solidFill>
                  <a:srgbClr val="0033cc"/>
                </a:solidFill>
                <a:latin typeface="Arial Black"/>
              </a:rPr>
              <a:t>технологией.</a:t>
            </a:r>
            <a:br>
              <a:rPr sz="2400"/>
            </a:br>
            <a:r>
              <a:rPr b="1" lang="ru-RU" sz="2400" spc="-1" strike="noStrike">
                <a:solidFill>
                  <a:srgbClr val="0033cc"/>
                </a:solidFill>
                <a:latin typeface="Arial Black"/>
              </a:rPr>
              <a:t>3. Работа оформлена в законченную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 Black"/>
              </a:rPr>
              <a:t>         </a:t>
            </a:r>
            <a:r>
              <a:rPr b="1" lang="ru-RU" sz="2400" spc="-1" strike="noStrike">
                <a:solidFill>
                  <a:srgbClr val="0033cc"/>
                </a:solidFill>
                <a:latin typeface="Arial Black"/>
              </a:rPr>
              <a:t>композицию.</a:t>
            </a:r>
            <a:br>
              <a:rPr sz="2400"/>
            </a:br>
            <a:r>
              <a:rPr b="1" lang="ru-RU" sz="2400" spc="-1" strike="noStrike">
                <a:solidFill>
                  <a:srgbClr val="0033cc"/>
                </a:solidFill>
                <a:latin typeface="Arial Black"/>
              </a:rPr>
              <a:t>4. В целом композиция производи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 Black"/>
              </a:rPr>
              <a:t>         </a:t>
            </a:r>
            <a:r>
              <a:rPr b="1" lang="ru-RU" sz="2400" spc="-1" strike="noStrike">
                <a:solidFill>
                  <a:srgbClr val="0033cc"/>
                </a:solidFill>
                <a:latin typeface="Arial Black"/>
              </a:rPr>
              <a:t>благоприятное впечатление.</a:t>
            </a:r>
            <a:br>
              <a:rPr sz="2400"/>
            </a:br>
            <a:r>
              <a:rPr b="1" lang="ru-RU" sz="2400" spc="-1" strike="noStrike">
                <a:solidFill>
                  <a:srgbClr val="0033cc"/>
                </a:solidFill>
                <a:latin typeface="Arial Black"/>
              </a:rPr>
              <a:t>5. Предмет готов для  украшения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 Black"/>
              </a:rPr>
              <a:t>         </a:t>
            </a:r>
            <a:r>
              <a:rPr b="1" lang="ru-RU" sz="2400" spc="-1" strike="noStrike">
                <a:solidFill>
                  <a:srgbClr val="0033cc"/>
                </a:solidFill>
                <a:latin typeface="Arial Black"/>
              </a:rPr>
              <a:t>интерьера</a:t>
            </a:r>
            <a:r>
              <a:rPr b="1" lang="ru-RU" sz="2000" spc="-1" strike="noStrike">
                <a:solidFill>
                  <a:srgbClr val="0033cc"/>
                </a:solidFill>
                <a:latin typeface="Arial Black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64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i="1" lang="ru-RU" sz="4800" spc="-1" strike="noStrike">
                <a:solidFill>
                  <a:srgbClr val="0070c0"/>
                </a:solidFill>
                <a:latin typeface="Calibri"/>
              </a:rPr>
              <a:t>Спасибо</a:t>
            </a:r>
            <a:br>
              <a:rPr sz="4800"/>
            </a:br>
            <a:r>
              <a:rPr b="1" i="1" lang="ru-RU" sz="4800" spc="-1" strike="noStrike">
                <a:solidFill>
                  <a:srgbClr val="0070c0"/>
                </a:solidFill>
                <a:latin typeface="Calibri"/>
              </a:rPr>
              <a:t>за </a:t>
            </a:r>
            <a:br>
              <a:rPr sz="4800"/>
            </a:br>
            <a:r>
              <a:rPr b="1" i="1" lang="ru-RU" sz="4800" spc="-1" strike="noStrike">
                <a:solidFill>
                  <a:srgbClr val="0070c0"/>
                </a:solidFill>
                <a:latin typeface="Calibri"/>
              </a:rPr>
              <a:t>внимани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68000" y="2565000"/>
            <a:ext cx="8280360" cy="55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8" name="Picture 7" descr="техника украшения яиц"/>
          <p:cNvPicPr/>
          <p:nvPr/>
        </p:nvPicPr>
        <p:blipFill>
          <a:blip r:embed="rId1"/>
          <a:stretch/>
        </p:blipFill>
        <p:spPr>
          <a:xfrm>
            <a:off x="468360" y="333360"/>
            <a:ext cx="2665440" cy="266544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8" descr="пани Адамицова"/>
          <p:cNvPicPr/>
          <p:nvPr/>
        </p:nvPicPr>
        <p:blipFill>
          <a:blip r:embed="rId2"/>
          <a:stretch/>
        </p:blipFill>
        <p:spPr>
          <a:xfrm>
            <a:off x="6300720" y="4005360"/>
            <a:ext cx="2592360" cy="2592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4300" spc="-1" strike="noStrike">
                <a:solidFill>
                  <a:srgbClr val="cc2504"/>
                </a:solidFill>
                <a:latin typeface="Calibri"/>
              </a:rPr>
              <a:t>обоснование возникшей </a:t>
            </a:r>
            <a:br>
              <a:rPr sz="4300"/>
            </a:br>
            <a:r>
              <a:rPr b="1" i="1" lang="ru-RU" sz="4300" spc="-1" strike="noStrike">
                <a:solidFill>
                  <a:srgbClr val="cc2504"/>
                </a:solidFill>
                <a:latin typeface="Calibri"/>
              </a:rPr>
              <a:t>   проблемы и потребности</a:t>
            </a:r>
            <a:br>
              <a:rPr sz="4300"/>
            </a:b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Calibri"/>
              </a:rPr>
              <a:t>          </a:t>
            </a:r>
            <a:r>
              <a:rPr b="1" lang="ru-RU" sz="2000" spc="-1" strike="noStrike">
                <a:solidFill>
                  <a:srgbClr val="0033cc"/>
                </a:solidFill>
                <a:latin typeface="Arial Black"/>
              </a:rPr>
              <a:t>Весной вся природа пробуждается от долгого зимнего сна. На Руси празднование Пасхи по времени совпадает с древним Праздником возрождения весенних сил Природ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 Black"/>
              </a:rPr>
              <a:t>        </a:t>
            </a:r>
            <a:r>
              <a:rPr b="1" lang="ru-RU" sz="2000" spc="-1" strike="noStrike">
                <a:solidFill>
                  <a:srgbClr val="0033cc"/>
                </a:solidFill>
                <a:latin typeface="Arial Black"/>
              </a:rPr>
              <a:t>Яйцо – символ Пасхи, символ возрождения, символ новой жизни, чистой, светлой, символ надежд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 Black"/>
              </a:rPr>
              <a:t>         </a:t>
            </a:r>
            <a:r>
              <a:rPr b="1" lang="ru-RU" sz="2000" spc="-1" strike="noStrike">
                <a:solidFill>
                  <a:srgbClr val="0033cc"/>
                </a:solidFill>
                <a:latin typeface="Arial Black"/>
              </a:rPr>
              <a:t>В древности сложилась такая легенда: «Был вначале род человеческий заключен в яйце. Был он семенем не пророщенным, почкой нераскрывшейся, но конец пришел заточению. Род родил любовь - Ладу Матушку. Любовью мир наполнился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 Black"/>
              </a:rPr>
              <a:t>         </a:t>
            </a:r>
            <a:r>
              <a:rPr b="1" lang="ru-RU" sz="2000" spc="-1" strike="noStrike">
                <a:solidFill>
                  <a:srgbClr val="0033cc"/>
                </a:solidFill>
                <a:latin typeface="Arial Black"/>
              </a:rPr>
              <a:t>Выполнив свою работу, я тоже хочу подарить любовь, нежность и теплоту своим родным и близки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cc2504"/>
                </a:solidFill>
                <a:latin typeface="Calibri"/>
              </a:rPr>
              <a:t>история и современность</a:t>
            </a:r>
            <a:br>
              <a:rPr sz="6500"/>
            </a:br>
            <a:br>
              <a:rPr sz="4900"/>
            </a:b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896472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1" lang="ru-RU" sz="1600" spc="-1" strike="noStrike">
                <a:solidFill>
                  <a:srgbClr val="0033cc"/>
                </a:solidFill>
                <a:latin typeface="Arial Black"/>
              </a:rPr>
              <a:t>По преданию, обычай крашения яиц ведет свою историю с I века от Рождества Христова… Одна из учениц Христа, святая Мария Магдалина, с проповедью веры пришла в Рим и, попав во дворец императора Тиберия, стала рассказывать ему о Воскресении Христовом. В те времена было принято, посещая императора, приносить ему что–либо в дар; святая Мария была бедна и принесла в дар правителю Римского государства обычное куриное яйцо. Выслушав ее, император не поверил святой и сказал: “Как может кто–то воскреснуть из мертвых? Это так же невозможно, как если бы это яйцо стало красным”. И тут же на глазах императора совершилось чудо: яйцо само по себе сменило цвет на красный, свидетельствуя этим истинность Христова Воскресения. С тех пор христиане стали на Пасху окрашивать яйца и дарить их друг другу со словами пасхального приветствия: “Христос воскреси!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Arial Black"/>
              </a:rPr>
              <a:t>            </a:t>
            </a:r>
            <a:r>
              <a:rPr b="1" lang="ru-RU" sz="1600" spc="-1" strike="noStrike">
                <a:solidFill>
                  <a:srgbClr val="0033cc"/>
                </a:solidFill>
                <a:latin typeface="Arial Black"/>
              </a:rPr>
              <a:t>В древнейших представлениях многих народов мира яйцо воплощало в себе источник жизни. Так, финны, древние персы, индусы, византийцы, прибалтийские народы, а также греки и римляне считали, что Вселенная возникла из яйца. Геродот записал предание, в котором говорилось, что мир создан из яйца птицы Феникс, помещенного в святилище Гелиоса.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Arial Black"/>
              </a:rPr>
              <a:t>           </a:t>
            </a:r>
            <a:r>
              <a:rPr b="1" lang="ru-RU" sz="1600" spc="-1" strike="noStrike">
                <a:solidFill>
                  <a:srgbClr val="0033cc"/>
                </a:solidFill>
                <a:latin typeface="Arial Black"/>
              </a:rPr>
              <a:t>В одной из русских рукописей «О яйце свидетельство Иоанна Дамаскина» сказано: «Небо и земля по всему подобны яйцу - скорлупа аки небо, плева аки облака, белок аки вода, желток аки земля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Arial Black"/>
              </a:rPr>
              <a:t>            </a:t>
            </a:r>
            <a:r>
              <a:rPr b="1" lang="ru-RU" sz="1600" spc="-1" strike="noStrike">
                <a:solidFill>
                  <a:srgbClr val="0033cc"/>
                </a:solidFill>
                <a:latin typeface="Arial Black"/>
              </a:rPr>
              <a:t>Пасхальные яйца традиционно окрашивались не только в красный и золотистый цвета, но и расписывались всеми цветами радуги растительным или геометрическими орнаментами, что по своему ритуальному значению одно и то же.</a:t>
            </a:r>
            <a:r>
              <a:rPr b="1" lang="ru-RU" sz="1600" spc="-1" strike="noStrike">
                <a:solidFill>
                  <a:srgbClr val="000000"/>
                </a:solidFill>
                <a:latin typeface="Arial Black"/>
              </a:rPr>
              <a:t>                 </a:t>
            </a:r>
            <a:r>
              <a:rPr b="1" lang="ru-RU" sz="1600" spc="-1" strike="noStrike">
                <a:solidFill>
                  <a:srgbClr val="0033cc"/>
                </a:solidFill>
                <a:latin typeface="Arial Black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Black"/>
              </a:rPr>
              <a:t>                  </a:t>
            </a:r>
            <a:r>
              <a:rPr b="1" lang="ru-RU" sz="1600" spc="-1" strike="noStrike">
                <a:solidFill>
                  <a:srgbClr val="0033cc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cc2504"/>
                </a:solidFill>
                <a:latin typeface="Calibri"/>
              </a:rPr>
              <a:t>история и современность</a:t>
            </a:r>
            <a:br>
              <a:rPr sz="6500"/>
            </a:br>
            <a:br>
              <a:rPr sz="4900"/>
            </a:b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896472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                                                </a:t>
            </a:r>
            <a:r>
              <a:rPr b="1" lang="ru-RU" sz="1400" spc="-1" strike="noStrike">
                <a:solidFill>
                  <a:srgbClr val="0033cc"/>
                </a:solidFill>
                <a:latin typeface="Arial Black"/>
              </a:rPr>
              <a:t>Обереги эти везде на Руси называли по-разному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Arial Black"/>
              </a:rPr>
              <a:t>              </a:t>
            </a:r>
            <a:r>
              <a:rPr b="1" lang="ru-RU" sz="1400" spc="-1" strike="noStrike">
                <a:solidFill>
                  <a:srgbClr val="0033cc"/>
                </a:solidFill>
                <a:latin typeface="Arial Black"/>
              </a:rPr>
              <a:t>«крашенками» - окрашенные в один цвет, например, красный, синий, зеленый; «крапинками» - исполненные «в крапинку» - пятнами,  «писанками» - расписанные узорами.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Arial Black"/>
              </a:rPr>
              <a:t>                   </a:t>
            </a:r>
            <a:r>
              <a:rPr b="1" lang="ru-RU" sz="1400" spc="-1" strike="noStrike">
                <a:solidFill>
                  <a:srgbClr val="0033cc"/>
                </a:solidFill>
                <a:latin typeface="Arial Black"/>
              </a:rPr>
              <a:t>Яйца , изготовленные из дерева, глины, мрамора, иных материалов, повсюду называли «яйчатами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Arial Black"/>
              </a:rPr>
              <a:t>                 </a:t>
            </a:r>
            <a:r>
              <a:rPr b="1" lang="ru-RU" sz="1400" spc="-1" strike="noStrike">
                <a:solidFill>
                  <a:srgbClr val="0033cc"/>
                </a:solidFill>
                <a:latin typeface="Arial Black"/>
              </a:rPr>
              <a:t>Считалось, что лучше красить яйца в четверг. Воду было принято брать снеговую или чисто родниковую, и вставать надо было утром рано, идти за водой, степенно сосредоточившись, не поворачиваясь ни назад, ни в сторону и ни с кем не вступая в разговор. Прежде чем приступить к раскраске яиц, надевали праздничный народный костюм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Arial Black"/>
              </a:rPr>
              <a:t>                   </a:t>
            </a:r>
            <a:r>
              <a:rPr b="1" lang="ru-RU" sz="1400" spc="-1" strike="noStrike">
                <a:solidFill>
                  <a:srgbClr val="0033cc"/>
                </a:solidFill>
                <a:latin typeface="Arial Black"/>
              </a:rPr>
              <a:t>Раскрашивали яйца восковым </a:t>
            </a:r>
            <a:r>
              <a:rPr b="1" lang="ru-RU" sz="1600" spc="-1" strike="noStrike">
                <a:solidFill>
                  <a:srgbClr val="0033cc"/>
                </a:solidFill>
                <a:latin typeface="Arial Black"/>
              </a:rPr>
              <a:t>способом</a:t>
            </a:r>
            <a:r>
              <a:rPr b="1" lang="ru-RU" sz="1400" spc="-1" strike="noStrike">
                <a:solidFill>
                  <a:srgbClr val="0033cc"/>
                </a:solidFill>
                <a:latin typeface="Arial Black"/>
              </a:rPr>
              <a:t> растительными красками. Желтую краску, например, добывали из дикорастущих яблонь, цветов бузины, отвара купавок, шелухи лука;  синюю - из луковичных растений, из сушеных цветов синей мальвы;  голубую - из весенних цветов «барашка»,  зеленую - из сережек осины, мха, из ягод черники или ее смеси с дикорастущей бузиной и раствором желтой краски, черную вырабатывали из коры ольхи, а для обесцвечивания краски применяли свекольный квас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Arial Black"/>
              </a:rPr>
              <a:t>                    </a:t>
            </a:r>
            <a:r>
              <a:rPr b="1" lang="ru-RU" sz="1400" spc="-1" strike="noStrike">
                <a:solidFill>
                  <a:srgbClr val="0033cc"/>
                </a:solidFill>
                <a:latin typeface="Arial Black"/>
              </a:rPr>
              <a:t>Орнамент пасхальных яиц был самым разнообразным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Arial Black"/>
              </a:rPr>
              <a:t>             </a:t>
            </a:r>
            <a:r>
              <a:rPr b="1" lang="ru-RU" sz="1400" spc="-1" strike="noStrike">
                <a:solidFill>
                  <a:srgbClr val="0033cc"/>
                </a:solidFill>
                <a:latin typeface="Arial Black"/>
              </a:rPr>
              <a:t>Весенние цветы, цветы – солнышки, тюльпаны и лошадки, черное море и дубовые листья, северные олени, веточки – снежинки, геометрические композиции, библейские истори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Arial Black"/>
              </a:rPr>
              <a:t>                  </a:t>
            </a:r>
            <a:r>
              <a:rPr b="1" lang="ru-RU" sz="1400" spc="-1" strike="noStrike">
                <a:solidFill>
                  <a:srgbClr val="0033cc"/>
                </a:solidFill>
                <a:latin typeface="Arial Black"/>
              </a:rPr>
              <a:t>В 19 веке «крашенки» делали из цветного стекла, хрусталя и самоцветов. Особой техникой, напоминающей эмалевую, расписывали фарфоровые яйца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Arial Black"/>
              </a:rPr>
              <a:t>                 </a:t>
            </a:r>
            <a:r>
              <a:rPr b="1" lang="ru-RU" sz="1400" spc="-1" strike="noStrike">
                <a:solidFill>
                  <a:srgbClr val="0033cc"/>
                </a:solidFill>
                <a:latin typeface="Arial Black"/>
              </a:rPr>
              <a:t>В собрании Оружейной палаты, Эрмитажа есть большая коллекция изысканно-вычурных яиц фирм Фаберже, Овчинникова и других.  Богатые собрания «писанок» сохранились в музеях на Гуцулыцине. Особенный интерес представляет коллекция музея города Коломыя. Некоторые музеи пополняют свои фонды очень интересными по сюжетной росписи деревянными яйцами из сел Крутец и Полхов-Майда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Arial Black"/>
              </a:rPr>
              <a:t>                 </a:t>
            </a:r>
            <a:r>
              <a:rPr b="1" lang="ru-RU" sz="1400" spc="-1" strike="noStrike">
                <a:solidFill>
                  <a:srgbClr val="0033cc"/>
                </a:solidFill>
                <a:latin typeface="Arial Black"/>
              </a:rPr>
              <a:t>Производство раскрашенных, разрисованных яиц является любопытным народным промыслом, который пользуется широкой популярностью.     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Arial Black"/>
              </a:rPr>
              <a:t>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cc2504"/>
                </a:solidFill>
                <a:latin typeface="Calibri"/>
              </a:rPr>
              <a:t>история и современность</a:t>
            </a:r>
            <a:br>
              <a:rPr sz="6500"/>
            </a:br>
            <a:br>
              <a:rPr sz="4900"/>
            </a:b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8964720" cy="69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1" lang="ru-RU" sz="1600" spc="-1" strike="noStrike">
                <a:solidFill>
                  <a:srgbClr val="0033cc"/>
                </a:solidFill>
                <a:latin typeface="Arial Black"/>
              </a:rPr>
              <a:t>На Руси в весенний праздник было принято раздаривать яйца не только куриные, но и гусиные, утиные, деревянные, расписанные по золоту яркими красками. В старину их приготовлением занимались пекари, иконописцы, травщики Оружейной палаты, монахи Троице Сергиевой лавр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Arial Black"/>
              </a:rPr>
              <a:t>           </a:t>
            </a:r>
            <a:r>
              <a:rPr b="1" lang="ru-RU" sz="1600" spc="-1" strike="noStrike">
                <a:solidFill>
                  <a:srgbClr val="0033cc"/>
                </a:solidFill>
                <a:latin typeface="Arial Black"/>
              </a:rPr>
              <a:t>Многие традиции и обряды, связанные с яйцом, дошли и до наших дней. Совсем еще недавно существовал на Урале обычай приготавливать на тарелке земляную горку, густо усыпанную проросшими семенами пшеницы. Когда «горка» прорастала, ее обкладывали крашеными яйцами и ставили на стол .По сложившемуся обычаю крестьяне в этот день ставили на стол кадку с готовящимися для посева зернами пшеницы и зарывали в нее ритуальное яйцо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Arial Black"/>
              </a:rPr>
              <a:t>           </a:t>
            </a:r>
            <a:r>
              <a:rPr b="1" lang="ru-RU" sz="1600" spc="-1" strike="noStrike">
                <a:solidFill>
                  <a:srgbClr val="0033cc"/>
                </a:solidFill>
                <a:latin typeface="Arial Black"/>
              </a:rPr>
              <a:t>Яйцо объединяло целую череду магических действи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Arial Black"/>
              </a:rPr>
              <a:t>           </a:t>
            </a:r>
            <a:r>
              <a:rPr b="1" lang="ru-RU" sz="1600" spc="-1" strike="noStrike">
                <a:solidFill>
                  <a:srgbClr val="0033cc"/>
                </a:solidFill>
                <a:latin typeface="Arial Black"/>
              </a:rPr>
              <a:t>При постройке дома яйцо замуровывали в фундамент, чтобы оно оберегало дом и хозяев от всех бед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Arial Black"/>
              </a:rPr>
              <a:t>            </a:t>
            </a:r>
            <a:r>
              <a:rPr b="1" lang="ru-RU" sz="1600" spc="-1" strike="noStrike">
                <a:solidFill>
                  <a:srgbClr val="0033cc"/>
                </a:solidFill>
                <a:latin typeface="Arial Black"/>
              </a:rPr>
              <a:t>Простолюдины в этот день не только катали яйца, об­менивались ими, но в обязательном порядке «бились» ими. Монастырские указы в 17 веке запретили такой обычай, усмотрев в нем дело, противное вере. Однако народная традиция «биться яйцами» не исчезла, а сохра­нилась и до наших дне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Arial Black"/>
              </a:rPr>
              <a:t>            </a:t>
            </a:r>
            <a:r>
              <a:rPr b="1" lang="ru-RU" sz="1600" spc="-1" strike="noStrike">
                <a:solidFill>
                  <a:srgbClr val="0033cc"/>
                </a:solidFill>
                <a:latin typeface="Arial Black"/>
              </a:rPr>
              <a:t>На Пасху умывались с золота, серебра и красного яичка в надежде разбогатеть и стать красивым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Arial Black"/>
              </a:rPr>
              <a:t>            </a:t>
            </a:r>
            <a:r>
              <a:rPr b="1" lang="ru-RU" sz="1600" spc="-1" strike="noStrike">
                <a:solidFill>
                  <a:srgbClr val="0033cc"/>
                </a:solidFill>
                <a:latin typeface="Arial Black"/>
              </a:rPr>
              <a:t>В развитии обряда яйцо приобрело все новые и новые смыслы и значения. Как символ бессмертия оно фигурирует в Радоницу - день поминовения усопших, когда на могилах принято крошить яйца и «христосоваться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cc"/>
                </a:solidFill>
                <a:latin typeface="Arial Black"/>
              </a:rPr>
              <a:t>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4300" spc="-1" strike="noStrike">
                <a:solidFill>
                  <a:srgbClr val="cc2504"/>
                </a:solidFill>
                <a:latin typeface="Calibri"/>
              </a:rPr>
              <a:t>теоретические сведения</a:t>
            </a:r>
            <a:br>
              <a:rPr sz="4300"/>
            </a:b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2000" spc="-1" strike="noStrike">
                <a:solidFill>
                  <a:srgbClr val="0033cc"/>
                </a:solidFill>
                <a:latin typeface="Arial Black"/>
              </a:rPr>
              <a:t>Яйцо, как символ в различных его интерпретациях, присутствует во многих религиях мира. Не стало исключением  и христианство. Не возможно представить день Воскресения Христова без пасхальных яиц. Пираку думает, что тем кто уже сейчас начинает готовиться к этому важному для католиков и православных людей празднику,  будет интересно узнать о технике украшения яиц от словацкой мастерицы Адамицовой Бажены (Adamicová Božen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 Black"/>
              </a:rPr>
              <a:t>         </a:t>
            </a:r>
            <a:r>
              <a:rPr b="1" lang="ru-RU" sz="2000" spc="-1" strike="noStrike">
                <a:solidFill>
                  <a:srgbClr val="0033cc"/>
                </a:solidFill>
                <a:latin typeface="Arial Black"/>
              </a:rPr>
              <a:t>Пасхальные яйца, украшенные нитью от Adamicová Božena – настоящие произведения искусства – хорошо известны на просторах Рунета.  То и дело натыкаешься на их фотографии при поиске идей декора к Пасхе. Меж тем информация о самой создательнице оригинальных рукотворных поделок-яиц в блогах обычно отсутствует. Пираку решила исправить эту досадную оплошность.</a:t>
            </a:r>
            <a:r>
              <a:rPr b="1" lang="ru-RU" sz="2000" spc="-1" strike="noStrike">
                <a:solidFill>
                  <a:srgbClr val="0033cc"/>
                </a:solidFill>
                <a:latin typeface="Calibri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4300" spc="-1" strike="noStrike">
                <a:solidFill>
                  <a:srgbClr val="cc2504"/>
                </a:solidFill>
                <a:latin typeface="Calibri"/>
              </a:rPr>
              <a:t>теоретические сведения</a:t>
            </a:r>
            <a:br>
              <a:rPr sz="4300"/>
            </a:b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ru-RU" sz="1800" spc="-1" strike="noStrike">
                <a:solidFill>
                  <a:srgbClr val="0033cc"/>
                </a:solidFill>
                <a:latin typeface="Arial Black"/>
              </a:rPr>
              <a:t>Яйцо, как символ в различных его интерпретациях, присутствует во многих религиях мира. Не стало исключением  и христианство. Не возможно представить день Воскресения Христова без пасхальных яиц. Тем кто уже сейчас начинает готовиться к этому важному для католиков и православных людей празднику,  будет интересно узнать о технике украшения яиц от словацкой мастерицы Адамицовой Бажены (Adamicová Božena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 Black"/>
              </a:rPr>
              <a:t>         </a:t>
            </a:r>
            <a:r>
              <a:rPr b="1" lang="ru-RU" sz="1800" spc="-1" strike="noStrike">
                <a:solidFill>
                  <a:srgbClr val="0033cc"/>
                </a:solidFill>
                <a:latin typeface="Arial Black"/>
              </a:rPr>
              <a:t>Пасхальные яйца, украшенные нитью от Adamicová Božena – настоящие произведения искусства – хорошо известны на просторах Рунета.  То и дело натыкаешься на их фотографии при поиске идей декора к Пасхе. Меж тем информация о самой создательнице оригинальных рукотворных поделок-яиц в блогах обычно отсутствует. </a:t>
            </a:r>
            <a:r>
              <a:rPr b="1" lang="ru-RU" sz="1800" spc="-1" strike="noStrike">
                <a:solidFill>
                  <a:srgbClr val="0033cc"/>
                </a:solidFill>
                <a:latin typeface="Calibri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6" name="Picture 9" descr="%D0%90%D0%B4%D0%B0%D0%BC%D0%B8%D1%86%D0%BE%D0%B2%D0%B0-%D0%91%D0%B0%D0%B6%D0%B5%D0%BD%D0%B0-150x150"/>
          <p:cNvPicPr/>
          <p:nvPr/>
        </p:nvPicPr>
        <p:blipFill>
          <a:blip r:embed="rId1"/>
          <a:stretch/>
        </p:blipFill>
        <p:spPr>
          <a:xfrm>
            <a:off x="179280" y="115920"/>
            <a:ext cx="1212840" cy="12128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0" descr="украшение пасхальных яиц"/>
          <p:cNvPicPr/>
          <p:nvPr/>
        </p:nvPicPr>
        <p:blipFill>
          <a:blip r:embed="rId2"/>
          <a:stretch/>
        </p:blipFill>
        <p:spPr>
          <a:xfrm>
            <a:off x="5148360" y="4797360"/>
            <a:ext cx="1942920" cy="1943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4300" spc="-1" strike="noStrike">
                <a:solidFill>
                  <a:srgbClr val="cc2504"/>
                </a:solidFill>
                <a:latin typeface="Calibri"/>
              </a:rPr>
              <a:t>теоретические сведения</a:t>
            </a:r>
            <a:br>
              <a:rPr sz="4300"/>
            </a:b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 Black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 Black"/>
              </a:rPr>
              <a:t>           </a:t>
            </a:r>
            <a:r>
              <a:rPr b="1" lang="ru-RU" sz="1800" spc="-1" strike="noStrike">
                <a:solidFill>
                  <a:srgbClr val="0033cc"/>
                </a:solidFill>
                <a:latin typeface="Arial Black"/>
              </a:rPr>
              <a:t>Божена Адамицова родилась в 1934 в селе Moravské Lieskové (судя по названию, местность богата  на лесной орех). По профессии она – учитель русского языка, по состоянию души – мастер Центра народного художественного творчества. Основное увлечение пани Адамицовой – народная одежда и бытовой текстиль из конопляного полотна. Она даже выпустила книгу, посвященную этой отрасли народного творчеств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         </a:t>
            </a:r>
            <a:r>
              <a:rPr b="1" lang="ru-RU" sz="1800" spc="-1" strike="noStrike">
                <a:solidFill>
                  <a:srgbClr val="0033cc"/>
                </a:solidFill>
                <a:latin typeface="Arial Black"/>
              </a:rPr>
              <a:t>Но всемирного признания и звания мастера народного искусства Божена Адамицова была удостоена за украшение пасхальных яиц. Дело в том, что украшение пасхальных яиц в той технике, что использует словацкая мастерица, имеет древние корни. Кроме того, при оформлении яйца она использует цвета родного региона и традиционные для него узоры вышив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0" name="Picture 5" descr="Божена Адамицова"/>
          <p:cNvPicPr/>
          <p:nvPr/>
        </p:nvPicPr>
        <p:blipFill>
          <a:blip r:embed="rId1"/>
          <a:stretch/>
        </p:blipFill>
        <p:spPr>
          <a:xfrm>
            <a:off x="3635280" y="4929120"/>
            <a:ext cx="2611440" cy="1739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Роман</dc:creator>
  <dc:description/>
  <dc:language>en-US</dc:language>
  <cp:lastModifiedBy>Безрук-СВ</cp:lastModifiedBy>
  <dcterms:modified xsi:type="dcterms:W3CDTF">2015-04-14T09:42:23Z</dcterms:modified>
  <cp:revision>81</cp:revision>
  <dc:subject/>
  <dc:title>PowerPoint Presentation</dc:title>
</cp:coreProperties>
</file>