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C8B2-0026-4CCF-A120-E3B725BEA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E0A8-29D8-4D76-89B0-272C66CD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C37699-165E-4CF5-B074-C277984F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6ADE07-5C60-4486-9BC7-98C1B3DB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527C7-2E5E-49B0-A34B-2287451E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872B37-00EA-4A38-A647-4C1DD342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0172D5-B9F1-491C-866E-147C955A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E6266-5EA0-46DA-A654-F0F96322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0265D5-E6AE-414B-BF70-CB654831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AC2715-F044-4495-A1D6-773D0D953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2C6721-6279-44C5-8F37-EDE42D557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E09630-847F-4E48-B3CE-13F8B2C7D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AE34-FAC6-49B6-8A0D-7C3861D50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A85EBF-40EE-45E0-9F8A-C99BFCB9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A7EAEC-2B39-4C5F-B97B-349F62B6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2C3579-A589-4BDE-AE2B-D8EE45C8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FDD2C4-9EA2-4594-A4F1-D6A43D84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69FB6E-999B-4C9E-922C-D98663CA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6F93DD-BF16-429A-9214-6A5F90C1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3258CF-9BED-4D7D-9563-E564C0D2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244E7B-3EA9-4D41-9746-6CF00D31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304A92-48F6-4CBF-9DAC-0FC5778F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F7A15E-1032-4C21-BD71-DE69E53B4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78EE-F152-4C2D-901F-22862EEF1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522BC7-99BF-4F3D-BA6F-669897655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753A63-2E14-465D-8AAD-5072066A5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BDDA3-A814-4467-9D8A-C55AE3F8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137410-18DA-46BE-890E-F6676A31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DBD1E-46FF-47FA-A910-7F6522F8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BF630-C030-4DF3-8590-59F850CC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A0A48-40EF-4229-8B2A-7963F684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537D3-5472-41B0-BA46-EB81601B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AFF734-BF2B-4586-A025-EC15F825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C6FB1-9A02-4FDF-BB8C-317C86DB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722B08-7055-495B-8CB8-D7ABF7B28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6177A-29DA-4D6A-9613-B1070A94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704F35-AE41-4E71-812C-E6DCC7B7D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0640E-5D5F-43E9-9BC9-39159ED8B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68A408-8B5F-4F52-AD73-B328570DC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4F44F5-8D4C-4125-B1E1-29C25FF8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851935-9FEA-469F-95ED-E9326706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AEEC49-7643-46E5-9A9E-86B3B199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CDC83F-ED2C-42FA-A148-3F247F46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990A1D-4988-4BB2-B104-8FAB3394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42EC70-1D1B-470E-8298-9BA812F6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F514C-6820-42D9-BB7A-A996846F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96E743-4E9A-48C8-AD10-1312C118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E921CC-C734-40B1-BF05-F603B1BD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F78C0B-C7F2-4A36-B94A-505B6A40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273438-557D-466A-9545-894F1B05B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976613-0D5A-4DD9-95F8-01287E47D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51789B-7FCE-4D33-9451-F421C95FE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7E05B8-A7C3-4C97-BE8C-A2B2C4B1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F7839D-7125-4DEA-A1B7-DF3FEEEA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0C428B-E7C7-4DE3-85BC-8DEE4D7A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91350B-2FFE-43D4-9C1E-943D73A2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CEE2B-4271-4B37-862B-7A1D7B99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469EA3-74AB-4BAB-8CC9-352602C9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CAE2DD-8B72-4D80-BDEA-2C6F122B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71E4A1-3E81-40EC-9D9A-2C410858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9DDD48-1BC6-4E48-A675-C6E67BB6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E9CED2-5EEB-4AB9-80FE-3ADC0148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75327F-D1DB-4672-82FF-23C28F501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5B85A4-E071-484C-AEED-326E68BC3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7EE81-0E80-4DFB-A232-89483656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AF182-8F42-4172-89D2-CDBB0FD2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3582F6-5E07-4E9B-87BD-5A7A434B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119B09-3068-4EBB-8EF7-C5C5B53B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DB33-8517-452A-AEC2-B8858F31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0062B-A4D4-4A4D-BD13-068B0B72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2DD80-BDAF-4B13-9DEC-DA1D18C8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56A10-FFF7-4B71-AB54-B7E9A27F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3C0D1-5A9C-4AF1-BD96-1AFA63CEE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4CE5C-8366-4825-8829-DB619719A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FC1A1-4BCC-4EE3-ABD4-01B3732C6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F50E2-FAE3-4DB9-AD62-FBA23A8F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AE456-108A-45EA-8A6A-C51388B5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A6698-1056-4E78-9DD5-D21012AF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FE46A-A9A0-49B3-8A03-F0A4FA8B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3268-F66E-4686-8D66-C776F63C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BA023-A7F4-4B4E-8C3D-E0610DF2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88C8B-2958-4A1F-9533-BF3535CA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98B77-B8D1-4C98-A1B8-C9320D73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AB3E9-CD84-4446-8B15-2364F726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9DA96-E322-4807-A600-7EC91025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6400E-266E-4D87-932D-838DF2716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1DA57-1E64-4BDF-888D-0AB2D1350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9374A-BB2D-4AAD-ADAD-4D63D748F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DB5E2-3AA4-4E9A-B0E8-F5F70796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915A0-D0CA-4D11-B5B3-ECEAEF77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2A61-EDB6-4477-9208-05604D41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95BD3-40B9-409F-9FB8-9181DA31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90B86-6B70-46DA-87F3-3FA12629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95041-B061-476F-8D83-B5B4D56A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26A84-276B-4401-8E73-7AC1D0BF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D2436-1898-49EB-95E0-C7561694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D0F57-B71B-41B9-A404-0A26CDAD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04B96-871F-42B5-BCA8-372DD9E8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00333-302A-4A9F-832C-278619E7E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EFD96-A1C9-49A9-A146-1B3C67501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DCD04-C391-477A-855B-5D512EAA8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0A53-C309-4480-AFE5-7AD848D1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D93D4-67EB-4D3A-A72C-724E12AF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E2740-4AA9-4D85-9F76-47AEC9B8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1612E-65FC-4A26-B2B4-22E13AAA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9BFCD-266E-47C9-944F-1BB2A84F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8B407-3E59-4027-B081-211ECA63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58B51-0BD2-41D3-90B6-F6B89527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5BE67-6C54-4A86-9CC6-FAD2C10D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87868-E828-46AA-988F-483C8FDF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4BFD3-ED6B-49A0-B49E-615424E5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628CF-BB47-4F53-949D-7B1D4D4E1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BF0E-7AF2-437D-87F4-8A162791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BC6FC-9DCF-4860-A3F8-0C2620CFF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BC6E4-1230-4C7E-AAC7-652A36321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3ADA5-1D84-4C45-9CB5-F8FB0F55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55588-F802-4259-BA62-FECD68B8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B112F-3EF0-42B4-8FC9-E068291D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9CF10-D566-4E43-BC6D-B440C047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D0A75-8528-4233-AB76-546A7DDA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13DF2-1BB4-41F6-A0E9-CBF172D7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03959-007E-4CFD-BB4D-CE4DE07D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B8CD3-1223-45C7-ACC4-B368528D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2355-A854-4C2A-BCF7-C2C5593E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E83B3-9949-4B60-AFFD-83D8F0A7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C6A31-48F6-443E-952D-6E131A796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085F3-2B15-4DA4-80A4-BEC99C77C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9AECE-5640-417A-89E7-47179656F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61857-5DD3-4695-8DDE-C905A3D1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7D71F-302C-4FD7-8F8A-9ECC6F2C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94633-CF26-462F-9F99-1A53D32C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B320D-B280-4793-8E31-7BB059CF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32236-BAFB-4074-B446-B22CE6B8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C0529-7FC9-43F8-AF51-570C715C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D583-5EB7-48C0-B06A-2E5A30A5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05137-03F1-4B1B-9FE0-CD582141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11650-925F-4602-B2B1-95C61635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3D024-21C1-4BDC-BD0E-99CC807F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CF3CF-B5AE-434B-B714-708D983E4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923EE-2961-43DC-A579-773658F62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786F5-5D83-48DC-897F-48D752504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A9D54-CFBD-4BD2-8195-8F5EDA70A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B1B79-B0AB-4120-ABA5-5B819CE6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749C4-5D76-4A92-A336-0323C247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FA6EA-B781-47D7-9A95-AB5C78F7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3EDE-5DAD-452E-A5F5-F1305B04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55680-BB8D-4D11-B4CC-A185244C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4307C-E3A8-4B48-AE41-D6FE4E8E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3EF3F-FDA2-4001-BBC9-1EF42C25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6E4F6-7722-4D79-ADAE-9BFD3BA7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4F59E-C218-4A93-8F0E-62F76E5B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8893C-6A67-4776-BC55-3BF59E592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4C5FB-EBC9-4E7E-9E38-6F3A77BC4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09516A-2473-47A4-8CDA-B5CE64951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E17363-8D1F-488B-8D46-E357E1C4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8BB8C6-08E0-4F19-BBA3-7D75ABA9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116D-139F-42DE-99D2-3EB66313C8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EDB4-95E7-48CC-889C-3EAE3BFBD6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DF46-A9D8-4C21-A593-6B0370FCC4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6054-1E58-48D7-88A7-AEACCD1A60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B349-D7C1-48C6-9390-9064C90FC95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2B76-B347-443E-903B-66EA7E405D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A4E1-E604-4685-B1D7-85BB07C64F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D1F7-483F-47AB-9E24-2577ECFFF6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93E8-CC65-4FC1-AB9E-7E64FF19F9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B5EA-C3C0-4F93-94DB-4C4E2C0835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747C-2D43-41A5-8CB1-D3311AED68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EAC1-B669-4D37-9AC1-5E4C8CB24A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4FC8-02F6-489B-A21F-D468DA2753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8ff38"/>
                </a:solidFill>
                <a:latin typeface="Tahoma"/>
              </a:rPr>
              <a:t>Долгосрочный проект учителя логопеда по работе над коррекцией звукопроизношения с детьми     подготовительной групп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дготовил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читель-логопед МБДОУ д/с №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Швечикова А.П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8ff38"/>
                </a:solidFill>
                <a:latin typeface="Tahoma"/>
              </a:rPr>
              <a:t>Список литературы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Т.В. Пятница «Логопедия в таблицах и схемах, цифрах» Ростов-на-Дону «Феникс»2012 го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В.В. Коноваленко, С.В. Коноваленко «Автоматизация сонорных звуков «Р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Т.А. Ткаченко «Слоговая структура слова». Москва 2008 го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О.Б. Иншакова «Альбом для логопеда» Коррекционная педагогика Москва 2010 го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Н.В. Емельянова Л.И. Жидкова Г.А. Капицина «Коррекция звукопроизношения у детей 5-6 лет с фонетическим нарушением речи в условиях логопункта. Санкт-Петербург 2013 го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Т.А. Ткаченко «Развиваем мелкую моторику» Москва 2010 го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1"/>
          <p:cNvSpPr/>
          <p:nvPr/>
        </p:nvSpPr>
        <p:spPr>
          <a:xfrm>
            <a:off x="0" y="100764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egoe Print"/>
                <a:ea typeface="Times New Roman"/>
              </a:rPr>
              <a:t>«От того, как прошло детство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Segoe Print"/>
                <a:ea typeface="Times New Roman"/>
              </a:rPr>
              <a:t>кто вёл ребенка за руку в детские годы, 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Segoe Print"/>
                <a:ea typeface="Times New Roman"/>
              </a:rPr>
              <a:t>что вошло в его разум и сердц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Segoe Print"/>
                <a:ea typeface="Times New Roman"/>
              </a:rPr>
              <a:t>из окружающего мира — от этого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Segoe Print"/>
                <a:ea typeface="Times New Roman"/>
              </a:rPr>
              <a:t>в решающей степени зависит, каким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Segoe Print"/>
                <a:ea typeface="Times New Roman"/>
              </a:rPr>
              <a:t>человеком станет сегодняшний малыш»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Segoe Print"/>
                <a:ea typeface="Times New Roman"/>
              </a:rPr>
              <a:t>В. А. Сухомлинс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8ff38"/>
                </a:solidFill>
                <a:latin typeface="Tahoma"/>
              </a:rPr>
              <a:t>АКТУАЛЬН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60912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ктуальность и востребованность проекта определяются реальными потребностями системы отечественного дошкольного образования и существующими противоречиями между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остом количества детей с речевыми нарушениями и отсутствием возможности оказания коррекционно-логопедической помощи всем нуждающимся в условиях ДОУ общеразвивающего вид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обходимостью участия родителей в коррекционно-логопедическом процессе и отсутствием эффективных технологий взаимодействия образовательного учреждения и семьи по данному направлени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ходя из вышеизложенного, мы видим актуальность и значимость проблемы речевого развития детей дошкольного возрас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152280" y="15228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8ff38"/>
                </a:solidFill>
                <a:latin typeface="Tahoma"/>
              </a:rPr>
              <a:t>Участники проекта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учитель-логопед, дети старшего дошкольного возраста, их родители, воспитатели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38ff38"/>
                </a:solidFill>
                <a:latin typeface="Tahoma"/>
              </a:rPr>
              <a:t>Цель проекта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Повышение уровня компетентности родителей в вопросах речевого развития дет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Постановка и автоматизация звука «Р» в словах, словосочетаниях, предложениях и связной речи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Определение позиции звука в слов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Развитие фонематического слух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.Развитие мелкой и общей мотори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8ff38"/>
                </a:solidFill>
                <a:latin typeface="Tahoma"/>
              </a:rPr>
              <a:t>Задачи проект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яснить образовательные потребности родителей и уровень их компетентности в вопросах речевого развития, установить контакт с ее членами, согласовать воспитательное воздействие на ребенк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интересовать родителей, пользоваться информационно-методическим стендом «Уголок логопеда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работать и принять единые требования, предъявляемые к родителям и ребёнку, общего подхода к воспитани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8ff38"/>
                </a:solidFill>
                <a:latin typeface="Tahoma"/>
              </a:rPr>
              <a:t>Ожидаемые результаты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 Родители активно включены в коррекционно-развивающий процесс по устранению речевых недостатков детей в домашних условиях, фиксируют свои достижения в рабочих тетрадя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 Родители используют материалы с информационно-методического стенда «Уголок логопеда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 Путем анкетирования выявилось повышение педагогической компетентности родителей в вопросах речевого развития ребен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8ff38"/>
                </a:solidFill>
                <a:latin typeface="Tahoma"/>
              </a:rPr>
              <a:t>Пути достижения ожидаемых результатов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83808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8ff38"/>
                </a:solidFill>
                <a:latin typeface="Tahoma"/>
              </a:rPr>
              <a:t>Для детей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ложительная динамика речевого развития;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спешная социальная адаптация в ДОУ и семье;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ндивидуальный подход к каждому ребенк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8ff38"/>
                </a:solidFill>
                <a:latin typeface="Tahoma"/>
              </a:rPr>
              <a:t>Для родителей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ложительная оценка деятельности ДОУ;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отовность и желание помогать ДОУ;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спользование знаний по развитию речи детей в домашних условиях 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8ff38"/>
                </a:solidFill>
                <a:latin typeface="Tahoma"/>
              </a:rPr>
              <a:t>Для педагогов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ложительный психологический климат между логопедом и воспитателями;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интересованность педагогов в творчестве и инновациях;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довлетворенность собственной деятельностью;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чественно организованная система повышения квалификации;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ет положительной динамики в развитии детей по развитию речи при аттестации педагог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8ff38"/>
                </a:solidFill>
                <a:latin typeface="Tahoma"/>
              </a:rPr>
              <a:t>Для ДОУ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лагоприятные условия для профессионального роста педагогов;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вышенный статус ДО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8915400" cy="2286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ff38"/>
                </a:solidFill>
                <a:latin typeface="Tahoma"/>
              </a:rPr>
              <a:t>Описание проекта: стратегия и механизм достижения поставленной цели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6840" y="228564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8ff38"/>
                </a:solidFill>
                <a:latin typeface="Tahoma"/>
              </a:rPr>
              <a:t>1 этап — подготовительный (информационно-аналитический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8ff38"/>
                </a:solidFill>
                <a:latin typeface="Tahoma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суждение основополагающего вопроса и формулировка проблемных вопрос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бор упражнений для развития мелкой мотор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бор упражнений для выработки правильной воздушной стру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гкие упражнения для языка и губ — выполнение в игр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304920" y="838080"/>
            <a:ext cx="85341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8ff38"/>
                </a:solidFill>
                <a:latin typeface="Tahoma"/>
              </a:rPr>
              <a:t>2 этап — основной (практический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8ff38"/>
                </a:solidFill>
                <a:latin typeface="Tahoma"/>
              </a:rPr>
              <a:t>Задач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становка звука «Р» введение звука в самостоятельную реч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зработать и апробировать систему конкретных индивидуальных методических мероприятий для родителей по вопросам речевого развития дошкольник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8ff38"/>
                </a:solidFill>
                <a:latin typeface="Tahoma"/>
              </a:rPr>
              <a:t>3 этап — заключительный (контрольно-диагностический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8ff38"/>
                </a:solidFill>
                <a:latin typeface="Tahoma"/>
              </a:rPr>
              <a:t>Задач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анализировать эффективность работы учителя-логопеда с родителями по вопросам речевого развития дет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анализировать эффективность коррекционной работы с деть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ранслировать опыт работы по данной теме для учителей-логопедов, педагогов района и обла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ff38"/>
                </a:solidFill>
                <a:latin typeface="Tahoma"/>
              </a:rPr>
              <a:t>Перспективный план реализации проекта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152280" y="609480"/>
          <a:ext cx="8839440" cy="6156360"/>
        </p:xfrm>
        <a:graphic>
          <a:graphicData uri="http://schemas.openxmlformats.org/drawingml/2006/table">
            <a:tbl>
              <a:tblPr/>
              <a:tblGrid>
                <a:gridCol w="914400"/>
                <a:gridCol w="1371600"/>
                <a:gridCol w="1600200"/>
                <a:gridCol w="2590920"/>
                <a:gridCol w="1143000"/>
                <a:gridCol w="1219320"/>
              </a:tblGrid>
              <a:tr h="276840">
                <a:tc>
                  <a:txBody>
                    <a:bodyPr lIns="16560" rIns="16560" tIns="16560" bIns="16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</a:t>
                      </a:r>
                      <a:br>
                        <a:rPr sz="800"/>
                      </a:b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п/п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da47f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Срок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da47f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Формы и</a:t>
                      </a:r>
                      <a:br>
                        <a:rPr sz="800"/>
                      </a:b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методы работы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da47f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Содержание работы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da47f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Результат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da47f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Ответственный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da47f"/>
                    </a:solidFill>
                  </a:tcPr>
                </a:tc>
              </a:tr>
              <a:tr h="1250280"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Подготовительный этап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до 15 сентябр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 Анкетирование родителей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Изучение уровня компетентности родителей в вопросах речевого развития</a:t>
                      </a:r>
                      <a:br>
                        <a:rPr sz="800"/>
                      </a:b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Подбор материалов по темам «Дыхательная гимнастика», «Артикуляционные упражнения», «Мелкая моторика» и др.</a:t>
                      </a:r>
                      <a:br>
                        <a:rPr sz="800"/>
                      </a:b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Установление единых требований родителей и учителя-логопеда к ребенку, посещающего логопункт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Обследование детей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Учитель-логопед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</a:tr>
              <a:tr h="641880">
                <a:tc rowSpan="9"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этап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Октябрь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Семинар-практикум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«Традиционные и нетрадиционные упражнения для развития мышц речевого аппарата»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Рекомендации по выполнению артикуляционной гимнастик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Протокол проведения мастер -класса, отзывы родителей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Учитель-логопед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</a:tr>
              <a:tr h="64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Ноябрь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Семинар-практикум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«Пальчиками играем речь развиваем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Сообщение о взаимосвязи развития речи и мелкой моторики рук, рекомендации по проведению пальчиковой гимнастик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Протокол проведения семинара-практикума, отзывы родителей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Учитель-логопед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</a:tr>
              <a:tr h="10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Декабрь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Открытое занятие на город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Постановка звука «Р»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Индивидуальное занятие  Презентация прилагается. Индивидуальное занятие  Презентация прилагается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Учитель-логопед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</a:tr>
              <a:tr h="27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Январь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Мастер класс для родителей и педагогов детского сада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Конспект занятия «Зоопарк» прилагаетс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Подгрупповое занятие.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Учитель-логопед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</a:tr>
              <a:tr h="27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Февраль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Мастер-класс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«Автоматизация звука «Р»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Дидактическое пособие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«Зоопарк»  Материал представлен в презентации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Для индивидуальных занятий с детьм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Учитель-логопед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</a:tr>
              <a:tr h="15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</a:tr>
              <a:tr h="15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</a:tr>
              <a:tr h="15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</a:tr>
              <a:tr h="15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</a:tr>
              <a:tr h="490320"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 Заключительный этап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Февраль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Презентация проекта на районном конкурсе  «Педагогика здоровья»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61616"/>
                          </a:solidFill>
                          <a:latin typeface="Times New Roman"/>
                        </a:rPr>
                        <a:t>Презентация на тему:  «Коррекция звукопроизношения у детей старшего  возраста»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161616"/>
                          </a:solidFill>
                          <a:latin typeface="Times New Roman"/>
                        </a:rPr>
                        <a:t>Для педагогов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Учитель-логопед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</a:tr>
              <a:tr h="155160"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</a:tr>
              <a:tr h="94320"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</a:tr>
            </a:tbl>
          </a:graphicData>
        </a:graphic>
      </p:graphicFrame>
    </p:spTree>
  </p:cSld>
  <p:transition spd="slow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0T11:02:34Z</dcterms:created>
  <dc:creator>Денис</dc:creator>
  <dc:description/>
  <dc:language>en-US</dc:language>
  <cp:lastModifiedBy>Admin</cp:lastModifiedBy>
  <dcterms:modified xsi:type="dcterms:W3CDTF">2006-12-31T20:52:52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