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CD24-8F8D-49B3-9B38-A69DFA3AD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25AC-60B5-4E89-A7BD-1F632679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910A1-E655-412C-A09E-B9915161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E7E37-2824-466D-B039-B87D9ABC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9ABFD-6391-4F35-BADF-7966C695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9094C-597B-4DB9-BDE9-71672113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603AD-689B-48E3-A11A-4A034928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44B82-C5E1-427D-8639-7BE96CE7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298B6D-3579-4691-ADEA-6203C4D1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78398-03E2-436D-BED0-76D6F7413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EFFCC-ABA5-4A5D-83A9-53BAE3732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EC91E-43B7-4236-A3E2-9F95E8DD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9833-DEFA-48BE-8D7D-0C298B115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90D27-CF31-44BE-A525-B19978CE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261113-E3F6-458C-BEFB-D51CAE2D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101F1-EC5C-4244-9621-C824B41C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17FED-8D31-4955-ADBF-002E761A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C11A6-C8BD-4DDC-81B7-52B93DFD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8D7C7E-3CCA-46A0-9BC6-2D87B43E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0FFCDE-8429-4769-B231-9F20E376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F1786-74BA-4BA9-B733-39320318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4F137-FC4D-4BAF-8E7E-C4A8DAA5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3A105-B014-4520-B03D-4483E671A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B987-644F-4529-BCB2-16C86C9AC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3D558-E7FB-4583-91E2-A7810FE7B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61520-D9BB-46D5-9CF7-1AC8E12B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AF31E-B07D-4AF4-8025-A6673B77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5DAAE-FDE2-45CD-B5DC-890EA86B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57BDA-5FC9-47B4-AA66-78EB242C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6D418-2E03-4044-88C0-E9F75217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C4E3A-FD17-4075-8839-2330C6DC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3574D-1C9C-480A-A0B5-7F6E0BDF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62B9E-6290-4A77-809B-3B69A29D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87902-D629-41FD-B316-B8EA4773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41EDE-BB93-4AB2-A8BA-31A3D29C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67B1C-7C0D-487D-833B-15B78470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955EF-4114-42B6-A563-216B7F41B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2E7A4-6FA5-4ECE-8E69-CA7114A44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C0C031-9DAD-44F5-85B3-686FEA09E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5B2024-0D03-4EDE-9864-379D20E1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C2ACEE-3708-4834-9E43-0E2DD751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572922-EC94-4A91-AE3C-8D7051E1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BA392D-204B-4147-8829-ABBCC03A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99D07-A41A-4BEA-A31E-E9824F30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9C89EE-25C5-44EA-B473-58AF1CD4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BEA23-ED83-4263-BEB6-5F2AF6CD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5D088-7675-419B-AC7E-A6059B20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2F90DB-247E-4736-994D-AEB09F54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BF92A-8A88-4B1E-9481-E76DC582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32A6F-F675-472C-ADE2-DDECCBCEE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D2A50E-1662-410D-AFEF-DF8B2A3C1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266F8A-0843-4EE7-90F9-2E35B213A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8FC158-99C4-414E-9178-BF54FA33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565783-3871-4EFF-834D-ACB6024B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9A4122-A83E-4057-AFCD-AEFA2BE9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FB90B9-22D4-4519-9E8C-BEA86351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18B9F-6133-456B-948F-BB2C42FB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8B3E07-6B3C-492D-9323-9A86F35D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4E0CC3-920B-4677-AC15-FA9B7038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7A6452-0C4C-4E47-A060-4455D9CF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51C090-6871-4989-8F95-6D7815D7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C0F2AE-C4B9-4806-A2D5-DB5CCE20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70CB51-94AA-431A-B47F-6D0CE52E8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C5CFF3-E040-4992-A55D-C1AEEA5DE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732C9-B117-43A9-A2A7-45C42E7B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B5DF6-C8E6-40E0-BEA7-AE5886AC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C06D1-AEA0-4DE0-8347-674FED6E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68F79-4DAC-4CFA-A50E-D6F75B9A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FA48-1830-48AA-9167-6EEEB052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0094C-18E1-410E-9C10-B9C4F31E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A322B-C83A-44A1-996A-42BD916E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4F60E-A484-4933-BDAE-B15A894D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2A297-8492-42EE-A4B6-B97031545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7662E-DEB5-4FFC-935C-7A5ACC4FB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C7384-99D0-443D-91DF-DDC8A302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DB919-DA56-41EF-AB57-E3B0521A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67EE4-5BF4-4F44-B504-44410D50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0CA3F-EA6B-41C5-81F4-12720A5A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8D0C1-522F-4053-8E6D-B29BDF58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4F4B-7C7B-4C87-BD77-D6309102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0CD4D-A2C4-44D3-B878-4E254425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480B3-6523-4AAA-940E-DA4C10E0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0AA8D-59E9-4AE1-9026-F2DF19AB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FD24F-92BE-41E3-8D79-6A00971C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5EEFE-78CD-43C1-9236-53A20AB5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EFDAC-213F-401F-95A6-9FD6F60AF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21FBB-D108-45F1-A83D-95D703BC0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A5062-84AE-4DC3-9818-10C45AD0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54483-6CD1-4A94-B7CD-F61E8E34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FC3B9-DF79-40CF-BA29-18BABCE6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B684-D795-47DF-B544-30FE0671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E29C5-D7A6-4B8D-9F1A-4391F5CE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CE930-2172-4BFB-8597-911ABEBC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0FBCB-150D-48D9-B237-DB1F1C0A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3627F-DC52-487C-872C-B5A79386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2FA1A-B0EC-4CB2-A889-BEEE31FA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2A05F-39BA-4F9E-A2EA-184D0BBF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BDCE4-29ED-482C-8E7A-B2B79C47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B3DC0-E8AB-49E0-80E5-BC2C47EF7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011E8-646A-4D06-8018-7D8693CC5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345D9-C9BC-4779-A011-F0774DE19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DF24-9B7E-4E73-A44C-0F75A16B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8F259-D6A2-45CA-9B15-683BACA9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55B7E-FE71-46FC-A40F-5D893DFD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B0A42-20E6-4425-A3EC-9D35C817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30768-33AB-4B71-B247-5869F678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9754E-02E2-482A-A5EC-E0912556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790A1-F080-4FC0-B442-B51EBF3B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FDD2C-2DE3-4B03-84B0-0FDB6DA0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D2DDD-6DEC-40E1-AC49-FED7F33F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FCFC5-B99D-4B96-B4CE-CC78746B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F7964-351E-4260-BD15-AB4046138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784A-4061-4424-BEF2-2F3B5F92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3D8CD-4ED5-430E-8E95-4D4F2EC0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98CDF-B10F-44CC-A686-05365C104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E789C-984D-4F2D-8D91-EC234E58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30C43-B3A2-4662-A0B0-5695CE0B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6C195-193E-46BC-AEC1-0738AEB8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93CFA-5FB8-41F2-B51D-CB7C3BA9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60AB3-A542-4502-90CF-B5E77F97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25774-94A3-4335-AB0A-364BC1C0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A459F-C195-48A2-BFC9-06018839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B1E09-37BE-4C7B-9A23-941EDC9A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A008-54D0-4CA9-8A18-70BDEDA5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1EBDF-17D6-4146-91A7-C3EE3A53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92825-DBE6-4131-8605-B5D8627C4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0E1B9-C148-4F44-81FD-A3E94258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7B74C-9E89-4217-8290-D11E77476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26603-352C-421F-9342-54384A97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0B064-32EE-47E4-B544-ED80D1C9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ACC7B-0E9C-4F38-879A-517D0059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7854C-C58A-45A3-9276-7AF06937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A0D7E-595A-466F-ACD7-CF44839A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FA2A4-3201-4E9C-826B-104794E3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B9ED-4D6C-418F-B45D-6D876B51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968DF-2C9C-4DCD-B72B-199D24D2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571E5-678E-4AFC-930F-EE690245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D9F10-212E-4407-9D21-AA7BD32C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A1BF1-CE4F-4B45-B9D2-3B751A82C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F2C23-42B3-44A0-93B6-6D0D32131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A0EF1-F5E9-4887-A28A-6DC780631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F6249-77A2-48B2-B5FF-3801006E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F932D-9EDB-4461-8DAA-992F12AA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F0DAF-A2AC-4551-BB73-E1A191E7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E7A8D-699F-47AE-81A1-EB2999FB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177D-A07B-448B-AF16-844F3F95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54D13-0055-4A53-8038-727AA03C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2AFA1-10DD-457E-9DA8-4DFDD903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FCB99-8439-4620-8210-C3942799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9AA86-9DC7-4802-9FFE-E140ADD8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4F053-4194-4912-BEC4-6DB1C173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36CB6-E94F-4773-AF24-8DF2AA46F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36603-58B0-4748-84DD-8B26E41D4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BD8EB-FA0F-419D-ADEA-745CF66C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B123C-31B8-4C1E-917D-658541C1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1447A-2129-4BE0-A21A-B2239551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0DC6-A6F9-4587-866A-870682195D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A474-8ACD-427B-A31D-9BDFF7FE97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492F-3731-4A4F-BF8C-6E82A8CD4C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9D95-D869-48E4-A5D5-A9030C7B8C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431C-238C-4057-AD67-058B31F4884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F272-4C84-4BAC-BA1F-C38BD9981F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19FA-6EF2-4CBC-B0C9-4E4E6EA5DD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0FE4-1967-487B-8493-E01E3AB79C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1C23-72B0-462C-A4A9-A16DD62595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C15D-349A-4180-8E93-D2F492D4AE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8E20-6DBD-4B92-962B-8507D0B68E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20BE-D807-4A8B-A914-F32B75FA8C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3AF0-4488-4C70-8FC5-4618C4B9E0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8ff38"/>
                </a:solidFill>
                <a:latin typeface="Tahoma"/>
              </a:rPr>
              <a:t>Долгосрочный проект учителя логопеда по работе над коррекцией звукопроизношения с детьми     подготовительной групп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готовил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итель-логопед МБДОУ д/с №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Швечикова А.П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8ff38"/>
                </a:solidFill>
                <a:latin typeface="Tahoma"/>
              </a:rPr>
              <a:t>Список литературы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Т.В. Пятница «Логопедия в таблицах и схемах, цифрах» Ростов-на-Дону «Феникс»2012 го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В.В. Коноваленко, С.В. Коноваленко «Автоматизация сонорных звуков «Р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Т.А. Ткаченко «Слоговая структура слова». Москва 2008 го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О.Б. Иншакова «Альбом для логопеда» Коррекционная педагогика Москва 2010 го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Н.В. Емельянова Л.И. Жидкова Г.А. Капицина «Коррекция звукопроизношения у детей 5-6 лет с фонетическим нарушением речи в условиях логопункта. Санкт-Петербург 2013 го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Т.А. Ткаченко «Развиваем мелкую моторику» Москва 2010 го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1"/>
          <p:cNvSpPr/>
          <p:nvPr/>
        </p:nvSpPr>
        <p:spPr>
          <a:xfrm>
            <a:off x="0" y="100764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Print"/>
                <a:ea typeface="Times New Roman"/>
              </a:rPr>
              <a:t>«От того, как прошло детство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Segoe Print"/>
                <a:ea typeface="Times New Roman"/>
              </a:rPr>
              <a:t>кто вёл ребенка за руку в детские годы,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Segoe Print"/>
                <a:ea typeface="Times New Roman"/>
              </a:rPr>
              <a:t>что вошло в его разум и сердц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Segoe Print"/>
                <a:ea typeface="Times New Roman"/>
              </a:rPr>
              <a:t>из окружающего мира — от этог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Segoe Print"/>
                <a:ea typeface="Times New Roman"/>
              </a:rPr>
              <a:t>в решающей степени зависит, каким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Segoe Print"/>
                <a:ea typeface="Times New Roman"/>
              </a:rPr>
              <a:t>человеком станет сегодняшний малыш»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Segoe Print"/>
                <a:ea typeface="Times New Roman"/>
              </a:rPr>
              <a:t>В. А. Сухомлин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8ff38"/>
                </a:solidFill>
                <a:latin typeface="Tahoma"/>
              </a:rPr>
              <a:t>АКТУАЛЬ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6091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ктуальность и востребованность проекта определяются реальными потребностями системы отечественного дошкольного образования и существующими противоречиями между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остом количества детей с речевыми нарушениями и отсутствием возможности оказания коррекционно-логопедической помощи всем нуждающимся в условиях ДОУ общеразвивающего вид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обходимостью участия родителей в коррекционно-логопедическом процессе и отсутствием эффективных технологий взаимодействия образовательного учреждения и семьи по данному направлени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ходя из вышеизложенного, мы видим актуальность и значимость проблемы речевого развития детей дошкольного возрас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8ff38"/>
                </a:solidFill>
                <a:latin typeface="Tahoma"/>
              </a:rPr>
              <a:t>Участники проекта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учитель-логопед, дети старшего дошкольного возраста, их родители, воспитатели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38ff38"/>
                </a:solidFill>
                <a:latin typeface="Tahoma"/>
              </a:rPr>
              <a:t>Цель проекта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Повышение уровня компетентности родителей в вопросах речевого развития дет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Постановка и автоматизация звука «Р» в словах, словосочетаниях, предложениях и связной речи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Определение позиции звука в слов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Развитие фонематического слух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Развитие мелкой и общей мотори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8ff38"/>
                </a:solidFill>
                <a:latin typeface="Tahoma"/>
              </a:rPr>
              <a:t>Задачи проект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яснить образовательные потребности родителей и уровень их компетентности в вопросах речевого развития, установить контакт с ее членами, согласовать воспитательное воздействие на ребенк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интересовать родителей, пользоваться информационно-методическим стендом «Уголок логопеда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работать и принять единые требования, предъявляемые к родителям и ребёнку, общего подхода к воспитани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8ff38"/>
                </a:solidFill>
                <a:latin typeface="Tahoma"/>
              </a:rPr>
              <a:t>Ожидаемые результаты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Родители активно включены в коррекционно-развивающий процесс по устранению речевых недостатков детей в домашних условиях, фиксируют свои достижения в рабочих тетрадя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Родители используют материалы с информационно-методического стенда «Уголок логопед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Путем анкетирования выявилось повышение педагогической компетентности родителей в вопросах речевого развития ребен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8ff38"/>
                </a:solidFill>
                <a:latin typeface="Tahoma"/>
              </a:rPr>
              <a:t>Пути достижения ожидаемых результатов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83808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8ff38"/>
                </a:solidFill>
                <a:latin typeface="Tahoma"/>
              </a:rPr>
              <a:t>Для детей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ложительная динамика речевого развития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спешная социальная адаптация в ДОУ и семье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ндивидуальный подход к каждому ребенк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8ff38"/>
                </a:solidFill>
                <a:latin typeface="Tahoma"/>
              </a:rPr>
              <a:t>Для родителей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ложительная оценка деятельности ДОУ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отовность и желание помогать ДОУ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пользование знаний по развитию речи детей в домашних условиях 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8ff38"/>
                </a:solidFill>
                <a:latin typeface="Tahoma"/>
              </a:rPr>
              <a:t>Для педагогов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ложительный психологический климат между логопедом и воспитателями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интересованность педагогов в творчестве и инновациях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довлетворенность собственной деятельностью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чественно организованная система повышения квалификации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ет положительной динамики в развитии детей по развитию речи при аттестации педагог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8ff38"/>
                </a:solidFill>
                <a:latin typeface="Tahoma"/>
              </a:rPr>
              <a:t>Для ДОУ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лагоприятные условия для профессионального роста педагогов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вышенный статус ДО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915400" cy="228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8ff38"/>
                </a:solidFill>
                <a:latin typeface="Tahoma"/>
              </a:rPr>
              <a:t>Описание проекта: стратегия и механизм достижения поставленной цели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6840" y="22856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8ff38"/>
                </a:solidFill>
                <a:latin typeface="Tahoma"/>
              </a:rPr>
              <a:t>1 этап — подготовительный (информационно-аналитический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8ff38"/>
                </a:solidFill>
                <a:latin typeface="Tahoma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суждение основополагающего вопроса и формулировка проблемных вопрос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бор упражнений для развития мелкой мотор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бор упражнений для выработки правильной воздушной стру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гкие упражнения для языка и губ — выполнение в игр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04920" y="838080"/>
            <a:ext cx="85341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8ff38"/>
                </a:solidFill>
                <a:latin typeface="Tahoma"/>
              </a:rPr>
              <a:t>2 этап — основной (практический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8ff38"/>
                </a:solidFill>
                <a:latin typeface="Tahoma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тановка звука «Р» введение звука в самостоятельную реч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работать и апробировать систему конкретных индивидуальных методических мероприятий для родителей по вопросам речевого развития дошкольни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8ff38"/>
                </a:solidFill>
                <a:latin typeface="Tahoma"/>
              </a:rPr>
              <a:t>3 этап — заключительный (контрольно-диагностический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8ff38"/>
                </a:solidFill>
                <a:latin typeface="Tahoma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анализировать эффективность работы учителя-логопеда с родителями по вопросам речевого развития дет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анализировать эффективность коррекционной работы с деть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анслировать опыт работы по данной теме для учителей-логопедов, педагогов района и обла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ff38"/>
                </a:solidFill>
                <a:latin typeface="Tahoma"/>
              </a:rPr>
              <a:t>Перспективный план реализации проекта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152280" y="609480"/>
          <a:ext cx="8839440" cy="6156360"/>
        </p:xfrm>
        <a:graphic>
          <a:graphicData uri="http://schemas.openxmlformats.org/drawingml/2006/table">
            <a:tbl>
              <a:tblPr/>
              <a:tblGrid>
                <a:gridCol w="914400"/>
                <a:gridCol w="1371600"/>
                <a:gridCol w="1600200"/>
                <a:gridCol w="2590920"/>
                <a:gridCol w="1143000"/>
                <a:gridCol w="1219320"/>
              </a:tblGrid>
              <a:tr h="276840">
                <a:tc>
                  <a:txBody>
                    <a:bodyPr lIns="16560" rIns="16560" tIns="16560" bIns="16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</a:t>
                      </a:r>
                      <a:br>
                        <a:rPr sz="800"/>
                      </a:b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п/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da47f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рок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da47f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Формы и</a:t>
                      </a:r>
                      <a:br>
                        <a:rPr sz="800"/>
                      </a:b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методы работы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da47f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одержание работы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da47f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Результат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da47f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Ответственны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da47f"/>
                    </a:solidFill>
                  </a:tcPr>
                </a:tc>
              </a:tr>
              <a:tr h="1250280"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Подготовительный эта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до 15 сентябр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 Анкетирование родителе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Изучение уровня компетентности родителей в вопросах речевого развития</a:t>
                      </a:r>
                      <a:br>
                        <a:rPr sz="800"/>
                      </a:b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Подбор материалов по темам «Дыхательная гимнастика», «Артикуляционные упражнения», «Мелкая моторика» и др.</a:t>
                      </a:r>
                      <a:br>
                        <a:rPr sz="800"/>
                      </a:b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Установление единых требований родителей и учителя-логопеда к ребенку, посещающего логопункт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Обследование дете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Учитель-логопе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</a:tr>
              <a:tr h="641880">
                <a:tc rowSpan="9"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эта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Октябр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еминар-практикум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«Традиционные и нетрадиционные упражнения для развития мышц речевого аппарата»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Рекомендации по выполнению артикуляционной гимнастик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Протокол проведения мастер -класса, отзывы родителей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Учитель-логопе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</a:tr>
              <a:tr h="64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оябр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еминар-практикум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«Пальчиками играем речь развивае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ообщение о взаимосвязи развития речи и мелкой моторики рук, рекомендации по проведению пальчиковой гимнастик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Протокол проведения семинара-практикума, отзывы родителе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Учитель-логопе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</a:tr>
              <a:tr h="10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Декабр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Открытое занятие на горо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Постановка звука «Р»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Индивидуальное занятие  Презентация прилагается. Индивидуальное занятие  Презентация прилагается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Учитель-логопе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</a:tr>
              <a:tr h="27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Январ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Мастер класс для родителей и педагогов детского сада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Конспект занятия «Зоопарк» прилагаетс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Подгрупповое занятие.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Учитель-логопе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</a:tr>
              <a:tr h="27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Феврал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Мастер-класс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«Автоматизация звука «Р»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Дидактическое пособи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«Зоопарк»  Материал представлен в презентации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Для индивидуальных занятий с детьм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Учитель-логопе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</a:tr>
              <a:tr h="15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</a:tr>
              <a:tr h="15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</a:tr>
              <a:tr h="15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</a:tr>
              <a:tr h="15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</a:tr>
              <a:tr h="490320"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 Заключительный этап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Февраль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Презентация проекта на районном конкурсе  «Педагогика здоровья»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61616"/>
                          </a:solidFill>
                          <a:latin typeface="Times New Roman"/>
                        </a:rPr>
                        <a:t>Презентация на тему:  «Коррекция звукопроизношения у детей старшего  возраста»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161616"/>
                          </a:solidFill>
                          <a:latin typeface="Times New Roman"/>
                        </a:rPr>
                        <a:t>Для педагогов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Учитель-логопе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</a:tr>
              <a:tr h="155160"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</a:tr>
              <a:tr h="94320"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  <a:tc>
                  <a:txBody>
                    <a:bodyPr lIns="16560" rIns="1656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6560" marR="16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f4e7"/>
                    </a:solidFill>
                  </a:tcPr>
                </a:tc>
              </a:tr>
            </a:tbl>
          </a:graphicData>
        </a:graphic>
      </p:graphicFrame>
    </p:spTree>
  </p:cSld>
  <p:transition spd="slow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0T11:02:34Z</dcterms:created>
  <dc:creator>Денис</dc:creator>
  <dc:description/>
  <dc:language>en-US</dc:language>
  <cp:lastModifiedBy>Admin</cp:lastModifiedBy>
  <dcterms:modified xsi:type="dcterms:W3CDTF">2006-12-31T20:52:52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