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230-7800-4D67-BF84-66C8C98C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43E-6F56-4601-901E-FF9FC90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54D-1B65-48B8-8D4A-C4744A4C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020-1691-44BA-AB75-B01F920A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C956-EB3B-4F8B-969B-4192B57E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6819-7729-4D7C-8519-B2398213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C556-9B62-4C1C-8F4D-7A2546B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2B5F-CEEE-4571-8691-037010F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CC5-9FCB-42C6-AED6-1D2FD49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B4E-B2A4-4CC9-BAE9-7494E2E1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92A9-DD5F-4E59-BD5D-2C15220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005-1C02-4CF8-B6F8-6D37BE9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39C2-6D88-438A-88DC-366D3B8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867-4078-43D3-BD8F-306F0CA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9B0B-19AF-4E0E-817B-9FE372F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833-C026-482E-9D73-AB99F50A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F80D-1916-4829-B709-0B43DD22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A00-DB1B-408D-9714-099E966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B1D-88BA-4D71-9FD8-374E19C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97A-692D-4C74-90D9-0B6B1E8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727-1560-42C4-AC36-0CD5F125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B24-0D19-49A8-8A41-C76D5E5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D56-5568-439F-9987-DD01DFC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2ED-F193-477B-BCF9-E1AD773D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6F56-4656-458D-A6D6-848CC71E8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F1D2-EC0B-44EF-BF13-35F7B85BAE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0" descr="IMG002"/>
          <p:cNvPicPr/>
          <p:nvPr/>
        </p:nvPicPr>
        <p:blipFill>
          <a:blip r:embed="rId1"/>
          <a:stretch/>
        </p:blipFill>
        <p:spPr>
          <a:xfrm>
            <a:off x="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IMG002"/>
          <p:cNvPicPr/>
          <p:nvPr/>
        </p:nvPicPr>
        <p:blipFill>
          <a:blip r:embed="rId2"/>
          <a:stretch/>
        </p:blipFill>
        <p:spPr>
          <a:xfrm>
            <a:off x="305928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IMG002"/>
          <p:cNvPicPr/>
          <p:nvPr/>
        </p:nvPicPr>
        <p:blipFill>
          <a:blip r:embed="rId3"/>
          <a:stretch/>
        </p:blipFill>
        <p:spPr>
          <a:xfrm>
            <a:off x="604692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IMG002"/>
          <p:cNvPicPr/>
          <p:nvPr/>
        </p:nvPicPr>
        <p:blipFill>
          <a:blip r:embed="rId4"/>
          <a:stretch/>
        </p:blipFill>
        <p:spPr>
          <a:xfrm>
            <a:off x="0" y="557208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IMG002"/>
          <p:cNvPicPr/>
          <p:nvPr/>
        </p:nvPicPr>
        <p:blipFill>
          <a:blip r:embed="rId5"/>
          <a:stretch/>
        </p:blipFill>
        <p:spPr>
          <a:xfrm>
            <a:off x="2987640" y="557208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IMG002"/>
          <p:cNvPicPr/>
          <p:nvPr/>
        </p:nvPicPr>
        <p:blipFill>
          <a:blip r:embed="rId6"/>
          <a:stretch/>
        </p:blipFill>
        <p:spPr>
          <a:xfrm>
            <a:off x="6046920" y="5572080"/>
            <a:ext cx="3097080" cy="128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232280" y="1857240"/>
            <a:ext cx="652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Программа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воспитательной работ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Путешествие к истокам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(5-7 класс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143680" y="428616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Килижекова М. Н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МБОУ «СОШ № 24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1743120" y="42372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емейный альбо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6" name="Picture 6" descr="Майнагашевы"/>
          <p:cNvPicPr/>
          <p:nvPr/>
        </p:nvPicPr>
        <p:blipFill>
          <a:blip r:embed="rId1"/>
          <a:stretch/>
        </p:blipFill>
        <p:spPr>
          <a:xfrm>
            <a:off x="179280" y="981000"/>
            <a:ext cx="3476880" cy="4753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238400" y="6014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емья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айнагашевы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5157720" cy="3660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5418360" y="51516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Улус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Орешков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ные реликв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3" descr="SDC10420"/>
          <p:cNvPicPr/>
          <p:nvPr/>
        </p:nvPicPr>
        <p:blipFill>
          <a:blip r:embed="rId1"/>
          <a:stretch/>
        </p:blipFill>
        <p:spPr>
          <a:xfrm>
            <a:off x="285840" y="1214280"/>
            <a:ext cx="2854080" cy="297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DC10422"/>
          <p:cNvPicPr/>
          <p:nvPr/>
        </p:nvPicPr>
        <p:blipFill>
          <a:blip r:embed="rId2"/>
          <a:stretch/>
        </p:blipFill>
        <p:spPr>
          <a:xfrm>
            <a:off x="6000840" y="1285920"/>
            <a:ext cx="2778120" cy="1579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DC10425"/>
          <p:cNvPicPr/>
          <p:nvPr/>
        </p:nvPicPr>
        <p:blipFill>
          <a:blip r:embed="rId3"/>
          <a:stretch/>
        </p:blipFill>
        <p:spPr>
          <a:xfrm>
            <a:off x="1071720" y="4286160"/>
            <a:ext cx="171576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DC10755"/>
          <p:cNvPicPr/>
          <p:nvPr/>
        </p:nvPicPr>
        <p:blipFill>
          <a:blip r:embed="rId4"/>
          <a:stretch/>
        </p:blipFill>
        <p:spPr>
          <a:xfrm>
            <a:off x="6000840" y="4500720"/>
            <a:ext cx="2970000" cy="2228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DSCF3661"/>
          <p:cNvPicPr/>
          <p:nvPr/>
        </p:nvPicPr>
        <p:blipFill>
          <a:blip r:embed="rId5"/>
          <a:stretch/>
        </p:blipFill>
        <p:spPr>
          <a:xfrm>
            <a:off x="2928960" y="264312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нципы построения программ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920" y="5300280"/>
            <a:ext cx="6410160" cy="1081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ой, социальной, творческ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8000" y="1125360"/>
            <a:ext cx="7704000" cy="1341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ация на широкое культурологическое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, позволяющее гармонично сочетать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ые и общечеловеческие ценности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637000"/>
            <a:ext cx="7488360" cy="1008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енное внимание к  вопросам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о-нравственного воспитания личности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547640" y="4005360"/>
            <a:ext cx="7272360" cy="1154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я у школьников целостного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эмоционально-образного восприятия мира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ограмма: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Путешествие к истокам»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25" descr="IMG002"/>
          <p:cNvPicPr/>
          <p:nvPr/>
        </p:nvPicPr>
        <p:blipFill>
          <a:blip r:embed="rId1"/>
          <a:stretch/>
        </p:blipFill>
        <p:spPr>
          <a:xfrm>
            <a:off x="0" y="0"/>
            <a:ext cx="24843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IMG002"/>
          <p:cNvPicPr/>
          <p:nvPr/>
        </p:nvPicPr>
        <p:blipFill>
          <a:blip r:embed="rId2"/>
          <a:stretch/>
        </p:blipFill>
        <p:spPr>
          <a:xfrm>
            <a:off x="755640" y="692280"/>
            <a:ext cx="2340000" cy="971280"/>
          </a:xfrm>
          <a:prstGeom prst="rect">
            <a:avLst/>
          </a:prstGeom>
          <a:ln w="0">
            <a:noFill/>
          </a:ln>
        </p:spPr>
      </p:pic>
      <p:grpSp>
        <p:nvGrpSpPr>
          <p:cNvPr id="115" name="Diagram 5"/>
          <p:cNvGrpSpPr/>
          <p:nvPr/>
        </p:nvGrpSpPr>
        <p:grpSpPr>
          <a:xfrm>
            <a:off x="2598840" y="2133720"/>
            <a:ext cx="4191120" cy="4188600"/>
            <a:chOff x="2598840" y="2133720"/>
            <a:chExt cx="4191120" cy="4188600"/>
          </a:xfrm>
        </p:grpSpPr>
        <p:sp>
          <p:nvSpPr>
            <p:cNvPr id="116" name="_s1028"/>
            <p:cNvSpPr/>
            <p:nvPr/>
          </p:nvSpPr>
          <p:spPr>
            <a:xfrm flipH="1" flipV="1">
              <a:off x="3954240" y="3487680"/>
              <a:ext cx="369720" cy="37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7" name="_s1029"/>
            <p:cNvSpPr/>
            <p:nvPr/>
          </p:nvSpPr>
          <p:spPr>
            <a:xfrm>
              <a:off x="3059280" y="259236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течество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8" name="_s1030"/>
            <p:cNvSpPr/>
            <p:nvPr/>
          </p:nvSpPr>
          <p:spPr>
            <a:xfrm flipH="1">
              <a:off x="3647880" y="4227480"/>
              <a:ext cx="523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9" name="_s1031"/>
            <p:cNvSpPr/>
            <p:nvPr/>
          </p:nvSpPr>
          <p:spPr>
            <a:xfrm>
              <a:off x="2598840" y="37033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0" name="_s1032"/>
            <p:cNvSpPr/>
            <p:nvPr/>
          </p:nvSpPr>
          <p:spPr>
            <a:xfrm flipH="1">
              <a:off x="3954600" y="4598640"/>
              <a:ext cx="371520" cy="36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059280" y="481464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694400" y="4751280"/>
              <a:ext cx="1440" cy="52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4170600" y="527508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" name="_s1036"/>
            <p:cNvSpPr/>
            <p:nvPr/>
          </p:nvSpPr>
          <p:spPr>
            <a:xfrm>
              <a:off x="5065920" y="4597200"/>
              <a:ext cx="368280" cy="36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5281560" y="481464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" name="_s1038"/>
            <p:cNvSpPr/>
            <p:nvPr/>
          </p:nvSpPr>
          <p:spPr>
            <a:xfrm>
              <a:off x="5218200" y="4227480"/>
              <a:ext cx="52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7" name="_s1039"/>
            <p:cNvSpPr/>
            <p:nvPr/>
          </p:nvSpPr>
          <p:spPr>
            <a:xfrm>
              <a:off x="5742000" y="370332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нани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 flipV="1">
              <a:off x="5064120" y="3487680"/>
              <a:ext cx="370080" cy="36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9" name="_s1041"/>
            <p:cNvSpPr/>
            <p:nvPr/>
          </p:nvSpPr>
          <p:spPr>
            <a:xfrm>
              <a:off x="5281560" y="2592360"/>
              <a:ext cx="104796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руд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 flipV="1">
              <a:off x="4694400" y="3181320"/>
              <a:ext cx="0" cy="52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" name="_s1043"/>
            <p:cNvSpPr/>
            <p:nvPr/>
          </p:nvSpPr>
          <p:spPr>
            <a:xfrm>
              <a:off x="4170600" y="21337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2" name="_s1044"/>
            <p:cNvSpPr/>
            <p:nvPr/>
          </p:nvSpPr>
          <p:spPr>
            <a:xfrm>
              <a:off x="4170600" y="370512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Ценности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Путешествие к истокам» (5-7 класс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0" y="2781360"/>
            <a:ext cx="3203640" cy="3311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я семья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влечения 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офессии наши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Легенды 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Семейный альбом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916360" y="1773360"/>
            <a:ext cx="3168360" cy="3600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я мал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на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Остановись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ье!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Памятник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5867280" y="1484280"/>
            <a:ext cx="3097440" cy="338472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Хранител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кв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стор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мил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оя семья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79280" y="1844640"/>
            <a:ext cx="230508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Увлечен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бома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леч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340000" y="2205000"/>
            <a:ext cx="2448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Професси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ши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дителей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ов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и 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716360" y="2565360"/>
            <a:ext cx="237672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Легенд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льклорн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гостя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егенд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948360" y="2924280"/>
            <a:ext cx="2195640" cy="28810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ьбом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79280" y="1844640"/>
            <a:ext cx="259236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Моя мал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дина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Ю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348000" y="2133720"/>
            <a:ext cx="2664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Остановись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гновенье!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156360" y="2708280"/>
            <a:ext cx="266364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Памятн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и п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я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Хранители старины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179280" y="1844640"/>
            <a:ext cx="2448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ликв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льклор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203640" y="2349360"/>
            <a:ext cx="2592360" cy="288000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Истор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енеалогическ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о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084720" y="3068640"/>
            <a:ext cx="251964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адиц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династ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р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P3230115"/>
          <p:cNvPicPr/>
          <p:nvPr/>
        </p:nvPicPr>
        <p:blipFill>
          <a:blip r:embed="rId1"/>
          <a:stretch/>
        </p:blipFill>
        <p:spPr>
          <a:xfrm>
            <a:off x="4356000" y="46530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151" name="Line 21"/>
          <p:cNvSpPr/>
          <p:nvPr/>
        </p:nvSpPr>
        <p:spPr>
          <a:xfrm flipV="1">
            <a:off x="4788000" y="26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25" descr="SDC10670"/>
          <p:cNvPicPr/>
          <p:nvPr/>
        </p:nvPicPr>
        <p:blipFill>
          <a:blip r:embed="rId2"/>
          <a:stretch/>
        </p:blipFill>
        <p:spPr>
          <a:xfrm>
            <a:off x="179280" y="148428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SDC10667"/>
          <p:cNvPicPr/>
          <p:nvPr/>
        </p:nvPicPr>
        <p:blipFill>
          <a:blip r:embed="rId3"/>
          <a:stretch/>
        </p:blipFill>
        <p:spPr>
          <a:xfrm>
            <a:off x="7236000" y="2349360"/>
            <a:ext cx="1555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SC00193"/>
          <p:cNvPicPr/>
          <p:nvPr/>
        </p:nvPicPr>
        <p:blipFill>
          <a:blip r:embed="rId4"/>
          <a:stretch/>
        </p:blipFill>
        <p:spPr>
          <a:xfrm>
            <a:off x="324000" y="3141720"/>
            <a:ext cx="1780920" cy="2374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360" y="2997000"/>
            <a:ext cx="468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ши увлечени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12" descr="SDC10527"/>
          <p:cNvPicPr/>
          <p:nvPr/>
        </p:nvPicPr>
        <p:blipFill>
          <a:blip r:embed="rId5"/>
          <a:stretch/>
        </p:blipFill>
        <p:spPr>
          <a:xfrm>
            <a:off x="4284720" y="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6"/>
          <a:stretch/>
        </p:blipFill>
        <p:spPr>
          <a:xfrm>
            <a:off x="6804000" y="4365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SDC10394"/>
          <p:cNvPicPr/>
          <p:nvPr/>
        </p:nvPicPr>
        <p:blipFill>
          <a:blip r:embed="rId7"/>
          <a:stretch/>
        </p:blipFill>
        <p:spPr>
          <a:xfrm>
            <a:off x="1835280" y="4400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8"/>
          <a:stretch/>
        </p:blipFill>
        <p:spPr>
          <a:xfrm>
            <a:off x="6659640" y="1052640"/>
            <a:ext cx="2158920" cy="144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DC10398"/>
          <p:cNvPicPr/>
          <p:nvPr/>
        </p:nvPicPr>
        <p:blipFill>
          <a:blip r:embed="rId9"/>
          <a:stretch/>
        </p:blipFill>
        <p:spPr>
          <a:xfrm>
            <a:off x="1763640" y="260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SDC10287"/>
          <p:cNvPicPr/>
          <p:nvPr/>
        </p:nvPicPr>
        <p:blipFill>
          <a:blip r:embed="rId1"/>
          <a:stretch/>
        </p:blipFill>
        <p:spPr>
          <a:xfrm>
            <a:off x="250920" y="1143000"/>
            <a:ext cx="3744720" cy="280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DC10283"/>
          <p:cNvPicPr/>
          <p:nvPr/>
        </p:nvPicPr>
        <p:blipFill>
          <a:blip r:embed="rId2"/>
          <a:stretch/>
        </p:blipFill>
        <p:spPr>
          <a:xfrm>
            <a:off x="2916360" y="4133880"/>
            <a:ext cx="3311280" cy="248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SDC10326"/>
          <p:cNvPicPr/>
          <p:nvPr/>
        </p:nvPicPr>
        <p:blipFill>
          <a:blip r:embed="rId3"/>
          <a:stretch/>
        </p:blipFill>
        <p:spPr>
          <a:xfrm>
            <a:off x="4356000" y="1125360"/>
            <a:ext cx="3787920" cy="28400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57200" y="244440"/>
            <a:ext cx="7859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ись, мгновенье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6:46:32Z</dcterms:created>
  <dc:creator>Мария</dc:creator>
  <dc:description/>
  <dc:language>en-US</dc:language>
  <cp:lastModifiedBy>WiZaRd</cp:lastModifiedBy>
  <dcterms:modified xsi:type="dcterms:W3CDTF">2015-04-14T14:41:27Z</dcterms:modified>
  <cp:revision>18</cp:revision>
  <dc:subject/>
  <dc:title>Слайд 1</dc:title>
</cp:coreProperties>
</file>