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5AA-0394-42E8-8411-3D46D8CC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657-3E4A-4ABB-A9EF-F5DE5E7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77D-DD8F-4B4E-A0FD-0E751A28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71F-D5EE-425C-91E5-B9A83F47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8786-DC61-492F-8D5C-1CF25F83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D0D-639E-490A-A0BE-70F93C0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A99B-920A-466E-8728-A9B651A4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B6E0-B812-4D41-96A4-06357EAC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A468-856F-41F1-B1EC-44E49CE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4D03-CA4C-4E3F-A30A-157CAC0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6033-665B-4E23-B1DC-588AF05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D4C-4D54-4AB7-A30F-E044A1F0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B97B-C909-4799-8A52-F82FEE0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F921-5D3F-48AE-B709-8ED4C5E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68A-C880-44C7-9A8E-81273001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804D-BDCD-4603-ABC0-71D6E92E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7CD-CCE6-4E99-8ADE-69226EAE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502-5DDC-4E04-80F9-43D2FC64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4E1-0ADA-4C61-804A-DAC8ECEF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B2B-7822-49AD-B0D6-1125655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A25-54A3-488A-989B-7C48CEF5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273-D633-40C8-9A6B-3FCD6FED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D77-C005-487D-B319-54E281E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860-787C-4DC0-ACAE-B387883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B340-B97A-4E3A-A810-CAC821C49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93B-ED25-4AAF-A79B-C9DE41BF73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0" descr="IMG002"/>
          <p:cNvPicPr/>
          <p:nvPr/>
        </p:nvPicPr>
        <p:blipFill>
          <a:blip r:embed="rId1"/>
          <a:stretch/>
        </p:blipFill>
        <p:spPr>
          <a:xfrm>
            <a:off x="0" y="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IMG002"/>
          <p:cNvPicPr/>
          <p:nvPr/>
        </p:nvPicPr>
        <p:blipFill>
          <a:blip r:embed="rId2"/>
          <a:stretch/>
        </p:blipFill>
        <p:spPr>
          <a:xfrm>
            <a:off x="3059280" y="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IMG002"/>
          <p:cNvPicPr/>
          <p:nvPr/>
        </p:nvPicPr>
        <p:blipFill>
          <a:blip r:embed="rId3"/>
          <a:stretch/>
        </p:blipFill>
        <p:spPr>
          <a:xfrm>
            <a:off x="6046920" y="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IMG002"/>
          <p:cNvPicPr/>
          <p:nvPr/>
        </p:nvPicPr>
        <p:blipFill>
          <a:blip r:embed="rId4"/>
          <a:stretch/>
        </p:blipFill>
        <p:spPr>
          <a:xfrm>
            <a:off x="0" y="557208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IMG002"/>
          <p:cNvPicPr/>
          <p:nvPr/>
        </p:nvPicPr>
        <p:blipFill>
          <a:blip r:embed="rId5"/>
          <a:stretch/>
        </p:blipFill>
        <p:spPr>
          <a:xfrm>
            <a:off x="2987640" y="5572080"/>
            <a:ext cx="309708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IMG002"/>
          <p:cNvPicPr/>
          <p:nvPr/>
        </p:nvPicPr>
        <p:blipFill>
          <a:blip r:embed="rId6"/>
          <a:stretch/>
        </p:blipFill>
        <p:spPr>
          <a:xfrm>
            <a:off x="6046920" y="5572080"/>
            <a:ext cx="3097080" cy="1285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1232280" y="1857240"/>
            <a:ext cx="652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Программа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воспитательной работы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«Путешествие к истокам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(5-7 класс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143680" y="428616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Килижекова М. Н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Black"/>
              </a:rPr>
              <a:t>МБОУ «СОШ № 24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1743120" y="42372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емейный альбо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6" name="Picture 6" descr="Майнагашевы"/>
          <p:cNvPicPr/>
          <p:nvPr/>
        </p:nvPicPr>
        <p:blipFill>
          <a:blip r:embed="rId1"/>
          <a:stretch/>
        </p:blipFill>
        <p:spPr>
          <a:xfrm>
            <a:off x="179280" y="981000"/>
            <a:ext cx="3476880" cy="4753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238400" y="6014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емья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Майнагашевы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5157720" cy="3660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5418360" y="515160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Улус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Орешков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ейные реликв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3" descr="SDC10420"/>
          <p:cNvPicPr/>
          <p:nvPr/>
        </p:nvPicPr>
        <p:blipFill>
          <a:blip r:embed="rId1"/>
          <a:stretch/>
        </p:blipFill>
        <p:spPr>
          <a:xfrm>
            <a:off x="285840" y="1214280"/>
            <a:ext cx="2854080" cy="297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DC10422"/>
          <p:cNvPicPr/>
          <p:nvPr/>
        </p:nvPicPr>
        <p:blipFill>
          <a:blip r:embed="rId2"/>
          <a:stretch/>
        </p:blipFill>
        <p:spPr>
          <a:xfrm>
            <a:off x="6000840" y="1285920"/>
            <a:ext cx="2778120" cy="1579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DC10425"/>
          <p:cNvPicPr/>
          <p:nvPr/>
        </p:nvPicPr>
        <p:blipFill>
          <a:blip r:embed="rId3"/>
          <a:stretch/>
        </p:blipFill>
        <p:spPr>
          <a:xfrm>
            <a:off x="1071720" y="4286160"/>
            <a:ext cx="171576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DC10755"/>
          <p:cNvPicPr/>
          <p:nvPr/>
        </p:nvPicPr>
        <p:blipFill>
          <a:blip r:embed="rId4"/>
          <a:stretch/>
        </p:blipFill>
        <p:spPr>
          <a:xfrm>
            <a:off x="6000840" y="4500720"/>
            <a:ext cx="2970000" cy="2228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DSCF3661"/>
          <p:cNvPicPr/>
          <p:nvPr/>
        </p:nvPicPr>
        <p:blipFill>
          <a:blip r:embed="rId5"/>
          <a:stretch/>
        </p:blipFill>
        <p:spPr>
          <a:xfrm>
            <a:off x="2928960" y="264312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нципы построения программ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0920" y="5300280"/>
            <a:ext cx="6410160" cy="1081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ознавательной, социальной, творческ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8000" y="1125360"/>
            <a:ext cx="7704000" cy="1341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ентация на широкое культурологическое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, позволяющее гармонично сочетать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ые и общечеловеческие ценности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55640" y="2637000"/>
            <a:ext cx="7488360" cy="1008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енное внимание к  вопросам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но-нравственного воспитания личности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547640" y="4005360"/>
            <a:ext cx="7272360" cy="1154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я у школьников целостного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эмоционально-образного восприятия мира;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рограмма: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Путешествие к истокам»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25" descr="IMG002"/>
          <p:cNvPicPr/>
          <p:nvPr/>
        </p:nvPicPr>
        <p:blipFill>
          <a:blip r:embed="rId1"/>
          <a:stretch/>
        </p:blipFill>
        <p:spPr>
          <a:xfrm>
            <a:off x="0" y="0"/>
            <a:ext cx="2484360" cy="1030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9" descr="IMG002"/>
          <p:cNvPicPr/>
          <p:nvPr/>
        </p:nvPicPr>
        <p:blipFill>
          <a:blip r:embed="rId2"/>
          <a:stretch/>
        </p:blipFill>
        <p:spPr>
          <a:xfrm>
            <a:off x="755640" y="692280"/>
            <a:ext cx="2340000" cy="971280"/>
          </a:xfrm>
          <a:prstGeom prst="rect">
            <a:avLst/>
          </a:prstGeom>
          <a:ln w="0">
            <a:noFill/>
          </a:ln>
        </p:spPr>
      </p:pic>
      <p:grpSp>
        <p:nvGrpSpPr>
          <p:cNvPr id="115" name="Diagram 5"/>
          <p:cNvGrpSpPr/>
          <p:nvPr/>
        </p:nvGrpSpPr>
        <p:grpSpPr>
          <a:xfrm>
            <a:off x="2598840" y="2133720"/>
            <a:ext cx="4191120" cy="4188600"/>
            <a:chOff x="2598840" y="2133720"/>
            <a:chExt cx="4191120" cy="4188600"/>
          </a:xfrm>
        </p:grpSpPr>
        <p:sp>
          <p:nvSpPr>
            <p:cNvPr id="116" name="_s1028"/>
            <p:cNvSpPr/>
            <p:nvPr/>
          </p:nvSpPr>
          <p:spPr>
            <a:xfrm flipH="1" flipV="1">
              <a:off x="3954240" y="3487680"/>
              <a:ext cx="369720" cy="370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7" name="_s1029"/>
            <p:cNvSpPr/>
            <p:nvPr/>
          </p:nvSpPr>
          <p:spPr>
            <a:xfrm>
              <a:off x="3059280" y="2592360"/>
              <a:ext cx="104760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течество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8" name="_s1030"/>
            <p:cNvSpPr/>
            <p:nvPr/>
          </p:nvSpPr>
          <p:spPr>
            <a:xfrm flipH="1">
              <a:off x="3647880" y="4227480"/>
              <a:ext cx="52380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9" name="_s1031"/>
            <p:cNvSpPr/>
            <p:nvPr/>
          </p:nvSpPr>
          <p:spPr>
            <a:xfrm>
              <a:off x="2598840" y="370332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емля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0" name="_s1032"/>
            <p:cNvSpPr/>
            <p:nvPr/>
          </p:nvSpPr>
          <p:spPr>
            <a:xfrm flipH="1">
              <a:off x="3954600" y="4598640"/>
              <a:ext cx="371520" cy="367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1" name="_s1033"/>
            <p:cNvSpPr/>
            <p:nvPr/>
          </p:nvSpPr>
          <p:spPr>
            <a:xfrm>
              <a:off x="3059280" y="481464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694400" y="4751280"/>
              <a:ext cx="1440" cy="52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3" name="_s1035"/>
            <p:cNvSpPr/>
            <p:nvPr/>
          </p:nvSpPr>
          <p:spPr>
            <a:xfrm>
              <a:off x="4170600" y="5275080"/>
              <a:ext cx="104760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ир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4" name="_s1036"/>
            <p:cNvSpPr/>
            <p:nvPr/>
          </p:nvSpPr>
          <p:spPr>
            <a:xfrm>
              <a:off x="5065920" y="4597200"/>
              <a:ext cx="368280" cy="36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5281560" y="481464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а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6" name="_s1038"/>
            <p:cNvSpPr/>
            <p:nvPr/>
          </p:nvSpPr>
          <p:spPr>
            <a:xfrm>
              <a:off x="5218200" y="4227480"/>
              <a:ext cx="52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7" name="_s1039"/>
            <p:cNvSpPr/>
            <p:nvPr/>
          </p:nvSpPr>
          <p:spPr>
            <a:xfrm>
              <a:off x="5742000" y="3703320"/>
              <a:ext cx="104796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нания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 flipV="1">
              <a:off x="5064120" y="3487680"/>
              <a:ext cx="370080" cy="36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9" name="_s1041"/>
            <p:cNvSpPr/>
            <p:nvPr/>
          </p:nvSpPr>
          <p:spPr>
            <a:xfrm>
              <a:off x="5281560" y="2592360"/>
              <a:ext cx="104796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руд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 flipV="1">
              <a:off x="4694400" y="3181320"/>
              <a:ext cx="0" cy="52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1" name="_s1043"/>
            <p:cNvSpPr/>
            <p:nvPr/>
          </p:nvSpPr>
          <p:spPr>
            <a:xfrm>
              <a:off x="4170600" y="2133720"/>
              <a:ext cx="1047600" cy="1047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2" name="_s1044"/>
            <p:cNvSpPr/>
            <p:nvPr/>
          </p:nvSpPr>
          <p:spPr>
            <a:xfrm>
              <a:off x="4170600" y="3705120"/>
              <a:ext cx="1047600" cy="1047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Ценности</a:t>
              </a:r>
              <a:endParaRPr b="0" lang="en-US" sz="20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«Путешествие к истокам» (5-7 класс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0" y="2781360"/>
            <a:ext cx="3203640" cy="3311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я семья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влечения 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офессии наши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Легенды 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Семейный альбом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916360" y="1773360"/>
            <a:ext cx="3168360" cy="3600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оя земля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я мал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на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«Остановись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ье!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Памятник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н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5867280" y="1484280"/>
            <a:ext cx="3097440" cy="338472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года: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Хранител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ин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емей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кв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стор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мил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Семей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3132000" y="115920"/>
            <a:ext cx="2880000" cy="1368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класс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оя семья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79280" y="1844640"/>
            <a:ext cx="230508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Увлечен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бома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леч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340000" y="2205000"/>
            <a:ext cx="244800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Професси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ши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одителей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род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ов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и с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4716360" y="2565360"/>
            <a:ext cx="2376720" cy="28814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Легенд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мь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льклорна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гостя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легенд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948360" y="2924280"/>
            <a:ext cx="2195640" cy="288108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емей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ьбом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3132000" y="115920"/>
            <a:ext cx="2880000" cy="1368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класс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оя земля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79280" y="1844640"/>
            <a:ext cx="259236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Моя мала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одина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Ю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граф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348000" y="2133720"/>
            <a:ext cx="266400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Остановись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гновенье!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156360" y="2708280"/>
            <a:ext cx="2663640" cy="28814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Памятн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ины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и п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я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 с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3132000" y="115920"/>
            <a:ext cx="2880000" cy="136836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 класс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г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Хранители старины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179280" y="1844640"/>
            <a:ext cx="2448000" cy="28796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емей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ликв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льклор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203640" y="2349360"/>
            <a:ext cx="2592360" cy="288000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Истор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енеалогическ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о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6084720" y="3068640"/>
            <a:ext cx="2519640" cy="288144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емей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адиции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династ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р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P3230115"/>
          <p:cNvPicPr/>
          <p:nvPr/>
        </p:nvPicPr>
        <p:blipFill>
          <a:blip r:embed="rId1"/>
          <a:stretch/>
        </p:blipFill>
        <p:spPr>
          <a:xfrm>
            <a:off x="4356000" y="46530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151" name="Line 21"/>
          <p:cNvSpPr/>
          <p:nvPr/>
        </p:nvSpPr>
        <p:spPr>
          <a:xfrm flipV="1">
            <a:off x="4788000" y="26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Picture 25" descr="SDC10670"/>
          <p:cNvPicPr/>
          <p:nvPr/>
        </p:nvPicPr>
        <p:blipFill>
          <a:blip r:embed="rId2"/>
          <a:stretch/>
        </p:blipFill>
        <p:spPr>
          <a:xfrm>
            <a:off x="179280" y="1484280"/>
            <a:ext cx="2521080" cy="189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SDC10667"/>
          <p:cNvPicPr/>
          <p:nvPr/>
        </p:nvPicPr>
        <p:blipFill>
          <a:blip r:embed="rId3"/>
          <a:stretch/>
        </p:blipFill>
        <p:spPr>
          <a:xfrm>
            <a:off x="7236000" y="2349360"/>
            <a:ext cx="1555560" cy="2144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DSC00193"/>
          <p:cNvPicPr/>
          <p:nvPr/>
        </p:nvPicPr>
        <p:blipFill>
          <a:blip r:embed="rId4"/>
          <a:stretch/>
        </p:blipFill>
        <p:spPr>
          <a:xfrm>
            <a:off x="324000" y="3141720"/>
            <a:ext cx="1780920" cy="2374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360" y="2997000"/>
            <a:ext cx="468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аши увлечени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12" descr="SDC10527"/>
          <p:cNvPicPr/>
          <p:nvPr/>
        </p:nvPicPr>
        <p:blipFill>
          <a:blip r:embed="rId5"/>
          <a:stretch/>
        </p:blipFill>
        <p:spPr>
          <a:xfrm>
            <a:off x="4284720" y="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6"/>
          <a:stretch/>
        </p:blipFill>
        <p:spPr>
          <a:xfrm>
            <a:off x="6804000" y="43657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SDC10394"/>
          <p:cNvPicPr/>
          <p:nvPr/>
        </p:nvPicPr>
        <p:blipFill>
          <a:blip r:embed="rId7"/>
          <a:stretch/>
        </p:blipFill>
        <p:spPr>
          <a:xfrm>
            <a:off x="1835280" y="4400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8"/>
          <a:stretch/>
        </p:blipFill>
        <p:spPr>
          <a:xfrm>
            <a:off x="6659640" y="1052640"/>
            <a:ext cx="2158920" cy="144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DC10398"/>
          <p:cNvPicPr/>
          <p:nvPr/>
        </p:nvPicPr>
        <p:blipFill>
          <a:blip r:embed="rId9"/>
          <a:stretch/>
        </p:blipFill>
        <p:spPr>
          <a:xfrm>
            <a:off x="1763640" y="2602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SDC10287"/>
          <p:cNvPicPr/>
          <p:nvPr/>
        </p:nvPicPr>
        <p:blipFill>
          <a:blip r:embed="rId1"/>
          <a:stretch/>
        </p:blipFill>
        <p:spPr>
          <a:xfrm>
            <a:off x="250920" y="1143000"/>
            <a:ext cx="3744720" cy="2805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DC10283"/>
          <p:cNvPicPr/>
          <p:nvPr/>
        </p:nvPicPr>
        <p:blipFill>
          <a:blip r:embed="rId2"/>
          <a:stretch/>
        </p:blipFill>
        <p:spPr>
          <a:xfrm>
            <a:off x="2916360" y="4133880"/>
            <a:ext cx="3311280" cy="248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SDC10326"/>
          <p:cNvPicPr/>
          <p:nvPr/>
        </p:nvPicPr>
        <p:blipFill>
          <a:blip r:embed="rId3"/>
          <a:stretch/>
        </p:blipFill>
        <p:spPr>
          <a:xfrm>
            <a:off x="4356000" y="1125360"/>
            <a:ext cx="3787920" cy="28400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457200" y="244440"/>
            <a:ext cx="78598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тановись, мгновенье!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6:46:32Z</dcterms:created>
  <dc:creator>Мария</dc:creator>
  <dc:description/>
  <dc:language>en-US</dc:language>
  <cp:lastModifiedBy>WiZaRd</cp:lastModifiedBy>
  <dcterms:modified xsi:type="dcterms:W3CDTF">2015-04-14T14:41:27Z</dcterms:modified>
  <cp:revision>18</cp:revision>
  <dc:subject/>
  <dc:title>Слайд 1</dc:title>
</cp:coreProperties>
</file>