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1.gif" ContentType="image/gif"/>
  <Override PartName="/ppt/media/image13.wmf" ContentType="image/x-wmf"/>
  <Override PartName="/ppt/media/image5.png" ContentType="image/png"/>
  <Override PartName="/ppt/media/image10.gif" ContentType="image/gif"/>
  <Override PartName="/ppt/media/image9.gif" ContentType="image/gif"/>
  <Override PartName="/ppt/media/image6.wmf" ContentType="image/x-wmf"/>
  <Override PartName="/ppt/media/image20.gif" ContentType="image/gif"/>
  <Override PartName="/ppt/media/image18.gif" ContentType="image/gif"/>
  <Override PartName="/ppt/media/image17.png" ContentType="image/png"/>
  <Override PartName="/ppt/media/image16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7.png" ContentType="image/png"/>
  <Override PartName="/ppt/media/image4.gif" ContentType="image/gif"/>
  <Override PartName="/ppt/media/image8.gif" ContentType="image/gif"/>
  <Override PartName="/ppt/media/image1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DD4-1601-435D-BD59-27B7DF32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A6F-1F12-4847-ADC9-ECECD73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F69-4598-4BDF-BAE6-3A8C9D1A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666-0723-4EE8-BE6C-73327129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DAA-79F2-4879-AE64-9FDCD8F7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54E-A1E7-4283-8641-B77E2F53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86B-FB15-498B-A079-4C539B8F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738-195D-424F-A8AF-191F29B9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398-29AF-4F25-A122-E329DECC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75A-06A7-4639-82A1-527EC3E4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EAA-6EC8-4B7D-9E58-912C66A3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1BE-E52A-4D98-B3AA-A3147DE9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B963-EDFC-40EA-9056-3244D3188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hyperlink" Target="http://smiles.rc-mir.com/smile.98516.html" TargetMode="Externa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920880" y="281160"/>
            <a:ext cx="7089480" cy="2084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PE02278_"/>
          <p:cNvPicPr/>
          <p:nvPr/>
        </p:nvPicPr>
        <p:blipFill>
          <a:blip r:embed="rId2"/>
          <a:stretch/>
        </p:blipFill>
        <p:spPr>
          <a:xfrm>
            <a:off x="4714920" y="1986120"/>
            <a:ext cx="3571920" cy="4646520"/>
          </a:xfrm>
          <a:prstGeom prst="rect">
            <a:avLst/>
          </a:prstGeom>
          <a:ln w="0">
            <a:noFill/>
          </a:ln>
        </p:spPr>
      </p:pic>
      <p:pic>
        <p:nvPicPr>
          <p:cNvPr id="44" name="Наши дети (Ксения Романова)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28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 30 до 39 баллов – вы придерживаетесь правильных принципов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 16 до 30 баллов – ваш метод воспитания: пряник и к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енее 16 баллов – у вас нет педагогических навыков и желания воспитывать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Блок-схема: несколько документов 3" descr=""/>
          <p:cNvPicPr/>
          <p:nvPr/>
        </p:nvPicPr>
        <p:blipFill>
          <a:blip r:embed="rId1"/>
          <a:stretch/>
        </p:blipFill>
        <p:spPr>
          <a:xfrm>
            <a:off x="2273400" y="201600"/>
            <a:ext cx="4736880" cy="159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j0284133"/>
          <p:cNvPicPr/>
          <p:nvPr/>
        </p:nvPicPr>
        <p:blipFill>
          <a:blip r:embed="rId2"/>
          <a:stretch/>
        </p:blipFill>
        <p:spPr>
          <a:xfrm>
            <a:off x="266760" y="285840"/>
            <a:ext cx="1590480" cy="170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FAM45"/>
          <p:cNvPicPr/>
          <p:nvPr/>
        </p:nvPicPr>
        <p:blipFill>
          <a:blip r:embed="rId3"/>
          <a:stretch/>
        </p:blipFill>
        <p:spPr>
          <a:xfrm>
            <a:off x="6310440" y="4929120"/>
            <a:ext cx="2323800" cy="1739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Девять способов, как изменить человека, не нанося ему обиды и не вызывая негодования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85840" y="85716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1. Начинайте с похвалы и искреннего признания достоинств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2. Обращая внимание людей на их ошибки, делайте это в косв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3. Прежде чем критиковать другого, скажите о своих собственных ошиб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4. Задавайте вопросы, вместо того чтобы отдавать при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5. Давайте возможность человеку спасти своё лиц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6. Хвалите за каждый , даже скромный его успех и будьте при этом искренними в своём признании и щедры в похва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7. Создайте человеку доброе имя, чтобы он стал жить в соответствии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8. Пользуйтесь поощрением, сделайте так, чтобы недостаток, который вы хотите в человеке  исправить, выглядел легко исправимым, а дело, которым вы хотите его увлечь, легко выполним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9. Делайте так, чтобы людям было приятно исполнить то, что вы хо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. Карне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книга"/>
          <p:cNvPicPr/>
          <p:nvPr/>
        </p:nvPicPr>
        <p:blipFill>
          <a:blip r:embed="rId1"/>
          <a:stretch/>
        </p:blipFill>
        <p:spPr>
          <a:xfrm>
            <a:off x="5786280" y="6072120"/>
            <a:ext cx="1500480" cy="1000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лохими дети не рожд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Ребенок рождается, чтобы узнат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А не злить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Ш. Амонаш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KIDS01"/>
          <p:cNvPicPr/>
          <p:nvPr/>
        </p:nvPicPr>
        <p:blipFill>
          <a:blip r:embed="rId1"/>
          <a:stretch/>
        </p:blipFill>
        <p:spPr>
          <a:xfrm>
            <a:off x="2362320" y="3214800"/>
            <a:ext cx="4678200" cy="323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4" descr=""/>
          <p:cNvPicPr/>
          <p:nvPr/>
        </p:nvPicPr>
        <p:blipFill>
          <a:blip r:embed="rId1"/>
          <a:stretch/>
        </p:blipFill>
        <p:spPr>
          <a:xfrm>
            <a:off x="566640" y="133200"/>
            <a:ext cx="3011760" cy="1159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785520"/>
            <a:ext cx="56149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то сотрудничество, взаимодействие, взаимовлияние, взаимообогащение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Выноска-облако 9"/>
          <p:cNvSpPr/>
          <p:nvPr/>
        </p:nvSpPr>
        <p:spPr>
          <a:xfrm>
            <a:off x="428760" y="2786040"/>
            <a:ext cx="4357440" cy="271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ави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ежде чем предъя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требования к ребё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едъяви их к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F:\Картинки 1\g0145630.WMF"/>
          <p:cNvPicPr/>
          <p:nvPr/>
        </p:nvPicPr>
        <p:blipFill>
          <a:blip r:embed="rId2"/>
          <a:stretch/>
        </p:blipFill>
        <p:spPr>
          <a:xfrm>
            <a:off x="5286240" y="2143080"/>
            <a:ext cx="3441960" cy="421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28760" y="1500120"/>
            <a:ext cx="43574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вторитет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осознают свою важную роль в становлении личности ребёнка, но и признают право на само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онимают, какие требования – диктовать, какие обсу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ознают и поощряют автономию сво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ткрыты для общения и обсуждения с детьми правил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928520"/>
            <a:ext cx="41385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Дети 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восходно адаптированы, уверены в себе, развит самоконтроль, социальны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Хорошо учатся в школе, обладают высокой самооце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j0356712"/>
          <p:cNvPicPr/>
          <p:nvPr/>
        </p:nvPicPr>
        <p:blipFill>
          <a:blip r:embed="rId2"/>
          <a:stretch/>
        </p:blipFill>
        <p:spPr>
          <a:xfrm>
            <a:off x="7286760" y="478620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0356784"/>
          <p:cNvPicPr/>
          <p:nvPr/>
        </p:nvPicPr>
        <p:blipFill>
          <a:blip r:embed="rId3"/>
          <a:stretch/>
        </p:blipFill>
        <p:spPr>
          <a:xfrm>
            <a:off x="4000680" y="4643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0336777"/>
          <p:cNvPicPr/>
          <p:nvPr/>
        </p:nvPicPr>
        <p:blipFill>
          <a:blip r:embed="rId4"/>
          <a:stretch/>
        </p:blipFill>
        <p:spPr>
          <a:xfrm>
            <a:off x="6195960" y="5214960"/>
            <a:ext cx="954000" cy="1390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вторитарны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знают, каким должен вырасти их ребё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ни  категоричны, и неуступч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В общении с ребёнком отдают приказы, устанавливают жёсткие правила, не допускают их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крыты для постоянного общения с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Дети 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мкнуты, боязливы, угрюмы и зависимы, непритязательны и раздражи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евочки остаются пассивными и зависи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Мальчики могут стать неуправляемыми и агрессив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17cf4c75a7617f6dc9951553ed8d0d2a"/>
          <p:cNvPicPr/>
          <p:nvPr/>
        </p:nvPicPr>
        <p:blipFill>
          <a:blip r:embed="rId1"/>
          <a:stretch/>
        </p:blipFill>
        <p:spPr>
          <a:xfrm>
            <a:off x="6858000" y="4389480"/>
            <a:ext cx="1914480" cy="2263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942071130fbb857d792c087e7687d7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4572000"/>
            <a:ext cx="1071360" cy="2130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иберальный сти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слишком высоко ценят своего ребёнка, считают простительным его слаб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Легко общаются с ним, доверяют ему во вс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е склонны к запретам и огранич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ткрыты для общения с детьми, доминирующее направление коммуникации – от ребёнка к родите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ети в такой семье слабо или совсем не регламентируют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доставлен избыток свободы или руководство родителей незнач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обладает безусловная родительская люб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F:\Клипарты\FSPLAY.WMF"/>
          <p:cNvPicPr/>
          <p:nvPr/>
        </p:nvPicPr>
        <p:blipFill>
          <a:blip r:embed="rId1"/>
          <a:stretch/>
        </p:blipFill>
        <p:spPr>
          <a:xfrm>
            <a:off x="6286680" y="4379760"/>
            <a:ext cx="1977840" cy="225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ндифферентный сти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облемы воспитания не являются первостепенными, поскольку у них другие з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е устанавливают для детей никаких ограничений, безразличны к собственны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крыты для общения с детьми, безразличие родителей сочетается с враждеб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59984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Свои проблемы ребёнку приходится решать сам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ичто не удерживает от того, чтобы дать волю своим самым разрушительным импульсам и проявить склонность к правонарушающему повед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F:\Клипарты\J0279644.WMF"/>
          <p:cNvPicPr/>
          <p:nvPr/>
        </p:nvPicPr>
        <p:blipFill>
          <a:blip r:embed="rId1"/>
          <a:stretch/>
        </p:blipFill>
        <p:spPr>
          <a:xfrm>
            <a:off x="6643800" y="4572000"/>
            <a:ext cx="2103480" cy="198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4" descr=""/>
          <p:cNvPicPr/>
          <p:nvPr/>
        </p:nvPicPr>
        <p:blipFill>
          <a:blip r:embed="rId1"/>
          <a:stretch/>
        </p:blipFill>
        <p:spPr>
          <a:xfrm>
            <a:off x="1706400" y="133200"/>
            <a:ext cx="5658120" cy="1086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14200" y="1071720"/>
            <a:ext cx="850104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ожете ли в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 любой момент оставить все дела и заняться ребён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оветоваться с ребёнком несмотря на его возра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знаться ребёнку в ошибке, совершенной по отношению к н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звиниться перед ребёнком в случае, если вы были не пра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ладеть собой и сохранить самообладание, даже если проступок ребёнка вывел вас из себ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тавить себя на место ребё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0" descr="F:\Клипарты\g0408019.WMF"/>
          <p:cNvPicPr/>
          <p:nvPr/>
        </p:nvPicPr>
        <p:blipFill>
          <a:blip r:embed="rId2"/>
          <a:stretch/>
        </p:blipFill>
        <p:spPr>
          <a:xfrm>
            <a:off x="7572240" y="5072040"/>
            <a:ext cx="1306800" cy="153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8400" y="-360"/>
            <a:ext cx="78008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7.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верить хотя бы на минутку, что вы добрая фея или прекрасный прин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8.   Рассказать ребёнку поучительный случай из детства, представляющий вас в невыгодном св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9.   Всегда воздерживаться от слов, которые могут ранить ребё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0. Пообещать ребёнку, что исполните его желание за хорошее повед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1. Выделить ребёнку один день, когда он может делать все, что хочет, а вы пи этом не вмешиваете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2. Не прореагировать, если ваш ребёнок ударил, толкнул или незаслуженно обидел другого ребё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3. Устоять против слёз, капризов, просьб, если известно, что это прихо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1:52:25Z</dcterms:created>
  <dc:creator>Admin</dc:creator>
  <dc:description/>
  <dc:language>en-US</dc:language>
  <cp:lastModifiedBy>user</cp:lastModifiedBy>
  <dcterms:modified xsi:type="dcterms:W3CDTF">2009-11-18T06:18:47Z</dcterms:modified>
  <cp:revision>46</cp:revision>
  <dc:subject/>
  <dc:title>Различные типы воспитания детей</dc:title>
</cp:coreProperties>
</file>