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21.wmf" ContentType="image/x-wmf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531B-C17B-4E50-AB4B-7F0A8050CD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AC27-8721-415F-A2D6-F7884D3B1A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D172-B97C-46AE-94D8-7B15C405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07DD-B1E3-481F-833D-34E7D455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309-74F2-4914-A92D-0ABD8C66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CEC-7FF8-4E7E-82C4-02141258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2C7E-A917-4217-BCC4-5157F141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83E0-DD34-4819-B548-432F2F07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8E63-C0A6-4996-A481-4FBCAE15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6F92-9FBF-45F8-9B80-7114CE8A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025C-CF14-4147-896B-85CA04FC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0AB1-22A4-4BEB-ADBE-79CA6960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2E24-051B-4ED5-8404-5C186CBC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4CBB-6E3A-45A8-82F8-65A9B6A9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7808-DBF2-4B41-9EFF-2819C72C44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Arial"/>
              </a:rPr>
              <a:t>Симметрия в природ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 ученика 9 класса МБОУ «Сузгарьевская СОШ» Чегодаева Ю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Симметрия в неживой прир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мы смотрим на нагромождение камней у подножия горы у нас может возникнуть мысль, что симметрия в неорганическом мире – отнюдь не частый гость. Груда камней у подножия горы весьма беспорядочн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mountain"/>
          <p:cNvPicPr/>
          <p:nvPr/>
        </p:nvPicPr>
        <p:blipFill>
          <a:blip r:embed="rId1"/>
          <a:stretch/>
        </p:blipFill>
        <p:spPr>
          <a:xfrm>
            <a:off x="5724360" y="1916280"/>
            <a:ext cx="29037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Симметрия в неживой прир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алмаз"/>
          <p:cNvPicPr/>
          <p:nvPr/>
        </p:nvPicPr>
        <p:blipFill>
          <a:blip r:embed="rId1"/>
          <a:stretch/>
        </p:blipFill>
        <p:spPr>
          <a:xfrm>
            <a:off x="1258920" y="1413000"/>
            <a:ext cx="2259000" cy="2514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ко каждый камень является огромной  колонией кристаллов, представляющих собой в высшей степени симметричные «постройки» из атомов и молек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8"/>
          <p:cNvGraphicFramePr/>
          <p:nvPr/>
        </p:nvGraphicFramePr>
        <p:xfrm>
          <a:off x="1403280" y="4365720"/>
          <a:ext cx="2160720" cy="195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4365720"/>
                    <a:ext cx="21607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ироде проявление симметрии многообразно. Насекомые, птицы и животные  обладают симметрией; симметричность форм, окраски насекомых, птиц придает им  крас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симметрия - это не только красота. Симметричность формы необходима рыбе, чтобы плыть, птице, чтобы летать. Так что симметрия в природе существует неспроста: она еще и полезна, или, иначе целесообразна. В природе красивое всегда целесообразно, а целесообразное – всегда красиво. Симметрия это – красота и гармония; равновесие и устойчив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Глядя на мир, нельзя не удивля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озьма Пру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Почему симметрия пронизывает весь окружающий нас м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Нам нравится смотреть на проявление симметрии в природе, на идеально симметричные сферы планет или Солнца, на симметричные кристаллы, на снежинки, наконец, на цветы, которые почти симметрич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Р.Фей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ить все ли в окружающей нас природе симметри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еть явления симметрии в растительном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еть явления симметрии в животном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еть явления симметрии в неживой приро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32"/>
          <p:cNvPicPr/>
          <p:nvPr/>
        </p:nvPicPr>
        <p:blipFill>
          <a:blip r:embed="rId1"/>
          <a:stretch/>
        </p:blipFill>
        <p:spPr>
          <a:xfrm>
            <a:off x="6084720" y="4575240"/>
            <a:ext cx="273708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Симметрия в растительном ми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ная для деревьев симметрия конуса хорошо видна на примере дер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конус"/>
          <p:cNvPicPr/>
          <p:nvPr/>
        </p:nvPicPr>
        <p:blipFill>
          <a:blip r:embed="rId1"/>
          <a:srcRect l="0" t="1819" r="0" b="5252"/>
          <a:stretch/>
        </p:blipFill>
        <p:spPr>
          <a:xfrm>
            <a:off x="2411280" y="3068640"/>
            <a:ext cx="2524320" cy="3543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Ель"/>
          <p:cNvPicPr/>
          <p:nvPr/>
        </p:nvPicPr>
        <p:blipFill>
          <a:blip r:embed="rId2"/>
          <a:stretch/>
        </p:blipFill>
        <p:spPr>
          <a:xfrm>
            <a:off x="4572000" y="1557360"/>
            <a:ext cx="41767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Симметрия в растительном ми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ногообразном мире цветов встречаются поворотные оси разных порядков. Однако наиболее распространена поворотная симметрия 5-го порядка. Эта симметрия встречается у цветов зверобоя, незабудки, гвоздики, колокольч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зверобой"/>
          <p:cNvPicPr/>
          <p:nvPr/>
        </p:nvPicPr>
        <p:blipFill>
          <a:blip r:embed="rId1"/>
          <a:srcRect l="0" t="0" r="0" b="1993"/>
          <a:stretch/>
        </p:blipFill>
        <p:spPr>
          <a:xfrm>
            <a:off x="468360" y="3716280"/>
            <a:ext cx="1009440" cy="1047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незабудка"/>
          <p:cNvPicPr/>
          <p:nvPr/>
        </p:nvPicPr>
        <p:blipFill>
          <a:blip r:embed="rId2"/>
          <a:stretch/>
        </p:blipFill>
        <p:spPr>
          <a:xfrm>
            <a:off x="1619280" y="4149720"/>
            <a:ext cx="2313000" cy="2451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Настурция"/>
          <p:cNvPicPr/>
          <p:nvPr/>
        </p:nvPicPr>
        <p:blipFill>
          <a:blip r:embed="rId3"/>
          <a:stretch/>
        </p:blipFill>
        <p:spPr>
          <a:xfrm>
            <a:off x="6877080" y="4265640"/>
            <a:ext cx="2592360" cy="259236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10"/>
          <p:cNvGrpSpPr/>
          <p:nvPr/>
        </p:nvGrpSpPr>
        <p:grpSpPr>
          <a:xfrm>
            <a:off x="4140360" y="4221000"/>
            <a:ext cx="2520720" cy="2347560"/>
            <a:chOff x="4140360" y="4221000"/>
            <a:chExt cx="2520720" cy="2347560"/>
          </a:xfrm>
        </p:grpSpPr>
        <p:sp>
          <p:nvSpPr>
            <p:cNvPr id="63" name="Oval 11"/>
            <p:cNvSpPr/>
            <p:nvPr/>
          </p:nvSpPr>
          <p:spPr>
            <a:xfrm rot="14520600">
              <a:off x="5785200" y="4305600"/>
              <a:ext cx="423720" cy="120600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0000"/>
                </a:gs>
                <a:gs pos="100000">
                  <a:srgbClr val="ffcccc"/>
                </a:gs>
              </a:gsLst>
              <a:lin ang="438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2"/>
            <p:cNvSpPr/>
            <p:nvPr/>
          </p:nvSpPr>
          <p:spPr>
            <a:xfrm rot="14575800">
              <a:off x="5791320" y="4305600"/>
              <a:ext cx="423720" cy="120600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0000"/>
                </a:gs>
                <a:gs pos="100000">
                  <a:srgbClr val="ffcccc"/>
                </a:gs>
              </a:gsLst>
              <a:lin ang="43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3"/>
            <p:cNvSpPr/>
            <p:nvPr/>
          </p:nvSpPr>
          <p:spPr>
            <a:xfrm rot="14520600">
              <a:off x="4640040" y="5206680"/>
              <a:ext cx="423720" cy="120600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0000"/>
                </a:gs>
                <a:gs pos="100000">
                  <a:srgbClr val="ffcccc"/>
                </a:gs>
              </a:gsLst>
              <a:lin ang="438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4"/>
            <p:cNvSpPr/>
            <p:nvPr/>
          </p:nvSpPr>
          <p:spPr>
            <a:xfrm>
              <a:off x="5180760" y="4221000"/>
              <a:ext cx="438480" cy="116496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0000"/>
                </a:gs>
                <a:gs pos="100000">
                  <a:srgbClr val="ffcc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5"/>
            <p:cNvSpPr/>
            <p:nvPr/>
          </p:nvSpPr>
          <p:spPr>
            <a:xfrm>
              <a:off x="5180760" y="5403600"/>
              <a:ext cx="438480" cy="116496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0000"/>
                </a:gs>
                <a:gs pos="100000">
                  <a:srgbClr val="ffcc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6"/>
            <p:cNvSpPr/>
            <p:nvPr/>
          </p:nvSpPr>
          <p:spPr>
            <a:xfrm rot="16200000">
              <a:off x="5846400" y="4783320"/>
              <a:ext cx="423360" cy="120600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0000"/>
                </a:gs>
                <a:gs pos="100000">
                  <a:srgbClr val="ffcc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7"/>
            <p:cNvSpPr/>
            <p:nvPr/>
          </p:nvSpPr>
          <p:spPr>
            <a:xfrm rot="16200000">
              <a:off x="4531680" y="4783320"/>
              <a:ext cx="423360" cy="120600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0000"/>
                </a:gs>
                <a:gs pos="100000">
                  <a:srgbClr val="ffcc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8"/>
            <p:cNvSpPr/>
            <p:nvPr/>
          </p:nvSpPr>
          <p:spPr>
            <a:xfrm rot="14575800">
              <a:off x="4645800" y="5206680"/>
              <a:ext cx="423720" cy="120600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0000"/>
                </a:gs>
                <a:gs pos="100000">
                  <a:srgbClr val="ffcccc"/>
                </a:gs>
              </a:gsLst>
              <a:lin ang="43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19"/>
            <p:cNvSpPr/>
            <p:nvPr/>
          </p:nvSpPr>
          <p:spPr>
            <a:xfrm rot="18477000">
              <a:off x="4591800" y="4247640"/>
              <a:ext cx="423360" cy="120564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0000"/>
                </a:gs>
                <a:gs pos="100000">
                  <a:srgbClr val="ffcccc"/>
                </a:gs>
              </a:gsLst>
              <a:lin ang="4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 rot="18477000">
              <a:off x="5791680" y="5259960"/>
              <a:ext cx="423720" cy="120600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0000"/>
                </a:gs>
                <a:gs pos="100000">
                  <a:srgbClr val="ffcccc"/>
                </a:gs>
              </a:gsLst>
              <a:lin ang="4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1"/>
            <p:cNvSpPr/>
            <p:nvPr/>
          </p:nvSpPr>
          <p:spPr>
            <a:xfrm>
              <a:off x="5072040" y="5121000"/>
              <a:ext cx="547200" cy="52848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3" descr="FLOW"/>
          <p:cNvPicPr/>
          <p:nvPr/>
        </p:nvPicPr>
        <p:blipFill>
          <a:blip r:embed="rId4"/>
          <a:stretch/>
        </p:blipFill>
        <p:spPr>
          <a:xfrm>
            <a:off x="6948360" y="3500280"/>
            <a:ext cx="187164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Симметрия в растительном ми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точки деревьев, кустарников и растений сочетают в себе зеркальную и переносную симметрию. Хорошо видна зеркальная и переносная симметрия у веточек акации, папоротника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акация"/>
          <p:cNvPicPr/>
          <p:nvPr/>
        </p:nvPicPr>
        <p:blipFill>
          <a:blip r:embed="rId1">
            <a:lum bright="-6000"/>
          </a:blip>
          <a:stretch/>
        </p:blipFill>
        <p:spPr>
          <a:xfrm rot="3081600">
            <a:off x="1961640" y="1482840"/>
            <a:ext cx="1028880" cy="2419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папортник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Симметрия в растительном ми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точки деревьев могут обладать скользящей осью симметрии. Веточка боярышника обладает скользящей осью симмет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боярышник"/>
          <p:cNvPicPr/>
          <p:nvPr/>
        </p:nvPicPr>
        <p:blipFill>
          <a:blip r:embed="rId1"/>
          <a:stretch/>
        </p:blipFill>
        <p:spPr>
          <a:xfrm rot="3317400">
            <a:off x="1196640" y="1187280"/>
            <a:ext cx="1636920" cy="324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FLOWER_"/>
          <p:cNvPicPr/>
          <p:nvPr/>
        </p:nvPicPr>
        <p:blipFill>
          <a:blip r:embed="rId2"/>
          <a:stretch/>
        </p:blipFill>
        <p:spPr>
          <a:xfrm>
            <a:off x="1619280" y="4221000"/>
            <a:ext cx="3241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имметрия в животном ми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евая симметрия хорошо видна у бабоч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бабочка Ходотова"/>
          <p:cNvPicPr/>
          <p:nvPr/>
        </p:nvPicPr>
        <p:blipFill>
          <a:blip r:embed="rId1"/>
          <a:stretch/>
        </p:blipFill>
        <p:spPr>
          <a:xfrm>
            <a:off x="5076720" y="1484280"/>
            <a:ext cx="2959200" cy="2185920"/>
          </a:xfrm>
          <a:prstGeom prst="rect">
            <a:avLst/>
          </a:prstGeom>
          <a:ln w="0">
            <a:noFill/>
          </a:ln>
        </p:spPr>
      </p:pic>
      <p:sp>
        <p:nvSpPr>
          <p:cNvPr id="86" name="Line 10"/>
          <p:cNvSpPr/>
          <p:nvPr/>
        </p:nvSpPr>
        <p:spPr>
          <a:xfrm>
            <a:off x="6659640" y="1125360"/>
            <a:ext cx="0" cy="280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Бабочка Бочкарева"/>
          <p:cNvPicPr/>
          <p:nvPr/>
        </p:nvPicPr>
        <p:blipFill>
          <a:blip r:embed="rId2"/>
          <a:stretch/>
        </p:blipFill>
        <p:spPr>
          <a:xfrm>
            <a:off x="1397160" y="1600200"/>
            <a:ext cx="2157120" cy="2185920"/>
          </a:xfrm>
          <a:prstGeom prst="rect">
            <a:avLst/>
          </a:prstGeom>
          <a:ln w="0">
            <a:noFill/>
          </a:ln>
        </p:spPr>
      </p:pic>
      <p:sp>
        <p:nvSpPr>
          <p:cNvPr id="88" name="Line 13"/>
          <p:cNvSpPr/>
          <p:nvPr/>
        </p:nvSpPr>
        <p:spPr>
          <a:xfrm>
            <a:off x="2484360" y="1341360"/>
            <a:ext cx="0" cy="280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имметрия в животном ми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сказать, что каждое животное, насекомое, рыба, птица состоит из правой и левой половин . Симметричность формы необходима рыбе, чтобы плыть, птице, чтобы летать, животному, чтобы бежать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птица2"/>
          <p:cNvPicPr/>
          <p:nvPr/>
        </p:nvPicPr>
        <p:blipFill>
          <a:blip r:embed="rId1"/>
          <a:stretch/>
        </p:blipFill>
        <p:spPr>
          <a:xfrm>
            <a:off x="611280" y="4076640"/>
            <a:ext cx="3328920" cy="2187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скат"/>
          <p:cNvPicPr/>
          <p:nvPr/>
        </p:nvPicPr>
        <p:blipFill>
          <a:blip r:embed="rId2"/>
          <a:stretch/>
        </p:blipFill>
        <p:spPr>
          <a:xfrm>
            <a:off x="5292720" y="4005360"/>
            <a:ext cx="2362320" cy="2361960"/>
          </a:xfrm>
          <a:prstGeom prst="rect">
            <a:avLst/>
          </a:prstGeom>
          <a:ln w="0">
            <a:noFill/>
          </a:ln>
        </p:spPr>
      </p:pic>
      <p:sp>
        <p:nvSpPr>
          <p:cNvPr id="93" name="Line 8"/>
          <p:cNvSpPr/>
          <p:nvPr/>
        </p:nvSpPr>
        <p:spPr>
          <a:xfrm>
            <a:off x="2124000" y="4049640"/>
            <a:ext cx="0" cy="280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6443640" y="3716280"/>
            <a:ext cx="0" cy="280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имметрия в неживой природ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ая снежинка – это маленький кристалл замерзшей воды. Форма снежинок может быть очень разнообразной, но все они обладают симметрией – поворотной симметрией шестого порядка и зеркальной симметрией. У природных снежинок всегда шесть осей сим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snowflake2"/>
          <p:cNvPicPr/>
          <p:nvPr/>
        </p:nvPicPr>
        <p:blipFill>
          <a:blip r:embed="rId1"/>
          <a:stretch/>
        </p:blipFill>
        <p:spPr>
          <a:xfrm>
            <a:off x="539640" y="4149720"/>
            <a:ext cx="2162160" cy="2025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snowflake"/>
          <p:cNvPicPr/>
          <p:nvPr/>
        </p:nvPicPr>
        <p:blipFill>
          <a:blip r:embed="rId2"/>
          <a:stretch/>
        </p:blipFill>
        <p:spPr>
          <a:xfrm>
            <a:off x="3492360" y="3357720"/>
            <a:ext cx="2105280" cy="203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snowcrystal"/>
          <p:cNvPicPr/>
          <p:nvPr/>
        </p:nvPicPr>
        <p:blipFill>
          <a:blip r:embed="rId3"/>
          <a:stretch/>
        </p:blipFill>
        <p:spPr>
          <a:xfrm>
            <a:off x="6372360" y="4076640"/>
            <a:ext cx="2089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04:18:30Z</dcterms:created>
  <dc:creator>olga_ermishko</dc:creator>
  <dc:description/>
  <dc:language>en-US</dc:language>
  <cp:lastModifiedBy>Валентина</cp:lastModifiedBy>
  <dcterms:modified xsi:type="dcterms:W3CDTF">2015-04-10T16:50:41Z</dcterms:modified>
  <cp:revision>26</cp:revision>
  <dc:subject>презентация</dc:subject>
  <dc:title>Симметрия в природе</dc:title>
</cp:coreProperties>
</file>