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BD78-4740-4187-A097-048DDD89F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29A4-6ED7-4202-9B0E-247879E71B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7B6-63CB-41E1-91A3-43206801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45C-4C68-4856-9106-18E5C72A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B34-3374-4726-8376-90DA86B3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C5B-3447-4D79-98BB-AF065F42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ADE-E604-4EEF-9373-05AA368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A6A-570B-4DF1-A772-6BFC338D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799-CA67-4173-BDBB-5C5A0EA3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336-4BD6-44E8-A827-8892660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930-6C57-4352-8769-7146D7A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5B5-C4D2-41FC-BE9D-4760184D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1AD-8625-4710-B021-C04F166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8A2-3CD7-400E-982D-CF82DFE4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11F6-1692-425A-AA3F-02B4D8336A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9E9-FECE-4289-9FB3-D0D1B4711A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393400" cy="3206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708840" y="4713480"/>
            <a:ext cx="528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читель истории и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КОУ Берез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Шустваль Л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A4B1-2D58-4349-8174-3EAFAFEC1A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525D-4C80-4612-BFED-ECDA52922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efa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387360" y="981000"/>
            <a:ext cx="860436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новной результат – развитие лич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нове 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763640" y="2276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педагогическая задач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и организация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ирующих детск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54200" y="3429000"/>
            <a:ext cx="774036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50920" y="4149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3419640" y="414972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"/>
          <p:cNvSpPr/>
          <p:nvPr/>
        </p:nvSpPr>
        <p:spPr>
          <a:xfrm>
            <a:off x="6572160" y="4149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1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Уметь учиться – это значит уметь выполнять и рефлектировать деятельность учения.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Ученик должен осознать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: </a:t>
            </a: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«Я знаю, что я умею это делать и знаю, как это делать».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4653360"/>
            <a:ext cx="7937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66"/>
                </a:solidFill>
                <a:latin typeface="Calibri"/>
              </a:rPr>
              <a:t>В учебной деятельности пребывают учащиеся, а не педагог.</a:t>
            </a:r>
            <a:r>
              <a:rPr b="0" lang="ru-RU" sz="35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4B6-CE81-4110-8CBC-78DD77C3B0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2809800" cy="37368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611-1EDB-4ACD-A846-994C34814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5238720" y="789120"/>
            <a:ext cx="3643200" cy="50004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5257800" y="1563840"/>
            <a:ext cx="3633840" cy="56196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непреры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5257800" y="2421000"/>
            <a:ext cx="364320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цело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5257800" y="3284640"/>
            <a:ext cx="364320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b7931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миним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5257800" y="4149720"/>
            <a:ext cx="3643200" cy="57168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270400" y="5027760"/>
            <a:ext cx="3643560" cy="57132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вари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5253120" y="5959440"/>
            <a:ext cx="3643200" cy="571680"/>
          </a:xfrm>
          <a:prstGeom prst="rect">
            <a:avLst/>
          </a:prstGeom>
          <a:solidFill>
            <a:srgbClr val="faf2d4"/>
          </a:solidFill>
          <a:ln w="10080">
            <a:solidFill>
              <a:srgbClr val="f1d77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>
            <a:endCxn id="101" idx="1"/>
          </p:cNvCxnSpPr>
          <p:nvPr/>
        </p:nvCxnSpPr>
        <p:spPr>
          <a:xfrm flipV="1">
            <a:off x="2946240" y="1037880"/>
            <a:ext cx="2293200" cy="267552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09" name="Прямая со стрелкой 18"/>
          <p:cNvCxnSpPr/>
          <p:nvPr/>
        </p:nvCxnSpPr>
        <p:spPr>
          <a:xfrm flipV="1">
            <a:off x="2945880" y="1998360"/>
            <a:ext cx="2351880" cy="171504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0" name="Прямая со стрелкой 24"/>
          <p:cNvCxnSpPr/>
          <p:nvPr/>
        </p:nvCxnSpPr>
        <p:spPr>
          <a:xfrm flipV="1">
            <a:off x="2963880" y="2855520"/>
            <a:ext cx="2334240" cy="86760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1" name="Прямая со стрелкой 26"/>
          <p:cNvCxnSpPr/>
          <p:nvPr/>
        </p:nvCxnSpPr>
        <p:spPr>
          <a:xfrm flipV="1">
            <a:off x="2906640" y="3712680"/>
            <a:ext cx="2332800" cy="1656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2" name="Прямая со стрелкой 29"/>
          <p:cNvCxnSpPr/>
          <p:nvPr/>
        </p:nvCxnSpPr>
        <p:spPr>
          <a:xfrm>
            <a:off x="2922480" y="3744720"/>
            <a:ext cx="2316960" cy="83700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3" name="Прямая со стрелкой 33"/>
          <p:cNvCxnSpPr/>
          <p:nvPr/>
        </p:nvCxnSpPr>
        <p:spPr>
          <a:xfrm>
            <a:off x="2925360" y="3730320"/>
            <a:ext cx="2313720" cy="178668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cxnSp>
        <p:nvCxnSpPr>
          <p:cNvPr id="114" name="Прямая со стрелкой 35"/>
          <p:cNvCxnSpPr/>
          <p:nvPr/>
        </p:nvCxnSpPr>
        <p:spPr>
          <a:xfrm>
            <a:off x="2954160" y="3774960"/>
            <a:ext cx="2285280" cy="2679120"/>
          </a:xfrm>
          <a:prstGeom prst="straightConnector1">
            <a:avLst/>
          </a:prstGeom>
          <a:ln w="25560">
            <a:solidFill>
              <a:srgbClr val="e7bc29"/>
            </a:solidFill>
            <a:miter/>
            <a:tailEnd len="med" type="arrow" w="med"/>
          </a:ln>
        </p:spPr>
      </p:cxnSp>
      <p:sp>
        <p:nvSpPr>
          <p:cNvPr id="115" name="Rectangle 21"/>
          <p:cNvSpPr/>
          <p:nvPr/>
        </p:nvSpPr>
        <p:spPr>
          <a:xfrm>
            <a:off x="1835280" y="35928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нципы построения обучения в СД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C77-B334-46F4-8039-4CCDE2D568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8CAA-3471-4731-AA3A-EC57E8934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5" descr=""/>
          <p:cNvPicPr/>
          <p:nvPr/>
        </p:nvPicPr>
        <p:blipFill>
          <a:blip r:embed="rId1"/>
          <a:stretch/>
        </p:blipFill>
        <p:spPr>
          <a:xfrm>
            <a:off x="1798560" y="158760"/>
            <a:ext cx="6523200" cy="1279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345960" y="1628640"/>
            <a:ext cx="8569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обеспечивает передачу детям культурных ценностей общества в соответствии с основными дидактическими требованиями традиционной школы (принципы наглядности, доступности, преемственности, активности, сознательного усвоения знаний, научности и др.)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345960" y="378936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не отвергает традиционную дидактику, а продолжает и развивает ее в направлении реализации современных образовательных целей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5960" y="5013360"/>
            <a:ext cx="8209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является механизмом разноуровневого обучения, обеспечивая возможность выбора каждым учеником индивидуальной образовательной траектор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7F3C-EDC7-4787-B476-90EC8092E2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53C-8D41-4C26-8CB9-F2B69D3D9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5" descr=""/>
          <p:cNvPicPr/>
          <p:nvPr/>
        </p:nvPicPr>
        <p:blipFill>
          <a:blip r:embed="rId1"/>
          <a:stretch/>
        </p:blipFill>
        <p:spPr>
          <a:xfrm>
            <a:off x="1755720" y="103320"/>
            <a:ext cx="7332840" cy="26463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7"/>
          <p:cNvSpPr/>
          <p:nvPr/>
        </p:nvSpPr>
        <p:spPr>
          <a:xfrm>
            <a:off x="395280" y="1773360"/>
            <a:ext cx="83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Для того, чтобы знания обучающихся были результатом их собственных поисков, необходимо организовать эти поиски, управлять, развивать их познавательную дея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395280" y="3500280"/>
            <a:ext cx="842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Вместо простой передачи знаний, умений, навыков от учителя к ученику приоритетной целью школьного образования становится развитие способности ученика самостоятельно ставить учебные цели, проектировать пути их реализации, контролировать и оценивать свои достижения, иначе говоря, умение уч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91440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Обучать деятельности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 значит делать учение мотивированным, учить ученика оптимально организовывать свою деятельность, помогать сформировать умение контроля и самоконтроля, оценки и самооценки. Учитель не должен просто «натренировывать» ученика в выполнении каких-то приемов, операций - эти операции должны быть осмыслены и приняты учеником, в идеале - он должен находить свои способы дейст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45D-D64E-4277-BC7F-659BE9F41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5840" y="1071720"/>
          <a:ext cx="8569080" cy="529740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Традиционн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Иннов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46c0a"/>
                          </a:solidFill>
                          <a:latin typeface="Times New Roman"/>
                          <a:ea typeface="Times New Roman"/>
                        </a:rPr>
                        <a:t>развивающе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зируется на принципе доступ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) опирается на зону ближайшего развит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учащийся выступает в роли объекта П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) учащийся действует как субъект собственной УД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ориентировано на усвоение определенной суммы знани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) нацелено на усвоение способов познания как конечной цели у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развивает обыденное мышление, эмпир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) развивает теоретическое мышление и теоретический способ по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решая конкретно-практические задачи, учащиеся усваивают частные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) на первый план выступают учебные задачи, решая их учащиеся, усваивают общие способы ум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в результате формируется индивид – человек, способный к исполнительск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) формируется личность, способная к самостоятельной твор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2" descr=""/>
          <p:cNvPicPr/>
          <p:nvPr/>
        </p:nvPicPr>
        <p:blipFill>
          <a:blip r:embed="rId1"/>
          <a:stretch/>
        </p:blipFill>
        <p:spPr>
          <a:xfrm>
            <a:off x="1468440" y="1042920"/>
            <a:ext cx="1030320" cy="48085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068720" y="2252520"/>
            <a:ext cx="442908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, основанная на создании учеб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4068720" y="3535200"/>
            <a:ext cx="4429080" cy="78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 проект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4092480" y="4797360"/>
            <a:ext cx="442908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Технология, основанная на уровневой дифференциац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8"/>
          <p:cNvCxnSpPr>
            <a:stCxn id="130" idx="3"/>
            <a:endCxn id="131" idx="1"/>
          </p:cNvCxnSpPr>
          <p:nvPr/>
        </p:nvCxnSpPr>
        <p:spPr>
          <a:xfrm flipV="1">
            <a:off x="2338560" y="2609640"/>
            <a:ext cx="1730880" cy="838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5" name="Прямая со стрелкой 13"/>
          <p:cNvCxnSpPr>
            <a:stCxn id="130" idx="3"/>
            <a:endCxn id="132" idx="1"/>
          </p:cNvCxnSpPr>
          <p:nvPr/>
        </p:nvCxnSpPr>
        <p:spPr>
          <a:xfrm>
            <a:off x="2338560" y="3448080"/>
            <a:ext cx="1730880" cy="4816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6" name="Прямая со стрелкой 15"/>
          <p:cNvCxnSpPr>
            <a:stCxn id="130" idx="3"/>
            <a:endCxn id="133" idx="1"/>
          </p:cNvCxnSpPr>
          <p:nvPr/>
        </p:nvCxnSpPr>
        <p:spPr>
          <a:xfrm>
            <a:off x="2338560" y="3447720"/>
            <a:ext cx="1754640" cy="18500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37" name="Прямоугольник 23"/>
          <p:cNvSpPr/>
          <p:nvPr/>
        </p:nvSpPr>
        <p:spPr>
          <a:xfrm>
            <a:off x="4140360" y="1000080"/>
            <a:ext cx="4357440" cy="71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Информационные и коммуника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8"/>
          <p:cNvCxnSpPr>
            <a:stCxn id="130" idx="3"/>
          </p:cNvCxnSpPr>
          <p:nvPr/>
        </p:nvCxnSpPr>
        <p:spPr>
          <a:xfrm flipV="1">
            <a:off x="2338200" y="1483560"/>
            <a:ext cx="1802520" cy="196452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22A4-BADA-427E-A447-1A95A35958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7F9-2BC2-486B-8923-1117465E8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557360"/>
          <a:ext cx="8734680" cy="4967280"/>
        </p:xfrm>
        <a:graphic>
          <a:graphicData uri="http://schemas.openxmlformats.org/drawingml/2006/table">
            <a:tbl>
              <a:tblPr/>
              <a:tblGrid>
                <a:gridCol w="3384720"/>
                <a:gridCol w="53499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ющая рол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ивация к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здают условия для возникновения у ученика внутренней потребности включения в деятельность («хочу») и выделения содержательной области («могу»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и фиксация индивидуального затруднения в пробном действ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одготовку учащихся к самостоятельному выполнению пробного учебного действия:                                                                                            1) актуализацию знаний, умений и навыков, достаточных для построения нового способа действий;                                                                                              2) тренировку соответствующих мыслительных операций. В завершении этапа создается затруднение в индивидуальной деятельности учащимися, которое фиксируется ими сам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9"/>
          <p:cNvSpPr/>
          <p:nvPr/>
        </p:nvSpPr>
        <p:spPr>
          <a:xfrm>
            <a:off x="1692360" y="47628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Технология деятельностного метод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едполагает следующую  последовательность шагов на уро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762-5D3E-4E5F-B900-B6C34BC29E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9296-CD43-4535-80E5-3AD3F62E6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1557360"/>
          <a:ext cx="8229600" cy="4389480"/>
        </p:xfrm>
        <a:graphic>
          <a:graphicData uri="http://schemas.openxmlformats.org/drawingml/2006/table">
            <a:tbl>
              <a:tblPr/>
              <a:tblGrid>
                <a:gridCol w="3240000"/>
                <a:gridCol w="49896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троение проекта выхода из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роцесс открытия нового знания, где учащиеся в коммуникативной форме обдумывают проект будущих учебных действий: ставят цель, строят план достижения цели, выбирают метод разрешения проблемной ситу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ализация построенн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: обсуждение различных вариантов, предложенных учащимися;  выбор оптимального варианта, который фиксируется вербально и знаково. Уточняет характер нового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вичное закрепление с проговариванием во внешне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усвоение учениками нового способа действий при решении типовых задач с их проговариванием (фронтально, в парах или группа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000066"/>
                </a:solidFill>
                <a:latin typeface="Calibri"/>
              </a:rPr>
              <a:t>«Человек достигнет результата, только делая что-то сам...»</a:t>
            </a:r>
            <a:r>
              <a:rPr b="0" lang="ru-RU" sz="5100" spc="-1" strike="noStrike">
                <a:solidFill>
                  <a:srgbClr val="000066"/>
                </a:solidFill>
                <a:latin typeface="Calibri"/>
              </a:rPr>
              <a:t> </a:t>
            </a:r>
            <a:br>
              <a:rPr sz="5100"/>
            </a:b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(Александр Пятигорский, всемирно известный русский филосо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FE55-B6A8-464A-9C8A-10F7559F02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19C-8630-451D-9A59-7DE0AF124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1628640"/>
          <a:ext cx="8543880" cy="4846680"/>
        </p:xfrm>
        <a:graphic>
          <a:graphicData uri="http://schemas.openxmlformats.org/drawingml/2006/table">
            <a:tbl>
              <a:tblPr/>
              <a:tblGrid>
                <a:gridCol w="3024000"/>
                <a:gridCol w="5519880"/>
              </a:tblGrid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и фиксация индивидуального затруднения в пробном действ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подготовку учащихся к самостоятельному выполнению пробного учебного действия:                                                1) актуализацию знаний, умений и навыков, достаточных для построения нового способа действий;                                                                                                      2) тренировку соответствующих мыслительных операций. В завершении этапа создается затруднение в индивидуальной деятельности учащимися, которое фиксируется ими сам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явление места и причины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выявление учащимися места и причины затруднения:                                                                                                   1) организовывается восстановление выполненных операций и фиксация места, шага, где возникло затруднение;                                                                                                          2) выявление причины затруднения- каких конкретно знаний, умений не хватает для решения исходной задачи такого класса или ти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24000" y="1557360"/>
          <a:ext cx="8516880" cy="4937040"/>
        </p:xfrm>
        <a:graphic>
          <a:graphicData uri="http://schemas.openxmlformats.org/drawingml/2006/table">
            <a:tbl>
              <a:tblPr/>
              <a:tblGrid>
                <a:gridCol w="4259160"/>
                <a:gridCol w="425772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самопроверкой по этал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самостоятельное выполнение учащимися задания на новый способ действия и самопроверку на основе сопоставления с эталоном. Создает, по возможности, для каждого ученика ситуацию успех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ключение в систему знаний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выявление границ применения нового знания, повторение учебного содержания, необходимого для обеспечения содержательной непреры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флексия учеб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ует оценивание учащимися собственной деятельности, фиксирование неразрешённых затруднений на уроке как направления будущей учебной деятельности, обсуждение и запись домашнего зада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EFC-AF71-4772-BBA4-A61769A5E7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B06-C203-403B-93DF-03E1BEA42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D61-1845-41C6-9EE8-57AC367802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3B1C-1F6A-4D68-80F4-FB09C0B10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6" descr=""/>
          <p:cNvPicPr/>
          <p:nvPr/>
        </p:nvPicPr>
        <p:blipFill>
          <a:blip r:embed="rId1"/>
          <a:stretch/>
        </p:blipFill>
        <p:spPr>
          <a:xfrm>
            <a:off x="36360" y="1517760"/>
            <a:ext cx="6467760" cy="51512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7" descr=""/>
          <p:cNvPicPr/>
          <p:nvPr/>
        </p:nvPicPr>
        <p:blipFill>
          <a:blip r:embed="rId2"/>
          <a:stretch/>
        </p:blipFill>
        <p:spPr>
          <a:xfrm>
            <a:off x="-6480" y="146160"/>
            <a:ext cx="9156960" cy="1334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6875640" y="3849840"/>
            <a:ext cx="214596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5EEA-0746-40C2-8B7F-64CE1D0101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4"/>
          <p:cNvSpPr/>
          <p:nvPr/>
        </p:nvSpPr>
        <p:spPr>
          <a:xfrm>
            <a:off x="46432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6F4-FDC0-41C0-A37D-1343DEB5E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Прямоугольник 5" descr=""/>
          <p:cNvPicPr/>
          <p:nvPr/>
        </p:nvPicPr>
        <p:blipFill>
          <a:blip r:embed="rId1"/>
          <a:stretch/>
        </p:blipFill>
        <p:spPr>
          <a:xfrm>
            <a:off x="1725480" y="506520"/>
            <a:ext cx="7137360" cy="1444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324000" y="25246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положительный настр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девиз, эпиграф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притч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 проблемный вопро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рассказ о реальных событ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3DC-2084-4FDF-919A-2121ABFE52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0CE-3E53-4B0C-864B-1131AB809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6" descr=""/>
          <p:cNvPicPr/>
          <p:nvPr/>
        </p:nvPicPr>
        <p:blipFill>
          <a:blip r:embed="rId1"/>
          <a:stretch/>
        </p:blipFill>
        <p:spPr>
          <a:xfrm>
            <a:off x="1755720" y="85680"/>
            <a:ext cx="7321680" cy="1444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971640" y="191628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ановка целей и задач урока  выражается в дидактических категориях «знать», «уметь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"/>
          <p:cNvSpPr/>
          <p:nvPr/>
        </p:nvSpPr>
        <p:spPr>
          <a:xfrm>
            <a:off x="826920" y="3068640"/>
            <a:ext cx="7201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емы, используемые на стадии вызова ТРКМ - «Я уже знаю», «Ключевые слова», «Кластер». «Сброс идей в корзину», «Лови ошибку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785880" y="4714920"/>
            <a:ext cx="89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хнология «Ассоциативный ряд».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857160" y="5286240"/>
            <a:ext cx="621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«Верю - не верю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9C9-4613-4717-9DBB-D967B93D5F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B6F7-0165-4BD9-A0D6-01EA05BE5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5" descr=""/>
          <p:cNvPicPr/>
          <p:nvPr/>
        </p:nvPicPr>
        <p:blipFill>
          <a:blip r:embed="rId1"/>
          <a:stretch/>
        </p:blipFill>
        <p:spPr>
          <a:xfrm>
            <a:off x="2127240" y="176040"/>
            <a:ext cx="7023240" cy="1103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826920" y="1303200"/>
            <a:ext cx="885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ются частично-поисковые, проблемные методы, которые позволяют обуча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Прямоугольник 7" descr=""/>
          <p:cNvPicPr/>
          <p:nvPr/>
        </p:nvPicPr>
        <p:blipFill>
          <a:blip r:embed="rId2"/>
          <a:stretch/>
        </p:blipFill>
        <p:spPr>
          <a:xfrm>
            <a:off x="176040" y="2073240"/>
            <a:ext cx="90838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047-93B8-4DC8-8F07-F5261362A0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28C-76C9-4DDF-A3C7-0E207091E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0" y="1928880"/>
            <a:ext cx="914400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емы «Пометки на полях», «Плюс и мин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этого приема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оказать неоднозначность любого общественного и исторического явле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и предложения» (передать содержание 3-я предложениями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5C9-DFA7-4421-96B2-D1F9A260B3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3EE-9A42-4E13-8068-E8B1A1DF2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2126160"/>
            <a:ext cx="59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репетно, нежно, заботливо, лас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 каждым ребенком с открытой душ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, что умеем, знаем и мож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сто отдали и в сердце больш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сто найдется для каждо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ждого нужно увидеть, раскр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ем нам желаю всего наилучш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всегда нам хотелось уч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Лиза\Desktop\Фото уроки\фото классы\P24-01-13_10.55.jpg"/>
          <p:cNvPicPr/>
          <p:nvPr/>
        </p:nvPicPr>
        <p:blipFill>
          <a:blip r:embed="rId1"/>
          <a:stretch/>
        </p:blipFill>
        <p:spPr>
          <a:xfrm>
            <a:off x="5956200" y="1357200"/>
            <a:ext cx="2376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"/>
          <p:cNvPicPr/>
          <p:nvPr/>
        </p:nvPicPr>
        <p:blipFill>
          <a:blip r:embed="rId1"/>
          <a:stretch/>
        </p:blipFill>
        <p:spPr>
          <a:xfrm rot="1171800">
            <a:off x="5866920" y="90792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4"/>
          <p:cNvPicPr/>
          <p:nvPr/>
        </p:nvPicPr>
        <p:blipFill>
          <a:blip r:embed="rId2"/>
          <a:stretch/>
        </p:blipFill>
        <p:spPr>
          <a:xfrm>
            <a:off x="1835280" y="3284640"/>
            <a:ext cx="5905440" cy="33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5"/>
          <p:cNvPicPr/>
          <p:nvPr/>
        </p:nvPicPr>
        <p:blipFill>
          <a:blip r:embed="rId3"/>
          <a:stretch/>
        </p:blipFill>
        <p:spPr>
          <a:xfrm>
            <a:off x="3203640" y="907920"/>
            <a:ext cx="230508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"/>
          <p:cNvPicPr/>
          <p:nvPr/>
        </p:nvPicPr>
        <p:blipFill>
          <a:blip r:embed="rId4"/>
          <a:stretch/>
        </p:blipFill>
        <p:spPr>
          <a:xfrm rot="19749600">
            <a:off x="395280" y="1125000"/>
            <a:ext cx="2448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564-7F32-4775-BCB7-A11CA0AAFC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9C50-427C-41DF-B24C-8CAF4E53E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87280" y="1125360"/>
            <a:ext cx="88567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«В основе построения содержания федерального государственного образовательного стандарта общего образования лежит системно-деятельностный подход , который предполагает: воспитание и развитие качеств личности, отвечающих требованиям информационного общества , инновационной экономики, задачам построения демократического гражданского общества, толерантности, диалога культур и уважения многонационального, поликультурного и поликонфессиального состава российского общества…»</a:t>
            </a: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(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 стандарта общего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FDD-1190-4C12-B92F-574F3D0BA4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56C-2C5F-4E42-999D-62F127C31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9200" y="347760"/>
            <a:ext cx="2249640" cy="5370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2627280" y="549360"/>
            <a:ext cx="61563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едений науки не следует сообщать учащемуся, но его надо привести к тому, чтобы он сам их находил, самодеятельно ими овладевал. Такой метод обучения наилучший, самый трудный, самый редкий. Трудностью объясняется редкость его применения. Изложение, считывание, диктовка против него детская заба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 Дистервег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мецкий педагог-демократ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X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дователь Песталоц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02AA-1EE6-42F4-8AEF-070D9DFE9A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56C-8344-4752-93A0-4C841DD9B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24000" y="1484280"/>
            <a:ext cx="855792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Известный психолог Леонтьев говорил, что человеческая жизнь-это “система сменяющих друг друга деятельностей”. Процесс обучения как передача информации от учителя к ученику, считают психологи, противоречит самой природе человека – только через собственную деятельность каждый познает мир.</a:t>
            </a:r>
            <a:r>
              <a:rPr b="1" lang="ru-RU" sz="2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A34A-FF49-4DB0-B153-3A6C1E2A22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4F0-B900-4447-ABCF-AD85836D7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786120" y="1857240"/>
            <a:ext cx="153360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"/>
          <p:cNvPicPr/>
          <p:nvPr/>
        </p:nvPicPr>
        <p:blipFill>
          <a:blip r:embed="rId3"/>
          <a:stretch/>
        </p:blipFill>
        <p:spPr>
          <a:xfrm>
            <a:off x="6732720" y="185112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"/>
          <p:cNvPicPr/>
          <p:nvPr/>
        </p:nvPicPr>
        <p:blipFill>
          <a:blip r:embed="rId4"/>
          <a:stretch/>
        </p:blipFill>
        <p:spPr>
          <a:xfrm>
            <a:off x="2071800" y="42861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"/>
          <p:cNvPicPr/>
          <p:nvPr/>
        </p:nvPicPr>
        <p:blipFill>
          <a:blip r:embed="rId5"/>
          <a:stretch/>
        </p:blipFill>
        <p:spPr>
          <a:xfrm>
            <a:off x="5624640" y="4357800"/>
            <a:ext cx="1857240" cy="1695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42960" y="39290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967200" y="392904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Н. Леонть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765840" y="39290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.Б. Эльк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2000160" y="621504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.Я. Гальпе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760" y="621504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В. Давы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4" descr=""/>
          <p:cNvPicPr/>
          <p:nvPr/>
        </p:nvPicPr>
        <p:blipFill>
          <a:blip r:embed="rId6"/>
          <a:stretch/>
        </p:blipFill>
        <p:spPr>
          <a:xfrm>
            <a:off x="1536840" y="195120"/>
            <a:ext cx="7441920" cy="1103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2317680" y="4240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D8D-CB33-4625-9875-55FA8D50BFB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FE1A-9C8E-4F99-A62F-845832B00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524480" cy="295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79280" y="287280"/>
            <a:ext cx="2089080" cy="249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Лиза\Desktop\Фото уроки\фото классы\P24-01-13_10.55[1].jpg"/>
          <p:cNvPicPr/>
          <p:nvPr/>
        </p:nvPicPr>
        <p:blipFill>
          <a:blip r:embed="rId3"/>
          <a:stretch/>
        </p:blipFill>
        <p:spPr>
          <a:xfrm>
            <a:off x="4716360" y="3786120"/>
            <a:ext cx="4427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08960" cy="2981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1258920" y="2781000"/>
            <a:ext cx="662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личностные</a:t>
            </a:r>
            <a:r>
              <a:rPr b="1" lang="ru-RU" sz="4000" spc="-1" strike="noStrike">
                <a:solidFill>
                  <a:srgbClr val="d3683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регулятивные</a:t>
            </a:r>
            <a:r>
              <a:rPr b="1" lang="ru-RU" sz="4000" spc="-1" strike="noStrike">
                <a:solidFill>
                  <a:srgbClr val="d3683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познава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3683d"/>
                </a:solidFill>
                <a:uFillTx/>
                <a:latin typeface="Arial"/>
              </a:rPr>
              <a:t>коммуникатив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41:22Z</dcterms:created>
  <dc:creator>USER</dc:creator>
  <dc:description>http://aida.ucoz.ru</dc:description>
  <dc:language>en-US</dc:language>
  <cp:lastModifiedBy>Пользователь Windows</cp:lastModifiedBy>
  <dcterms:modified xsi:type="dcterms:W3CDTF">2015-04-14T22:17:37Z</dcterms:modified>
  <cp:revision>183</cp:revision>
  <dc:subject/>
  <dc:title>Слайд 1</dc:title>
</cp:coreProperties>
</file>