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99D1-2E4E-45AD-9FE1-EFAB92D2B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D43-B222-47F5-9F06-44CC452D6C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28A-720E-4B70-90D6-580F4054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6FB-B221-46B9-A807-9A758525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A20-79E4-4589-8B99-E9BE545A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DAB-D0F0-476C-9EB3-E9DCBED2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7E4-F117-4E8B-9A52-D082E77B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720-28E2-4E44-8FAB-8ABA27E4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C09-33FB-4AD7-8F3D-6218F713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8B7-D8A2-48F0-9386-2084FAF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562-CE3C-4145-BF40-012DA2F5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EDD-408B-494B-91DA-57888F5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9B5-A0CC-4937-A5D4-16E92E3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578-CFDF-4B5D-856C-1F71C92B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3B84-1604-4996-8C75-7B263023FA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585B-052E-4DD5-AC1B-BD1D02B64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393400" cy="3206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708840" y="4713480"/>
            <a:ext cx="528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читель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КОУ Берез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Шустваль Л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196-22AC-4F3B-A4AA-6F70C1F2D0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DC9E-02A0-49E3-9A65-81B1B23F3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efa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387360" y="981000"/>
            <a:ext cx="8604360" cy="1224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новной результат – развитие лич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основе  универсальных 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763640" y="2276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педагогическая задач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и организация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ициирующих детск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54200" y="3429000"/>
            <a:ext cx="774036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50920" y="4149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3419640" y="414972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6572160" y="4149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61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Уметь учиться – это значит уметь выполнять и рефлектировать деятельность учения.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Calibri"/>
              </a:rPr>
              <a:t>Ученик должен осознать</a:t>
            </a:r>
            <a:r>
              <a:rPr b="0" lang="ru-RU" sz="3500" spc="-1" strike="noStrike">
                <a:solidFill>
                  <a:srgbClr val="000066"/>
                </a:solidFill>
                <a:latin typeface="Calibri"/>
              </a:rPr>
              <a:t>: </a:t>
            </a:r>
            <a:r>
              <a:rPr b="1" lang="ru-RU" sz="3500" spc="-1" strike="noStrike">
                <a:solidFill>
                  <a:srgbClr val="000066"/>
                </a:solidFill>
                <a:latin typeface="Calibri"/>
              </a:rPr>
              <a:t>«Я знаю, что я умею это делать и знаю, как это делать».</a:t>
            </a:r>
            <a:r>
              <a:rPr b="0" lang="ru-RU" sz="35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4653360"/>
            <a:ext cx="793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Calibri"/>
              </a:rPr>
              <a:t>В учебной деятельности пребывают учащиеся, а не педагог.</a:t>
            </a:r>
            <a:r>
              <a:rPr b="0" lang="ru-RU" sz="35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3CFD-FBA9-48A3-A6FE-A2EC937A63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2809800" cy="37368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8355-45A0-44C9-B91D-6B5BA8CAF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5238720" y="789120"/>
            <a:ext cx="3643200" cy="50004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5257800" y="1563840"/>
            <a:ext cx="3633840" cy="56196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непреры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5257800" y="2421000"/>
            <a:ext cx="3643200" cy="57132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цело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5257800" y="3284640"/>
            <a:ext cx="3643200" cy="57132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миним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5257800" y="4149720"/>
            <a:ext cx="3643200" cy="571680"/>
          </a:xfrm>
          <a:prstGeom prst="rect">
            <a:avLst/>
          </a:prstGeom>
          <a:solidFill>
            <a:srgbClr val="faf2d4"/>
          </a:solidFill>
          <a:ln w="10080">
            <a:solidFill>
              <a:srgbClr val="f1d77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психологической комфор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270400" y="5027760"/>
            <a:ext cx="3643560" cy="571320"/>
          </a:xfrm>
          <a:prstGeom prst="rect">
            <a:avLst/>
          </a:prstGeom>
          <a:solidFill>
            <a:srgbClr val="faf2d4"/>
          </a:solidFill>
          <a:ln w="10080">
            <a:solidFill>
              <a:srgbClr val="f1d77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вари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5253120" y="5959440"/>
            <a:ext cx="3643200" cy="571680"/>
          </a:xfrm>
          <a:prstGeom prst="rect">
            <a:avLst/>
          </a:prstGeom>
          <a:solidFill>
            <a:srgbClr val="faf2d4"/>
          </a:solidFill>
          <a:ln w="10080">
            <a:solidFill>
              <a:srgbClr val="f1d77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>
            <a:endCxn id="101" idx="1"/>
          </p:cNvCxnSpPr>
          <p:nvPr/>
        </p:nvCxnSpPr>
        <p:spPr>
          <a:xfrm flipV="1">
            <a:off x="2946240" y="1037880"/>
            <a:ext cx="2293200" cy="267552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09" name="Прямая со стрелкой 18"/>
          <p:cNvCxnSpPr/>
          <p:nvPr/>
        </p:nvCxnSpPr>
        <p:spPr>
          <a:xfrm flipV="1">
            <a:off x="2945880" y="1998360"/>
            <a:ext cx="2351880" cy="171504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0" name="Прямая со стрелкой 24"/>
          <p:cNvCxnSpPr/>
          <p:nvPr/>
        </p:nvCxnSpPr>
        <p:spPr>
          <a:xfrm flipV="1">
            <a:off x="2963880" y="2855520"/>
            <a:ext cx="2334240" cy="86760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1" name="Прямая со стрелкой 26"/>
          <p:cNvCxnSpPr/>
          <p:nvPr/>
        </p:nvCxnSpPr>
        <p:spPr>
          <a:xfrm flipV="1">
            <a:off x="2906640" y="3712680"/>
            <a:ext cx="2332800" cy="1656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2" name="Прямая со стрелкой 29"/>
          <p:cNvCxnSpPr/>
          <p:nvPr/>
        </p:nvCxnSpPr>
        <p:spPr>
          <a:xfrm>
            <a:off x="2922480" y="3744720"/>
            <a:ext cx="2316960" cy="83700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3" name="Прямая со стрелкой 33"/>
          <p:cNvCxnSpPr/>
          <p:nvPr/>
        </p:nvCxnSpPr>
        <p:spPr>
          <a:xfrm>
            <a:off x="2925360" y="3730320"/>
            <a:ext cx="2313720" cy="178668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4" name="Прямая со стрелкой 35"/>
          <p:cNvCxnSpPr/>
          <p:nvPr/>
        </p:nvCxnSpPr>
        <p:spPr>
          <a:xfrm>
            <a:off x="2954160" y="3774960"/>
            <a:ext cx="2285280" cy="267912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sp>
        <p:nvSpPr>
          <p:cNvPr id="115" name="Rectangle 21"/>
          <p:cNvSpPr/>
          <p:nvPr/>
        </p:nvSpPr>
        <p:spPr>
          <a:xfrm>
            <a:off x="1835280" y="3592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нципы построения обучения в СД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65B-70B9-42D2-824A-BF8808A6EF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7F1-6F42-4E56-8C14-964176B27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5" descr=""/>
          <p:cNvPicPr/>
          <p:nvPr/>
        </p:nvPicPr>
        <p:blipFill>
          <a:blip r:embed="rId1"/>
          <a:stretch/>
        </p:blipFill>
        <p:spPr>
          <a:xfrm>
            <a:off x="1798560" y="158760"/>
            <a:ext cx="6523200" cy="1279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345960" y="1628640"/>
            <a:ext cx="8569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обеспечивает передачу детям культурных ценностей общества в соответствии с основными дидактическими требованиями традиционной школы (принципы наглядности, доступности, преемственности, активности, сознательного усвоения знаний, научности и др.)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345960" y="378936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не отвергает традиционную дидактику, а продолжает и развивает ее в направлении реализации современных образовательных целей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5960" y="5013360"/>
            <a:ext cx="8209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является механизмом разноуровневого обучения, обеспечивая возможность выбора каждым учеником индивидуальной образовательной траектор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BEBF-E90F-4323-B918-C4DF565E1E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D25-F5E4-4B37-95FB-57A86975D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5" descr=""/>
          <p:cNvPicPr/>
          <p:nvPr/>
        </p:nvPicPr>
        <p:blipFill>
          <a:blip r:embed="rId1"/>
          <a:stretch/>
        </p:blipFill>
        <p:spPr>
          <a:xfrm>
            <a:off x="1755720" y="103320"/>
            <a:ext cx="7332840" cy="26463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7"/>
          <p:cNvSpPr/>
          <p:nvPr/>
        </p:nvSpPr>
        <p:spPr>
          <a:xfrm>
            <a:off x="395280" y="1773360"/>
            <a:ext cx="835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Для того, чтобы знания обучающихся были результатом их собственных поисков, необходимо организовать эти поиски, управлять, развивать их познавательную деяте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395280" y="3500280"/>
            <a:ext cx="842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Вместо простой передачи знаний, умений, навыков от учителя к ученику приоритетной целью школьного образования становится развитие способности ученика самостоятельно ставить учебные цели, проектировать пути их реализации, контролировать и оценивать свои достижения, иначе говоря, умение уч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9144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Обучать деятельности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значит делать учение мотивированным, учить ученика оптимально организовывать свою деятельность, помогать сформировать умение контроля и самоконтроля, оценки и самооценки. Учитель не должен просто «натренировывать» ученика в выполнении каких-то приемов, операций - эти операции должны быть осмыслены и приняты учеником, в идеале - он должен находить свои способы 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0DEE-A1EB-42AF-AC53-18C2428BF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5840" y="1071720"/>
          <a:ext cx="8569080" cy="529740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Традицион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Иннов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развивающе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зируется на принципе доступ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опирается на зону ближайшего развит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учащийся выступает в роли объекта П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учащийся действует как субъект собственной УД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ориентировано на усвоение определенной суммы знаний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нацелено на усвоение способов познания как конечной цели уч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развивает обыденное мышление, эмпир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развивает теоретическое мышление и теорет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решая конкретно-практические задачи, учащиеся усваивают частные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на первый план выступают учебные задачи, решая их учащиеся, усваивают общие способы ум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в результате формируется индивид – человек, способный к исполнительск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формируется личность, способная к самостоятельной 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2" descr=""/>
          <p:cNvPicPr/>
          <p:nvPr/>
        </p:nvPicPr>
        <p:blipFill>
          <a:blip r:embed="rId1"/>
          <a:stretch/>
        </p:blipFill>
        <p:spPr>
          <a:xfrm>
            <a:off x="1468440" y="1042920"/>
            <a:ext cx="1030320" cy="480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4068720" y="2252520"/>
            <a:ext cx="442908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Технология, основанная на создании учеб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4068720" y="3535200"/>
            <a:ext cx="4429080" cy="78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Технология проектного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4092480" y="4797360"/>
            <a:ext cx="442908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Технология, основанная на уровневой дифференциац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8"/>
          <p:cNvCxnSpPr>
            <a:stCxn id="130" idx="3"/>
            <a:endCxn id="131" idx="1"/>
          </p:cNvCxnSpPr>
          <p:nvPr/>
        </p:nvCxnSpPr>
        <p:spPr>
          <a:xfrm flipV="1">
            <a:off x="2338560" y="2609640"/>
            <a:ext cx="1730880" cy="8388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5" name="Прямая со стрелкой 13"/>
          <p:cNvCxnSpPr>
            <a:stCxn id="130" idx="3"/>
            <a:endCxn id="132" idx="1"/>
          </p:cNvCxnSpPr>
          <p:nvPr/>
        </p:nvCxnSpPr>
        <p:spPr>
          <a:xfrm>
            <a:off x="2338560" y="3448080"/>
            <a:ext cx="1730880" cy="4816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6" name="Прямая со стрелкой 15"/>
          <p:cNvCxnSpPr>
            <a:stCxn id="130" idx="3"/>
            <a:endCxn id="133" idx="1"/>
          </p:cNvCxnSpPr>
          <p:nvPr/>
        </p:nvCxnSpPr>
        <p:spPr>
          <a:xfrm>
            <a:off x="2338560" y="3447720"/>
            <a:ext cx="1754640" cy="18500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37" name="Прямоугольник 23"/>
          <p:cNvSpPr/>
          <p:nvPr/>
        </p:nvSpPr>
        <p:spPr>
          <a:xfrm>
            <a:off x="4140360" y="1000080"/>
            <a:ext cx="435744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Информационные и коммуникати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28"/>
          <p:cNvCxnSpPr>
            <a:stCxn id="130" idx="3"/>
          </p:cNvCxnSpPr>
          <p:nvPr/>
        </p:nvCxnSpPr>
        <p:spPr>
          <a:xfrm flipV="1">
            <a:off x="2338200" y="1483560"/>
            <a:ext cx="1802520" cy="19645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D0AD-29B9-4364-B5BA-54AB652033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AB25-3C7F-48A5-B633-1E995A139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557360"/>
          <a:ext cx="8734680" cy="4967280"/>
        </p:xfrm>
        <a:graphic>
          <a:graphicData uri="http://schemas.openxmlformats.org/drawingml/2006/table">
            <a:tbl>
              <a:tblPr/>
              <a:tblGrid>
                <a:gridCol w="3384720"/>
                <a:gridCol w="53499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ющая рол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ивация к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здают условия для возникновения у ученика внутренней потребности включения в деятельность («хочу») и выделения содержательной области («могу»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уализация знаний и фиксация индивидуального затруднения в пробном действ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подготовку учащихся к самостоятельному выполнению пробного учебного действия:                                                                                            1) актуализацию знаний, умений и навыков, достаточных для построения нового способа действий;                                                                                              2) тренировку соответствующих мыслительных операций. В завершении этапа создается затруднение в индивидуальной деятельности учащимися, которое фиксируется ими сам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9"/>
          <p:cNvSpPr/>
          <p:nvPr/>
        </p:nvSpPr>
        <p:spPr>
          <a:xfrm>
            <a:off x="1692360" y="47628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Технология деятельностного метод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едполагает следующую  последовательность шагов на уро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5FC-13CD-400D-94A8-1D60A8DA98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E9C1-6DBC-477D-86F7-78EF25E0C2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1557360"/>
          <a:ext cx="8229600" cy="4389480"/>
        </p:xfrm>
        <a:graphic>
          <a:graphicData uri="http://schemas.openxmlformats.org/drawingml/2006/table">
            <a:tbl>
              <a:tblPr/>
              <a:tblGrid>
                <a:gridCol w="3240000"/>
                <a:gridCol w="49896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троение проекта выхода из затруд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процесс открытия нового знания, где учащиеся в коммуникативной форме обдумывают проект будущих учебных действий: ставят цель, строят план достижения цели, выбирают метод разрешения проблемной ситуа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ализация построенн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: обсуждение различных вариантов, предложенных учащимися;  выбор оптимального варианта, который фиксируется вербально и знаково. Уточняет характер нового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вичное закрепление с проговариванием во внешне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усвоение учениками нового способа действий при решении типовых задач с их проговариванием (фронтально, в парах или группа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000066"/>
                </a:solidFill>
                <a:latin typeface="Calibri"/>
              </a:rPr>
              <a:t>«Человек достигнет результата, только делая что-то сам...»</a:t>
            </a:r>
            <a:r>
              <a:rPr b="0" lang="ru-RU" sz="5100" spc="-1" strike="noStrike">
                <a:solidFill>
                  <a:srgbClr val="000066"/>
                </a:solidFill>
                <a:latin typeface="Calibri"/>
              </a:rPr>
              <a:t> </a:t>
            </a:r>
            <a:br>
              <a:rPr sz="5100"/>
            </a:b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(Александр Пятигорский, всемирно известный русский филосо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E64-5724-4DAB-9614-F799EBD001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3879-79B3-4EBE-847F-0480D06CE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1628640"/>
          <a:ext cx="8543880" cy="4846680"/>
        </p:xfrm>
        <a:graphic>
          <a:graphicData uri="http://schemas.openxmlformats.org/drawingml/2006/table">
            <a:tbl>
              <a:tblPr/>
              <a:tblGrid>
                <a:gridCol w="3024000"/>
                <a:gridCol w="5519880"/>
              </a:tblGrid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уализация знаний и фиксация индивидуального затруднения в пробном действ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подготовку учащихся к самостоятельному выполнению пробного учебного действия:                                                1) актуализацию знаний, умений и навыков, достаточных для построения нового способа действий;                                                                                                      2) тренировку соответствующих мыслительных операций. В завершении этапа создается затруднение в индивидуальной деятельности учащимися, которое фиксируется ими сам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явление места и причины затруд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выявление учащимися места и причины затруднения:                                                                                                   1) организовывается восстановление выполненных операций и фиксация места, шага, где возникло затруднение;                                                                                                          2) выявление причины затруднения- каких конкретно знаний, умений не хватает для решения исходной задачи такого класса или ти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24000" y="1557360"/>
          <a:ext cx="8516880" cy="4937040"/>
        </p:xfrm>
        <a:graphic>
          <a:graphicData uri="http://schemas.openxmlformats.org/drawingml/2006/table">
            <a:tbl>
              <a:tblPr/>
              <a:tblGrid>
                <a:gridCol w="4259160"/>
                <a:gridCol w="425772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самопроверкой по этал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самостоятельное выполнение учащимися задания на новый способ действия и самопроверку на основе сопоставления с эталоном. Создает, по возможности, для каждого ученика ситуацию успех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ключение в систему знаний и повт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выявление границ применения нового знания, повторение учебного содержания, необходимого для обеспечения содержательной непреры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флексия учеб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оценивание учащимися собственной деятельности, фиксирование неразрешённых затруднений на уроке как направления будущей учебной деятельности, обсуждение и запись домашнего зад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D0B-6418-437C-8668-79DF093B07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08FE-8D04-470C-8A9A-E5A6C0404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74D-C24D-4BE7-961D-F9A97EA32E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579-62F1-48CA-941E-C669447C5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6" descr=""/>
          <p:cNvPicPr/>
          <p:nvPr/>
        </p:nvPicPr>
        <p:blipFill>
          <a:blip r:embed="rId1"/>
          <a:stretch/>
        </p:blipFill>
        <p:spPr>
          <a:xfrm>
            <a:off x="36360" y="1517760"/>
            <a:ext cx="6467760" cy="51512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7" descr=""/>
          <p:cNvPicPr/>
          <p:nvPr/>
        </p:nvPicPr>
        <p:blipFill>
          <a:blip r:embed="rId2"/>
          <a:stretch/>
        </p:blipFill>
        <p:spPr>
          <a:xfrm>
            <a:off x="-6480" y="146160"/>
            <a:ext cx="9156960" cy="1334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6875640" y="3849840"/>
            <a:ext cx="214596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0EE5-9DB5-4C94-967D-0BA41AF9A9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4"/>
          <p:cNvSpPr/>
          <p:nvPr/>
        </p:nvSpPr>
        <p:spPr>
          <a:xfrm>
            <a:off x="46432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BDFD-C077-430D-9F95-18EF1AD04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5" descr=""/>
          <p:cNvPicPr/>
          <p:nvPr/>
        </p:nvPicPr>
        <p:blipFill>
          <a:blip r:embed="rId1"/>
          <a:stretch/>
        </p:blipFill>
        <p:spPr>
          <a:xfrm>
            <a:off x="1725480" y="506520"/>
            <a:ext cx="7137360" cy="1444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324000" y="25246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положительный настр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девиз, эпиграф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притч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 проблемный вопро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рассказ о реальных событ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45EB-199D-4F8A-80AA-84ECAD2F66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6512-D432-41DA-ADE8-14F9ADEF3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6" descr=""/>
          <p:cNvPicPr/>
          <p:nvPr/>
        </p:nvPicPr>
        <p:blipFill>
          <a:blip r:embed="rId1"/>
          <a:stretch/>
        </p:blipFill>
        <p:spPr>
          <a:xfrm>
            <a:off x="1755720" y="85680"/>
            <a:ext cx="7321680" cy="14446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7"/>
          <p:cNvSpPr/>
          <p:nvPr/>
        </p:nvSpPr>
        <p:spPr>
          <a:xfrm>
            <a:off x="971640" y="191628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ановка целей и задач урока  выражается в дидактических категориях «знать», «уметь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8"/>
          <p:cNvSpPr/>
          <p:nvPr/>
        </p:nvSpPr>
        <p:spPr>
          <a:xfrm>
            <a:off x="826920" y="3068640"/>
            <a:ext cx="7201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емы, используемые на стадии вызова ТРКМ - «Я уже знаю», «Ключевые слова», «Кластер». «Сброс идей в корзину», «Лови ошибку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785880" y="4714920"/>
            <a:ext cx="89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«Ассоциативный ряд».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857160" y="5286240"/>
            <a:ext cx="621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Верю - не верю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CF3F-9B4B-460A-AA27-903DC4CE75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A101-02D2-45AC-B449-2A600681B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5" descr=""/>
          <p:cNvPicPr/>
          <p:nvPr/>
        </p:nvPicPr>
        <p:blipFill>
          <a:blip r:embed="rId1"/>
          <a:stretch/>
        </p:blipFill>
        <p:spPr>
          <a:xfrm>
            <a:off x="2127240" y="176040"/>
            <a:ext cx="7023240" cy="11034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826920" y="1303200"/>
            <a:ext cx="885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ся частично-поисковые, проблемные методы, которые позволяют обуча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7" descr=""/>
          <p:cNvPicPr/>
          <p:nvPr/>
        </p:nvPicPr>
        <p:blipFill>
          <a:blip r:embed="rId2"/>
          <a:stretch/>
        </p:blipFill>
        <p:spPr>
          <a:xfrm>
            <a:off x="176040" y="2073240"/>
            <a:ext cx="90838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D24E-2C9D-482D-A60D-8B23DFCCF2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CDF-87DC-4D5F-B4DB-36CB982B1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0" y="1928880"/>
            <a:ext cx="914400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ы «Пометки на полях», «Плюс и мину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этого приема </a:t>
            </a: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оказать неоднозначность любого общественного и исторического я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и предложения» (передать содержание 3-я предложениями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F9DD-17C5-420F-86D2-ED14A01327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1C72-338E-4E93-A338-2C6218906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2126160"/>
            <a:ext cx="59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репетно, нежно, заботливо, лас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 каждым ребенком с открытой душ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е, что умеем, знаем и мож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осто отдали и в сердце больш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сто найдется для каждого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ждого нужно увидеть, раскр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ем нам желаю всего наилучш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бы всегда нам хотелось уч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Лиза\Desktop\Фото уроки\фото классы\P24-01-13_10.55.jpg"/>
          <p:cNvPicPr/>
          <p:nvPr/>
        </p:nvPicPr>
        <p:blipFill>
          <a:blip r:embed="rId1"/>
          <a:stretch/>
        </p:blipFill>
        <p:spPr>
          <a:xfrm>
            <a:off x="5956200" y="1357200"/>
            <a:ext cx="2376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"/>
          <p:cNvPicPr/>
          <p:nvPr/>
        </p:nvPicPr>
        <p:blipFill>
          <a:blip r:embed="rId1"/>
          <a:stretch/>
        </p:blipFill>
        <p:spPr>
          <a:xfrm rot="1171800">
            <a:off x="5866920" y="90792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4"/>
          <p:cNvPicPr/>
          <p:nvPr/>
        </p:nvPicPr>
        <p:blipFill>
          <a:blip r:embed="rId2"/>
          <a:stretch/>
        </p:blipFill>
        <p:spPr>
          <a:xfrm>
            <a:off x="1835280" y="3284640"/>
            <a:ext cx="5905440" cy="338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5"/>
          <p:cNvPicPr/>
          <p:nvPr/>
        </p:nvPicPr>
        <p:blipFill>
          <a:blip r:embed="rId3"/>
          <a:stretch/>
        </p:blipFill>
        <p:spPr>
          <a:xfrm>
            <a:off x="3203640" y="907920"/>
            <a:ext cx="230508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"/>
          <p:cNvPicPr/>
          <p:nvPr/>
        </p:nvPicPr>
        <p:blipFill>
          <a:blip r:embed="rId4"/>
          <a:stretch/>
        </p:blipFill>
        <p:spPr>
          <a:xfrm rot="19749600">
            <a:off x="395280" y="1125000"/>
            <a:ext cx="2448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A1C-7040-4BCA-ACA9-4906F3F28D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CC1C-9047-4B6B-851F-1990765C1C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87280" y="1125360"/>
            <a:ext cx="88567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«В основе построения содержания федерального государственного образовательного стандарта общего образования лежит системно-деятельностный подход , который предполагает: воспитание и развитие качеств личности, отвечающих требованиям информационного общества , инновационной экономики, задачам построения демократического гражданского общества, толерантности, диалога культур и уважения многонационального, поликультурного и поликонфессиального состава российского общества…»</a:t>
            </a: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(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 стандарта общего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9C21-A8C2-44C2-A242-459D966BF9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A8E-08FA-4112-A5FE-C8C2A1BD4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9200" y="347760"/>
            <a:ext cx="2249640" cy="5370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2627280" y="549360"/>
            <a:ext cx="61563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едений науки не следует сообщать учащемуся, но его надо привести к тому, чтобы он сам их находил, самодеятельно ими овладевал. Такой метод обучения наилучший, самый трудный, самый редкий. Трудностью объясняется редкость его применения. Изложение, считывание, диктовка против него детская заба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. Дистервег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мецкий педагог-демократ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X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дователь Песталоц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24CF-BAD8-4301-8F31-C332A6C266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1CB3-12E2-4FF6-B482-8E7FBFED0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24000" y="1484280"/>
            <a:ext cx="855792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Известный психолог Леонтьев говорил, что человеческая жизнь-это “система сменяющих друг друга деятельностей”. Процесс обучения как передача информации от учителя к ученику, считают психологи, противоречит самой природе человека – только через собственную деятельность каждый познает мир.</a:t>
            </a: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BB1-4C66-4D89-8F75-B276349165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37D-631C-406D-9FE1-E1F7F75C4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786120" y="1857240"/>
            <a:ext cx="153360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3"/>
          <a:stretch/>
        </p:blipFill>
        <p:spPr>
          <a:xfrm>
            <a:off x="6732720" y="185112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"/>
          <p:cNvPicPr/>
          <p:nvPr/>
        </p:nvPicPr>
        <p:blipFill>
          <a:blip r:embed="rId4"/>
          <a:stretch/>
        </p:blipFill>
        <p:spPr>
          <a:xfrm>
            <a:off x="2071800" y="42861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"/>
          <p:cNvPicPr/>
          <p:nvPr/>
        </p:nvPicPr>
        <p:blipFill>
          <a:blip r:embed="rId5"/>
          <a:stretch/>
        </p:blipFill>
        <p:spPr>
          <a:xfrm>
            <a:off x="5624640" y="4357800"/>
            <a:ext cx="1857240" cy="1695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642960" y="39290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967200" y="392904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.Н. Леонть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765840" y="39290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.Б. Эльк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2000160" y="621504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.Я. Гальпе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760" y="621504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В. Давы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4" descr=""/>
          <p:cNvPicPr/>
          <p:nvPr/>
        </p:nvPicPr>
        <p:blipFill>
          <a:blip r:embed="rId6"/>
          <a:stretch/>
        </p:blipFill>
        <p:spPr>
          <a:xfrm>
            <a:off x="1536840" y="195120"/>
            <a:ext cx="7441920" cy="1103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2317680" y="4240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B92-0775-4965-BC2C-EF7779AE56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B1A-682E-4DE8-A496-B84779CD9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524480" cy="295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79280" y="287280"/>
            <a:ext cx="2089080" cy="249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Лиза\Desktop\Фото уроки\фото классы\P24-01-13_10.55[1].jpg"/>
          <p:cNvPicPr/>
          <p:nvPr/>
        </p:nvPicPr>
        <p:blipFill>
          <a:blip r:embed="rId3"/>
          <a:stretch/>
        </p:blipFill>
        <p:spPr>
          <a:xfrm>
            <a:off x="4716360" y="3786120"/>
            <a:ext cx="4427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08960" cy="2981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1258920" y="2781000"/>
            <a:ext cx="662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личностные</a:t>
            </a:r>
            <a:r>
              <a:rPr b="1" lang="ru-RU" sz="4000" spc="-1" strike="noStrike">
                <a:solidFill>
                  <a:srgbClr val="d3683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регулятивные</a:t>
            </a:r>
            <a:r>
              <a:rPr b="1" lang="ru-RU" sz="4000" spc="-1" strike="noStrike">
                <a:solidFill>
                  <a:srgbClr val="d3683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познава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коммуникатив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41:22Z</dcterms:created>
  <dc:creator>USER</dc:creator>
  <dc:description>http://aida.ucoz.ru</dc:description>
  <dc:language>en-US</dc:language>
  <cp:lastModifiedBy>Пользователь Windows</cp:lastModifiedBy>
  <dcterms:modified xsi:type="dcterms:W3CDTF">2015-04-14T22:17:37Z</dcterms:modified>
  <cp:revision>183</cp:revision>
  <dc:subject/>
  <dc:title>Слайд 1</dc:title>
</cp:coreProperties>
</file>