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2267-1C4E-4DD3-8646-4B3CEBFE3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506E-FD84-4D50-94B0-349ADCDF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35CE-A18A-4581-8AA4-0F5559F08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FAFF-B1A7-45F4-9D32-1AAAB040F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94D0-2D8F-40A5-A2E7-C5136855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6268-797E-474E-887D-0AF112C5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96BC-77F1-47EA-B5A4-83341A64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64ED-E4AE-4DC1-84BD-210D8DCC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CD69-6C8D-4FDE-AF55-2708E32A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D6BE-F047-4682-A51D-68F63BEF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75D0-F732-4FB3-A105-E691FA1F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D6B1-0E4F-47DC-9877-253A9129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7ee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F246-4E60-490A-88B3-19070614D5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6680" y="24624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СОНЯ ШАТАЛОВА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67120" y="2633400"/>
            <a:ext cx="5702040" cy="12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девочка 1993 года рождения, которой поставили диагноз аутиз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http://www.stihi.ru/pics/2013/08/25/5805.jpg"/>
          <p:cNvPicPr/>
          <p:nvPr/>
        </p:nvPicPr>
        <p:blipFill>
          <a:blip r:embed="rId1"/>
          <a:stretch/>
        </p:blipFill>
        <p:spPr>
          <a:xfrm>
            <a:off x="933480" y="809640"/>
            <a:ext cx="350208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875960" y="2396880"/>
            <a:ext cx="80010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ЗНАКОМСТВО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 – встреча разных пониманий мира, или даже разных ми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5" descr=""/>
          <p:cNvPicPr/>
          <p:nvPr/>
        </p:nvPicPr>
        <p:blipFill>
          <a:blip r:embed="rId1"/>
          <a:stretch/>
        </p:blipFill>
        <p:spPr>
          <a:xfrm>
            <a:off x="2378160" y="749160"/>
            <a:ext cx="699912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774720" y="233316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ПТИЦА 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– воплощённая мысль Бога о песне и полё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3" descr=""/>
          <p:cNvPicPr/>
          <p:nvPr/>
        </p:nvPicPr>
        <p:blipFill>
          <a:blip r:embed="rId1"/>
          <a:stretch/>
        </p:blipFill>
        <p:spPr>
          <a:xfrm>
            <a:off x="2706840" y="444600"/>
            <a:ext cx="6651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2041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ДЕТСТВО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 – восход судьбы в человеческой жиз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3" descr=""/>
          <p:cNvPicPr/>
          <p:nvPr/>
        </p:nvPicPr>
        <p:blipFill>
          <a:blip r:embed="rId1"/>
          <a:stretch/>
        </p:blipFill>
        <p:spPr>
          <a:xfrm>
            <a:off x="2133720" y="596880"/>
            <a:ext cx="76197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994040" y="2565000"/>
            <a:ext cx="801360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КНИГА</a:t>
            </a: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 – 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вещь, в которой можно сохранить знания и чувства людей во време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3" descr=""/>
          <p:cNvPicPr/>
          <p:nvPr/>
        </p:nvPicPr>
        <p:blipFill>
          <a:blip r:embed="rId1"/>
          <a:stretch/>
        </p:blipFill>
        <p:spPr>
          <a:xfrm>
            <a:off x="2629080" y="536400"/>
            <a:ext cx="642600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762120" y="239688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ЛОШАДЬ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 – большое тёплое четырёхкопытное счасть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3" descr=""/>
          <p:cNvPicPr/>
          <p:nvPr/>
        </p:nvPicPr>
        <p:blipFill>
          <a:blip r:embed="rId1"/>
          <a:stretch/>
        </p:blipFill>
        <p:spPr>
          <a:xfrm>
            <a:off x="1935000" y="573120"/>
            <a:ext cx="774396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282320" y="2669760"/>
            <a:ext cx="9334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СТОЛ 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– площадь, на которой разыгрывается жизнь тарелок и всего остального, что на нём оказывае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3" descr=""/>
          <p:cNvPicPr/>
          <p:nvPr/>
        </p:nvPicPr>
        <p:blipFill>
          <a:blip r:embed="rId1"/>
          <a:stretch/>
        </p:blipFill>
        <p:spPr>
          <a:xfrm>
            <a:off x="2476440" y="431640"/>
            <a:ext cx="65534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838080" y="250632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ВЕТЕР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 – воздух, который не любит поко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3" descr=""/>
          <p:cNvPicPr/>
          <p:nvPr/>
        </p:nvPicPr>
        <p:blipFill>
          <a:blip r:embed="rId1"/>
          <a:stretch/>
        </p:blipFill>
        <p:spPr>
          <a:xfrm>
            <a:off x="2313000" y="573120"/>
            <a:ext cx="728820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2253960" y="2506320"/>
            <a:ext cx="76834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МУЗЫКА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 – песня Бога в восприятии человека. Гармоничное сочетание звуков и эмоц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3" descr=""/>
          <p:cNvPicPr/>
          <p:nvPr/>
        </p:nvPicPr>
        <p:blipFill>
          <a:blip r:embed="rId1"/>
          <a:stretch/>
        </p:blipFill>
        <p:spPr>
          <a:xfrm>
            <a:off x="2254320" y="581040"/>
            <a:ext cx="720072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015920" y="22824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РОМАНТИКА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 - настроение, когда во всём обычном видишь чуд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3" descr=""/>
          <p:cNvPicPr/>
          <p:nvPr/>
        </p:nvPicPr>
        <p:blipFill>
          <a:blip r:embed="rId1"/>
          <a:stretch/>
        </p:blipFill>
        <p:spPr>
          <a:xfrm>
            <a:off x="2286000" y="722160"/>
            <a:ext cx="697536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01720" y="476280"/>
            <a:ext cx="72644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 Light"/>
              </a:rPr>
              <a:t>ИЗ СОНИНОГО ДНЕВНИК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006960" y="1596600"/>
            <a:ext cx="5600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Я чувствую в словах особую, очень странную сил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Она может менять мир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Я хочу овладеть этой силой, чтобы она служила Бог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Может быть, для этого я и жив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http://s3.uploads.ru/xrhGl.jpg"/>
          <p:cNvPicPr/>
          <p:nvPr/>
        </p:nvPicPr>
        <p:blipFill>
          <a:blip r:embed="rId1"/>
          <a:stretch/>
        </p:blipFill>
        <p:spPr>
          <a:xfrm>
            <a:off x="254160" y="977760"/>
            <a:ext cx="53733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29960" y="428760"/>
            <a:ext cx="87757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СОНЯ НИЧЕГО НЕ ГОВОРИТ, НО ПИШЕТ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12880" y="20156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Ее никто не обучал ни писать, ни чита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Она обучилась этому сам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У Сони врожденная грамотность, читая она как бы мгновенно «фотографирует» текс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9880" y="568440"/>
            <a:ext cx="11252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А в 14 лет девочка дала собственное определение загадочному аутизму: </a:t>
            </a:r>
            <a:br>
              <a:rPr sz="2800"/>
            </a:b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«Это жизнь в нигде и никогда и одновременно в везде и всегда»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59880" y="1488960"/>
            <a:ext cx="10960200" cy="51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70c0"/>
                </a:solidFill>
                <a:latin typeface="Calibri"/>
              </a:rPr>
              <a:t>Мне почему-то очень надо</a:t>
            </a:r>
            <a:br>
              <a:rPr sz="2600"/>
            </a:br>
            <a:r>
              <a:rPr b="0" i="1" lang="ru-RU" sz="2600" spc="-1" strike="noStrike">
                <a:solidFill>
                  <a:srgbClr val="0070c0"/>
                </a:solidFill>
                <a:latin typeface="Calibri"/>
              </a:rPr>
              <a:t>Стекло бордовое заката </a:t>
            </a:r>
            <a:br>
              <a:rPr sz="2600"/>
            </a:br>
            <a:r>
              <a:rPr b="0" i="1" lang="ru-RU" sz="2600" spc="-1" strike="noStrike">
                <a:solidFill>
                  <a:srgbClr val="0070c0"/>
                </a:solidFill>
                <a:latin typeface="Calibri"/>
              </a:rPr>
              <a:t>В оранжевое утро превратить.</a:t>
            </a:r>
            <a:br>
              <a:rPr sz="2600"/>
            </a:br>
            <a:r>
              <a:rPr b="0" i="1" lang="ru-RU" sz="2600" spc="-1" strike="noStrike">
                <a:solidFill>
                  <a:srgbClr val="0070c0"/>
                </a:solidFill>
                <a:latin typeface="Calibri"/>
              </a:rPr>
              <a:t>Своею радостью окрасить</a:t>
            </a:r>
            <a:br>
              <a:rPr sz="2600"/>
            </a:br>
            <a:r>
              <a:rPr b="0" i="1" lang="ru-RU" sz="2600" spc="-1" strike="noStrike">
                <a:solidFill>
                  <a:srgbClr val="0070c0"/>
                </a:solidFill>
                <a:latin typeface="Calibri"/>
              </a:rPr>
              <a:t>Дома, заборы,</a:t>
            </a:r>
            <a:br>
              <a:rPr sz="2600"/>
            </a:br>
            <a:r>
              <a:rPr b="0" i="1" lang="ru-RU" sz="2600" spc="-1" strike="noStrike">
                <a:solidFill>
                  <a:srgbClr val="0070c0"/>
                </a:solidFill>
                <a:latin typeface="Calibri"/>
              </a:rPr>
              <a:t>Плачем и слезами</a:t>
            </a:r>
            <a:br>
              <a:rPr sz="2600"/>
            </a:br>
            <a:r>
              <a:rPr b="0" i="1" lang="ru-RU" sz="2600" spc="-1" strike="noStrike">
                <a:solidFill>
                  <a:srgbClr val="0070c0"/>
                </a:solidFill>
                <a:latin typeface="Calibri"/>
              </a:rPr>
              <a:t>Омыть все окна и дорог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70c0"/>
                </a:solidFill>
                <a:latin typeface="Calibri"/>
              </a:rPr>
              <a:t>Весь мусор жизни</a:t>
            </a:r>
            <a:br>
              <a:rPr sz="2600"/>
            </a:br>
            <a:r>
              <a:rPr b="0" i="1" lang="ru-RU" sz="2600" spc="-1" strike="noStrike">
                <a:solidFill>
                  <a:srgbClr val="0070c0"/>
                </a:solidFill>
                <a:latin typeface="Calibri"/>
              </a:rPr>
              <a:t>Мощным током крови</a:t>
            </a:r>
            <a:br>
              <a:rPr sz="2600"/>
            </a:br>
            <a:r>
              <a:rPr b="0" i="1" lang="ru-RU" sz="2600" spc="-1" strike="noStrike">
                <a:solidFill>
                  <a:srgbClr val="0070c0"/>
                </a:solidFill>
                <a:latin typeface="Calibri"/>
              </a:rPr>
              <a:t>Снести и в своём сердце сжечь.</a:t>
            </a:r>
            <a:br>
              <a:rPr sz="2600"/>
            </a:br>
            <a:r>
              <a:rPr b="0" i="1" lang="ru-RU" sz="2600" spc="-1" strike="noStrike">
                <a:solidFill>
                  <a:srgbClr val="0070c0"/>
                </a:solidFill>
                <a:latin typeface="Calibri"/>
              </a:rPr>
              <a:t>И это всё не жертва, нет,</a:t>
            </a:r>
            <a:br>
              <a:rPr sz="2600"/>
            </a:br>
            <a:r>
              <a:rPr b="0" i="1" lang="ru-RU" sz="2600" spc="-1" strike="noStrike">
                <a:solidFill>
                  <a:srgbClr val="0070c0"/>
                </a:solidFill>
                <a:latin typeface="Calibri"/>
              </a:rPr>
              <a:t>А просто помощь заблудившемуся мир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876240" y="18000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СПАСИБО ЗА ВНИМ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ОБЩЕНИЕ С МИРОМ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Общается с миром Соня только посредством письма, а писать она может, только когда ее мама накладывает свою руку на руку Сони – нет, не водит ее рукой, а просто передает свое тепло, свое присутствие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И девочка пишет, глядя в сторону от бумаги, поразительные вещ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79400" y="2095200"/>
            <a:ext cx="1013472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БАБОЧКА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 – главная примета летнего счасть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4" descr=""/>
          <p:cNvPicPr/>
          <p:nvPr/>
        </p:nvPicPr>
        <p:blipFill>
          <a:blip r:embed="rId1"/>
          <a:stretch/>
        </p:blipFill>
        <p:spPr>
          <a:xfrm>
            <a:off x="2233440" y="673200"/>
            <a:ext cx="7224840" cy="45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49160" y="22698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УЛЫБКА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 – это пароль доброжелате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4" descr=""/>
          <p:cNvPicPr/>
          <p:nvPr/>
        </p:nvPicPr>
        <p:blipFill>
          <a:blip r:embed="rId1"/>
          <a:stretch/>
        </p:blipFill>
        <p:spPr>
          <a:xfrm>
            <a:off x="2298600" y="660240"/>
            <a:ext cx="716292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860400" y="232056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КОШКА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 – символ уютной независим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4" descr=""/>
          <p:cNvPicPr/>
          <p:nvPr/>
        </p:nvPicPr>
        <p:blipFill>
          <a:blip r:embed="rId1"/>
          <a:stretch/>
        </p:blipFill>
        <p:spPr>
          <a:xfrm>
            <a:off x="2946240" y="530280"/>
            <a:ext cx="634536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76280" y="22442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СОБАКА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 – лающее воплощение верности и покор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3" descr=""/>
          <p:cNvPicPr/>
          <p:nvPr/>
        </p:nvPicPr>
        <p:blipFill>
          <a:blip r:embed="rId1"/>
          <a:stretch/>
        </p:blipFill>
        <p:spPr>
          <a:xfrm>
            <a:off x="2171880" y="542880"/>
            <a:ext cx="712440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539800" y="2506320"/>
            <a:ext cx="71118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СКАЗКА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 – это жизнь, придуманная душой, когда ей не подходит её реальная жизн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"/>
          <p:cNvPicPr/>
          <p:nvPr/>
        </p:nvPicPr>
        <p:blipFill>
          <a:blip r:embed="rId1"/>
          <a:stretch/>
        </p:blipFill>
        <p:spPr>
          <a:xfrm>
            <a:off x="2762280" y="401760"/>
            <a:ext cx="6419880" cy="51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736560" y="237132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СМЕХ 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– доктор для печальной душ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3" descr=""/>
          <p:cNvPicPr/>
          <p:nvPr/>
        </p:nvPicPr>
        <p:blipFill>
          <a:blip r:embed="rId1"/>
          <a:stretch/>
        </p:blipFill>
        <p:spPr>
          <a:xfrm>
            <a:off x="2259000" y="365040"/>
            <a:ext cx="767412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6T17:35:32Z</dcterms:created>
  <dc:creator>Lena</dc:creator>
  <dc:description/>
  <dc:language>en-US</dc:language>
  <cp:lastModifiedBy>Lena</cp:lastModifiedBy>
  <dcterms:modified xsi:type="dcterms:W3CDTF">2015-02-14T11:41:06Z</dcterms:modified>
  <cp:revision>23</cp:revision>
  <dc:subject/>
  <dc:title>Соня Шаталова</dc:title>
</cp:coreProperties>
</file>