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18C-674E-4C4B-9D81-D59C6A7E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952-4BC5-4850-B103-1D72B006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5DA-10EC-4AC0-9B03-7BB1DAC5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085-37AC-4E7F-A75B-F1F921D0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B9B-121D-4DE9-8042-94791012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C2BE-4765-4A22-89AB-28295694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F64-10CF-4619-ADB1-F0ABA706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565B-D514-4D04-8EB7-9D445AEC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BF4-A6AB-410E-934A-AF301C9D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7C0C-2017-4197-9C7C-4AE672CB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B11-BCB2-40A4-B9C4-2BB194BF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723-58B6-4033-A47F-4990EB80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e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16AA-B84B-4610-91B6-4ADC8281BE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6680" y="2462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ОНЯ ШАТАЛОВА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67120" y="2633400"/>
            <a:ext cx="570204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девочка 1993 года рождения, которой поставили диагноз аут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www.stihi.ru/pics/2013/08/25/5805.jpg"/>
          <p:cNvPicPr/>
          <p:nvPr/>
        </p:nvPicPr>
        <p:blipFill>
          <a:blip r:embed="rId1"/>
          <a:stretch/>
        </p:blipFill>
        <p:spPr>
          <a:xfrm>
            <a:off x="933480" y="809640"/>
            <a:ext cx="35020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875960" y="2396880"/>
            <a:ext cx="80010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ЗНАКОМСТВО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встреча разных пониманий мира, или даже разных ми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5" descr=""/>
          <p:cNvPicPr/>
          <p:nvPr/>
        </p:nvPicPr>
        <p:blipFill>
          <a:blip r:embed="rId1"/>
          <a:stretch/>
        </p:blipFill>
        <p:spPr>
          <a:xfrm>
            <a:off x="2378160" y="749160"/>
            <a:ext cx="69991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74720" y="23331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ТИЦА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– воплощённая мысль Бога о песне и полё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2706840" y="444600"/>
            <a:ext cx="6651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2041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ДЕТСТВО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восход судьбы в человеческой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2133720" y="596880"/>
            <a:ext cx="7619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994040" y="2565000"/>
            <a:ext cx="8013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НИГА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вещь, в которой можно сохранить знания и чувства людей во вре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2629080" y="536400"/>
            <a:ext cx="64260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62120" y="23968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ЛОШАДЬ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большое тёплое четырёхкопытное счаст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1935000" y="573120"/>
            <a:ext cx="774396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282320" y="2669760"/>
            <a:ext cx="9334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ТОЛ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– площадь, на которой разыгрывается жизнь тарелок и всего остального, что на нём оказыв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2476440" y="43164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3808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ЕТЕР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воздух, который не любит поко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2313000" y="573120"/>
            <a:ext cx="72882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253960" y="2506320"/>
            <a:ext cx="7683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МУЗЫКА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песня Бога в восприятии человека. Гармоничное сочетание звуков и эмо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2254320" y="581040"/>
            <a:ext cx="72007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015920" y="22824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РОМАНТИКА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- настроение, когда во всём обычном видишь чу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2286000" y="722160"/>
            <a:ext cx="697536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01720" y="476280"/>
            <a:ext cx="7264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ИЗ СОНИНОГО ДНЕВНИ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06960" y="1596600"/>
            <a:ext cx="5600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Я чувствую в словах особую, очень странную сил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Она может менять ми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Я хочу овладеть этой силой, чтобы она служила Бог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Может быть, для этого я и жи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s3.uploads.ru/xrhGl.jpg"/>
          <p:cNvPicPr/>
          <p:nvPr/>
        </p:nvPicPr>
        <p:blipFill>
          <a:blip r:embed="rId1"/>
          <a:stretch/>
        </p:blipFill>
        <p:spPr>
          <a:xfrm>
            <a:off x="254160" y="977760"/>
            <a:ext cx="5373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29960" y="428760"/>
            <a:ext cx="87757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ОНЯ НИЧЕГО НЕ ГОВОРИТ, НО ПИШЕТ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12880" y="20156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Ее никто не обучал ни писать, ни чит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Она обучилась этому са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У Сони врожденная грамотность, читая она как бы мгновенно «фотографирует» тек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9880" y="568440"/>
            <a:ext cx="11252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А в 14 лет девочка дала собственное определение загадочному аутизму: 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«Это жизнь в нигде и никогда и одновременно в везде и всегда»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59880" y="1488960"/>
            <a:ext cx="10960200" cy="51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Мне почему-то очень надо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Стекло бордовое заката 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В оранжевое утро превратить.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Своею радостью окрасить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Дома, заборы,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Плачем и слезами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Омыть все окна и дорог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Весь мусор жизни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Мощным током крови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Снести и в своём сердце сжечь.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И это всё не жертва, нет,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А просто помощь заблудившемуся мир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76240" y="18000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ОБЩЕНИЕ С МИРОМ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Общается с миром Соня только посредством письма, а писать она может, только когда ее мама накладывает свою руку на руку Сони – нет, не водит ее рукой, а просто передает свое тепло, свое присутствие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И девочка пишет, глядя в сторону от бумаги, поразительные вещ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9400" y="2095200"/>
            <a:ext cx="1013472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БАБОЧКА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главная примета летнего счасть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>
            <a:off x="2233440" y="673200"/>
            <a:ext cx="722484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49160" y="22698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УЛЫБКА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это пароль доброжела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2298600" y="660240"/>
            <a:ext cx="71629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60400" y="23205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ОШКА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символ уютной независим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2946240" y="530280"/>
            <a:ext cx="634536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76280" y="22442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ОБАКА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лающее воплощение верности и покор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2171880" y="542880"/>
            <a:ext cx="71244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39800" y="2506320"/>
            <a:ext cx="71118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КАЗКА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это жизнь, придуманная душой, когда ей не подходит её реальная жиз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2762280" y="401760"/>
            <a:ext cx="641988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36560" y="2371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МЕХ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– доктор для печальной душ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2259000" y="365040"/>
            <a:ext cx="767412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7:35:32Z</dcterms:created>
  <dc:creator>Lena</dc:creator>
  <dc:description/>
  <dc:language>en-US</dc:language>
  <cp:lastModifiedBy>Lena</cp:lastModifiedBy>
  <dcterms:modified xsi:type="dcterms:W3CDTF">2015-02-14T11:41:06Z</dcterms:modified>
  <cp:revision>23</cp:revision>
  <dc:subject/>
  <dc:title>Соня Шаталова</dc:title>
</cp:coreProperties>
</file>