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C5A-CC9B-4896-8948-C981C569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0BF-F81D-4BDF-A536-5212BC7A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857-D007-41D5-87B4-F30FE311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F953-211D-47B2-A507-5E46BF5D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C9A-568B-4BD2-9B05-3BC0FA34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188-9A7F-4DF6-A69E-A7230979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381-A037-4899-AEF2-63DE9786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F4A-FE3D-4A35-B8DB-42D5A45C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AC8-044D-417A-A9E2-2FF8FAF2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6C8-C2BA-413F-B302-F43867F1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897-5977-45CE-B0C7-5B53FFF6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16D-3052-4093-BB3E-D6283906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C97E-4E00-494D-B0EC-ECCDCD048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ая культура-часть общей культуры ми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44280"/>
            <a:ext cx="856908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63272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991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848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32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7768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716436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69920"/>
            <a:ext cx="727236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35344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20:03:28Z</dcterms:created>
  <dc:creator>Ангелина</dc:creator>
  <dc:description/>
  <dc:language>en-US</dc:language>
  <cp:lastModifiedBy>Ангелина</cp:lastModifiedBy>
  <dcterms:modified xsi:type="dcterms:W3CDTF">2015-02-08T20:26:19Z</dcterms:modified>
  <cp:revision>5</cp:revision>
  <dc:subject/>
  <dc:title>Спорт</dc:title>
</cp:coreProperties>
</file>