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BB9-AD9E-400A-A15F-1E1F34C3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064-8D97-4154-A163-797BB3F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FD9-1FE4-4369-B730-3D0A9B1B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24F-F48C-469B-80C4-572AFB70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D47-697F-43C7-A946-A7BC5FD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695-A321-4089-AF4A-A26CF8C0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5DD-E8EE-47D5-BE40-F668E629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A4C-98EE-4AC0-B703-CF2B1D1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2E1-8A86-42FC-995E-E8F318B1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E25-55EC-4158-A68C-203322A9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87D-5F6C-45BF-A5B2-796E755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21F-3604-423F-9FBE-6F03679A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35CD-02B2-43A7-8261-DD008DBD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ая культура-часть общей культуры ми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856908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327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32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776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716436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69920"/>
            <a:ext cx="727236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20:03:28Z</dcterms:created>
  <dc:creator>Ангелина</dc:creator>
  <dc:description/>
  <dc:language>en-US</dc:language>
  <cp:lastModifiedBy>Ангелина</cp:lastModifiedBy>
  <dcterms:modified xsi:type="dcterms:W3CDTF">2015-02-08T20:26:19Z</dcterms:modified>
  <cp:revision>5</cp:revision>
  <dc:subject/>
  <dc:title>Спорт</dc:title>
</cp:coreProperties>
</file>