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19E-23EC-47C0-97BD-17616401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551-4F33-4989-AC77-599A6A05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56A-DF91-46C6-82A8-E4F6E474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318-D3F7-490F-9942-3A0EB841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A2EC-D235-40BA-AE77-A3234471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2DB1-4DD8-4AEB-93B7-D26E7BB0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13F1-F107-4A6A-ACAC-0C9B905B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E047-4B09-439C-92F8-F1B6CCC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B78C-ED23-4156-BACD-D3236BBD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8E9F-E809-476F-8E14-6243CA5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50E6-988B-43C2-9149-291E5EAA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3CE-0128-4FD1-AAB1-08CB3CD8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C7A7-04AE-44EE-A487-269A06AC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016C-7DFB-48D6-A8C7-DF3CCD7D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7BCE-0650-418A-8570-87AE123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8D7D-2B0E-4214-B8D3-7F90FAAE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EBC7-38BE-4728-B21E-EE153DF8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097-B056-4FCC-8E73-44D7F32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55C-B929-43FC-ACE1-F51FACA7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08A-5C25-4E66-A839-DEC835AD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FCD-64A5-40BE-B081-3B22D059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E01-7036-4C7D-98F0-552B4CA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889-CA47-47BE-9A22-1974FB3B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8C1-CFEA-4EB7-9F22-9ADBE08B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2ECF-956E-44B3-9063-1FE87C9D4320}" type="slidenum">
              <a:rPr b="1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A404-F475-4DB5-A970-C7359873A27B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&#1060;&#1072;&#1081;&#1083;:Bahmeteva_Sofia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Непреходящая ценность </a:t>
            </a:r>
            <a:br>
              <a:rPr sz="2800"/>
            </a:b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подлинной поэзии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2060280"/>
            <a:ext cx="8077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лиясь в одну любовь, мы цепи бесконечной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Единое звено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 выше восходить в сияньи правды вечной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ам врозь не суждено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о было в утро наших лет -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 счастие! о слезы!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 лес! о жизнь! о солнца свет!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 свежий дух березы!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233280" indent="-2332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4" name="Picture 2" descr="http://upload.wikimedia.org/wikipedia/commons/thumb/a/a2/Sovremennik.jpg/220px-Sovremennik.jpg"/>
          <p:cNvPicPr/>
          <p:nvPr/>
        </p:nvPicPr>
        <p:blipFill>
          <a:blip r:embed="rId1"/>
          <a:stretch/>
        </p:blipFill>
        <p:spPr>
          <a:xfrm rot="20671200">
            <a:off x="221760" y="309240"/>
            <a:ext cx="1158840" cy="182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rasl.ru/science/Kartinky/Beseda/beseda.jpg"/>
          <p:cNvPicPr/>
          <p:nvPr/>
        </p:nvPicPr>
        <p:blipFill>
          <a:blip r:embed="rId2"/>
          <a:stretch/>
        </p:blipFill>
        <p:spPr>
          <a:xfrm rot="579000">
            <a:off x="7665840" y="2663640"/>
            <a:ext cx="1331640" cy="184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t1.gstatic.com/images?q=tbn:ANd9GcT4C5YFQjGg_o_Qh3avStCPvldcMCyw83Z8DwP0HlL6d-oP2Oy9Sg"/>
          <p:cNvPicPr/>
          <p:nvPr/>
        </p:nvPicPr>
        <p:blipFill>
          <a:blip r:embed="rId3"/>
          <a:stretch/>
        </p:blipFill>
        <p:spPr>
          <a:xfrm rot="1192800">
            <a:off x="6860880" y="401400"/>
            <a:ext cx="1147680" cy="1806480"/>
          </a:xfrm>
          <a:prstGeom prst="rect">
            <a:avLst/>
          </a:prstGeom>
          <a:ln w="9360">
            <a:solidFill>
              <a:srgbClr val="8585e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-214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«Средь шумного бала, случайно…» (1851 г.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1388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Средь шумного бала, случайно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В тревоге мирской суеты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Тебя я увидел, но тайна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Твои покрывала черты;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Лишь очи печально глядели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А голос так дивно звучал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Как звон отдалённой свирели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Как моря играющий вал.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Мне стан твой понравился тонкий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И весь твой задумчивый вид;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А смех твой, и грустный и звонкий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С тех пор в моем сердце звучит.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00720" y="785880"/>
            <a:ext cx="39621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В часы одинокие ночи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Люблю я, усталый прилечь —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Я вижу печальные очи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Я слышу веселую речь;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      </a:t>
            </a: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И грустно я так засыпаю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И в грёзах неведомых сплю…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Люблю ли тебя — я не знаю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rebuchet MS"/>
              </a:rPr>
              <a:t>Но кажется мне, что люблю!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0" name="Picture 2" descr="foto"/>
          <p:cNvPicPr/>
          <p:nvPr/>
        </p:nvPicPr>
        <p:blipFill>
          <a:blip r:embed="rId1"/>
          <a:stretch/>
        </p:blipFill>
        <p:spPr>
          <a:xfrm>
            <a:off x="4697280" y="3643200"/>
            <a:ext cx="414360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«Прозрачных облаков спокойное движенье…»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907920"/>
            <a:ext cx="50720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Прозрачных облаков спокойное движенье, Как дымкой солнечный перенимая свет,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То бледным золотом, то мягкой синей тенью Окрашивает даль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Нам тихий свой привет</a:t>
            </a:r>
            <a:br>
              <a:rPr sz="2000"/>
            </a:b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Шлет осень мирная. Ни резких очертаний, ни ярких красок нет. Землей пережита</a:t>
            </a:r>
            <a:br>
              <a:rPr sz="2000"/>
            </a:b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Пора роскошных сил и мощных трепетаний;</a:t>
            </a:r>
            <a:br>
              <a:rPr sz="2000"/>
            </a:b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Стремленья улеглись; иная красота</a:t>
            </a:r>
            <a:br>
              <a:rPr sz="2000"/>
            </a:br>
            <a:r>
              <a:rPr b="1" lang="ru-RU" sz="2000" spc="-1" strike="noStrike">
                <a:solidFill>
                  <a:srgbClr val="284c6a"/>
                </a:solidFill>
                <a:latin typeface="Trebuchet MS"/>
              </a:rPr>
              <a:t>Сменила прежнюю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3" name="Picture 2" descr="http://s57.radikal.ru/i157/1010/95/8a521d62bf4f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7824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Слеза дрожит в твоем ревнивом взоре </a:t>
            </a:r>
            <a:br>
              <a:rPr sz="3200"/>
            </a:b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34100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, не грусти, ты всё мне дорога!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о я любить могу лишь на просторе -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ою любовь, широкую, как море,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местить не могут жизни берега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2920" y="1125360"/>
            <a:ext cx="3962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Ты не грусти, земное минет горе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Пожди еще - неволя недолга,-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В одну любовь мы все сольемся вскоре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В одну любовь, широкую как море,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4c6a"/>
                </a:solidFill>
                <a:latin typeface="Trebuchet MS"/>
              </a:rPr>
              <a:t>Что не вместят земные берега!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расота природы и сила любви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6840" y="1905120"/>
            <a:ext cx="3962520" cy="4495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23640" y="1484280"/>
            <a:ext cx="828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4c6a"/>
                </a:solidFill>
                <a:latin typeface="Trebuchet MS"/>
              </a:rPr>
              <a:t>Природа и любовь, как два крыла, поднимают душу над землею.  Чувство огромной любви и неизменно сопровождающее его чувство наслаждения красотой мира, позволяет человеку выйти из времени в вечность. Образ Любви в творчестве А.Толстого - воплощение божественного начала, - окончательный смысл бытия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12120" indent="-31212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Художественное своеобразие лирики А.К.Толстого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Близость к народной поэтике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сихологический параллелизм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Лирический герой – отражение русского национального характера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оэтичность картин родной природ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едоговоренность финала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755640" y="115920"/>
            <a:ext cx="6804000" cy="1871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Любовь - как дерево; она вырастает сама соб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пускает глубоко корни во всё наше существо и неред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продолжает зеленеть и цвести даже на развали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нашего серд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В. Гю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539640" y="2565360"/>
            <a:ext cx="5040360" cy="1224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Любить - это находить в счастье друг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своё собственное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Г. Лейб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0"/>
          <p:cNvSpPr/>
          <p:nvPr/>
        </p:nvSpPr>
        <p:spPr>
          <a:xfrm>
            <a:off x="3059280" y="4005360"/>
            <a:ext cx="5833800" cy="1224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Любовь стоит ровно столько, сколько челов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который её испыт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Р. Ролл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179280" y="5373720"/>
            <a:ext cx="6048360" cy="1268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Быть любимым – это больше, чем быть богат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ибо быть любимым – значит быть счастли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К. Ти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50920" y="62064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4500720" y="549360"/>
            <a:ext cx="45352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*  * 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любить, так без рассуд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грозить, так не на шут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ругнуть, так сгоря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рубнуть, так уж сплеч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и спорить, так уж см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карать, так уж за д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ь простить, так всей душ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Коли пир, так пир гор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3b29"/>
                </a:solidFill>
                <a:latin typeface="Arial"/>
              </a:rPr>
              <a:t>185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324000" y="90792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1" descr="портрет толстого"/>
          <p:cNvPicPr/>
          <p:nvPr/>
        </p:nvPicPr>
        <p:blipFill>
          <a:blip r:embed="rId2"/>
          <a:stretch/>
        </p:blipFill>
        <p:spPr>
          <a:xfrm>
            <a:off x="108000" y="115920"/>
            <a:ext cx="4197240" cy="5400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2"/>
          <p:cNvSpPr/>
          <p:nvPr/>
        </p:nvSpPr>
        <p:spPr>
          <a:xfrm>
            <a:off x="0" y="5734080"/>
            <a:ext cx="4500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.П. Брюлло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рет графа А.К. Толстого в юности. 183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84c6a"/>
                </a:solidFill>
                <a:uFillTx/>
                <a:latin typeface="Trebuchet MS"/>
              </a:rPr>
              <a:t>Домашнее задание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Написать миниатюру (эссе) по выбранному афоризму (1 стр.)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Выбрать понравившееся стихотворение А.К.Толстого  и выучить наизусть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54936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Красота</a:t>
            </a:r>
            <a:br>
              <a:rPr sz="3200"/>
            </a:b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 любовной и пейзажной </a:t>
            </a:r>
            <a:br>
              <a:rPr sz="3200"/>
            </a:br>
            <a:r>
              <a:rPr b="1" lang="ru-RU" sz="3200" spc="-1" strike="noStrike">
                <a:solidFill>
                  <a:srgbClr val="284c6a"/>
                </a:solidFill>
                <a:latin typeface="Trebuchet MS"/>
              </a:rPr>
              <a:t>лирики  А.К.Толстого</a:t>
            </a:r>
            <a:r>
              <a:rPr b="1" lang="ru-RU" sz="2900" spc="-1" strike="noStrike">
                <a:solidFill>
                  <a:srgbClr val="284c6a"/>
                </a:solidFill>
                <a:latin typeface="Trebuchet MS"/>
              </a:rPr>
              <a:t>.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58560" y="5516280"/>
            <a:ext cx="53434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84c6a"/>
                </a:solidFill>
                <a:latin typeface="Trebuchet MS"/>
              </a:rPr>
              <a:t>Урок литературы</a:t>
            </a:r>
            <a:endParaRPr b="0" lang="en-US" sz="25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84c6a"/>
                </a:solidFill>
                <a:latin typeface="Trebuchet MS"/>
              </a:rPr>
              <a:t>10-Б класс</a:t>
            </a:r>
            <a:endParaRPr b="0" lang="en-US" sz="25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89" name="Picture 2" descr="http://er3ed.qrz.ru/tolstoi.jpg"/>
          <p:cNvPicPr/>
          <p:nvPr/>
        </p:nvPicPr>
        <p:blipFill>
          <a:blip r:embed="rId1"/>
          <a:srcRect l="0" t="0" r="1258" b="7901"/>
          <a:stretch/>
        </p:blipFill>
        <p:spPr>
          <a:xfrm>
            <a:off x="395280" y="549360"/>
            <a:ext cx="2500200" cy="3017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4468680" y="2637000"/>
            <a:ext cx="466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юду звук, и всюду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м мирам одно нача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ичего в природе 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бы любовью не дыш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Цели урока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905120"/>
            <a:ext cx="597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Выявить идейно-художественное своеобразие лирики А.К.Толстого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Проанализировать стихотворения поэта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3" name="Picture 2" descr="http://mglin-krai.narod.ru/Dvorci/A_Tolstoy.jpg"/>
          <p:cNvPicPr/>
          <p:nvPr/>
        </p:nvPicPr>
        <p:blipFill>
          <a:blip r:embed="rId1"/>
          <a:stretch/>
        </p:blipFill>
        <p:spPr>
          <a:xfrm>
            <a:off x="6072120" y="1071720"/>
            <a:ext cx="2716200" cy="40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807732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Алексей Константинович Толстой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2840" y="2643120"/>
            <a:ext cx="5286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русский писатель,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оэт,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драматург,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член-корреспондент Петербургской АН (1873),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граф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6" name="Picture 2" descr="http://img1.liveinternet.ru/images/attach/c/1/63/615/63615679_468pxA.jpg"/>
          <p:cNvPicPr/>
          <p:nvPr/>
        </p:nvPicPr>
        <p:blipFill>
          <a:blip r:embed="rId1"/>
          <a:stretch/>
        </p:blipFill>
        <p:spPr>
          <a:xfrm>
            <a:off x="285840" y="1714680"/>
            <a:ext cx="3279600" cy="4205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500040" y="59292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.К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уд. И.Репин, 187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Темы лирики А.К.Толстого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Любовная лирика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тихотворения о Родине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Пейзажная лирика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тихотворения о назначении поэзии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тихотворения на исторические тем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0" name="Picture 2" descr="http://s.biblion.ru/i/i/064/644658.jpg"/>
          <p:cNvPicPr/>
          <p:nvPr/>
        </p:nvPicPr>
        <p:blipFill>
          <a:blip r:embed="rId1"/>
          <a:stretch/>
        </p:blipFill>
        <p:spPr>
          <a:xfrm>
            <a:off x="5786280" y="2071800"/>
            <a:ext cx="296712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Жанровое многообразие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тихотворения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Баллад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Былины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Драма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Исторический роман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Сатирические пародии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108000" y="549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37620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7"/>
          <p:cNvSpPr/>
          <p:nvPr/>
        </p:nvSpPr>
        <p:spPr>
          <a:xfrm>
            <a:off x="250920" y="620640"/>
            <a:ext cx="30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8" descr="250px-Bahmeteva_Sof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4102200" cy="5300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0"/>
          <p:cNvSpPr/>
          <p:nvPr/>
        </p:nvSpPr>
        <p:spPr>
          <a:xfrm>
            <a:off x="108000" y="5516640"/>
            <a:ext cx="35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фья Андреевна Тол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(урождённая Бахмет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1"/>
          <p:cNvSpPr/>
          <p:nvPr/>
        </p:nvSpPr>
        <p:spPr>
          <a:xfrm>
            <a:off x="4356000" y="260280"/>
            <a:ext cx="4788000" cy="83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«Твой портрет передо мной, и перед ним букет ландышей и лесного жасмина, который я сорвал вчера в Княжеском Дворе, где мы были вмест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«Мой друг, пойми всё, что заключено в этих словах: настал день, когда я нуждаюсь в тебе, чтобы просто иметь возможность жить. Приди, чтобы оживить поэзией эту проз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Кровь застывает в сердце при одной мысли, что я могу тебя потерять,- и я себе говорю: как ужасно глупо расставаться! Думая о тебе, я в твоём образе не вижу ни одной тени, - всё лишь свет и счастье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(из писем А.К.Толстого Софье Андреев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Из письма к жене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29040" y="1928880"/>
            <a:ext cx="489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"</a:t>
            </a: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Я люблю тебя всеми способностями, всеми мыслями, всеми движениями, всеми страданиями и радостям и моей души</a:t>
            </a:r>
            <a:r>
              <a:rPr b="0" lang="ru-RU" sz="3200" spc="-1" strike="noStrike">
                <a:solidFill>
                  <a:srgbClr val="284c6a"/>
                </a:solidFill>
                <a:latin typeface="Trebuchet MS"/>
              </a:rPr>
              <a:t>"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                  </a:t>
            </a:r>
            <a:r>
              <a:rPr b="0" i="1" lang="ru-RU" sz="3200" spc="-1" strike="noStrike">
                <a:solidFill>
                  <a:srgbClr val="284c6a"/>
                </a:solidFill>
                <a:latin typeface="Trebuchet MS"/>
              </a:rPr>
              <a:t>А.К.Толстой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3" name="Picture 2" descr="http://t2.gstatic.com/images?q=tbn:ANd9GcRShXhg_IeUW0gt3MulD4RJTYt3S1K3BgRD8TApz_yU22XsgWG5bw"/>
          <p:cNvPicPr/>
          <p:nvPr/>
        </p:nvPicPr>
        <p:blipFill>
          <a:blip r:embed="rId1"/>
          <a:stretch/>
        </p:blipFill>
        <p:spPr>
          <a:xfrm>
            <a:off x="357120" y="1643040"/>
            <a:ext cx="3429000" cy="43210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0" y="6000840"/>
            <a:ext cx="38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Худ. Владимир  Первунинский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езнако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4c6a"/>
                </a:solidFill>
                <a:latin typeface="Trebuchet MS"/>
              </a:rPr>
              <a:t>«Средь шумного бала, случайно…» (1851 г.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6" name="Picture 2" descr="http://i029.radikal.ru/0804/9c/5fc9aac87848.jpg"/>
          <p:cNvPicPr/>
          <p:nvPr/>
        </p:nvPicPr>
        <p:blipFill>
          <a:blip r:embed="rId1"/>
          <a:stretch/>
        </p:blipFill>
        <p:spPr>
          <a:xfrm>
            <a:off x="1071720" y="1285920"/>
            <a:ext cx="7145280" cy="515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ём Корнилов</cp:lastModifiedBy>
  <dcterms:modified xsi:type="dcterms:W3CDTF">2015-04-07T07:33:06Z</dcterms:modified>
  <cp:revision>34</cp:revision>
  <dc:subject/>
  <dc:title>А.К.Толстой.  Стихотворения  «Средь шумного бала, случайно...»,  «История государства Российского...» </dc:title>
</cp:coreProperties>
</file>