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E518-7BC1-48B2-AF5A-57609097B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A67D-F8B4-4684-9E9A-D8F38B172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D276-4C80-4B94-B123-6B172895C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6D42-1782-4DB4-8A0D-24326E5E2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D869-5A69-4B57-9B61-52CCB8D1F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84CF-814E-48B0-80A7-57492C215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23E1-778A-4AB3-8801-98737356A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D433-7C26-43C6-A363-3BAE5B437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614C-3913-4302-87F5-F4D2F4941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09A8-8525-484E-A7FE-FEA7B940A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FE99-D881-480E-9D99-7A6E023A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9631-8273-4DA0-B708-9E81D838A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99528-2ECD-4E94-A4D1-5588065C0D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26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Engravers MT"/>
              </a:rPr>
              <a:t>Урок развития речи</a:t>
            </a:r>
            <a:br>
              <a:rPr sz="4800"/>
            </a:br>
            <a:r>
              <a:rPr b="1" lang="ru-RU" sz="4800" spc="-1" strike="noStrike">
                <a:solidFill>
                  <a:srgbClr val="333399"/>
                </a:solidFill>
                <a:latin typeface="Engravers MT"/>
              </a:rPr>
              <a:t>2 класс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5373360"/>
            <a:ext cx="91440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Гимназия № 11 им. С.П.Дягиле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учитель начальных класс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Козелкова О.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 карти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Галка и рядом кувшин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карти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4000" y="47973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Галка сидит на кувшине с камнем в клюве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4076640"/>
            <a:ext cx="8229600" cy="24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853272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8244000" y="6553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7885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9" dur="2268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268"/>
                            </p:stCondLst>
                            <p:childTnLst>
                              <p:par>
                                <p:cTn id="2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2" dur="2268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4536"/>
                            </p:stCondLst>
                            <p:childTnLst>
                              <p:par>
                                <p:cTn id="2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5" dur="2268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6804"/>
                            </p:stCondLst>
                            <p:childTnLst>
                              <p:par>
                                <p:cTn id="2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8" dur="2268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501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 картинка – </a:t>
            </a: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вода переполнила кувшин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 для чего мы составили план?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800" spc="-1" strike="noStrike">
                <a:solidFill>
                  <a:srgbClr val="ff9900"/>
                </a:solidFill>
                <a:latin typeface="Arial"/>
              </a:rPr>
              <a:t>Что бы воспроизвести текст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о это картинный план, мы же не будем в тетради рисовать картинки. Что делать?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ff9900"/>
                </a:solidFill>
                <a:latin typeface="Arial"/>
              </a:rPr>
              <a:t>Записать план предложениями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пиши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 можно сказать, что план – это текст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6f7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6f709"/>
                </a:solidFill>
                <a:latin typeface="Arial"/>
              </a:rPr>
              <a:t>(Да, все предложения связаны по смыслу, но в тексте не нумеруем предложения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8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8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8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5" dur="1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жалуйста, соберитесь в группы и подумайте, каким видом текста является пл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Дети работают в группах, доказывают свои точки зрения и приходят к вывод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ТЕКСТ - ПОВЕСТВОВАНИЕ - ЭТО СМЕНЯЮЩИЕ ДРУГ ДРУГА ПОСЛЕДОВАТЕЛЬНЫЕ СОБЫТ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так, нам потребуется модель плана текста-повество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 можно назвать эту часть тек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Начало действ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Развитие действ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Кульминац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Ито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Идет разговор по схем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то значит начало действия?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ff9900"/>
                </a:solidFill>
                <a:latin typeface="Arial"/>
              </a:rPr>
              <a:t>Почему начались события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а, что случилос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то она увидел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то начало действ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адим название. </a:t>
            </a:r>
            <a:r>
              <a:rPr b="1" lang="en-US" sz="2400" spc="-1" strike="noStrike" u="sng">
                <a:solidFill>
                  <a:srgbClr val="990033"/>
                </a:solidFill>
                <a:uFillTx/>
                <a:latin typeface="Arial"/>
              </a:rPr>
              <a:t>Хотела галка пить.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ие опорные слова будем использовать в этой части.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400" spc="-1" strike="noStrike">
                <a:solidFill>
                  <a:srgbClr val="ff9900"/>
                </a:solidFill>
                <a:latin typeface="Arial"/>
              </a:rPr>
              <a:t>Увидела, стоял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чему не сразу напилась?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ff9900"/>
                </a:solidFill>
                <a:latin typeface="Arial"/>
              </a:rPr>
              <a:t>Вода на дне – не достать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то это?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ff9900"/>
                </a:solidFill>
                <a:latin typeface="Arial"/>
              </a:rPr>
              <a:t>Развитие действия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адим название. </a:t>
            </a:r>
            <a:r>
              <a:rPr b="1" lang="en-US" sz="2400" spc="-1" strike="noStrike" u="sng">
                <a:solidFill>
                  <a:srgbClr val="990033"/>
                </a:solidFill>
                <a:uFillTx/>
                <a:latin typeface="Arial"/>
              </a:rPr>
              <a:t>Вода на дне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3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8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3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8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3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8" dur="5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3" dur="5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6" dur="5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3" dur="1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ие здесь опорные слова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99"/>
                </a:solidFill>
                <a:latin typeface="Arial"/>
              </a:rPr>
              <a:t>Стала брос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придумала гал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как Вы считаете, то что придумала галка, эта часть плана как называетс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99"/>
                </a:solidFill>
                <a:latin typeface="Arial"/>
              </a:rPr>
              <a:t>Кульмин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рно, молодцы, это самый важный, главный момент. Как бы события нарастают, нарастают и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мните свои версии, как же она напилас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вот у Толстого выход из ситуации тако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обще, галка очень умная птица, ее приручают, учат говорить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2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77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8" dur="77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0" dur="77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2" dur="77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у, а мы дадим какое название этому пункту плана? </a:t>
            </a:r>
            <a:r>
              <a:rPr b="1" lang="ru-RU" sz="2400" spc="-1" strike="noStrike" u="sng">
                <a:solidFill>
                  <a:srgbClr val="990033"/>
                </a:solidFill>
                <a:uFillTx/>
                <a:latin typeface="Arial"/>
              </a:rPr>
              <a:t>Галка бросает камеш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у и чем закончился рассказ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конец действия, ито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дим назв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990033"/>
                </a:solidFill>
                <a:uFillTx/>
                <a:latin typeface="Arial"/>
              </a:rPr>
              <a:t>Галка напилас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к какой же текст у нас получился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текст - повествов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ой текст называется повествованием? (</a:t>
            </a: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В котором сообщается, повествуется о каких-нибудь последовательный события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 каких именно? </a:t>
            </a:r>
            <a:r>
              <a:rPr b="1" i="1" lang="ru-RU" sz="2400" spc="-1" strike="noStrike" u="sng">
                <a:solidFill>
                  <a:srgbClr val="ff9900"/>
                </a:solidFill>
                <a:uFillTx/>
                <a:latin typeface="Arial"/>
              </a:rPr>
              <a:t>(Хотела, увидела, стала бросать, напилась, улетела)</a:t>
            </a: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3" dur="8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4" dur="8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5" dur="8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6868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у нас получилось?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400" spc="-1" strike="noStrike">
                <a:solidFill>
                  <a:srgbClr val="ff9900"/>
                </a:solidFill>
                <a:latin typeface="Arial"/>
              </a:rPr>
              <a:t>План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помогло составить план?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400" spc="-1" strike="noStrike">
                <a:solidFill>
                  <a:srgbClr val="ff9900"/>
                </a:solidFill>
                <a:latin typeface="Arial"/>
              </a:rPr>
              <a:t>Картинки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стигли мы цели урока? Вспомним е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Дети добавляют к цели, а учитель дописывает на доске:</a:t>
            </a:r>
            <a:r>
              <a:rPr b="1" lang="ru-RU" sz="2800" spc="-1" strike="noStrike" u="sng">
                <a:solidFill>
                  <a:srgbClr val="3333ff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990033"/>
                </a:solidFill>
                <a:uFillTx/>
                <a:latin typeface="Arial"/>
              </a:rPr>
              <a:t>Учиться составлять план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990033"/>
                </a:solidFill>
                <a:uFillTx/>
                <a:latin typeface="Arial"/>
              </a:rPr>
              <a:t>  </a:t>
            </a:r>
            <a:r>
              <a:rPr b="1" i="1" lang="ru-RU" sz="4000" spc="-1" strike="noStrike" u="sng">
                <a:solidFill>
                  <a:srgbClr val="990033"/>
                </a:solidFill>
                <a:uFillTx/>
                <a:latin typeface="Arial"/>
              </a:rPr>
              <a:t>при помощи картин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2" dur="8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8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0" dur="80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1" dur="80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7" dur="80"/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8" dur="80"/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9900"/>
                </a:solidFill>
                <a:uFillTx/>
                <a:latin typeface="Arial"/>
              </a:rPr>
              <a:t>Тема</a:t>
            </a:r>
            <a:r>
              <a:rPr b="0" lang="en-US" sz="5400" spc="-1" strike="noStrike">
                <a:solidFill>
                  <a:srgbClr val="ff9900"/>
                </a:solidFill>
                <a:latin typeface="Arial"/>
              </a:rPr>
              <a:t>. </a:t>
            </a:r>
            <a:r>
              <a:rPr b="1" lang="en-US" sz="5400" spc="-1" strike="noStrike">
                <a:solidFill>
                  <a:srgbClr val="ff9900"/>
                </a:solidFill>
                <a:latin typeface="Arial"/>
              </a:rPr>
              <a:t>Составление текста-повествования при помощи картинного плана.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33"/>
                </a:solidFill>
                <a:latin typeface="Arial"/>
              </a:rPr>
              <a:t>IV</a:t>
            </a:r>
            <a:r>
              <a:rPr b="1" i="1" lang="ru-RU" sz="3200" spc="-1" strike="noStrike">
                <a:solidFill>
                  <a:srgbClr val="990033"/>
                </a:solidFill>
                <a:latin typeface="Arial"/>
              </a:rPr>
              <a:t>. Работа в парах. Пересказ по пла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Arial"/>
              </a:rPr>
              <a:t>Я предлагаю поработать в парах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Arial"/>
              </a:rPr>
              <a:t>Расскажите друг другу текст по план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5" dur="2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0" dur="2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33"/>
                </a:solidFill>
                <a:latin typeface="Arial"/>
              </a:rPr>
              <a:t>V</a:t>
            </a:r>
            <a:r>
              <a:rPr b="1" lang="ru-RU" sz="5400" spc="-1" strike="noStrike">
                <a:solidFill>
                  <a:srgbClr val="990033"/>
                </a:solidFill>
                <a:latin typeface="Arial"/>
              </a:rPr>
              <a:t>. Рефлексия.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 теперь по шкале оцените свою рабо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      </a:t>
            </a: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могу са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      </a:t>
            </a: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могу с помощь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      </a:t>
            </a: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не могу напис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258920" y="3645000"/>
            <a:ext cx="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116000" y="4437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16000" y="5157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87280" y="3645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7" dur="8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8" dur="8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9" dur="8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4" dur="8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5" dur="8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6" dur="8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1" dur="8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2" dur="8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3" dur="8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то может рассказать текст по плану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3500280"/>
            <a:ext cx="82296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(В конце оставшегося времени несколько учащихся рассказывают текст по плану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0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9" dur="43995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годня мы уже не успеем записать этот текст. Да у нас и не было такой цели. Но пересказы у вас получились удачными. Я думаю, что если бы пришлось записывать, то не было бы пробл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800" spc="-1" strike="noStrike">
                <a:solidFill>
                  <a:srgbClr val="3333ff"/>
                </a:solidFill>
                <a:latin typeface="Arial"/>
              </a:rPr>
              <a:t>Спасибо за урок</a:t>
            </a:r>
            <a:r>
              <a:rPr b="0" lang="ru-RU" sz="3200" spc="-1" strike="noStrike">
                <a:solidFill>
                  <a:srgbClr val="3333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000"/>
                            </p:stCondLst>
                            <p:childTnLst>
                              <p:par>
                                <p:cTn id="4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1" dur="15649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3300"/>
                </a:solidFill>
                <a:uFillTx/>
                <a:latin typeface="Arial"/>
              </a:rPr>
              <a:t>Цель.</a:t>
            </a: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Помочь осознать особенности текста-повествования и научиться составлять план при помощи картинок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cc00"/>
                </a:solidFill>
                <a:latin typeface="Arial"/>
              </a:rPr>
              <a:t>I</a:t>
            </a:r>
            <a:r>
              <a:rPr b="1" i="1" lang="ru-RU" sz="3200" spc="-1" strike="noStrike">
                <a:solidFill>
                  <a:srgbClr val="99cc00"/>
                </a:solidFill>
                <a:latin typeface="Arial"/>
              </a:rPr>
              <a:t>. Актуализация знаний о признаках текста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доске запись:</a:t>
            </a:r>
            <a:br>
              <a:rPr sz="3200"/>
            </a:b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Хотела галка пить.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то прочитали?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ff9900"/>
                </a:solidFill>
                <a:latin typeface="Arial"/>
              </a:rPr>
              <a:t>Предложение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то называется предложение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 ком говорится в этом предложени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ff9900"/>
                </a:solidFill>
                <a:latin typeface="Arial"/>
              </a:rPr>
              <a:t>о галке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то говорится о галке?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ff9900"/>
                </a:solidFill>
                <a:latin typeface="Arial"/>
              </a:rPr>
              <a:t>хотела пить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жно ли узнать, как напилась галка?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ff9900"/>
                </a:solidFill>
                <a:latin typeface="Arial"/>
              </a:rPr>
              <a:t>нет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 как Вы думаете, как она напилась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(Работая в группах, дети высказывают версии  и выбирают более интересные для ответ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Молодцы, очень интересные версии.</a:t>
            </a:r>
            <a:br>
              <a:rPr sz="3600"/>
            </a:b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- А хотите узнать как об этом написал Л.Н.Толстой?</a:t>
            </a:r>
            <a:br>
              <a:rPr sz="3600"/>
            </a:b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На доске появляется текс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4292640"/>
            <a:ext cx="82296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Хотела галка пить. На дворе стоял кувшин с водой, а в кувшине была вода только на дне. Галке нельзя было достать. Она стала кидать в кувшин камешки и столько наклала, что вода стала выше и можно было пи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то причитали?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ff9900"/>
                </a:solidFill>
                <a:latin typeface="Arial"/>
              </a:rPr>
              <a:t>текст, рассказ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кажите, что это текст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ff9900"/>
                </a:solidFill>
                <a:latin typeface="Arial"/>
              </a:rPr>
              <a:t>Несколько предложений, все связаны по смыслу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пределите тему этого текста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ff9900"/>
                </a:solidFill>
                <a:latin typeface="Arial"/>
              </a:rPr>
              <a:t>про галку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пределите главную мысль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ff9900"/>
                </a:solidFill>
                <a:latin typeface="Arial"/>
              </a:rPr>
              <a:t>как галка сумела попить воды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   А как бы Вы озаглавили текст?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ff9900"/>
                </a:solidFill>
                <a:latin typeface="Arial"/>
              </a:rPr>
              <a:t>Умная галка…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чему Вы правильно и быстро отвечали на вопросы? Что Вам помогло?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ff9900"/>
                </a:solidFill>
                <a:latin typeface="Arial"/>
              </a:rPr>
              <a:t>Определение, что такое текст. Умение выделить главную мысль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99"/>
                </a:solidFill>
                <a:latin typeface="Arial"/>
              </a:rPr>
              <a:t>II</a:t>
            </a:r>
            <a:r>
              <a:rPr b="1" i="1" lang="ru-RU" sz="3200" spc="-1" strike="noStrike">
                <a:solidFill>
                  <a:srgbClr val="ff3399"/>
                </a:solidFill>
                <a:latin typeface="Arial"/>
              </a:rPr>
              <a:t>. Определение задачи уро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у, а теперь вернемся к нашему текст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Чтобы записать текст, что вам могло бы помочь?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800" spc="-1" strike="noStrike">
                <a:solidFill>
                  <a:srgbClr val="ff9900"/>
                </a:solidFill>
                <a:latin typeface="Arial"/>
              </a:rPr>
              <a:t>план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Сегодня готового плана нет. Что делать?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800" spc="-1" strike="noStrike">
                <a:solidFill>
                  <a:srgbClr val="ff9900"/>
                </a:solidFill>
                <a:latin typeface="Arial"/>
              </a:rPr>
              <a:t>надо составить план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А Вы умеете это делать?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800" spc="-1" strike="noStrike">
                <a:solidFill>
                  <a:srgbClr val="ff9900"/>
                </a:solidFill>
                <a:latin typeface="Arial"/>
              </a:rPr>
              <a:t>нет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к какова цель нашего урока? (</a:t>
            </a: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на доске появляется запис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Цель.Учиться составлять пл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8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33"/>
                </a:solidFill>
                <a:latin typeface="Arial"/>
              </a:rPr>
              <a:t>III</a:t>
            </a:r>
            <a:r>
              <a:rPr b="1" i="1" lang="ru-RU" sz="4000" spc="-1" strike="noStrike">
                <a:solidFill>
                  <a:srgbClr val="990033"/>
                </a:solidFill>
                <a:latin typeface="Arial"/>
              </a:rPr>
              <a:t>. Составление план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уществует несколько видов плана. Сегодня я вам предлагаю составить картинный пла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ак Вы думаете, сколько картинок можно нарисовать к этому тексту? (</a:t>
            </a:r>
            <a:r>
              <a:rPr b="1" i="1" lang="ru-RU" sz="2800" spc="-1" strike="noStrike">
                <a:solidFill>
                  <a:srgbClr val="ff9900"/>
                </a:solidFill>
                <a:latin typeface="Arial"/>
              </a:rPr>
              <a:t>3-4-5 … дети объясняют, почему столько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чень хорошо, спасибо. Но нам придется этот текст запис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Чтобы написать текст, что мы должны сделать? (</a:t>
            </a:r>
            <a:r>
              <a:rPr b="1" i="1" lang="ru-RU" sz="2800" spc="-1" strike="noStrike">
                <a:solidFill>
                  <a:srgbClr val="ff9900"/>
                </a:solidFill>
                <a:latin typeface="Arial"/>
              </a:rPr>
              <a:t>Определить порядок записи предложений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9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4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Я Вам предлагаю картинки. У меня их всего тр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 Вы думаете, можно ли по картинкам воспроизвести текст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ff9900"/>
                </a:solidFill>
                <a:latin typeface="Arial"/>
              </a:rPr>
              <a:t>Да, можно, но картинки перепутаны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орошо, разложите картинки в порядке очередности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. (</a:t>
            </a:r>
            <a:r>
              <a:rPr b="0" i="1" lang="en-US" sz="2400" spc="-1" strike="noStrike">
                <a:solidFill>
                  <a:srgbClr val="ff9900"/>
                </a:solidFill>
                <a:latin typeface="Arial"/>
              </a:rPr>
              <a:t>Дети коллективно раскладывают картинки в порядке очередности происходящих событий и обосновывают свой выбор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 Вы думаете, что мы составили с помощью этих картинок?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ff9900"/>
                </a:solidFill>
                <a:latin typeface="Arial"/>
              </a:rPr>
              <a:t>План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лодцы, у нас получился картинный пла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1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6" dur="2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1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8000"/>
                            </p:stCondLst>
                            <p:childTnLst>
                              <p:par>
                                <p:cTn id="2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3" dur="1679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5T12:09:28Z</dcterms:created>
  <dc:creator>Ann</dc:creator>
  <dc:description/>
  <dc:language>en-US</dc:language>
  <cp:lastModifiedBy>Ann</cp:lastModifiedBy>
  <dcterms:modified xsi:type="dcterms:W3CDTF">2009-11-29T16:54:06Z</dcterms:modified>
  <cp:revision>13</cp:revision>
  <dc:subject/>
  <dc:title>Урок развития речи № 1 (2 класс).    Учитель начальных классов Козелкова О.С.</dc:title>
</cp:coreProperties>
</file>