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F90-7EA7-4588-AE69-ADC153B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2D7-0A0B-4915-A8E4-3CBA8FF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E28-1DD6-4641-BAB0-C98CADB6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4C3-FA4B-4159-87F3-17D01385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E55-B20C-4F40-8499-33D86D0F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383-BDFE-440F-83D7-672168AD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837-5B22-4CFE-B208-3AE5E3AD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A56-8430-41BC-BD48-10589F5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65A-B83B-4894-AE65-95806DC7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38F-1D5E-4CC7-9842-95DE790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093-CD96-422B-9952-E39D9FC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31F-2AB4-443C-B2F4-1D5ADE7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DAA8-BBDF-425A-A270-F749A61D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Engravers MT"/>
              </a:rPr>
              <a:t>Урок развития речи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Engravers MT"/>
              </a:rPr>
              <a:t>2 клас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Гимназия № 11 им. С.П.Дягил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Козелкова О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карт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Галка и рядом кувши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карт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алка сидит на кувшине с камнем в клюв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76640"/>
            <a:ext cx="822960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226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68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26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36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26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804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26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картинка –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вода переполнила кувши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для чего мы составили план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Что бы воспроизвести текст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это картинный план, мы же не будем в тетради рисовать картинки. Что делать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Записать план предложениям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можно сказать, что план – это текс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f7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709"/>
                </a:solidFill>
                <a:latin typeface="Arial"/>
              </a:rPr>
              <a:t>(Да, все предложения связаны по смыслу, но в тексте не нумеруем предложения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луйста, соберитесь в группы и подумайте, каким видом текста являетс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ти работают в группах, доказывают свои точки зрения и приходят к выв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ЕКСТ - ПОВЕСТВОВАНИЕ - ЭТО СМЕНЯЮЩИЕ ДРУГ ДРУГА ПОСЛЕДОВАТЕЛЬНЫЕ СО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ак, нам потребуется модель плана текста-пове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ожно назвать эту часть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чал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Развити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ульмин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т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Идет разговор по схе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значит начало действия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очему начались событи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, ч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на увид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ачал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дим название.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Хотела галка пить.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опорные слова будем использовать в этой части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Увидела, стоял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не сразу напилась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Вода на дне – не дост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Развитие действи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дим название.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Вода на дне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здесь опорные сло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Стала бро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идумала гал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 Вы считаете, то что придумала галка, эта часть плана как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ульм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, молодцы, это самый важный, главный момент. Как бы события нарастают, нарастают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 свои версии, как же она напила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у Толстого выход из ситуации та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бще, галка очень умная птица, ее приручают, учат говорить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мы дадим какое название этому пункту плана?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Галка бросает каме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и чем закончился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нец действия, ит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дим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Галка напи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ой же текст у нас получил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текст - пове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текст называется повествованием? (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 котором сообщается, повествуется о каких-нибудь последовательный событ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их именно? </a:t>
            </a: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(Хотела, увидела, стала бросать, напилась, улетела)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у нас получилось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омогло составить план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Картин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ли мы цели урока? Вспомним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ети добавляют к цели, а учитель дописывает на доске:</a:t>
            </a:r>
            <a:r>
              <a:rPr b="1" lang="ru-RU" sz="2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Учиться составлять пл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33"/>
                </a:solidFill>
                <a:uFillTx/>
                <a:latin typeface="Arial"/>
              </a:rPr>
              <a:t>  </a:t>
            </a:r>
            <a:r>
              <a:rPr b="1" i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при помощи карти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Тема</a:t>
            </a: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Составление текста-повествования при помощи картинного пла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IV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. Работа в парах. Пересказ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Я предлагаю поработать в пар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сскажите друг другу текст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. Рефлексия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еперь по шкале оцените сво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могу 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могу с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не могу напи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3645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может рассказать текст по план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(В конце оставшегося времени несколько учащихся рассказывают текст по плану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4399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мы уже не успеем записать этот текст. Да у нас и не было такой цели. Но пересказы у вас получились удачными. Я думаю, что если бы пришлось записывать, то не было бы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3333ff"/>
                </a:solidFill>
                <a:latin typeface="Arial"/>
              </a:rPr>
              <a:t>Спасибо за урок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564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Цель.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Помочь осознать особенности текста-повествования и научиться составлять план при помощи картин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. Актуализация знаний о признаках тек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запись: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Хотела галка пить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очитали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редложени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ется предлож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ом говорится в этом предложен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о галк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говорится о галке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хотела пи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узнать, как напилась галка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не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ак Вы думаете, как она напила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Работая в группах, дети высказывают версии  и выбирают более интересные для отве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Молодцы, очень интересные версии.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- А хотите узнать как об этом написал Л.Н.Толстой?</a:t>
            </a:r>
            <a:br>
              <a:rPr sz="36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На доске появляется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Хотела галка пить. На дворе стоял кувшин с водой, а в кувшине была вода только на дне. Галке нельзя было достать. Она стала кидать в кувшин камешки и столько наклала, что вода стала выше и можно было 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ичитали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текст, расска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жите, что это текс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Несколько предложений, все связаны по смысл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тему этого текст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ро галк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главную мысл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как галка сумела попить вод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А как бы Вы озаглавили текст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Умная галка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Вы правильно и быстро отвечали на вопросы? Что Вам помогло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Определение, что такое текст. Умение выделить главную мысл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. Определение задач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теперь вернемся к нашему тек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бы записать текст, что вам могло бы помоч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годня готового плана нет. Что делат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надо составить пла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 Вы умеете это делат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ова цель нашего урока? (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а доске появляется запи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Цель.Учиться составлять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III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. Составление пл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ет несколько видов плана. Сегодня я вам предлагаю составить картинны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Вы думаете, сколько картинок можно нарисовать к этому тексту? (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3-4-5 … дети объясняют, почему стольк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чень хорошо, спасибо. Но нам придется этот текст за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бы написать текст, что мы должны сделать? (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Определить порядок записи предложен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Вам предлагаю картинки. У меня их всего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можно ли по картинкам воспроизвести текс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Да, можно, но картинки перепутан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, разложите картинки в порядке очередност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Дети коллективно раскладывают картинки в порядке очередности происходящих событий и обосновывают свой выб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что мы составили с помощью этих картинок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одцы, у нас получился картинны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67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09:28Z</dcterms:created>
  <dc:creator>Ann</dc:creator>
  <dc:description/>
  <dc:language>en-US</dc:language>
  <cp:lastModifiedBy>Ann</cp:lastModifiedBy>
  <dcterms:modified xsi:type="dcterms:W3CDTF">2009-11-29T16:54:06Z</dcterms:modified>
  <cp:revision>13</cp:revision>
  <dc:subject/>
  <dc:title>Урок развития речи № 1 (2 класс).    Учитель начальных классов Козелкова О.С.</dc:title>
</cp:coreProperties>
</file>