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B878-53B8-40D4-BD7A-35B52197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924A-A805-4CCB-8F43-6C929F4A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7BAD-143C-4012-B679-939D7954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BC2-2094-423A-B4E2-AB05E8C5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ADF-BF74-4A83-BC0A-D74A4DD8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723D-1BDC-4DDF-B017-0E5BC452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9E7F-F565-4705-A819-75990A74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1AA7-DE31-43BB-846D-1656D8CB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6280-43AF-425C-A938-6D1DAAC1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2D26-D429-48AB-8989-D812F19F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528F-990D-4E8C-9F90-ACF00D4E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8BB0-9ED2-45E7-A546-C1FFA605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28EE-F887-4B67-BA74-856C80C91D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5052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лияет ли цвет глаз на остроту зрения?</a:t>
            </a:r>
            <a:br>
              <a:rPr sz="4000"/>
            </a:b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следовательская работ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56000" y="4868640"/>
            <a:ext cx="2879640" cy="15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зентацию подготовил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ница 4 б класс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БОУ СОШ №25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нкт-Петербур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дриенко Верон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ководитель: Устинова Т.Ф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http://www.chartsinfrance.net/communaute/uploads/profile/photo-46208.jpg?_r=1338204842"/>
          <p:cNvPicPr/>
          <p:nvPr/>
        </p:nvPicPr>
        <p:blipFill>
          <a:blip r:embed="rId1"/>
          <a:stretch/>
        </p:blipFill>
        <p:spPr>
          <a:xfrm>
            <a:off x="826920" y="1628640"/>
            <a:ext cx="5077080" cy="39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561960" y="214200"/>
            <a:ext cx="81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ё исследование я провела среди членов своей семь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357120" y="1285920"/>
            <a:ext cx="5286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 Алексан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4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: 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живания: 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глаза: ка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а находятся в постоянном напря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яжение вызвано работой, загрязн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ей среды , просмотром телевизора и проведением большого  времени за компьюте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работы получил дальнозор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Lenin\Desktop\IMG4084.jpg"/>
          <p:cNvPicPr/>
          <p:nvPr/>
        </p:nvPicPr>
        <p:blipFill>
          <a:blip r:embed="rId1"/>
          <a:stretch/>
        </p:blipFill>
        <p:spPr>
          <a:xfrm>
            <a:off x="5786280" y="1500120"/>
            <a:ext cx="2889360" cy="400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Lenin\Desktop\IMG4079.jpg"/>
          <p:cNvPicPr/>
          <p:nvPr/>
        </p:nvPicPr>
        <p:blipFill>
          <a:blip r:embed="rId1"/>
          <a:stretch/>
        </p:blipFill>
        <p:spPr>
          <a:xfrm>
            <a:off x="5367240" y="714240"/>
            <a:ext cx="3405240" cy="46436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285840" y="1571760"/>
            <a:ext cx="5000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Натал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44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: водитель трам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живания: г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глаз: светло-кар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а находятся в напряжении в связи с работой. Из-за работы получила дальнозор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C:\Users\Lenin\Desktop\IMG4085.jpg"/>
          <p:cNvPicPr/>
          <p:nvPr/>
        </p:nvPicPr>
        <p:blipFill>
          <a:blip r:embed="rId1"/>
          <a:stretch/>
        </p:blipFill>
        <p:spPr>
          <a:xfrm>
            <a:off x="5214960" y="642960"/>
            <a:ext cx="2819520" cy="37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Прямоугольник 4"/>
          <p:cNvSpPr/>
          <p:nvPr/>
        </p:nvSpPr>
        <p:spPr>
          <a:xfrm>
            <a:off x="357120" y="3500280"/>
            <a:ext cx="7358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 - Арт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ость: студент ВУ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живания :г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глаз: кар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а находятся в напряжении из-за того, что много сидит за компью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зорукость и дальнозоркость отсут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Lenin\Desktop\IMG4081.jpg"/>
          <p:cNvPicPr/>
          <p:nvPr/>
        </p:nvPicPr>
        <p:blipFill>
          <a:blip r:embed="rId1"/>
          <a:stretch/>
        </p:blipFill>
        <p:spPr>
          <a:xfrm>
            <a:off x="5214960" y="285840"/>
            <a:ext cx="3471840" cy="472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Прямоугольник 2"/>
          <p:cNvSpPr/>
          <p:nvPr/>
        </p:nvSpPr>
        <p:spPr>
          <a:xfrm>
            <a:off x="285840" y="3286080"/>
            <a:ext cx="7643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- Веро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раст: 10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нятость: ученица 4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сто проживания: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вет глаз: тёмно-кар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сто проживания: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за так же находятся в напряжении, но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таком сильном ,как у предыду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ников, из-за того что не часто пользуюсь компьюте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лизорукость и дальнозоркость отсут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24\Pictures\2014-03-17\IMG_20140317_141726.jpg"/>
          <p:cNvPicPr/>
          <p:nvPr/>
        </p:nvPicPr>
        <p:blipFill>
          <a:blip r:embed="rId1"/>
          <a:stretch/>
        </p:blipFill>
        <p:spPr>
          <a:xfrm>
            <a:off x="4405320" y="428760"/>
            <a:ext cx="4191120" cy="31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Прямоугольник 2"/>
          <p:cNvSpPr/>
          <p:nvPr/>
        </p:nvSpPr>
        <p:spPr>
          <a:xfrm>
            <a:off x="642960" y="2714760"/>
            <a:ext cx="5643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лассник – Ег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1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ость: ученик 4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живания :г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глаз: янтар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а находятся в напряжении, часто неправильно сидит, низко склоняется над книжкой или тетрадкой, когда пиш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это может привести к близору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865800" y="4287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днокласс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2"/>
          <p:cNvSpPr/>
          <p:nvPr/>
        </p:nvSpPr>
        <p:spPr>
          <a:xfrm>
            <a:off x="571680" y="3786120"/>
            <a:ext cx="7858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лассница - Ю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1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ость: ученица 4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живания :г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глаз: сер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ля следит за осанкой при чтении и письме, делает гимнастику для глаз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зорукость и дальнозоркость отсут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24\Pictures\Мои ученики\Глаза\2014-01-22\DSC00215.JPG"/>
          <p:cNvPicPr/>
          <p:nvPr/>
        </p:nvPicPr>
        <p:blipFill>
          <a:blip r:embed="rId1"/>
          <a:stretch/>
        </p:blipFill>
        <p:spPr>
          <a:xfrm>
            <a:off x="4572000" y="571680"/>
            <a:ext cx="3881520" cy="291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C:\Users\24\Pictures\2014-03-17\IMG_20140317_141545.jpg"/>
          <p:cNvPicPr/>
          <p:nvPr/>
        </p:nvPicPr>
        <p:blipFill>
          <a:blip r:embed="rId1"/>
          <a:stretch/>
        </p:blipFill>
        <p:spPr>
          <a:xfrm>
            <a:off x="4952880" y="428760"/>
            <a:ext cx="3714840" cy="27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Прямоугольник 2"/>
          <p:cNvSpPr/>
          <p:nvPr/>
        </p:nvSpPr>
        <p:spPr>
          <a:xfrm>
            <a:off x="857160" y="3643200"/>
            <a:ext cx="7572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лассница - Даш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1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ость: ученица 4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живания :г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глаз: голу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а находятся в напряжении, так как большая учебная нагрузка, но Даша следит за осанкой при чтении и письме, делает зарядку для глаз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зорукость и дальнозоркость отсут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357120" y="456480"/>
            <a:ext cx="84297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риведенных данных моего исследования я сделала вывод, ч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глаз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естественным фактором, и в целом не влияет на остроту зрения как таков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от снижение остроты зрения является весьма распространенной проблемой, которая может быть вызвана возрастными изменениями, а так же наследственными факторами, чрезмерной нагрузке на глаза, а так же вследствие заболеваний или стре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http://bm.img.com.ua/img/prikol/images/large/4/9/154594_275845.jpg"/>
          <p:cNvPicPr/>
          <p:nvPr/>
        </p:nvPicPr>
        <p:blipFill>
          <a:blip r:embed="rId1"/>
          <a:stretch/>
        </p:blipFill>
        <p:spPr>
          <a:xfrm>
            <a:off x="500040" y="1571760"/>
            <a:ext cx="2095560" cy="157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1" name="Picture 4" descr="http://alternativa-hd.ru/wp-content/uploads/2013/04/%D0%A0%D0%B5%D0%B1%D0%B5%D0%BD%D0%BE%D0%BA.jpg"/>
          <p:cNvPicPr/>
          <p:nvPr/>
        </p:nvPicPr>
        <p:blipFill>
          <a:blip r:embed="rId2"/>
          <a:stretch/>
        </p:blipFill>
        <p:spPr>
          <a:xfrm>
            <a:off x="2928960" y="1500120"/>
            <a:ext cx="1571760" cy="15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Picture 10" descr="http://www.ipnews.org/wp-content/uploads/2013/03/Px3WGvBjkVc.jpg"/>
          <p:cNvPicPr/>
          <p:nvPr/>
        </p:nvPicPr>
        <p:blipFill>
          <a:blip r:embed="rId3"/>
          <a:stretch/>
        </p:blipFill>
        <p:spPr>
          <a:xfrm>
            <a:off x="6858000" y="3571920"/>
            <a:ext cx="188136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Picture 6" descr="http://kidssun.ru/wp-content/uploads/2009/06/41.jpg"/>
          <p:cNvPicPr/>
          <p:nvPr/>
        </p:nvPicPr>
        <p:blipFill>
          <a:blip r:embed="rId4"/>
          <a:stretch/>
        </p:blipFill>
        <p:spPr>
          <a:xfrm>
            <a:off x="357120" y="3500280"/>
            <a:ext cx="1800360" cy="14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Picture 4" descr="http://i58.photobucket.com/albums/g269/faith1539/childs_eyes.jpg"/>
          <p:cNvPicPr/>
          <p:nvPr/>
        </p:nvPicPr>
        <p:blipFill>
          <a:blip r:embed="rId5"/>
          <a:stretch/>
        </p:blipFill>
        <p:spPr>
          <a:xfrm>
            <a:off x="4786200" y="3500280"/>
            <a:ext cx="1905120" cy="14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Picture 10" descr="http://www.greenmama.ru/dn_images/00/65/58/95/1202481471200685.jpg"/>
          <p:cNvPicPr/>
          <p:nvPr/>
        </p:nvPicPr>
        <p:blipFill>
          <a:blip r:embed="rId6"/>
          <a:stretch/>
        </p:blipFill>
        <p:spPr>
          <a:xfrm>
            <a:off x="2643120" y="3500280"/>
            <a:ext cx="1857600" cy="148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Picture 8" descr="http://siberian-photo.ru/data/media/50/IMG_7176_.jpg"/>
          <p:cNvPicPr/>
          <p:nvPr/>
        </p:nvPicPr>
        <p:blipFill>
          <a:blip r:embed="rId7"/>
          <a:stretch/>
        </p:blipFill>
        <p:spPr>
          <a:xfrm>
            <a:off x="4786200" y="1571760"/>
            <a:ext cx="2151000" cy="14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Picture 4" descr="http://static4.kupivip.ru/V0/01/10/82/77/1b.jpg"/>
          <p:cNvPicPr/>
          <p:nvPr/>
        </p:nvPicPr>
        <p:blipFill>
          <a:blip r:embed="rId8"/>
          <a:stretch/>
        </p:blipFill>
        <p:spPr>
          <a:xfrm>
            <a:off x="7286760" y="1357200"/>
            <a:ext cx="126972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http://kindereshka.ru/i164.jpg"/>
          <p:cNvPicPr/>
          <p:nvPr/>
        </p:nvPicPr>
        <p:blipFill>
          <a:blip r:embed="rId1"/>
          <a:stretch/>
        </p:blipFill>
        <p:spPr>
          <a:xfrm>
            <a:off x="357120" y="928800"/>
            <a:ext cx="3222720" cy="214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0" name="Rectangle 3"/>
          <p:cNvSpPr/>
          <p:nvPr/>
        </p:nvSpPr>
        <p:spPr>
          <a:xfrm>
            <a:off x="3857760" y="300600"/>
            <a:ext cx="4714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рмальное зрение главным образом зависит от достаточного и правильного кровоснабжения головного мозга. А оно, в свою очередь, зависит и от осанки. Кроме того, много занимаясь, ученик устает и не обращает внимания на согнутую спину, что ведет к смещению шейных позвонков. Они могут способствовать защемлению нервов, и как вытекающее из этого, начинаются проблемы со зр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http://chudetstvo.ru/uploads/posts/2010-05/1273049450_foto_7.8.jpg"/>
          <p:cNvPicPr/>
          <p:nvPr/>
        </p:nvPicPr>
        <p:blipFill>
          <a:blip r:embed="rId2"/>
          <a:stretch/>
        </p:blipFill>
        <p:spPr>
          <a:xfrm>
            <a:off x="2357280" y="4143240"/>
            <a:ext cx="4983480" cy="22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3492360" y="429480"/>
            <a:ext cx="5151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вольно часто ученики слишком низко склоняют голову над тетрадкой или книжкой и начинает «писать носом». Обычно это происходит в случае, когда они слишком устали или занимают совершенно неудобное положение. Все это в свою очередь сказывается на зоркости и может привести к такому неприятному заболеванию как близору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5" descr="http://kindereshka.ru/i167.jpg"/>
          <p:cNvPicPr/>
          <p:nvPr/>
        </p:nvPicPr>
        <p:blipFill>
          <a:blip r:embed="rId1"/>
          <a:stretch/>
        </p:blipFill>
        <p:spPr>
          <a:xfrm>
            <a:off x="395280" y="1052640"/>
            <a:ext cx="2792520" cy="185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2411280" y="3716280"/>
            <a:ext cx="57708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"/>
          <p:cNvSpPr/>
          <p:nvPr/>
        </p:nvSpPr>
        <p:spPr>
          <a:xfrm>
            <a:off x="1928880" y="428760"/>
            <a:ext cx="635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га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бывают разные: голубые, карие, зеленые и чер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ице сидят, вперед себя гляд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Глаза"/>
          <p:cNvPicPr/>
          <p:nvPr/>
        </p:nvPicPr>
        <p:blipFill>
          <a:blip r:embed="rId1"/>
          <a:stretch/>
        </p:blipFill>
        <p:spPr>
          <a:xfrm>
            <a:off x="285840" y="1714680"/>
            <a:ext cx="2846160" cy="276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4" descr="http://www.ipnews.org/wp-content/uploads/2013/03/Px3WGvBjkVc.jpg"/>
          <p:cNvPicPr/>
          <p:nvPr/>
        </p:nvPicPr>
        <p:blipFill>
          <a:blip r:embed="rId2"/>
          <a:stretch/>
        </p:blipFill>
        <p:spPr>
          <a:xfrm>
            <a:off x="2928960" y="2428920"/>
            <a:ext cx="3524400" cy="264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Picture 6" descr="http://i58.photobucket.com/albums/g269/faith1539/childs_eyes.jpg"/>
          <p:cNvPicPr/>
          <p:nvPr/>
        </p:nvPicPr>
        <p:blipFill>
          <a:blip r:embed="rId3"/>
          <a:stretch/>
        </p:blipFill>
        <p:spPr>
          <a:xfrm>
            <a:off x="5857920" y="4286160"/>
            <a:ext cx="2952720" cy="22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58920" y="463680"/>
            <a:ext cx="842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временем возрастает учебная нагрузка и как следствие увеличивается нагрузка на глаза. С усложнением учебных задач мышцы шеи начинают напрягаться быстрее и больше, ученик опускает голову еще ниже, глаза устают все сильнее. Врач разводит руками и определяет диагноз «близорук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4289400" cy="3230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6227640" y="2708280"/>
            <a:ext cx="21607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usmishka.at.ua/pics/docs/osanka.gif"/>
          <p:cNvPicPr/>
          <p:nvPr/>
        </p:nvPicPr>
        <p:blipFill>
          <a:blip r:embed="rId1"/>
          <a:stretch/>
        </p:blipFill>
        <p:spPr>
          <a:xfrm>
            <a:off x="2689200" y="3429000"/>
            <a:ext cx="3765600" cy="302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55640" y="239040"/>
            <a:ext cx="763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рабочего стола и правильного стула зависит очень многое. Например, верное положение спины, рук и ног при чтении, письме и рисовании. Письменный стол должен быть таким, чтобы вы могли свободно положить руки на него, при этом, не прикладывая усилий и не поднимая плечи, и не сгибаясь в спине. А ноги в свою очередь, должны как можно ровнее стоять на полу (не забывайте, что между бедром и голенью - прямой угол). Ни в коем случае нельзя допускать, чтобы ноги висели, не касались пол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авила, чтобы не испортилось зр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764640"/>
            <a:ext cx="8286840" cy="46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итай , пиши только при хорошем освещении, но помни, что яркий свет не должен попадать на глаз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леди за  тем, чтобы книга или тетрадь были на расстоянии 30 – 35 см от глаз. Для этого поставь руку локтём на стол и кончиками пальцев дотроньтесь до вис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нигу при чтении полезно поставить на наклонную подставку. При письме свет должен падать слева. Иначе тень от руки закроет тетрад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Не читай в транспорте. Книга прыгает перед глазами, и они устают быстр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редно для глаза подолгу смотреть телевизор, компьютер. Нельзя смотреть передачи более 1,5 часа. Садись от экрана телевизора не ближе, чем в 2-3 метр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468360" y="5105520"/>
            <a:ext cx="1271520" cy="1211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1979640" y="5102280"/>
            <a:ext cx="1258920" cy="1235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3492360" y="5111640"/>
            <a:ext cx="1511280" cy="113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4"/>
          <a:stretch/>
        </p:blipFill>
        <p:spPr>
          <a:xfrm>
            <a:off x="5148360" y="5072040"/>
            <a:ext cx="1944720" cy="1216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5"/>
          <a:stretch/>
        </p:blipFill>
        <p:spPr>
          <a:xfrm>
            <a:off x="7308720" y="5084640"/>
            <a:ext cx="15112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642960" y="229320"/>
            <a:ext cx="8001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мнастика для гл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бы не терялась острота зрения, нужно правильно выполнять комплекс упражнений для глаз. Зарядка для глаз состоит в следующ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Необходимо несколько раз перевести взгляд с ближнего предмета на дальний — посмотреть на одинокую ворону на дереве, поджидающих на улице друзей, плывущие в небе обла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) 5–10 раз широко открыть, а затем зажмурить гл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Пострелять глазками вправо-влево, вверх-вниз затем, повращать 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)Легонько постучать кончиками пальцев вокруг глаз (от переносицы к вискам).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http://www.season.kz/abcimages/11february/3-uprazhnenie-1432%282%29.jpg"/>
          <p:cNvPicPr/>
          <p:nvPr/>
        </p:nvPicPr>
        <p:blipFill>
          <a:blip r:embed="rId1"/>
          <a:stretch/>
        </p:blipFill>
        <p:spPr>
          <a:xfrm>
            <a:off x="2500200" y="3786120"/>
            <a:ext cx="45720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4"/>
          <p:cNvSpPr/>
          <p:nvPr/>
        </p:nvSpPr>
        <p:spPr>
          <a:xfrm>
            <a:off x="428760" y="765000"/>
            <a:ext cx="8464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я над этой проблемой, я сделала для себя выв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акого бы цвета не были глаза у человека, они не влияют на его зр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сто зрение нужно беречь с детств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214200" y="428760"/>
            <a:ext cx="8715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ах окружающего мира, когда мы изучали в большом разделе «Мы и наше здоровье» тему «Как мы воспринимаем окружающий мир», меня заинтересовала проблема нашего зрения. Я хотела узнать строение глаза, почему у людей бывает различный цвет глаз, влияет ли цвет глаз на остроту з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человек воспринимает окружающий мир с помощью органов чувств. Одним из органов чувств являетс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http://copypast.ru/foto5/1469/zrachki_07.jpg"/>
          <p:cNvPicPr/>
          <p:nvPr/>
        </p:nvPicPr>
        <p:blipFill>
          <a:blip r:embed="rId1"/>
          <a:stretch/>
        </p:blipFill>
        <p:spPr>
          <a:xfrm>
            <a:off x="3071880" y="3214800"/>
            <a:ext cx="3197160" cy="317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85840" y="285840"/>
            <a:ext cx="864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а – важный орган человека. 80 % своих впечатлений люди воспринимают через глаза. Взгляд другого человека может подействовать на нас сильнее, чем множество слов. Ведь не зря говорят, что  глаза – зеркало души Существуют предсказания совместимости людей по цвету глаз. Например, что ждёт голубоглазую красавицу с кареглазым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www.herwish.ru/new_photo/222_photo12.jpg"/>
          <p:cNvPicPr/>
          <p:nvPr/>
        </p:nvPicPr>
        <p:blipFill>
          <a:blip r:embed="rId1"/>
          <a:stretch/>
        </p:blipFill>
        <p:spPr>
          <a:xfrm>
            <a:off x="1285920" y="2357280"/>
            <a:ext cx="2643120" cy="396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Picture 6" descr="http://www.svadba.com/images/Man/2770902_2.jpg"/>
          <p:cNvPicPr/>
          <p:nvPr/>
        </p:nvPicPr>
        <p:blipFill>
          <a:blip r:embed="rId2"/>
          <a:stretch/>
        </p:blipFill>
        <p:spPr>
          <a:xfrm>
            <a:off x="5214960" y="2357280"/>
            <a:ext cx="2714760" cy="407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500040" y="366120"/>
            <a:ext cx="842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, влияющие на остроту з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кое зрение во многом зависит от внешних факторов: так при нормальной освещенности мы видим лучше, чем в темноте, прямое зрение чаще всего лучше, чем периферийное, опять же цветное зрение лучше функционирует при ярком освещении, а черно-белое в темноте, что связанно с особенностями строения глаз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http://www.optix.su/res/uploads/images/%D0%A5%D1%80%D1%83%D1%81%D1%82%D0%B0%D0%BB%D0%B8%D0%BA.jpg"/>
          <p:cNvPicPr/>
          <p:nvPr/>
        </p:nvPicPr>
        <p:blipFill>
          <a:blip r:embed="rId1"/>
          <a:stretch/>
        </p:blipFill>
        <p:spPr>
          <a:xfrm>
            <a:off x="1000080" y="2928960"/>
            <a:ext cx="7088400" cy="328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285840" y="357120"/>
            <a:ext cx="857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много мифов о зрении, и тема моего исследования остаётся актуальной даже сейчас. Эта работа очень необходима, так как большинство людей считает, что от цвета глаз зависит острота зрения, но я докажу, что это не т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www.doctorate.ru/wp-content/uploads/2008/04/eye.jpg"/>
          <p:cNvPicPr/>
          <p:nvPr/>
        </p:nvPicPr>
        <p:blipFill>
          <a:blip r:embed="rId1"/>
          <a:stretch/>
        </p:blipFill>
        <p:spPr>
          <a:xfrm>
            <a:off x="2286000" y="1643040"/>
            <a:ext cx="4786200" cy="482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357120" y="357120"/>
            <a:ext cx="8501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а –самые совершенные и самые загадочные органы в нашем теле. Через них мы большое всего узнаём о том, что творится вокруг, и в то же время именно глаза больше всего говорят о челове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ности учёные предполагали, что человеческая душа смотрит на мир через дыры глаз. И, если подумать, это почти так и есть. Наш глаз устроен примерно как фотоаппарат , в котором, когда нажимаешь кнопку затвора, открывается маленькое круглое отверстие. Через  это отверстие свет попадает на плёнку и рисует на ней то, на что был направлен фотоаппар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copypast.ru/foto5/0690/Eyes_magic/eye_022.jpg?58481798041"/>
          <p:cNvPicPr/>
          <p:nvPr/>
        </p:nvPicPr>
        <p:blipFill>
          <a:blip r:embed="rId1"/>
          <a:stretch/>
        </p:blipFill>
        <p:spPr>
          <a:xfrm>
            <a:off x="2571840" y="3214800"/>
            <a:ext cx="3857400" cy="321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214200" y="214200"/>
            <a:ext cx="8501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кий глаз не видит предмет сразу. Глаз воспринимает лишь световые волны. Эта информация передаётся в определённый участок мозга. И тогда эти световые волны воспринимаются в виде определённых предметов. Тогда человек видит его цвет, размер. Человеческий глаз устроен так, что видит в темноте и при ярком св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gabadrom.ru/_pu/9/80987097.jpg"/>
          <p:cNvPicPr/>
          <p:nvPr/>
        </p:nvPicPr>
        <p:blipFill>
          <a:blip r:embed="rId1"/>
          <a:stretch/>
        </p:blipFill>
        <p:spPr>
          <a:xfrm>
            <a:off x="1643040" y="2200320"/>
            <a:ext cx="5500800" cy="415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57120" y="285840"/>
            <a:ext cx="8358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екты зрения – это близорукость и дальнозор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имость предметов меняется с возрастом человека: десятилетний ребёнок видит на расстоянии 3 см , в сорок пять лет – 33 см , а в 70 лет необходимы очки для рассматривания близких предметов. У человека развивается дальнозорк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зорукость чаще развивается от длительного напряжения зрения при плохой освещё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pohlyad.com:8080/application/_images/big/news/2012/11/15/90.jpg"/>
          <p:cNvPicPr/>
          <p:nvPr/>
        </p:nvPicPr>
        <p:blipFill>
          <a:blip r:embed="rId1"/>
          <a:stretch/>
        </p:blipFill>
        <p:spPr>
          <a:xfrm>
            <a:off x="2214720" y="3000240"/>
            <a:ext cx="4752720" cy="317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12:56:11Z</dcterms:created>
  <dc:creator>Lenin</dc:creator>
  <dc:description/>
  <dc:language>en-US</dc:language>
  <cp:lastModifiedBy>Устинова</cp:lastModifiedBy>
  <dcterms:modified xsi:type="dcterms:W3CDTF">2015-04-14T00:23:18Z</dcterms:modified>
  <cp:revision>64</cp:revision>
  <dc:subject/>
  <dc:title>Какие глаза лучше в</dc:title>
</cp:coreProperties>
</file>