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1.png" ContentType="image/pn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8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5.gif" ContentType="image/gif"/>
  <Override PartName="/ppt/media/image6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81F-F298-45D0-889E-F5698A03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C98-B3F3-497D-A4E6-16EFA1D4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287-2646-46AA-8BA5-3EB154D2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7D8-DAB4-433B-A3C3-CEB82579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960-3883-48E3-92A3-E4ACBA0D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B7E-28C4-4543-9CA9-BFDFB4BC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076-C1D5-4193-BA1A-3EEABBC6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34C-0888-4B4A-BAE9-64B2B26A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B39-0FBE-4EDE-99D5-BE03B476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B59-A6EE-4A30-A169-0436FFF9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56E-5C2B-4903-A7B2-76B79700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671-F8E7-4B3D-9482-B7FA82F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F1F3-8774-4290-BE59-45325DD50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2.xml"/><Relationship Id="rId3" Type="http://schemas.openxmlformats.org/officeDocument/2006/relationships/image" Target="../media/image4.gif"/><Relationship Id="rId4" Type="http://schemas.openxmlformats.org/officeDocument/2006/relationships/slide" Target="slide13.xml"/><Relationship Id="rId5" Type="http://schemas.openxmlformats.org/officeDocument/2006/relationships/image" Target="../media/image4.gif"/><Relationship Id="rId6" Type="http://schemas.openxmlformats.org/officeDocument/2006/relationships/slide" Target="slide14.xml"/><Relationship Id="rId7" Type="http://schemas.openxmlformats.org/officeDocument/2006/relationships/image" Target="../media/image4.gif"/><Relationship Id="rId8" Type="http://schemas.openxmlformats.org/officeDocument/2006/relationships/slide" Target="slide4.xml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4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0.xml"/><Relationship Id="rId3" Type="http://schemas.openxmlformats.org/officeDocument/2006/relationships/image" Target="../media/image22.jpeg"/><Relationship Id="rId4" Type="http://schemas.openxmlformats.org/officeDocument/2006/relationships/slide" Target="slide21.xml"/><Relationship Id="rId5" Type="http://schemas.openxmlformats.org/officeDocument/2006/relationships/image" Target="../media/image23.jpeg"/><Relationship Id="rId6" Type="http://schemas.openxmlformats.org/officeDocument/2006/relationships/slide" Target="slide4.xml"/><Relationship Id="rId7" Type="http://schemas.openxmlformats.org/officeDocument/2006/relationships/image" Target="../media/image8.gif"/><Relationship Id="rId8" Type="http://schemas.openxmlformats.org/officeDocument/2006/relationships/slide" Target="slide22.xml"/><Relationship Id="rId9" Type="http://schemas.openxmlformats.org/officeDocument/2006/relationships/image" Target="../media/image24.jpeg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image" Target="../media/image4.gif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" Target="slide15.xml"/><Relationship Id="rId7" Type="http://schemas.openxmlformats.org/officeDocument/2006/relationships/image" Target="../media/image4.gif"/><Relationship Id="rId8" Type="http://schemas.openxmlformats.org/officeDocument/2006/relationships/slide" Target="slide17.xml"/><Relationship Id="rId9" Type="http://schemas.openxmlformats.org/officeDocument/2006/relationships/image" Target="../media/image4.gif"/><Relationship Id="rId10" Type="http://schemas.openxmlformats.org/officeDocument/2006/relationships/slide" Target="slide19.xml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6.xml"/><Relationship Id="rId5" Type="http://schemas.openxmlformats.org/officeDocument/2006/relationships/image" Target="../media/image4.gif"/><Relationship Id="rId6" Type="http://schemas.openxmlformats.org/officeDocument/2006/relationships/slide" Target="slide8.xml"/><Relationship Id="rId7" Type="http://schemas.openxmlformats.org/officeDocument/2006/relationships/image" Target="../media/image4.gif"/><Relationship Id="rId8" Type="http://schemas.openxmlformats.org/officeDocument/2006/relationships/slide" Target="slide10.xml"/><Relationship Id="rId9" Type="http://schemas.openxmlformats.org/officeDocument/2006/relationships/image" Target="../media/image4.gif"/><Relationship Id="rId10" Type="http://schemas.openxmlformats.org/officeDocument/2006/relationships/slide" Target="slide4.xml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84428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Учитель русского языка и литературы МБОУ СОШ № 73 им. А.Ф. Чернонога г.Вороне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475920"/>
            <a:ext cx="6912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ДИАЛЕКТЫ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860640"/>
            <a:ext cx="792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3716280"/>
            <a:ext cx="8351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3860640"/>
            <a:ext cx="691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Тема моей презентации может быть использована на уроках русского языка в качестве дополнительного материала по разделу «Лексика» в 5-9 клас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3716280"/>
            <a:ext cx="8351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939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939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939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93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556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556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НГВИСТЫ О ДИАЛЕКТА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864800">
            <a:off x="522000" y="1901880"/>
            <a:ext cx="252108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лова областные все любопытны для филолога, одни как материал для историко-лингвистических исследований, другие для объяснения древних памятников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.И.Срезне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177336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3860640"/>
            <a:ext cx="2663640" cy="26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, кто говорит диалектно,  стали стыдиться своей речи сейчас и в своей семье старшие слышат от младших, что они, старшие, говорят «неправильно». Голос лингвистов не был услышан, да и звучал он тихо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М.В.Пан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99200">
            <a:off x="6373440" y="1673640"/>
            <a:ext cx="230364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Если бы литературный язык оторвался от диалектов, от «почвы», то он, подобно Антею, потерял бы всю свою силу и уподобился бы мёртвому языку, каким является теперь латинский язык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Л.В.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449440" cy="237024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60436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 И А Л Е К Т О Л О Г И 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Хождение за сл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История о диалектоло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.И. Да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.И. Аванесов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Диалектология сего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51640" y="177336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96" name="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242100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97" name="10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940360" y="414972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98" name="09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01080" y="6237360"/>
            <a:ext cx="68580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500"/>
                            </p:stCondLst>
                            <p:childTnLst>
                              <p:par>
                                <p:cTn id="3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ОЖДЕНИЕ ЗА СЛО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7640" y="1267920"/>
            <a:ext cx="4176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ждый год лингвисты, сделавшие своей профессией изучение говоров отправляются в экспедицию. В отдалённые деревни приходится добираться, шагая многие километры по бездорожью, по лесным тропам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днажды студентам нужно было установить местную форму творительного падежа существительного 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ложка,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т.е. как в этой деревне говорят: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ложкой, ложкуй или ложкэй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этому они задали вопрос: «Бабушка, а чем у вас едят?». На что получили полный иронии ответ: «Едим мы так же, как и вы, -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кочергой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»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Лингвисты находят в говорах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новые звуки, архаические 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слова, меткие образные выражения.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т ямщика В.И.Даль однажды услышал слово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замолаживает,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оторые в некоторых говорах означает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заволачивается тучами, пасмурнеет.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ероятно, данное значение связано с другим: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начинает бродить, т.е. пениться: замолаживает пиво, мёд.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Это была первая запись В.И.Даля, положившая начало будущему словарю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от так, с собирания отдельных слов и ярких выражений, началась 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Д И А Л Е К Т О Л О Г И Я  (от греч.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“dialektos” –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«разговор», «говор», «наречие» и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“logos”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 – «слово», «учение»)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– наука, изучающая местные говоры (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диалекты).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3076560" cy="236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3095640" cy="232416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101080" y="623736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о диалектологи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4176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имир Иванович Даль  (1801-1872)       автор самого известного словар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ый до сих пор пользуется большим авторитетом. Его он составлял почти полвека, причём всюду, в любых ситуациях не перестовал записывать слова. Толковый словарь вобрал в себя почти 200 тыс. слов; около трети из них – диалектные сло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1125360"/>
            <a:ext cx="842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ки диалектологических исследований восходят 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у. Отечественная война 1812 года всколыхнула русское общество, возник интерес к жизни крестьянства: к его обычаям, верованиям, культуре и языку. Интенсивно начала развиваться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 т н о г р а ф и 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от греч. 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no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- народ и 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- «пишу») – наука, изучающая материальную и духовную культуру народу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.И.Аванесов и В.И. Даль внесли большой вклад в историю диалектологии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1517400" cy="194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1575000" cy="194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88000" y="4437000"/>
            <a:ext cx="38876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бен Иванович Аванесов (1902-1982) по праву считается основателем Московской диалектологической школы. Эта школа сформировалась в процессе работы над «Диалектологическим атласом русского языка», теоретиком, организатором и руководителем которой был Р.И.Аване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17080" y="6165720"/>
            <a:ext cx="358560" cy="28764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3837"/>
                </a:moveTo>
                <a:lnTo>
                  <a:pt x="16036" y="6448"/>
                </a:ln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lnTo>
                  <a:pt x="20422" y="10800"/>
                </a:lnTo>
                <a:lnTo>
                  <a:pt x="18769" y="10800"/>
                </a:lnTo>
                <a:lnTo>
                  <a:pt x="18769" y="17989"/>
                </a:lnTo>
                <a:lnTo>
                  <a:pt x="8150" y="17989"/>
                </a:lnTo>
                <a:lnTo>
                  <a:pt x="8150" y="10800"/>
                </a:lnTo>
                <a:lnTo>
                  <a:pt x="6497" y="10800"/>
                </a:lnTo>
                <a:close/>
              </a:path>
              <a:path fill="darkenLess" w="26919" h="21600">
                <a:moveTo>
                  <a:pt x="16036" y="6448"/>
                </a:move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close/>
              </a:path>
              <a:path fill="darkenLess" w="26919" h="21600">
                <a:moveTo>
                  <a:pt x="12537" y="14299"/>
                </a:moveTo>
                <a:lnTo>
                  <a:pt x="14382" y="14299"/>
                </a:lnTo>
                <a:lnTo>
                  <a:pt x="14382" y="17989"/>
                </a:lnTo>
                <a:lnTo>
                  <a:pt x="18769" y="17989"/>
                </a:lnTo>
                <a:lnTo>
                  <a:pt x="18769" y="10800"/>
                </a:lnTo>
                <a:lnTo>
                  <a:pt x="8150" y="10800"/>
                </a:lnTo>
                <a:lnTo>
                  <a:pt x="8150" y="17989"/>
                </a:lnTo>
                <a:lnTo>
                  <a:pt x="1253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ДИАЛЕКТОЛОГИЯ СЕГОД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Исследование говоров продолжается и по сей день. За последние десятилетия накоплено множество новых сведений. На их основе созданы 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«Диалектологический атлас русского языка»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«Словарь русских народных говоров»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различные областные словари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3284640"/>
          <a:ext cx="8229600" cy="3043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0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 И А Л Е К Т О Л О Г И 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ы современные – вторая полови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ка. Их звуковой строй анализируется с помощью современной акустической аппаратуры и компьютер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аны новые программы обследования, позволяющие составлять очень полные и точные описания говоров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 наука тесным образом связана с историей, археологией, этнографией, фольклором, - ведь судьба диалекта неотторжима от жизни наро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ый исторический период – племенной строй, эпоха древнерусских княжеств до монголо-татарского нашествия, время возвышения Московского княжества в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олет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60436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нгвистическая ге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оссии идею лингвистического картографирования первым выдвинул филолог Измаил Иванович Срезневск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в диалектологии появилось новое направление – лингвистическая география. Её основным методом является отображение на картах территорий, где встречаются разные звуковые явления. Это делается при помощи условных обозначени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цветовых залив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штрихов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зна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же читается лингвистическая кар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мотрим карту «Глаголы со значение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делывать землю с помощью оруд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восточнославянских диалектах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 карту!!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0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85080" y="6093000"/>
            <a:ext cx="685800" cy="399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3933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651640" y="1700280"/>
            <a:ext cx="2936880" cy="391464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380360" y="6165720"/>
            <a:ext cx="358560" cy="28764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400720" cy="4822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4941720"/>
            <a:ext cx="822960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4560" y="537372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карте 3 знака: жёлтый – распространение глагола – орать – , зелёный – распространение глагола – пахать – , белый с красной границей – пахать в значении «мести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8244000" y="630864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Границы говор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Существуют ли чёткие границы меж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разными говорами? Ответить на это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вопрос учёные пытались давно. И толь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в 1915 году </a:t>
            </a: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Н.Н.Дурново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Н.Н.Соколов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Д.Н.Ушаков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 в «Опыте диалектологичес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карты русского языка в Европе» доказали, ч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существуют целостные территор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Перед нами упрощённая карта </a:t>
            </a: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ДАР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(диалектологический атлас русского язык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Смотри карту!!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6021360"/>
            <a:ext cx="685800" cy="39996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524720" y="609300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244000" y="630864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99"/>
                </a:solidFill>
                <a:uFillTx/>
                <a:latin typeface="Arial Narrow"/>
              </a:rPr>
              <a:t>Использование диалектных слов в художественных произвед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 диалектными словами мы неред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стречаемся в худож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роизведениях. Обычно пис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водят эти слова в речь действ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иц. Отдельные диалекты, непоня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ольшинству читателей, пис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азъясняют либо в тексте произве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ибо в снос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75680" y="1527120"/>
            <a:ext cx="1517400" cy="1757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56320" y="2995560"/>
            <a:ext cx="1579680" cy="1657440"/>
          </a:xfrm>
          <a:prstGeom prst="rect">
            <a:avLst/>
          </a:prstGeom>
          <a:ln w="0">
            <a:noFill/>
          </a:ln>
        </p:spPr>
      </p:pic>
      <p:pic>
        <p:nvPicPr>
          <p:cNvPr id="134" name="09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28000" y="6165720"/>
            <a:ext cx="685800" cy="400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380360" y="4389480"/>
            <a:ext cx="1512720" cy="1560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03280" y="5300640"/>
            <a:ext cx="5905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 Narrow"/>
              </a:rPr>
              <a:t>Так, например, Н.Некрасов, С.Есенин, М.Шолохов использовали диалектизмы в своих произведениях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5651640" y="441468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7380360" y="29973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7380360" y="5661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5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000"/>
                            </p:stCondLst>
                            <p:childTnLst>
                              <p:par>
                                <p:cTn id="5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7000"/>
                            </p:stCondLst>
                            <p:childTnLst>
                              <p:par>
                                <p:cTn id="5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563640" y="47628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 детства вслушивался я в         С Л О В 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, как птицу, его лов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 ни С Л О В О – мне было но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 Л О В О ел я и С Л О В О п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ышал: Т У Т О Ш Н И 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ышал: Т А М О Ш Н И 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ышал ёмкое – Н А П Р Я М К 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речки камешки звали –                К А М У Ш К 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вали ямы с водой – Б У К И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.Бра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002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Прочитать отрывки из произведений Н.А.Некрасова.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Объяснить значение выделенных диалектных слов. С какой целью использует их поэ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- Кажется, шепчут колосья друг друг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«Скучно нам слушать осеннюю вьюг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Нас, что ни ночь, разоряют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станицы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Всякой пролётной прожорливой птиц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В избушке – телёнок в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подклети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Кто ловит пия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 Narrow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На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лаве</a:t>
            </a:r>
            <a:r>
              <a:rPr b="1" i="1" lang="en-US" sz="2000" spc="-1" strike="noStrike">
                <a:solidFill>
                  <a:srgbClr val="ff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где мамка колотит бельё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Кто нянчит сестрёнку, двухлетнюю Глаж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 Narrow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Кто тащит на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 Narrow"/>
              </a:rPr>
              <a:t>пожню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 ведёрку кваск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ДЛЯ СПРАВОК: «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пешеходный мостик через речку, топкое место», «стая», «луг во время сенокоса», «огороженное в избе место для скот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732720" y="1989000"/>
            <a:ext cx="1760400" cy="237672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8317080" y="6165720"/>
            <a:ext cx="358560" cy="28764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3837"/>
                </a:moveTo>
                <a:lnTo>
                  <a:pt x="16036" y="6448"/>
                </a:ln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lnTo>
                  <a:pt x="20422" y="10800"/>
                </a:lnTo>
                <a:lnTo>
                  <a:pt x="18769" y="10800"/>
                </a:lnTo>
                <a:lnTo>
                  <a:pt x="18769" y="17989"/>
                </a:lnTo>
                <a:lnTo>
                  <a:pt x="8150" y="17989"/>
                </a:lnTo>
                <a:lnTo>
                  <a:pt x="8150" y="10800"/>
                </a:lnTo>
                <a:lnTo>
                  <a:pt x="6497" y="10800"/>
                </a:lnTo>
                <a:close/>
              </a:path>
              <a:path fill="darkenLess" w="26919" h="21600">
                <a:moveTo>
                  <a:pt x="16036" y="6448"/>
                </a:move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close/>
              </a:path>
              <a:path fill="darkenLess" w="26919" h="21600">
                <a:moveTo>
                  <a:pt x="12537" y="14299"/>
                </a:moveTo>
                <a:lnTo>
                  <a:pt x="14382" y="14299"/>
                </a:lnTo>
                <a:lnTo>
                  <a:pt x="14382" y="17989"/>
                </a:lnTo>
                <a:lnTo>
                  <a:pt x="18769" y="17989"/>
                </a:lnTo>
                <a:lnTo>
                  <a:pt x="18769" y="10800"/>
                </a:lnTo>
                <a:lnTo>
                  <a:pt x="8150" y="10800"/>
                </a:lnTo>
                <a:lnTo>
                  <a:pt x="8150" y="17989"/>
                </a:lnTo>
                <a:lnTo>
                  <a:pt x="1253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4920" y="-36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Monotype Corsiva"/>
              </a:rPr>
              <a:t>Прочитайте отрывки из раннего стихотворения С.Есенина «В хате». Чем объяснить обилие южных диалектных слов в нё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Monotype Corsiva"/>
              </a:rPr>
              <a:t>(Они выделе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Пахнет рыхлыми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дрочёнами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У порога в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дёжке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ква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Над п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ечурками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точё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Тараканы лезут в п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Вьётся сажа над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заслонкою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В печке нитки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попелиц,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А на лавке за солонкою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Шелуха сырых я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Мать с ухватами не слади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Нагибается низ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Старый кот к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 Narrow"/>
              </a:rPr>
              <a:t>мохотке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крадё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                 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 Narrow"/>
              </a:rPr>
              <a:t>На парное молоко.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Monotype Corsiva"/>
              </a:rPr>
              <a:t>ДЛЯ СПРАВОК: «зола, пепел», «выемка в русской печи для просушки чего-либо», «кушанье из запечённой смеси яиц, молока и муки или тёртого картофеля», «железная крышка, прикрывающая устье русской печи», «кринка», «квашня, кадушка для замешивания теста»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78600" y="1125360"/>
            <a:ext cx="2309760" cy="251964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8317080" y="6165720"/>
            <a:ext cx="358560" cy="28764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3837"/>
                </a:moveTo>
                <a:lnTo>
                  <a:pt x="16036" y="6448"/>
                </a:ln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lnTo>
                  <a:pt x="20422" y="10800"/>
                </a:lnTo>
                <a:lnTo>
                  <a:pt x="18769" y="10800"/>
                </a:lnTo>
                <a:lnTo>
                  <a:pt x="18769" y="17989"/>
                </a:lnTo>
                <a:lnTo>
                  <a:pt x="8150" y="17989"/>
                </a:lnTo>
                <a:lnTo>
                  <a:pt x="8150" y="10800"/>
                </a:lnTo>
                <a:lnTo>
                  <a:pt x="6497" y="10800"/>
                </a:lnTo>
                <a:close/>
              </a:path>
              <a:path fill="darkenLess" w="26919" h="21600">
                <a:moveTo>
                  <a:pt x="16036" y="6448"/>
                </a:moveTo>
                <a:lnTo>
                  <a:pt x="16036" y="4707"/>
                </a:lnTo>
                <a:lnTo>
                  <a:pt x="17811" y="4707"/>
                </a:lnTo>
                <a:lnTo>
                  <a:pt x="17811" y="8224"/>
                </a:lnTo>
                <a:close/>
              </a:path>
              <a:path fill="darkenLess" w="26919" h="21600">
                <a:moveTo>
                  <a:pt x="12537" y="14299"/>
                </a:moveTo>
                <a:lnTo>
                  <a:pt x="14382" y="14299"/>
                </a:lnTo>
                <a:lnTo>
                  <a:pt x="14382" y="17989"/>
                </a:lnTo>
                <a:lnTo>
                  <a:pt x="18769" y="17989"/>
                </a:lnTo>
                <a:lnTo>
                  <a:pt x="18769" y="10800"/>
                </a:lnTo>
                <a:lnTo>
                  <a:pt x="8150" y="10800"/>
                </a:lnTo>
                <a:lnTo>
                  <a:pt x="8150" y="17989"/>
                </a:lnTo>
                <a:lnTo>
                  <a:pt x="1253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3300"/>
                </a:solidFill>
                <a:latin typeface="Arial Narrow"/>
              </a:rPr>
              <a:t>Ниже даны отдельные предложения из «Поднятой целины» М.Шолохова. В левом столбике – первоначальный текст, в правом – последняя редакция автора. Сравните обе редакции текста и скажите, какие слова заменил М.Шолохов в первоначальном тексте? С какой целью проведена правка автором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431640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Narrow"/>
              </a:rPr>
              <a:t>Меня кубыть ветром нес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Narrow"/>
              </a:rPr>
              <a:t>Я отощал вовзят, не дой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Narrow"/>
              </a:rPr>
              <a:t>Глухо побрякивая привязанным к шее балобоном, бежал жеребён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Narrow"/>
              </a:rPr>
              <a:t>Теперь надо навалиться на волочбу. И чтобы обязательно волочить в три сл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Narrow"/>
              </a:rPr>
              <a:t>Хозяин охаживал коня руками.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3280" y="4149360"/>
            <a:ext cx="43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Меня словно ветром нес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Я отощал совсем, не дой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Глухо побрякивая привязанным к шее колокольчиком, бежал жеребё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Теперь надо навалиться на боронование. И чтобы обязательно боронить в три сл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Хозяин гладил коня ру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022480" cy="208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403280" y="46530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461440" y="631044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трольные вопросы и  упражнения  для  закреп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9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ть  определение  диалек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 какому  веку  исходят истоки  диалектологических исследован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у принадлежит идея лингвистического картографиров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помощью каких условных обозначений   может быть прочитана лингвистическая кар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аком  году учёными  было доказано существование целостных  территор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 такое Д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102280" y="1600200"/>
            <a:ext cx="3135240" cy="4525920"/>
          </a:xfrm>
          <a:prstGeom prst="rect">
            <a:avLst/>
          </a:prstGeom>
          <a:ln w="0">
            <a:noFill/>
          </a:ln>
        </p:spPr>
      </p:pic>
      <p:pic>
        <p:nvPicPr>
          <p:cNvPr id="155" name="09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85800" cy="399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848720" y="632448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4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225"/>
                            </p:stCondLst>
                            <p:childTnLst>
                              <p:par>
                                <p:cTn id="7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4425"/>
                            </p:stCondLst>
                            <p:childTnLst>
                              <p:par>
                                <p:cTn id="7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2" dur="3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825"/>
                            </p:stCondLst>
                            <p:childTnLst>
                              <p:par>
                                <p:cTn id="7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6" dur="3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8625"/>
                            </p:stCondLst>
                            <p:childTnLst>
                              <p:par>
                                <p:cTn id="7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0" dur="3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1925"/>
                            </p:stCondLst>
                            <p:childTnLst>
                              <p:par>
                                <p:cTn id="7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4" dur="3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4925"/>
                            </p:stCondLst>
                            <p:childTnLst>
                              <p:par>
                                <p:cTn id="7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3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6125"/>
                            </p:stCondLst>
                            <p:childTnLst>
                              <p:par>
                                <p:cTn id="7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6625"/>
                            </p:stCondLst>
                            <p:childTnLst>
                              <p:par>
                                <p:cTn id="7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7125"/>
                            </p:stCondLst>
                            <p:childTnLst>
                              <p:par>
                                <p:cTn id="7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 отрывку  из книги М. Пришвина   «В краю непуганых птиц»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 «шалонник»  означает юго – западный  ветер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ругие  ветры  назывались: летний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южный, ст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пад, побережник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еверо – западный), обедник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юго – восточный), полуночник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 северо – восточный, торок  (вихрь) и  жаровой – случайный  летний  ве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2739960"/>
          </a:xfrm>
          <a:prstGeom prst="rect">
            <a:avLst/>
          </a:prstGeom>
          <a:ln w="0">
            <a:noFill/>
          </a:ln>
        </p:spPr>
      </p:pic>
      <p:pic>
        <p:nvPicPr>
          <p:cNvPr id="160" name="09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8580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Пим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вале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екша –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Кипу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род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Станиц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большое  селение  в  казачьем  райо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Криниц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колоде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Жалиц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крапи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Куржа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и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болотистый  ле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Косул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сох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740040" cy="4114800"/>
          </a:xfrm>
          <a:prstGeom prst="rect">
            <a:avLst/>
          </a:prstGeom>
          <a:ln w="0">
            <a:noFill/>
          </a:ln>
        </p:spPr>
      </p:pic>
      <p:pic>
        <p:nvPicPr>
          <p:cNvPr id="164" name="09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8580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5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40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0"/>
                            </p:stCondLst>
                            <p:childTnLst>
                              <p:par>
                                <p:cTn id="8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500"/>
                            </p:stCondLst>
                            <p:childTnLst>
                              <p:par>
                                <p:cTn id="8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9d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пражнения 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читайте  отрывок  из  книги  М.Пришвина  «В краю непуганых  птиц», в котором отражена  речь карельских поморов. Как называются  в  лексикологии  выделенные  сло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озере вам  хорошая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ветер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удет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шалонник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ет. (см.ключ. 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русских говорах вечерние собрания молодёжи имели разнообразные  названия. На западе  Ивановской  области был  широко  распространён  вариант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еседы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  Тверью –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едки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к востоку  от  Костромы – беседки, во Владимирской области –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иделки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бассейне  реки  Оки –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иденки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стречаются  следующие  диалектные  слова  в  этом  значении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ечерушки, сиделки, супрядки, попрядухи, вечёрки, вечеринки, вечерушки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 т.д. Какие  слова  вам  знакомы? Объедините  эти слова  в  гнёзда  и  обозначьте  их морфемный соста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ъясните  значение выделенных  диалектиз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льник  щеголял  в  кумачовой рубахе,  в  плисовых  шароварах, новых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имах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екша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екочет – гостей пророчит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ипуны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ыли  здесь  очень сильные и  вырывались из  середины горы. Как доехал  казак до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таниц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поил он  коня  из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риниц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Жалица,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щавель, дикая  редька… и  много  чего  выросло  на  лугах.От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уржак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все  лошади  сделались  одинаковой  масти – седые. Белая  речка  вытекает  из  светлой  рады. Приподнимая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сулю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яжелую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аба порезала  ноженьку  голую… (см.ключ. 2)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09" descr=""/>
          <p:cNvPicPr/>
          <p:nvPr/>
        </p:nvPicPr>
        <p:blipFill>
          <a:blip r:embed="rId1"/>
          <a:stretch/>
        </p:blipFill>
        <p:spPr>
          <a:xfrm>
            <a:off x="8244000" y="6237360"/>
            <a:ext cx="68580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500"/>
                            </p:stCondLst>
                            <p:childTnLst>
                              <p:par>
                                <p:cTn id="85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500"/>
                            </p:stCondLst>
                            <p:childTnLst>
                              <p:par>
                                <p:cTn id="8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500"/>
                            </p:stCondLst>
                            <p:childTnLst>
                              <p:par>
                                <p:cTn id="8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Ц Е Л И      П Р Е З Е Н Т А Ц И И: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закрепление понятия о диалектологии как разделе науки о язы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знать нормы употребления диалектной лекс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определять уместность – неуместность использования диалектных слов в обиходной речи, в художественных произведениях.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З А Д А Ч 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обогащение словарного запаса уча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формирование ум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- определять лексическое значение слов, используя различные типы толковых словарей и ДАР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- уметь употреблять слова в речи в соответствии с их стилистическими свойствам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Содержание презентации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иалект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Лингвистическая ге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Границы гов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спользование диалектных слов в художественных произвед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онтрольные  вопросы и  упражнения для закрепления 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228600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58" name="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175248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59" name="10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281952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60" name="1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33520" y="3352680"/>
            <a:ext cx="180720" cy="181080"/>
          </a:xfrm>
          <a:prstGeom prst="rect">
            <a:avLst/>
          </a:prstGeom>
          <a:ln w="0">
            <a:noFill/>
          </a:ln>
        </p:spPr>
      </p:pic>
      <p:pic>
        <p:nvPicPr>
          <p:cNvPr id="61" name="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33520" y="3886200"/>
            <a:ext cx="180720" cy="1810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0" descr=""/>
          <p:cNvPicPr/>
          <p:nvPr/>
        </p:nvPicPr>
        <p:blipFill>
          <a:blip r:embed="rId12"/>
          <a:stretch/>
        </p:blipFill>
        <p:spPr>
          <a:xfrm>
            <a:off x="533520" y="4876920"/>
            <a:ext cx="180720" cy="18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725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3225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725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225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4725"/>
                            </p:stCondLst>
                            <p:childTnLst>
                              <p:par>
                                <p:cTn id="1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225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 О В О 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алекты и литературный язы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разни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ст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ло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гвисты о диалектах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.И.Срезнев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.В.Па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.В.Щерб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1365120" cy="156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08720" y="1052640"/>
            <a:ext cx="1365480" cy="156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236000" y="4437000"/>
            <a:ext cx="1365120" cy="1657440"/>
          </a:xfrm>
          <a:prstGeom prst="rect">
            <a:avLst/>
          </a:prstGeom>
          <a:ln w="0">
            <a:noFill/>
          </a:ln>
        </p:spPr>
      </p:pic>
      <p:pic>
        <p:nvPicPr>
          <p:cNvPr id="70" name="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84720" y="177336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71" name="10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124000" y="306864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72" name="1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16360" y="3573360"/>
            <a:ext cx="181080" cy="181080"/>
          </a:xfrm>
          <a:prstGeom prst="rect">
            <a:avLst/>
          </a:prstGeom>
          <a:ln w="0">
            <a:noFill/>
          </a:ln>
        </p:spPr>
      </p:pic>
      <p:pic>
        <p:nvPicPr>
          <p:cNvPr id="73" name="0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244000" y="6237360"/>
            <a:ext cx="68580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500"/>
                            </p:stCondLst>
                            <p:childTnLst>
                              <p:par>
                                <p:cTn id="2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иалекты и литературный язы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каждой школе России дети изучают русский ЛИТЕРАТУРНЫЙ ЯЗЫК. Его отличительная черта – НОРМИРОВАННОС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, в Воробьёвке сохранились такие диалекты, как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Б У Х О Н 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пюре,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 Р О Б Ы Н 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лестница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 З В А 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компот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 О К Ы Р 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топор и др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днако сельскими жителями закономерности ГОВОРА отчётливо не осознаются, к тому же они не имеют письменного свода правил. Русские ДИАЛЕКТЫ существуют только в устной форме в отличие от ЛИТЕРАТУРНОГО ЯЗЫ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робьёвский ГОВОР по сравнению с другими кажется хорошим, правильным, красивым, а чужой воспринимается, как что-то плохое, нелепое, а иногда смешное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860436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10108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200"/>
                            </p:stCondLst>
                            <p:childTnLst>
                              <p:par>
                                <p:cTn id="2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700"/>
                            </p:stCondLst>
                            <p:childTnLst>
                              <p:par>
                                <p:cTn id="3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700"/>
                            </p:stCondLst>
                            <p:childTnLst>
                              <p:par>
                                <p:cTn id="3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РАЗНИЛКИ  И  ЧАСТ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диалектах существует множество частушек и присловий, которые высмеивают язык сосе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ури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, на ули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, яй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, снесл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-  в этой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РАЗНИЛКЕ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обыгрывается произношение звука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c]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месте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 *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ак  барановски девчо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оворят на букву «це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Дайте мыль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е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полотен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уло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и  на пе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е!» - в этой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ЧАСТУШКЕ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высмеивается цоканье – очень яркая диалектная черта, которая характеризует многие говоры севра и ю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 *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860436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 О Л О К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многих народов мира существовал и существует замечательный обычай: помогать друг другу в работе. В русских ГОВОРАХ такой обычай называется чаще всего ПОМОЧЬ, ТОЛОКА, реже ПОМОГА, ПОСОБ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ОКОЙ убирали хлеб с полей, созывая для этого родственников, соседей. Так же ставили сруб меняли ветхую крышу, вывозили по весне навоз на поля. Управлялись за один день, работа была похожа на праздник, а по окончании хозяин угощал всех помогавших. Их называли ТОЛОЧА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гда приглашали помогать женщин – обрабатывать лён, прясть; такая женская работа называлась супряд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здники часто бывают связаны с определёнными этапами работы крестьян: ЗАСЕВКИ – начало сева, ЗАЖИНКИ – начало жатвы, ОБСЕВОК – завершение сева, ОБЖИНКИ, ВЫЖИНКИ – завершение жатв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мотри таблицу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60436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10108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317080" y="638172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7:27:14Z</dcterms:created>
  <dc:creator>user</dc:creator>
  <dc:description/>
  <dc:language>en-US</dc:language>
  <cp:lastModifiedBy>Oksana</cp:lastModifiedBy>
  <dcterms:modified xsi:type="dcterms:W3CDTF">2015-04-09T16:25:57Z</dcterms:modified>
  <cp:revision>44</cp:revision>
  <dc:subject/>
  <dc:title>ДИАЛЕКТЫ  РУССКОГО ЯЗЫКА</dc:title>
</cp:coreProperties>
</file>