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1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5.gif" ContentType="image/gif"/>
  <Override PartName="/ppt/media/image6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886-FB18-41B9-8E6F-0A1D1AFB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3EC-9736-4BCD-8FF1-64AC98F3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45B-F639-47C7-818D-AC6F5A13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D26-4C1C-40BA-A1B6-F3E98DA5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89A-3733-42AB-8EE4-DD74371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69B-7810-4505-9F78-E574B07B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D56-6D84-4D9E-A66F-A6C948C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6A4-6A52-4407-AD24-02AA17F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242-0BFF-47B9-891A-01C9E593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B5C-BBD1-4CE1-85BD-4E2D684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EBC-4CBF-4422-A855-7C8AB85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2C7-0352-46D3-A94F-2A37041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061D-20D2-47A0-93C2-EA68DE7FB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2.xml"/><Relationship Id="rId3" Type="http://schemas.openxmlformats.org/officeDocument/2006/relationships/image" Target="../media/image4.gif"/><Relationship Id="rId4" Type="http://schemas.openxmlformats.org/officeDocument/2006/relationships/slide" Target="slide13.xml"/><Relationship Id="rId5" Type="http://schemas.openxmlformats.org/officeDocument/2006/relationships/image" Target="../media/image4.gif"/><Relationship Id="rId6" Type="http://schemas.openxmlformats.org/officeDocument/2006/relationships/slide" Target="slide14.xml"/><Relationship Id="rId7" Type="http://schemas.openxmlformats.org/officeDocument/2006/relationships/image" Target="../media/image4.gif"/><Relationship Id="rId8" Type="http://schemas.openxmlformats.org/officeDocument/2006/relationships/slide" Target="slide4.xml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0.xml"/><Relationship Id="rId3" Type="http://schemas.openxmlformats.org/officeDocument/2006/relationships/image" Target="../media/image22.jpeg"/><Relationship Id="rId4" Type="http://schemas.openxmlformats.org/officeDocument/2006/relationships/slide" Target="slide21.xml"/><Relationship Id="rId5" Type="http://schemas.openxmlformats.org/officeDocument/2006/relationships/image" Target="../media/image23.jpeg"/><Relationship Id="rId6" Type="http://schemas.openxmlformats.org/officeDocument/2006/relationships/slide" Target="slide4.xml"/><Relationship Id="rId7" Type="http://schemas.openxmlformats.org/officeDocument/2006/relationships/image" Target="../media/image8.gif"/><Relationship Id="rId8" Type="http://schemas.openxmlformats.org/officeDocument/2006/relationships/slide" Target="slide22.xml"/><Relationship Id="rId9" Type="http://schemas.openxmlformats.org/officeDocument/2006/relationships/image" Target="../media/image24.jpe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image" Target="../media/image4.gif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" Target="slide15.xml"/><Relationship Id="rId7" Type="http://schemas.openxmlformats.org/officeDocument/2006/relationships/image" Target="../media/image4.gif"/><Relationship Id="rId8" Type="http://schemas.openxmlformats.org/officeDocument/2006/relationships/slide" Target="slide17.xml"/><Relationship Id="rId9" Type="http://schemas.openxmlformats.org/officeDocument/2006/relationships/image" Target="../media/image4.gif"/><Relationship Id="rId10" Type="http://schemas.openxmlformats.org/officeDocument/2006/relationships/slide" Target="slide19.xml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4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" Target="slide10.xml"/><Relationship Id="rId9" Type="http://schemas.openxmlformats.org/officeDocument/2006/relationships/image" Target="../media/image4.gif"/><Relationship Id="rId10" Type="http://schemas.openxmlformats.org/officeDocument/2006/relationships/slide" Target="slide4.xml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84428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Учитель русского языка и литературы МБОУ СОШ № 73 им. А.Ф. Чернонога г.Ворон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475920"/>
            <a:ext cx="691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ДИАЛЕКТЫ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860640"/>
            <a:ext cx="792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716280"/>
            <a:ext cx="8351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3860640"/>
            <a:ext cx="691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Тема моей презентации может быть использована на уроках русского языка в качестве дополнительного материала по разделу «Лексика» в 5-9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3716280"/>
            <a:ext cx="8351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939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939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93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3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556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56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ГВИСТЫ О ДИАЛЕКТ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864800">
            <a:off x="522000" y="1901880"/>
            <a:ext cx="25210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лова областные все любопытны для филолога, одни как материал для историко-лингвистических исследований, другие для объяснения древних памятников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.И.Срезн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7336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3860640"/>
            <a:ext cx="2663640" cy="26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, кто говорит диалектно,  стали стыдиться своей речи сейчас и в своей семье старшие слышат от младших, что они, старшие, говорят «неправильно». Голос лингвистов не был услышан, да и звучал он тихо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.В.Пан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99200">
            <a:off x="6373440" y="1673640"/>
            <a:ext cx="230364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Если бы литературный язык оторвался от диалектов, от «почвы», то он, подобно Антею, потерял бы всю свою силу и уподобился бы мёртвому языку, каким является теперь латинский язы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Л.В.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449440" cy="23702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 И А Л Е К Т О Л О Г И 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Хождение за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История о диалектоло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.И. 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.И. Аванесов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Диалектология сег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96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242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97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940360" y="4149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0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ЖДЕНИЕ ЗА СЛО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1267920"/>
            <a:ext cx="417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год лингвисты, сделавшие своей профессией изучение говоров отправляются в экспедицию. В отдалённые деревни приходится добираться, шагая многие километры по бездорожью, по лесным тропа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днажды студентам нужно было установить местную форму творительного падежа существительного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ложка,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т.е. как в этой деревне говорят: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ожкой, ложкуй или ложкэй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этому они задали вопрос: «Бабушка, а чем у вас едят?». На что получили полный иронии ответ: «Едим мы так же, как и вы, -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кочергой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Лингвисты находят в говорах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овые звуки, архаические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слова, меткие образные выражения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 ямщика В.И.Даль однажды услышал слово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замолаживает,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торые в некоторых говорах означает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заволачивается тучами, пасмурнеет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роятно, данное значение связано с другим: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ачинает бродить, т.е. пениться: замолаживает пиво, мёд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о была первая запись В.И.Даля, положившая начало будущему словар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от так, с собирания отдельных слов и ярких выражений, началась 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 И А Л Е К Т О Л О Г И Я  (от греч.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“dialektos” –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«разговор», «говор», «наречие» и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“logos”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– «слово», «учение»)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– наука, изучающая местные говоры (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иалекты).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076560" cy="23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10108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о диалектологи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417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Иванович Даль  (1801-1872)       автор самого известного словар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ый до сих пор пользуется большим авторитетом. Его он составлял почти полвека, причём всюду, в любых ситуациях не перестовал записывать слова. Толковый словарь вобрал в себя почти 200 тыс. слов; около трети из них – диалектные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125360"/>
            <a:ext cx="842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ки диалектологических исследований восходят 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у. Отечественная война 1812 года всколыхнула русское общество, возник интерес к жизни крестьянства: к его обычаям, верованиям, культуре и языку. Интенсивно начала развивать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 т н о г р а ф и 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греч.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no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- народ и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- «пишу») – наука, изучающая материальную и духовную культуру народу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.И.Аванесов и В.И. Даль внесли большой вклад в историю диалектологии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151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157500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88000" y="4437000"/>
            <a:ext cx="3887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бен Иванович Аванесов (1902-1982) по праву считается основателем Московской диалектологической школы. Эта школа сформировалась в процессе работы над «Диалектологическим атласом русского языка», теоретиком, организатором и руководителем которой был Р.И.Аване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ДИАЛЕКТОЛОГИЯ СЕГО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Исследование говоров продолжается и по сей день. За последние десятилетия накоплено множество новых сведений. На их основе созданы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«Диалектологический атлас русского языка»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«Словарь русских народных говоров»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различные областные словари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284640"/>
          <a:ext cx="8229600" cy="3043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0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И А Л Е К Т О Л О Г И 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ы современные – вторая полов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а. Их звуковой строй анализируется с помощью современной акустической аппаратуры и компьютер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аны новые программы обследования, позволяющие составлять очень полные и точные описания говоро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 наука тесным образом связана с историей, археологией, этнографией, фольклором, - ведь судьба диалекта неотторжима от жизни нар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исторический период – племенной строй, эпоха древнерусских княжеств до монголо-татарского нашествия, время возвышения Московского княжества в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олет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гвистическая ге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оссии идею лингвистического картографирования первым выдвинул филолог Измаил Иванович Срезневс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в диалектологии появилось новое направление – лингвистическая география. Её основным методом является отображение на картах территорий, где встречаются разные звуковые явления. Это делается при помощи условных обозначен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цветовых зали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штрих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зна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читается лингвистическая к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м карту «Глаголы со значени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делывать землю с помощью оруд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восточнославянских диалектах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 карту!!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0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3933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51640" y="1700280"/>
            <a:ext cx="2936880" cy="391464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38036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400720" cy="4822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941720"/>
            <a:ext cx="82296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537372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карте 3 знака: жёлтый – распространение глагола – орать – , зелёный – распространение глагола – пахать – , белый с красной границей – пахать в значении «мести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24400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Границы говор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Существуют ли чёткие границы меж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разными говорами? Ответить на эт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вопрос учёные пытались давно. И тол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в 1915 году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Н.Н.Дурново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Н.Н.Соколов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Д.Н.Ушаков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 в «Опыте диалектологиче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карты русского языка в Европе» доказали, ч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существуют целостные территор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Перед нами упрощённая карта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ДАР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(диалектологический атлас русского язык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мотри карту!!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02136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24400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99"/>
                </a:solidFill>
                <a:uFillTx/>
                <a:latin typeface="Arial Narrow"/>
              </a:rPr>
              <a:t>Использование диалектных слов в художествен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диалектными словами мы нере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тречаемся в худож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изведениях. Обычно пис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водят эти слова в речь дей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ц. Отдельные диалекты, непоня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ольшинству читателей, пис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зъясняют либо в тексте произве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бо в снос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75680" y="1527120"/>
            <a:ext cx="1517400" cy="175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6320" y="2995560"/>
            <a:ext cx="157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4" name="0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28000" y="616572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80360" y="4389480"/>
            <a:ext cx="1512720" cy="1560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03280" y="5300640"/>
            <a:ext cx="590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 Narrow"/>
              </a:rPr>
              <a:t>Так, например, Н.Некрасов, С.Есенин, М.Шолохов использовали диалектизмы в своих произведения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5651640" y="44146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7380360" y="29973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7380360" y="5661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5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563640" y="47628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 детства вслушивался я в         С Л О В 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, как птицу, его лов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ни С Л О В О – мне было но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 Л О В О ел я и С Л О В О п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: Т У Т О Ш Н И 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: Т А М О Ш Н И 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 ёмкое – Н А П Р Я М К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речки камешки звали –                К А М У Ш К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али ямы с водой – Б У К И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.Бра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002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Прочитать отрывки из произведений Н.А.Некрасова.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Объяснить значение выделенных диалектных слов. С какой целью использует их поэ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- Кажется, шепчут колосья друг друг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«Скучно нам слушать осеннюю вью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Нас, что ни ночь, разоряют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станицы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Всякой пролётной прожорливой птиц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В избушке – телёнок в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подклети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ловит пи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На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лаве</a:t>
            </a: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где мамка колотит бельё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нянчит сестрёнку, двухлетнюю Глаж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тащит на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пожню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ведёрку квас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ДЛЯ СПРАВОК: «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пешеходный мостик через речку, топкое место», «стая», «луг во время сенокоса», «огороженное в избе место для ско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32720" y="1989000"/>
            <a:ext cx="1760400" cy="2376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Monotype Corsiva"/>
              </a:rPr>
              <a:t>Прочитайте отрывки из раннего стихотворения С.Есенина «В хате». Чем объяснить обилие южных диалектных слов в нё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Monotype Corsiva"/>
              </a:rPr>
              <a:t>(Они выделе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Пахнет рыхлым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дрочёнами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У порога в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дёжке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ква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д п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ечурками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точё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Тараканы лезут в п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Вьётся сажа над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заслонкою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В печке нитк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попелиц,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А на лавке за солонкою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Шелуха сырых я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Мать с ухватами не слад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гибается низ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Старый кот к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мохотке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крадё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 парное молоко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Monotype Corsiva"/>
              </a:rPr>
              <a:t>ДЛЯ СПРАВОК: «зола, пепел», «выемка в русской печи для просушки чего-либо», «кушанье из запечённой смеси яиц, молока и муки или тёртого картофеля», «железная крышка, прикрывающая устье русской печи», «кринка», «квашня, кадушка для замешивания теста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78600" y="1125360"/>
            <a:ext cx="2309760" cy="25196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 Narrow"/>
              </a:rPr>
              <a:t>Ниже даны отдельные предложения из «Поднятой целины» М.Шолохова. В левом столбике – первоначальный текст, в правом – последняя редакция автора. Сравните обе редакции текста и скажите, какие слова заменил М.Шолохов в первоначальном тексте? С какой целью проведена правка автором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431640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Меня кубыть ветром не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Я отощал вовзят, не дой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Глухо побрякивая привязанным к шее балобоном, бежал жеребён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Теперь надо навалиться на волочбу. И чтобы обязательно волочить в три сл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Хозяин охаживал коня руками.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3280" y="4149360"/>
            <a:ext cx="43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Меня словно ветром не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Я отощал совсем, не дой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Глухо побрякивая привязанным к шее колокольчиком, бежал же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Теперь надо навалиться на боронование. И чтобы обязательно боронить в три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Хозяин гладил коня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022480" cy="208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403280" y="4653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61440" y="63104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трольные вопросы и  упражнения  для  закреп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9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ть  определение  диалек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 какому  веку  исходят истоки  диалектологических исследова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у принадлежит идея лингвистического картографиров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омощью каких условных обозначений   может быть прочитана лингвистическая кар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аком  году учёными  было доказано существование целостных  территор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 такое Д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524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848720" y="632448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225"/>
                            </p:stCondLst>
                            <p:childTnLst>
                              <p:par>
                                <p:cTn id="7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425"/>
                            </p:stCondLst>
                            <p:childTnLst>
                              <p:par>
                                <p:cTn id="7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2" dur="3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825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3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625"/>
                            </p:stCondLst>
                            <p:childTnLst>
                              <p:par>
                                <p:cTn id="7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3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1925"/>
                            </p:stCondLst>
                            <p:childTnLst>
                              <p:par>
                                <p:cTn id="7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3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4925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3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6125"/>
                            </p:stCondLst>
                            <p:childTnLst>
                              <p:par>
                                <p:cTn id="7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6625"/>
                            </p:stCondLst>
                            <p:childTnLst>
                              <p:par>
                                <p:cTn id="7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7125"/>
                            </p:stCondLst>
                            <p:childTnLst>
                              <p:par>
                                <p:cTn id="7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 отрывку  из книги М. Пришвина   «В краю непуганых птиц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 «шалонник»  означает юго – западный  ветер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ругие  ветры  назывались: летний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южный, ст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пад, побереж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еверо – западный), обед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юго – восточный), полуночник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 северо – восточный, торок  (вихрь) и  жаровой – случайный  летний 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739960"/>
          </a:xfrm>
          <a:prstGeom prst="rect">
            <a:avLst/>
          </a:prstGeom>
          <a:ln w="0">
            <a:noFill/>
          </a:ln>
        </p:spPr>
      </p:pic>
      <p:pic>
        <p:nvPicPr>
          <p:cNvPr id="160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им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вал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екш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ипу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род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Стан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большое  селение  в  казачьем  райо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рин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колоде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Жал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крап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уржа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и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болотистый  л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осул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со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0"/>
                            </p:stCondLst>
                            <p:childTnLst>
                              <p:par>
                                <p:cTn id="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9d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жнения 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читайте  отрывок  из  книги  М.Пришвина  «В краю непуганых  птиц», в котором отражена  речь карельских поморов. Как называются  в  лексикологии  выделенные 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зере вам  хороша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ветер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дет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шалонник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ет. (см.ключ.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усских говорах вечерние собрания молодёжи имели разнообразные  названия. На западе  Ивановской  области был  широко  распространён  вариант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сед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  Тверью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ед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к востоку  от  Костромы – беседки, во Владимирской области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идел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бассейне  реки  Оки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иденки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тречаются  следующие  диалектные  слова  в  этом  значении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ечерушки, сиделки, супрядки, попрядухи, вечёрки, вечеринки, вечерушки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т.д. Какие  слова  вам  знакомы? Объедините  эти слова  в  гнёзда  и  обозначьте  их морфемный сост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ъясните  значение выделенных  диалектиз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ьник  щеголял  в  кумачовой рубахе,  в  плисовых  шароварах, новых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имах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екша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екочет – гостей пророчит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ипуны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ли  здесь  очень сильные и  вырывались из  середины горы. Как доехал  казак до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таниц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поил он  коня  из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иниц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Жалица,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щавель, дикая  редька… и  много  чего  выросло  на  лугах.От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уржа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все  лошади  сделались  одинаковой  масти – седые. Белая  речка  вытекает  из  светлой  рады. Приподнимая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сулю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яжелую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ба порезала  ноженьку  голую… (см.ключ. 2)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09" descr=""/>
          <p:cNvPicPr/>
          <p:nvPr/>
        </p:nvPicPr>
        <p:blipFill>
          <a:blip r:embed="rId1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500"/>
                            </p:stCondLst>
                            <p:childTnLst>
                              <p:par>
                                <p:cTn id="8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500"/>
                            </p:stCondLst>
                            <p:childTnLst>
                              <p:par>
                                <p:cTn id="8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Ц Е Л И      П Р Е З Е Н Т А Ц И И: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закрепление понятия о диалектологии как разделе науки о язы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знать нормы употребления диалектной лекс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пределять уместность – неуместность использования диалектных слов в обиходной речи, в художественных произведениях.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З А Д А Ч 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богащение словарного запаса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формирование ум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 определять лексическое значение слов, используя различные типы толковых словарей и ДА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 уметь употреблять слова в речи в соответствии с их стилистическими свойств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Содержание презентации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иалект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ингвистическая ге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раницы го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спользование диалектных слов в художественных произве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нтрольные  вопросы и  упражнения для закрепления 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286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58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17524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59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281952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60" name="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520" y="33526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61" name="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520" y="388620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0" descr=""/>
          <p:cNvPicPr/>
          <p:nvPr/>
        </p:nvPicPr>
        <p:blipFill>
          <a:blip r:embed="rId12"/>
          <a:stretch/>
        </p:blipFill>
        <p:spPr>
          <a:xfrm>
            <a:off x="533520" y="4876920"/>
            <a:ext cx="180720" cy="18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725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225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725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225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725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225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 О В О 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лекты и литературный язы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разни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о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гвисты о диалектах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.И.Срезнев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.В.П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.В.Щерб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365120" cy="156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08720" y="1052640"/>
            <a:ext cx="1365480" cy="156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236000" y="4437000"/>
            <a:ext cx="1365120" cy="1657440"/>
          </a:xfrm>
          <a:prstGeom prst="rect">
            <a:avLst/>
          </a:prstGeom>
          <a:ln w="0">
            <a:noFill/>
          </a:ln>
        </p:spPr>
      </p:pic>
      <p:pic>
        <p:nvPicPr>
          <p:cNvPr id="70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17733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71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24000" y="3068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72" name="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16360" y="3573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73" name="0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50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иалекты и литературный я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аждой школе России дети изучают русский ЛИТЕРАТУРНЫЙ ЯЗЫК. Его отличительная черта – НОРМИРОВАН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, в Воробьёвке сохранились такие диалекты, как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Б У Х О Н 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юре,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 Р О Б Ы Н 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лестница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 З В А 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компот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 О К Ы Р 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топор и др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нако сельскими жителями закономерности ГОВОРА отчётливо не осознаются, к тому же они не имеют письменного свода правил. Русские ДИАЛЕКТЫ существуют только в устной форме в отличие от ЛИТЕРАТУРН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робьёвский ГОВОР по сравнению с другими кажется хорошим, правильным, красивым, а чужой воспринимается, как что-то плохое, нелепое, а иногда смешное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101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700"/>
                            </p:stCondLst>
                            <p:childTnLst>
                              <p:par>
                                <p:cTn id="3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700"/>
                            </p:stCondLst>
                            <p:childTnLst>
                              <p:par>
                                <p:cTn id="3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РАЗНИЛКИ  И  ЧАСТ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диалектах существует множество частушек и присловий, которые высмеивают язык сосе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ри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, на ули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, яй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, снесл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-  в этой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РАЗНИЛК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обыгрывается произношение звука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c]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месте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ак  барановски девчо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ворят на букву «це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Дайте мыль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полотен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ло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и  на пе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!» - в этой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ЧАСТУШК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высмеивается цоканье – очень яркая диалектная черта, которая характеризует многие говоры севра и ю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 О Л О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ногих народов мира существовал и существует замечательный обычай: помогать друг другу в работе. В русских ГОВОРАХ такой обычай называется чаще всего ПОМОЧЬ, ТОЛОКА, реже ПОМОГА, ПОСОБ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ОКОЙ убирали хлеб с полей, созывая для этого родственников, соседей. Так же ставили сруб меняли ветхую крышу, вывозили по весне навоз на поля. Управлялись за один день, работа была похожа на праздник, а по окончании хозяин угощал всех помогавших. Их называли ТОЛОЧА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гда приглашали помогать женщин – обрабатывать лён, прясть; такая женская работа называлась супряд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и часто бывают связаны с определёнными этапами работы крестьян: ЗАСЕВКИ – начало сева, ЗАЖИНКИ – начало жатвы, ОБСЕВОК – завершение сева, ОБЖИНКИ, ВЫЖИНКИ – завершение жат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мотри таблицу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101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317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7:27:14Z</dcterms:created>
  <dc:creator>user</dc:creator>
  <dc:description/>
  <dc:language>en-US</dc:language>
  <cp:lastModifiedBy>Oksana</cp:lastModifiedBy>
  <dcterms:modified xsi:type="dcterms:W3CDTF">2015-04-09T16:25:57Z</dcterms:modified>
  <cp:revision>44</cp:revision>
  <dc:subject/>
  <dc:title>ДИАЛЕКТЫ  РУССКОГО ЯЗЫКА</dc:title>
</cp:coreProperties>
</file>