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2C0-70CE-4077-B71F-0ED27772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AB5-3EDE-4634-A07F-511D093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694-2430-4176-A947-25673399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233-7F06-4D0B-B91E-3DA300B2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E2AD-DE9B-4F0C-97A0-4B5D0912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ECBF-A2C3-4CC0-B5AD-F0A88A5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D06-F0EF-44A1-80C8-E288F908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E15E-323E-4795-B614-0FD49529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7B1D-ED8D-420A-A069-729C85C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4704-49CD-4D42-A12F-962C006C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298E-BA7E-48ED-91FB-12AAE88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013-6A99-496A-A7CC-09B2E9A0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55A-E1F3-496C-A992-2981A6F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BFF-EAF5-43C4-91A7-4C82B2E1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B26-EDD1-48BD-BAC2-8701CE9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0DED-CF2D-4467-BFFF-9942AA56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1AA1-0ED0-4461-B0AD-ACB32EB6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62A-95A6-4089-9269-6C34F405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6AA-1BBC-4D6A-A074-8CF37AD5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2F0-94B7-4247-A354-25E2AC80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F49-77B0-49D6-9251-1CFE3872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20C-FA62-4DC0-BF3A-C786240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E84-DB43-4A9E-9F7F-7F7E460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B21-7E74-4E3E-AB21-81364E65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2F5C-FD3C-45EF-A25D-B445F81CA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5B0-3990-4C8B-83B1-5C11F1AC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2060280"/>
            <a:ext cx="6480000" cy="26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рофилактика синдрома эмоционального выгорания педагог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200"/>
                </a:solidFill>
                <a:latin typeface="Comic Sans MS"/>
              </a:rPr>
              <a:t>Симптомы появления СЭВ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циально-психологические симптом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различие, скука, пассивность и депрессия (пониженный эмоциональный тонус, чувство подавленности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вышенная раздражительность на незначительные, мелкие событ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тые нервные срывы (вспышки немотивированного гнева или отказы от общения, уход в себя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оянное переживание негативных эмоций, для которых во внешней ситуации причин нет (чувство вины, обиды, стыда, подозрительность, скованность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вство неосознанного беспокойства и повышенной тревожности (ощущение, что «что-то не так, как надо»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вство гиперответственности и постоянное чувство страха, что «не получится» или «я не справлюсь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ая негативная установка на жизненные и профессиональные перспективы (по типу «как ни старайся, все равно ничего не получится»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Симптомы появления СЭ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4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веденческие симптом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щущение, что работа становится все тяжелее и тяжелее, а выполнять ее — все труднее и трудне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трудник заметно меняет свой рабочий режим (увеличивает или сокращает время работ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оянно, без необходимости, берет работу домой, но дома ее не дела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вство бесполезности, неверие в улучшения, снижение энтузиазма по отношению к работе, безразличие к результата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выполнение важных, приоритетных задач и «застревание» на мелких деталях, не соответствующая служебным требованиям трата большей части рабочего времени на мало осознаваемое или не осознаваемое выполнение автоматических и элементарных действ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истанцированность от коллег, повышение неадекватной критич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лоупотребление алкоголем, резкое возрастание выкуренных за день сигарет, применение наркотических средст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Причины возникновения </a:t>
            </a:r>
            <a:br>
              <a:rPr sz="3200"/>
            </a:b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ЭВ у педаг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вышенная  ответственность педагога в выполнении своих профессиональных функц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груженность в течении рабочего дн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сокая эмоциональная включенность в деятельность — эмоциональная перегруз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благоприятные социальные условия и психологическая обстановка на рабочем мес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обходимость творческого отношения к своей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обходимость владения современными методиками и технологиями обучения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Причины возникновения </a:t>
            </a:r>
            <a:br>
              <a:rPr sz="2800"/>
            </a:b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СЭВ у педагог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утствие четкой связи между процессом обучения и получаемым результатом, несоответствие результатов затраченным сила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есткие временные рамки деятельности (занятие, семестр, год), ограниченность времени урока для реализации поставленных ц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умение регулировать собственные эмоциональные состоя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неотрегулированность» организационных моментов педагогической деятельности: нагрузка, расписание, кабинет, моральное и материальное стимулирова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ственность перед администрацией, коллегами, обществом в целом за результат своего труд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утствие навыков коммуникации и умения выходить из трудных ситуаций общения с учащимися, коллегами, администраци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итуации, влияющие на возникновение СЭ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чало своей деятельности после отпуска, каникул, курсов (функция – адаптационна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туации эмоционально неадекватного общения с субъектами образовательного процесса, особенно с администрацией  (функция –защитная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ведение открытых уроков; мероприятий, на которые было потрачено много сил и энергии, а в результате не получено соответствующего удовлетвор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ончание учебного г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588000" y="4724280"/>
            <a:ext cx="16020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7067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рофилактика профессионального выгор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ачества, помогающие педагогу избежать профессионального выгор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Во-первых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ее здоровье и сознательная, целенаправленная забота о своем физическом состоянии (постоянные занятия спортом, здоровый образ жизни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окая самооценка и уверенность в себе, своих способностях и возможностя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Во-вторых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пыт успешного преодоления профессионального стресса (нужно решить свою проблему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пособность конструктивно меняться в напряженных условиях (изменить отношение к проблеме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окая мобильн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ткрыт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щительн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амостоятельн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емление опираться на собственные сил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В-третьих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пособность формировать и поддерживать в себе позитивные, оптимистичные установки и ценности — как в отношении самих себя, та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других людей и жизни вообщ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356600" y="0"/>
            <a:ext cx="17874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200"/>
                </a:solidFill>
                <a:latin typeface="Comic Sans MS"/>
              </a:rPr>
              <a:t>ПАМЯТКА ПЕДАГОГУ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19280" y="1197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скрывайте свои чувства. Проявляйте ваши эмоции и давайте вашим друзьям обсуждать их вместе с в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избегайте говорить о том, что случилось. Используйте каждую возможность пересмотреть свой опыт наедине с собой или вместе с друг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позволяйте вашему чувству стеснения останавливать вас, когда другие предоставляют вам шанс говорить или предлагают помощ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ожидайте, что тяжелые состояния, характерные для выгорания, уйдут сами по себ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сли не предпринимать мер, они будут посещать вас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деляйте достаточное время для сна, отдыха, размышл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являйте ваши желания прямо, ясно и честно, говорите о них семье, друзьям и на работ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старайтесь сохранять нормальный распорядок вашей жизни, насколько это возмож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5" descr="Голубые холмы"/>
          <p:cNvPicPr/>
          <p:nvPr/>
        </p:nvPicPr>
        <p:blipFill>
          <a:blip r:embed="rId1"/>
          <a:stretch/>
        </p:blipFill>
        <p:spPr>
          <a:xfrm>
            <a:off x="0" y="0"/>
            <a:ext cx="15256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200"/>
                </a:solidFill>
                <a:latin typeface="Comic Sans MS"/>
              </a:rPr>
              <a:t>ПАМЯТКА ПЕДАГОГУ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арайтесь смотреть на вещи оптимистич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ремитесь побороть стр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йдите время, чтобы побыть наедине с соб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позволяйте окружающим требовать от Вас слишком много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старайтесь делать вид, что Вам нравится то, что Вам на самом деле неприят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оказывайте слишком большое давление на своих де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арайтесь реже говорить: «Я этого не могу сделать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пользуйте возможность выступить с реч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едите за питанием и фигур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зволяйте себе «маленькие женские радости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забывайте, что Вы красивы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03280" y="1557360"/>
            <a:ext cx="4969080" cy="468000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141720"/>
            <a:ext cx="424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я ответственно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04640"/>
            <a:ext cx="42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ветственность други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12000" y="407664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2781360"/>
            <a:ext cx="42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ределение дел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е                         Важ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чное                       Не срочн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ажное                     Не важное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чное                        Не сроч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1773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3716280"/>
            <a:ext cx="81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Эмоциональное выгорание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 –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6964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 синдром, развивающийся на фоне хронического стресса и ведущий к истощению эмоциональных, энергетических и личностных ресурсов работающего чело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т синдром возникает в результате внутреннего накапливания отрицательных эмоций без соответствующей «разрядки», или «освобождения» от них. Оно ведет к истощению эмоциональных, энергетических и личностных ресурсов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 несоответствие между требованиями, предъявляемыми к работнику, и его реальными возможност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153036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Проявление СЭВ у педагогов</a:t>
            </a:r>
            <a:br>
              <a:rPr sz="2800"/>
            </a:b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(в зависимости от  стажа работы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лее 50% - у педагогов со стажем работы от 5 до 7 или от 7 до 10 л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2% - со стажем от 15 до 20 л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% -  у педагогов с 10-летним стажем (у педагогов со стажем работы более 10 лет выработаны определенные способы саморегуляции и психологической защиты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% - со стажем от 1 года до 3 л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Стадии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483920"/>
            <a:ext cx="70106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ервая  стад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глушение эмоций, сглаживание остроты чувств и свежести пережива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чезновение положительных эмоции, появление отстраненности в отношениях с членами семь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зникновение состояния тревожности, неудовлетворенност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4797360"/>
            <a:ext cx="25210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Стадии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торая  стад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зникновение недоразумений с коллег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явление антипатии, а затем и вспышек раздражения по отношению к коллег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4260960"/>
            <a:ext cx="23274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Стадии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ретья  стад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менение  представлений о ценностях жизни, эмоционального отношения к мир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различие ко вс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0" y="4437000"/>
            <a:ext cx="39607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Три аспекта профессионального выгор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вый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нижение самооцен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торо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диноче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юди, страдающие от эмоционального выгорания, не в состоянии установить нормальный контакт с другими людь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рет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эмоциональное истощение, соматизац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алость, апатия и депрессия, сопровождающие эмоциональное вы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имптомы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появления СЭВ</a:t>
            </a:r>
            <a:br>
              <a:rPr sz="33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7850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сихофизические симптом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увство постоянной усталости не только по вечерам, но и по утрам, сразу после сна (симптом хронической усталост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щущение эмоционального и физического истощ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нижение восприимчивости и реактивности в связи с изменениями внешней среды (отсутствие реакции любопытства на фактор новизны или реакции страха на опасную ситуацию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щая астенизация (слабость, снижение активности и энерги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стые беспричинные головные боли; постоянные расстройства желудочно-кишечного трак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имптомы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появления СЭВ</a:t>
            </a:r>
            <a:br>
              <a:rPr sz="33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7705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сихофизические симптом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кая потеря или резкое увеличение ве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ная или частичная бессонниц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янное заторможенное, сонливое состояние и желание спать в течение всего дн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ышка или нарушения дыхания при физической или эмоциональной нагрузк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метное снижение внешней и внутренней сенсорной чувствительности: ухудшение зрения, слуха, обоняния и осяз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5:05:32Z</dcterms:created>
  <dc:creator>Елена</dc:creator>
  <dc:description/>
  <dc:language>en-US</dc:language>
  <cp:lastModifiedBy>user</cp:lastModifiedBy>
  <dcterms:modified xsi:type="dcterms:W3CDTF">2012-12-27T06:05:43Z</dcterms:modified>
  <cp:revision>49</cp:revision>
  <dc:subject/>
  <dc:title>Профилактика профессионального выгорания педагога </dc:title>
</cp:coreProperties>
</file>