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634-46F8-43A7-98E7-E82F6923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5D5-C872-4798-BD58-10DCE788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7F8-BB65-420C-A33C-7BB016B2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5A7-EC5F-46BC-AB18-350E8A1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CFB-437B-44CE-8E65-50758CB2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6345-05E1-4B8C-B8D1-BA6BAE9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4A37-5033-4D38-B6B9-1D9480E0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5E65-505F-4B91-9A38-BE03F39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6650-FE87-44C5-A0B0-C95E28A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260A-0EE6-465E-A930-60408CF5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6B4D-56D4-4A31-87E9-FFBEDFB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050-D400-45B1-A02C-A6BA769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308D-56D1-4880-BEE3-C65D2C5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604E-2893-46F2-B009-9768E5C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329-1266-451B-ADB4-82F9C784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1F0E-B302-4DFA-9B28-E037091A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B03-0BD8-49EB-8683-0CAEAFE1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DD2-FF9A-4BDC-9AF8-2685FB7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6A5-E68D-453E-8156-9172331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819-E3D7-494C-8F34-744F8565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AE7-EF3E-44F6-A406-0FE68841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EAA-301B-4ECE-8E35-CFE6434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331-F59D-4362-8D38-15E76B9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F95-7AC2-4E91-BCFE-AA99289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64D4-E14A-4907-8BE7-0882BBB461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921-A607-4625-A247-746CFC5D00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5564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Использование алгоритмов, таблиц и опорных схем на разных этапах уро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колова Наталия Владими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У СОШ №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т.Новотитаровс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D:\Мои рисунки\Школьная тематика\e8b094b7950d327c31c53f3be710d585.gif"/>
          <p:cNvPicPr/>
          <p:nvPr/>
        </p:nvPicPr>
        <p:blipFill>
          <a:blip r:embed="rId1"/>
          <a:stretch/>
        </p:blipFill>
        <p:spPr>
          <a:xfrm>
            <a:off x="6659640" y="907920"/>
            <a:ext cx="218592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8" descr="http://www.kazakova-op.ru/data/7/img5.gif"/>
          <p:cNvPicPr/>
          <p:nvPr/>
        </p:nvPicPr>
        <p:blipFill>
          <a:blip r:embed="rId1"/>
          <a:stretch/>
        </p:blipFill>
        <p:spPr>
          <a:xfrm>
            <a:off x="1643040" y="1714680"/>
            <a:ext cx="7072200" cy="492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06000"/>
                </a:solidFill>
                <a:latin typeface="Arial"/>
              </a:rPr>
              <a:t>Графический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уквы Ы – И после Ц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a500"/>
            </a:gs>
            <a:gs pos="100000">
              <a:srgbClr val="663300">
                <a:alpha val="69019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571680"/>
          <a:ext cx="7786800" cy="61434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61434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езударная  гласная  в корне слов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йди корень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ставь удар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дарение падает на гласную в корне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ши слово с этой гласной                        подбери проверочное сло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далось   подобр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 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ши слово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смотри 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этой гласной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лов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5" name="AutoShape 18"/>
          <p:cNvCxnSpPr/>
          <p:nvPr/>
        </p:nvCxnSpPr>
        <p:spPr>
          <a:xfrm flipH="1">
            <a:off x="4928400" y="1428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16"/>
          <p:cNvCxnSpPr/>
          <p:nvPr/>
        </p:nvCxnSpPr>
        <p:spPr>
          <a:xfrm flipH="1">
            <a:off x="3071520" y="2785680"/>
            <a:ext cx="6768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15"/>
          <p:cNvCxnSpPr/>
          <p:nvPr/>
        </p:nvCxnSpPr>
        <p:spPr>
          <a:xfrm>
            <a:off x="5428800" y="2785680"/>
            <a:ext cx="6390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Arc 10"/>
          <p:cNvSpPr/>
          <p:nvPr/>
        </p:nvSpPr>
        <p:spPr>
          <a:xfrm flipV="1" rot="13384200">
            <a:off x="1858680" y="3154320"/>
            <a:ext cx="731880" cy="71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rc 11"/>
          <p:cNvSpPr/>
          <p:nvPr/>
        </p:nvSpPr>
        <p:spPr>
          <a:xfrm flipV="1" rot="13384200">
            <a:off x="6573240" y="3153960"/>
            <a:ext cx="73188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0" name="AutoShape 9"/>
          <p:cNvCxnSpPr/>
          <p:nvPr/>
        </p:nvCxnSpPr>
        <p:spPr>
          <a:xfrm flipH="1">
            <a:off x="2285640" y="3214440"/>
            <a:ext cx="1627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12"/>
          <p:cNvCxnSpPr/>
          <p:nvPr/>
        </p:nvCxnSpPr>
        <p:spPr>
          <a:xfrm flipH="1">
            <a:off x="7143480" y="3000240"/>
            <a:ext cx="1245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AutoShape 8"/>
          <p:cNvCxnSpPr/>
          <p:nvPr/>
        </p:nvCxnSpPr>
        <p:spPr>
          <a:xfrm>
            <a:off x="2142720" y="3499920"/>
            <a:ext cx="1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AutoShape 6"/>
          <p:cNvCxnSpPr/>
          <p:nvPr/>
        </p:nvCxnSpPr>
        <p:spPr>
          <a:xfrm>
            <a:off x="2142720" y="3571560"/>
            <a:ext cx="1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AutoShape 7"/>
          <p:cNvCxnSpPr/>
          <p:nvPr/>
        </p:nvCxnSpPr>
        <p:spPr>
          <a:xfrm>
            <a:off x="6858000" y="34286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AutoShape 4"/>
          <p:cNvCxnSpPr/>
          <p:nvPr/>
        </p:nvCxnSpPr>
        <p:spPr>
          <a:xfrm flipH="1">
            <a:off x="5428800" y="4714560"/>
            <a:ext cx="41040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3"/>
          <p:cNvCxnSpPr/>
          <p:nvPr/>
        </p:nvCxnSpPr>
        <p:spPr>
          <a:xfrm>
            <a:off x="6857640" y="471456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2"/>
          <p:cNvCxnSpPr/>
          <p:nvPr/>
        </p:nvCxnSpPr>
        <p:spPr>
          <a:xfrm>
            <a:off x="5000400" y="507168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1"/>
          <p:cNvCxnSpPr/>
          <p:nvPr/>
        </p:nvCxnSpPr>
        <p:spPr>
          <a:xfrm>
            <a:off x="7714800" y="507168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17"/>
          <p:cNvCxnSpPr/>
          <p:nvPr/>
        </p:nvCxnSpPr>
        <p:spPr>
          <a:xfrm>
            <a:off x="4928760" y="2143080"/>
            <a:ext cx="104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4"/>
          <p:cNvCxnSpPr/>
          <p:nvPr/>
        </p:nvCxnSpPr>
        <p:spPr>
          <a:xfrm>
            <a:off x="2999880" y="3357720"/>
            <a:ext cx="1044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3"/>
          <p:cNvCxnSpPr/>
          <p:nvPr/>
        </p:nvCxnSpPr>
        <p:spPr>
          <a:xfrm>
            <a:off x="5928840" y="3429000"/>
            <a:ext cx="108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5"/>
          <p:cNvCxnSpPr/>
          <p:nvPr/>
        </p:nvCxnSpPr>
        <p:spPr>
          <a:xfrm>
            <a:off x="6500520" y="4143240"/>
            <a:ext cx="108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порная схем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служит наглядным средством для совершенствования умения пользоваться научным стил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обеспечивает возможность самостоятельно  отрабатывать теоретический матер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7"/>
          <p:cNvSpPr txBox="1"/>
          <p:nvPr/>
        </p:nvSpPr>
        <p:spPr>
          <a:xfrm>
            <a:off x="1214280" y="2714760"/>
            <a:ext cx="3654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6072120" y="2857680"/>
            <a:ext cx="36504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714680" y="3286080"/>
            <a:ext cx="6206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1785960" y="32148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"/>
          <p:cNvSpPr/>
          <p:nvPr/>
        </p:nvSpPr>
        <p:spPr>
          <a:xfrm flipV="1">
            <a:off x="1714680" y="2928600"/>
            <a:ext cx="6426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6643800" y="3429000"/>
            <a:ext cx="928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4"/>
          <p:cNvSpPr/>
          <p:nvPr/>
        </p:nvSpPr>
        <p:spPr>
          <a:xfrm flipV="1">
            <a:off x="6858000" y="3357360"/>
            <a:ext cx="635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"/>
          <p:cNvSpPr/>
          <p:nvPr/>
        </p:nvSpPr>
        <p:spPr>
          <a:xfrm flipV="1">
            <a:off x="6572160" y="3071520"/>
            <a:ext cx="928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5857920" y="2786040"/>
            <a:ext cx="730080" cy="100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285920" y="34200"/>
            <a:ext cx="7429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ловесно-графиче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5a47"/>
                </a:solidFill>
                <a:latin typeface="Arial"/>
                <a:ea typeface="Arial"/>
              </a:rPr>
              <a:t>Разделительные Ъ и Ь зна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382640" y="227880"/>
            <a:ext cx="37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143160" y="3958920"/>
            <a:ext cx="3714840" cy="27100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В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глагола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и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наречия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Знак пишется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всегд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У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кратких прилагательны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пишем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никог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Существительное - много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Существительное – м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-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Знак не нуже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ника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А подставь она, од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Мягкий знак пиши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всег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2428920" y="307188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реч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20718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ж.р. 3ск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2426040" y="27147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аго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7441920" y="278604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р. прил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19"/>
          <p:cNvSpPr/>
          <p:nvPr/>
        </p:nvSpPr>
        <p:spPr>
          <a:xfrm>
            <a:off x="721512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мн.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7504200" y="35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м.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2428920" y="1357200"/>
            <a:ext cx="4714920" cy="928800"/>
          </a:xfrm>
          <a:prstGeom prst="rect">
            <a:avLst/>
          </a:prstGeom>
          <a:solidFill>
            <a:srgbClr val="996600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какой частью речи является сло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4" name="Прямая со стрелкой 21"/>
          <p:cNvCxnSpPr/>
          <p:nvPr/>
        </p:nvCxnSpPr>
        <p:spPr>
          <a:xfrm flipH="1">
            <a:off x="3499920" y="2356200"/>
            <a:ext cx="929520" cy="35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5" name="Прямая со стрелкой 25"/>
          <p:cNvCxnSpPr/>
          <p:nvPr/>
        </p:nvCxnSpPr>
        <p:spPr>
          <a:xfrm>
            <a:off x="5214600" y="2356920"/>
            <a:ext cx="1072440" cy="35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Выноска со стрелкой вниз 5"/>
          <p:cNvSpPr/>
          <p:nvPr/>
        </p:nvSpPr>
        <p:spPr>
          <a:xfrm>
            <a:off x="2071800" y="357120"/>
            <a:ext cx="4786200" cy="1571760"/>
          </a:xfrm>
          <a:prstGeom prst="downArrowCallout">
            <a:avLst>
              <a:gd name="adj1" fmla="val 82254"/>
              <a:gd name="adj2" fmla="val 86673"/>
              <a:gd name="adj3" fmla="val 25000"/>
              <a:gd name="adj4" fmla="val 64977"/>
            </a:avLst>
          </a:prstGeom>
          <a:solidFill>
            <a:srgbClr val="4d26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36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00080" y="1785960"/>
            <a:ext cx="7934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Горизонтальный свиток 6"/>
          <p:cNvSpPr/>
          <p:nvPr/>
        </p:nvSpPr>
        <p:spPr>
          <a:xfrm>
            <a:off x="1071720" y="4857840"/>
            <a:ext cx="3143160" cy="15001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ствуют повышению уровня грамот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Горизонтальный свиток 7"/>
          <p:cNvSpPr/>
          <p:nvPr/>
        </p:nvSpPr>
        <p:spPr>
          <a:xfrm>
            <a:off x="2786040" y="3286080"/>
            <a:ext cx="3143160" cy="153360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ют логическое мышление учен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Горизонтальный свиток 8"/>
          <p:cNvSpPr/>
          <p:nvPr/>
        </p:nvSpPr>
        <p:spPr>
          <a:xfrm>
            <a:off x="5857920" y="1571760"/>
            <a:ext cx="2857320" cy="15001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циплинируют работу мы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нность опорных конспект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лаконичность (максимум закодированной информации при минимуме визуальных или графических знаков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труктурность  (один блок содержит несколько тем. Например, раздел «Морфология», раздел «Словообразование»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удобство восприятия и воспроизведения, непохожесть опорных конспектов между собой (разнообразие форм, структурирования, цвета и т.д.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занимательность, парадоксальность  имеет большое значение в опорных конспектах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овое оформление - важная деталь опорного конспекта. Правильно оформленный конспект манит, привлекает, заостряет внимание на главном, т.е. воздействует на ученика своим эстетическими и психологическими качеств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Вилк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20150130_125213"/>
          <p:cNvPicPr/>
          <p:nvPr/>
        </p:nvPicPr>
        <p:blipFill>
          <a:blip r:embed="rId1"/>
          <a:stretch/>
        </p:blipFill>
        <p:spPr>
          <a:xfrm>
            <a:off x="0" y="1341360"/>
            <a:ext cx="5559480" cy="44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20150130_125236"/>
          <p:cNvPicPr/>
          <p:nvPr/>
        </p:nvPicPr>
        <p:blipFill>
          <a:blip r:embed="rId2"/>
          <a:stretch/>
        </p:blipFill>
        <p:spPr>
          <a:xfrm>
            <a:off x="5580000" y="1341360"/>
            <a:ext cx="3332160" cy="226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20150130_125631"/>
          <p:cNvPicPr/>
          <p:nvPr/>
        </p:nvPicPr>
        <p:blipFill>
          <a:blip r:embed="rId3"/>
          <a:stretch/>
        </p:blipFill>
        <p:spPr>
          <a:xfrm>
            <a:off x="5580000" y="3573360"/>
            <a:ext cx="33130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rcRect l="0" t="0" r="0" b="11169"/>
          <a:stretch/>
        </p:blipFill>
        <p:spPr>
          <a:xfrm>
            <a:off x="4929120" y="3214800"/>
            <a:ext cx="3076560" cy="316548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4" descr=""/>
          <p:cNvPicPr/>
          <p:nvPr/>
        </p:nvPicPr>
        <p:blipFill>
          <a:blip r:embed="rId2"/>
          <a:stretch/>
        </p:blipFill>
        <p:spPr>
          <a:xfrm>
            <a:off x="1133640" y="1023840"/>
            <a:ext cx="722916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Воспитание успешной личности – главная задача учител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mages-8"/>
          <p:cNvPicPr/>
          <p:nvPr/>
        </p:nvPicPr>
        <p:blipFill>
          <a:blip r:embed="rId1"/>
          <a:stretch/>
        </p:blipFill>
        <p:spPr>
          <a:xfrm>
            <a:off x="0" y="1628640"/>
            <a:ext cx="5508720" cy="3476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015-01-30-08-18-27--2101752446"/>
          <p:cNvPicPr/>
          <p:nvPr/>
        </p:nvPicPr>
        <p:blipFill>
          <a:blip r:embed="rId2"/>
          <a:stretch/>
        </p:blipFill>
        <p:spPr>
          <a:xfrm>
            <a:off x="5003640" y="3500280"/>
            <a:ext cx="381636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images-10"/>
          <p:cNvPicPr/>
          <p:nvPr/>
        </p:nvPicPr>
        <p:blipFill>
          <a:blip r:embed="rId1"/>
          <a:stretch/>
        </p:blipFill>
        <p:spPr>
          <a:xfrm>
            <a:off x="0" y="0"/>
            <a:ext cx="5410080" cy="4052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2015-01-30-08-17-29-1364801226"/>
          <p:cNvPicPr/>
          <p:nvPr/>
        </p:nvPicPr>
        <p:blipFill>
          <a:blip r:embed="rId2"/>
          <a:stretch/>
        </p:blipFill>
        <p:spPr>
          <a:xfrm>
            <a:off x="4572000" y="3573360"/>
            <a:ext cx="42480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Содержимое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1197000"/>
          <a:ext cx="8229600" cy="385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то это?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обозначаем видовую или родовую принадлежность явления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войства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знаки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характерные именно для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ребования, предъявляемые к алгоритма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значность предписываемых действий и опер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ультативность, предполагающая, что при выполнении конечного числа операций будет получен искомый результ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овость, означающая, что алгоритм применим к решению целого класса задач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3920" y="3071880"/>
            <a:ext cx="7643880" cy="29289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Блок-схема: процесс 3"/>
          <p:cNvSpPr/>
          <p:nvPr/>
        </p:nvSpPr>
        <p:spPr>
          <a:xfrm>
            <a:off x="1285920" y="4071960"/>
            <a:ext cx="221436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Граф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лок-схема: процесс 4"/>
          <p:cNvSpPr/>
          <p:nvPr/>
        </p:nvSpPr>
        <p:spPr>
          <a:xfrm>
            <a:off x="3857760" y="4071960"/>
            <a:ext cx="192852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Словес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лок-схема: процесс 5"/>
          <p:cNvSpPr/>
          <p:nvPr/>
        </p:nvSpPr>
        <p:spPr>
          <a:xfrm>
            <a:off x="5857920" y="4071960"/>
            <a:ext cx="285732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Словесно-граф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Прямая соединительная линия 11"/>
          <p:cNvSpPr/>
          <p:nvPr/>
        </p:nvSpPr>
        <p:spPr>
          <a:xfrm>
            <a:off x="2714760" y="3429000"/>
            <a:ext cx="4643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ая соединительная линия 16"/>
          <p:cNvSpPr/>
          <p:nvPr/>
        </p:nvSpPr>
        <p:spPr>
          <a:xfrm>
            <a:off x="271476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Прямая соединительная линия 18"/>
          <p:cNvSpPr/>
          <p:nvPr/>
        </p:nvSpPr>
        <p:spPr>
          <a:xfrm>
            <a:off x="735804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ая соединительная линия 20"/>
          <p:cNvSpPr/>
          <p:nvPr/>
        </p:nvSpPr>
        <p:spPr>
          <a:xfrm>
            <a:off x="492912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Блок-схема: процесс 10"/>
          <p:cNvSpPr/>
          <p:nvPr/>
        </p:nvSpPr>
        <p:spPr>
          <a:xfrm>
            <a:off x="2571840" y="1714680"/>
            <a:ext cx="4500360" cy="1071360"/>
          </a:xfrm>
          <a:prstGeom prst="flowChartProcess">
            <a:avLst/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Виды алгорит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лгоритм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«Правописание глаголов с безударными личными окончаниями»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20150130_104746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86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0:10:38Z</dcterms:created>
  <dc:creator>Admin</dc:creator>
  <dc:description/>
  <dc:language>en-US</dc:language>
  <cp:lastModifiedBy>Admin</cp:lastModifiedBy>
  <dcterms:modified xsi:type="dcterms:W3CDTF">2015-02-24T02:44:24Z</dcterms:modified>
  <cp:revision>5</cp:revision>
  <dc:subject/>
  <dc:title>Слайд 1</dc:title>
</cp:coreProperties>
</file>