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20.jpeg" ContentType="image/jpe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286-7759-43C8-9DB9-B10FF5C7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63B-95F5-4D6E-90EE-A8BB8E4C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C21-3DE7-4F2E-A546-E9C5DD30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239-33E4-44E6-8228-A2A451AC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D467-03F5-4041-81C3-4A42042C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C3C6-03A5-412E-8946-16DF36BA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D207-03A9-47E1-8879-097D12AB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F2F3-43EF-43D1-923A-CFB7FB29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D025-FB8E-461F-8BA5-CE0CC1AD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325E-E436-47C6-BD52-2DF63683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2D6F-C819-423A-807F-D0A24FB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015-2917-4BFB-9E08-C720D295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8164-3076-44E7-8B53-8D2CCB11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9AF4-5A82-485F-9F18-F4834954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7BDF-AF36-4557-8DBE-CD6D098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6627-592A-41F6-89D6-E7128AEB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C8BD-DBD1-4451-A614-D77EE497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BAD-9383-443F-9E58-CC6334F7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500-5011-4DB9-8848-4848E1FD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8D5-7264-4ADD-A87D-BC2AC425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E7E-6AD4-4E10-9091-7FECFC7C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833-E552-4638-971E-703FA33B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400-379D-4B4A-987F-018F7340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FC7-78FC-4924-B1A1-AF181CF6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22D0-5F14-4517-9348-B67BCE9C7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559A-80DB-42E3-A7F9-261EDB930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s009.radikal.ru/i310/1011/24/8d878f3a1d4b.gif" TargetMode="External"/><Relationship Id="rId6" Type="http://schemas.openxmlformats.org/officeDocument/2006/relationships/image" Target="../media/image10.png"/><Relationship Id="rId7" Type="http://schemas.openxmlformats.org/officeDocument/2006/relationships/hyperlink" Target="http://club.foto.ru/gallery/images/photo/2007/02/05/787386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900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Карповская СОШ Тюмецевский райо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7280" y="1055160"/>
            <a:ext cx="8172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исследования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ые растения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нцева Юля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3 класс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Кохан Марина Петровн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равила сбора, сушки, хранения лекарственных растений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капывают осенью после опадания листьев или ранней весной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стья и стебли 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о время цветения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вет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в начале цветения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в период полноценного созрева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шить лекарственные раст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ужно без промедления  в хорошо проветриваемом  месте, в тени.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анить высушенные растения лучше в стеклянной посуде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екарственные  растения  нашей  местности  и их использов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ьзуясь   энциклопедиями,  справочниками, гербарными  образцами  мы выделили  группу трав, которые используют при лечении простудных заболеваний, органов дыхания,  полости рта, гриппа. Так как  данные заболевания характерны для детей школьного возраста.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одержимое 3" descr="G:\мама\images (6).jpg"/>
          <p:cNvPicPr/>
          <p:nvPr/>
        </p:nvPicPr>
        <p:blipFill>
          <a:blip r:embed="rId1"/>
          <a:stretch/>
        </p:blipFill>
        <p:spPr>
          <a:xfrm>
            <a:off x="289080" y="272880"/>
            <a:ext cx="3592440" cy="34005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G:\мама\images (7).jpg"/>
          <p:cNvPicPr/>
          <p:nvPr/>
        </p:nvPicPr>
        <p:blipFill>
          <a:blip r:embed="rId2"/>
          <a:stretch/>
        </p:blipFill>
        <p:spPr>
          <a:xfrm>
            <a:off x="4514760" y="338040"/>
            <a:ext cx="4083120" cy="31752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0" descr=""/>
          <p:cNvPicPr/>
          <p:nvPr/>
        </p:nvPicPr>
        <p:blipFill>
          <a:blip r:embed="rId3"/>
          <a:stretch/>
        </p:blipFill>
        <p:spPr>
          <a:xfrm>
            <a:off x="338040" y="3786120"/>
            <a:ext cx="3652920" cy="2871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1" descr="G:\мама\770840648.jpg"/>
          <p:cNvPicPr/>
          <p:nvPr/>
        </p:nvPicPr>
        <p:blipFill>
          <a:blip r:embed="rId4"/>
          <a:stretch/>
        </p:blipFill>
        <p:spPr>
          <a:xfrm>
            <a:off x="4572000" y="3738600"/>
            <a:ext cx="4003560" cy="287028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4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00" y="274680"/>
            <a:ext cx="3755880" cy="3367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78738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8640" y="372960"/>
            <a:ext cx="4057560" cy="31244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"/>
          <p:cNvPicPr/>
          <p:nvPr/>
        </p:nvPicPr>
        <p:blipFill>
          <a:blip r:embed="rId9"/>
          <a:stretch/>
        </p:blipFill>
        <p:spPr>
          <a:xfrm>
            <a:off x="320760" y="3774960"/>
            <a:ext cx="3898800" cy="28497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"/>
          <p:cNvPicPr/>
          <p:nvPr/>
        </p:nvPicPr>
        <p:blipFill>
          <a:blip r:embed="rId10"/>
          <a:stretch/>
        </p:blipFill>
        <p:spPr>
          <a:xfrm>
            <a:off x="4575240" y="3760920"/>
            <a:ext cx="4087800" cy="2896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G:\мама\images (3).jpg"/>
          <p:cNvPicPr/>
          <p:nvPr/>
        </p:nvPicPr>
        <p:blipFill>
          <a:blip r:embed="rId11"/>
          <a:stretch/>
        </p:blipFill>
        <p:spPr>
          <a:xfrm>
            <a:off x="289080" y="368280"/>
            <a:ext cx="3754440" cy="3257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1" descr=""/>
          <p:cNvPicPr/>
          <p:nvPr/>
        </p:nvPicPr>
        <p:blipFill>
          <a:blip r:embed="rId12"/>
          <a:stretch/>
        </p:blipFill>
        <p:spPr>
          <a:xfrm>
            <a:off x="4560840" y="336600"/>
            <a:ext cx="3989520" cy="3160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2" descr="C:\Documents and Settings\User\Рабочий стол\images.jpg"/>
          <p:cNvPicPr/>
          <p:nvPr/>
        </p:nvPicPr>
        <p:blipFill>
          <a:blip r:embed="rId13"/>
          <a:stretch/>
        </p:blipFill>
        <p:spPr>
          <a:xfrm>
            <a:off x="264960" y="3770280"/>
            <a:ext cx="3921120" cy="28638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3" descr=""/>
          <p:cNvPicPr/>
          <p:nvPr/>
        </p:nvPicPr>
        <p:blipFill>
          <a:blip r:embed="rId14"/>
          <a:stretch/>
        </p:blipFill>
        <p:spPr>
          <a:xfrm>
            <a:off x="4608360" y="3749760"/>
            <a:ext cx="4038840" cy="28591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4" descr="G:\мама\загруженное (1).jpg"/>
          <p:cNvPicPr/>
          <p:nvPr/>
        </p:nvPicPr>
        <p:blipFill>
          <a:blip r:embed="rId15"/>
          <a:stretch/>
        </p:blipFill>
        <p:spPr>
          <a:xfrm>
            <a:off x="291960" y="306360"/>
            <a:ext cx="3751560" cy="32544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5" descr="G:\мама\загруженное (3).jpg"/>
          <p:cNvPicPr/>
          <p:nvPr/>
        </p:nvPicPr>
        <p:blipFill>
          <a:blip r:embed="rId16"/>
          <a:stretch/>
        </p:blipFill>
        <p:spPr>
          <a:xfrm>
            <a:off x="4479840" y="338040"/>
            <a:ext cx="4102200" cy="31114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6" descr="G:\мама\TSelebnaya-solodka1-290x290.jpg"/>
          <p:cNvPicPr/>
          <p:nvPr/>
        </p:nvPicPr>
        <p:blipFill>
          <a:blip r:embed="rId17"/>
          <a:stretch/>
        </p:blipFill>
        <p:spPr>
          <a:xfrm>
            <a:off x="4630680" y="3749760"/>
            <a:ext cx="4048200" cy="2859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F:\Romashka-dushistaya.jpg"/>
          <p:cNvPicPr/>
          <p:nvPr/>
        </p:nvPicPr>
        <p:blipFill>
          <a:blip r:embed="rId18"/>
          <a:stretch/>
        </p:blipFill>
        <p:spPr>
          <a:xfrm>
            <a:off x="320760" y="3860640"/>
            <a:ext cx="37386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730920"/>
        </p:xfrm>
        <a:graphic>
          <a:graphicData uri="http://schemas.openxmlformats.org/drawingml/2006/table">
            <a:tbl>
              <a:tblPr/>
              <a:tblGrid>
                <a:gridCol w="2230560"/>
                <a:gridCol w="1422360"/>
                <a:gridCol w="1741320"/>
                <a:gridCol w="1360440"/>
                <a:gridCol w="2389320"/>
              </a:tblGrid>
              <a:tr h="11149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шель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а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то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ипп,  прост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укрепляющ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на 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п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пов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ина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ород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лепиха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веробой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шица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орожник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ван-чай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брец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3152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мляника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убника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а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лод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G:\фото\103151506_4121583_ivan_chaypolzaipolezniesvoistvaivanchaia300x290.jpg"/>
          <p:cNvPicPr/>
          <p:nvPr/>
        </p:nvPicPr>
        <p:blipFill>
          <a:blip r:embed="rId1"/>
          <a:stretch/>
        </p:blipFill>
        <p:spPr>
          <a:xfrm>
            <a:off x="417600" y="1797120"/>
            <a:ext cx="2357280" cy="2919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Я хочу рассказать об одном из растений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19280" y="1652400"/>
            <a:ext cx="662472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ван-чай-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вянистое растение с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едно-розовыми цветками, собранными в колосовидное соцветие с узкими голыми листьями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Растет  на лесных гарях или лесоповалах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5920" y="-360"/>
            <a:ext cx="82692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уемые части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ветки и листь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Одним из уникальных растений, известных человеку на протяжении веков, является кипрей узколистный  – настоящая кладовая природы и универсальная домашняя аптечка.  Витамин С и большое количество минералов, которые содержатся в чае, способствуют общему укреплению организма, чай значительно повышает иммунитет и сопротивляемость к возбудителям различных болезней.  При простудных  заболеваниях  нормализует температуру, снимает жар, озноб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12400" indent="-212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Рецепты народной медицин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4520" y="105876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 взрослых, из интернета, журналов  ЗОЖ мы узнали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 каш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то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20г цветущих верхуше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ушиц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на 1 л кипятка. Настаивать10 мин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имать по 3-4 чашки в день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 температуры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повый чай с медом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В лечебных целях чаще всего используют заваренные, как чай цветки липы и ягоды малины в равных частях с добавлением меда. Используется как потогонное средство при температуре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Рецепты народной медицины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73040" y="1440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еукрепляющее средство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йник ополоснуть кипятком. На 0, 5 литра воды положить 2 -3 чайные ложки высушенного Иван-чая. Залить кипятком.  Настоять минимум 10 минут и наслаждаться ароматом и вкусом. Пропорции можно изменить, в зависимости от того, какой чай вам больше по крепости нравится. Выпив свежезаваренный чай, можно в заварку доливать кипяток еще до 5 раз. При этом чай не будет терять полезные свойства.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Результаты анкетиров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3840" y="11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провели анкетирование среди учащихся и их родителей. Целью тестирования было выявить, применяют ли в семьях лекарственные растения для лечения простудных и вирусных заболеваний. Если применяют то, какие именно растения. Заготавливают лекарственное сырье сами или приобретают в аптеке. Нами было опрошено 20 человек   Все опрошенные  пользуются лекарственными растениями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0760" y="220680"/>
            <a:ext cx="822168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естировано – 10 родителей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готавливают сырье сами и покупают в аптеке -7 человек (категория 1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упают  лекарственные растения  только в аптеке -3 человека (категория 2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5" name="Диаграмма 2" descr=""/>
          <p:cNvPicPr/>
          <p:nvPr/>
        </p:nvPicPr>
        <p:blipFill>
          <a:blip r:embed="rId1"/>
          <a:stretch/>
        </p:blipFill>
        <p:spPr>
          <a:xfrm>
            <a:off x="1973160" y="2943360"/>
            <a:ext cx="54864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7" descr="P10202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Users\User\Desktop\P10007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:\Users\User\Desktop\P1000695.JPG"/>
          <p:cNvPicPr/>
          <p:nvPr/>
        </p:nvPicPr>
        <p:blipFill>
          <a:blip r:embed="rId3"/>
          <a:stretch/>
        </p:blipFill>
        <p:spPr>
          <a:xfrm>
            <a:off x="1203480" y="0"/>
            <a:ext cx="630396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Диаграмма 3" descr=""/>
          <p:cNvPicPr/>
          <p:nvPr/>
        </p:nvPicPr>
        <p:blipFill>
          <a:blip r:embed="rId1"/>
          <a:stretch/>
        </p:blipFill>
        <p:spPr>
          <a:xfrm>
            <a:off x="738360" y="2679840"/>
            <a:ext cx="7362720" cy="3784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73040" y="25236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естировано-10 детей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и наиболее популярные лекарственные растения, используемые для профилактики и лечения простудных заболеваний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47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Выводы: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1284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а гипотеза подтвердилась, мы убедились, что лекарственные растения и народные рецепты на их основе очень популярны в профилактике и лечении не только простудных заболеваний, но и сердца, желудка и других органов человек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  еще  масла и экстракты растений  входят в состав косметических средств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карственные травы растут у нас буквально под ногами, а мы часто не задумываемся об их ценности!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и менее опасны, но при их применении всё же нужно проконсультироваться с доктором и выяснить, нет ли у больного аллергии  на определённые травы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 своей работой я выступила перед ребятами начальных классов. Вместе с одноклассниками  мы определяли  лекарственные травы, учились  заваривать травяной чай, угощали гостей свежемороженными ягодами, раздали брошюры с рецептами народной медицины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4" descr="C:\Users\User\Desktop\фото\P1130134.JPG"/>
          <p:cNvPicPr/>
          <p:nvPr/>
        </p:nvPicPr>
        <p:blipFill>
          <a:blip r:embed="rId1"/>
          <a:stretch/>
        </p:blipFill>
        <p:spPr>
          <a:xfrm>
            <a:off x="1492200" y="438120"/>
            <a:ext cx="5502240" cy="592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User\Desktop\фото\P1130133.JPG"/>
          <p:cNvPicPr/>
          <p:nvPr/>
        </p:nvPicPr>
        <p:blipFill>
          <a:blip r:embed="rId2"/>
          <a:stretch/>
        </p:blipFill>
        <p:spPr>
          <a:xfrm>
            <a:off x="1539720" y="417600"/>
            <a:ext cx="5342040" cy="6014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Users\User\Desktop\фото\P1130140.JPG"/>
          <p:cNvPicPr/>
          <p:nvPr/>
        </p:nvPicPr>
        <p:blipFill>
          <a:blip r:embed="rId3"/>
          <a:stretch/>
        </p:blipFill>
        <p:spPr>
          <a:xfrm>
            <a:off x="1547640" y="1636560"/>
            <a:ext cx="5254920" cy="3938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Users\User\Desktop\фото\P1130142.JPG"/>
          <p:cNvPicPr/>
          <p:nvPr/>
        </p:nvPicPr>
        <p:blipFill>
          <a:blip r:embed="rId4"/>
          <a:stretch/>
        </p:blipFill>
        <p:spPr>
          <a:xfrm>
            <a:off x="1442880" y="1270080"/>
            <a:ext cx="5535720" cy="4754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Users\User\Desktop\фото\P1130150.JPG"/>
          <p:cNvPicPr/>
          <p:nvPr/>
        </p:nvPicPr>
        <p:blipFill>
          <a:blip r:embed="rId5"/>
          <a:stretch/>
        </p:blipFill>
        <p:spPr>
          <a:xfrm>
            <a:off x="1187280" y="1492200"/>
            <a:ext cx="60534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66400"/>
                </a:solidFill>
                <a:latin typeface="Arial Narrow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ранный нами материал можно использовать на уроках окружающего мира, на занятиях по экологии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а исследовательская работа заинтересовала ребят. В дальнейшем  мы  с одноклассниками решили собрать семена душицы, тысячелистника, зверобоя, Иван- чая и посадить их на школьном участке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F:\DCIM\113_PANA\P1130545.JPG"/>
          <p:cNvPicPr/>
          <p:nvPr/>
        </p:nvPicPr>
        <p:blipFill>
          <a:blip r:embed="rId1"/>
          <a:stretch/>
        </p:blipFill>
        <p:spPr>
          <a:xfrm>
            <a:off x="2438280" y="1300320"/>
            <a:ext cx="3856320" cy="50371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0560" y="385920"/>
            <a:ext cx="822960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Спасибо за внимание.  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   Желаю всем удачи!</a:t>
            </a:r>
            <a:endParaRPr b="0" lang="en-US" sz="6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49120" y="208080"/>
            <a:ext cx="822960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тература:                                                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Энциклопедия «Лекарственные растения» Издательский дом  Ридерз Дайджест» 2004 год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Книга «Лекарственные растения Алтайского края» Алтайское книжное издательство Барнаул  1975 год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Каталог дикорастущих лекарственных растений  Москва 1985 год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Газеты - вестник ЗОЖ 2013 год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Итернет ресурсы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очему я выбрала эту тему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3480"/>
            <a:ext cx="822960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ом, я с мамой   собирала клубнику, на поляне мне встречались разные цветущие травы. Я нарвала  красивый букетик и засушила его, в память о лете.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 кружке «юный эколог» в этом году мы изучали тему «Лекарственные растения Алтайского края». Я принесла, в школу свой   букетик и оказалось, что среди   собранных трав были и лекарственные.     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Цель исследования: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я решила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снить, какие лекарственные растения растут в окрестностях нашего поселк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 исследования: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 хочу найти ответы на вопрос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Узнать,  какие из лекарственных растений    используются при лечении  простудных заболеваний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Выяснить особенности внешнего строения, условия сбора и хранения растений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640" y="32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Гипотеза  исследования: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73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ложим, что лекарственные растения используются при лечении простудных заболеваний и еще для чего то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72880" y="292320"/>
            <a:ext cx="8871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лан  исследования:</a:t>
            </a:r>
            <a:r>
              <a:rPr b="0" i="1" lang="ru-RU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ля этого 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Хочу обратиться к энциклопедиям, справочникам, журналам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Найти информацию в 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 Распознать растения на гербарных образцах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 Узнать у  взрослых  рецепты народной                     медицины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 Спросить у ребят, родителей о  том, что они знают по эт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) Создать брошюры  с рецептами народной медици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285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ИСПОЛЬЗОВАНИЕ  ЛЕКАРСТВЕННЫХ  РАСТЕНИ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360" y="2630160"/>
            <a:ext cx="8029440" cy="422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карственные растения используют в медицинской практике в свежем или высушенном виде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свежих растений готовят соки, настойки и отвары.  Плоды  сушат, морозят в контейнерах и хранят в морозильной камере. Свежие растения обладают более сильным лечебным действием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собранные растения не изменили свойства и не потеряли лекарственного значения, нужно знать правила сбора, сушки, подготовки и сохранения растений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равила сбора, сушки, хранения лекарственных расте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7360" y="1446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ирать можно только те раст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не относятся к числу охраняемых видов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ать только здоровые, не поврежден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хорошо известные вам растени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вырывать растения с корн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х нужно срезать ножом, давая отрасти им снова.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собирать растения по обочинам автомобильных дорог, по краям полей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и могут быть загрязнены выхлопными газами, удобрениям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льзя брать лекарственные растения в 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ак как многие из них ядовитые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карственные растения собирают в солнечную сухую пого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лучше  с  утра, как только спадет роса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09:27:46Z</dcterms:created>
  <dc:creator>ppsworld.ru</dc:creator>
  <dc:description/>
  <dc:language>en-US</dc:language>
  <cp:lastModifiedBy>Карповская МСОШ</cp:lastModifiedBy>
  <dcterms:modified xsi:type="dcterms:W3CDTF">2015-04-13T07:11:28Z</dcterms:modified>
  <cp:revision>31</cp:revision>
  <dc:subject/>
  <dc:title>Слайд 1</dc:title>
</cp:coreProperties>
</file>