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291-731E-4044-831D-FC1587804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77D1-E39A-4782-9428-58AE189048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1AAA-485A-4B30-9171-A419DD8486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AC65-64F1-4BE8-AA96-C21578DA8F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CF82-4FEB-4B89-9F17-E23FC4BF7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F14-1953-4A53-82F5-048B5FB6C0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9D8-7874-4C7C-A9CA-B1EDAD7991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B86-3FF7-435C-86FE-8564CE64E1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ECA1-24A8-4B5D-91E6-15A9F3DE9F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1A3-212C-42E9-A81C-8C8F40C5BE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8C8-E4A6-4BAB-9B49-BF8FAF7F30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F06-0EAD-4CA8-B200-C187C1EA7B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A5E-8DC7-419A-A24C-A1390C7A88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686-EACB-46E5-8F85-544F5439C8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080A-5F06-4F20-AF28-4F80C89EE7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A2C0-3A50-4DA0-97B0-F1142DE7F4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C68-98E8-4FE6-9F56-F4598BF7B1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316-7ACA-448E-9641-73BE9D5312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5FDD-83E3-47A1-9767-8AC47714BC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469-52CB-48C9-BD41-6F0EA2EB2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91B-1FF7-4A78-AE7A-A6517F94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4D2-0521-47DE-9AA6-7003803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6B8-43F2-4E12-9E98-5EDD17D5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9BC-DAF3-49A2-9E51-3A12F7DE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1A5-4969-4C70-9AA5-D084F9FF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48F-95EC-43D9-9FAA-ACBCE93E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9EF-F02F-4A89-ABC8-DD6D2B42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B62-BF5F-47F6-83EB-1ADAE742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4AA-5606-4E5A-AFE8-61BA8D5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382-F805-4608-AC02-0DA1D5F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80B-08D7-4226-B8D9-EB090F9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65F-7B51-4856-9669-328CE7B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8BD-213A-4913-9C5D-8735BFD711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50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16000" y="14842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Образ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сказочного лес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home-edu.ru/user/f/00000645/izostudija/urok4/pict/kontur3.gif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psyoffice.ru/uploads/news/3/2012/promet-derevo-4.jpg"/>
          <p:cNvPicPr/>
          <p:nvPr/>
        </p:nvPicPr>
        <p:blipFill>
          <a:blip r:embed="rId2"/>
          <a:stretch/>
        </p:blipFill>
        <p:spPr>
          <a:xfrm>
            <a:off x="4067280" y="2819520"/>
            <a:ext cx="48830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68360" y="54936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олдованный ле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http://ic.pics.livejournal.com/alek_yelgor/67890068/9591/9591_900.jpg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3889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684360" y="5661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, заколдованный по чьей-то злой воле. Он таит опасность для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0004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глухой чаще мрачного леса герой выходит к избушке Бабы-Я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оящий стеной за избушкой дремучий лес – иной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кие волшебные слова говорит гер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Персональный сайт - Главная"/>
          <p:cNvPicPr/>
          <p:nvPr/>
        </p:nvPicPr>
        <p:blipFill>
          <a:blip r:embed="rId1"/>
          <a:stretch/>
        </p:blipFill>
        <p:spPr>
          <a:xfrm>
            <a:off x="1285920" y="214200"/>
            <a:ext cx="6715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5357880" y="2349360"/>
            <a:ext cx="295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кие деревья растут в заколдованном лесу. Почему образ этих деревьев подходит для выражения характера и намерений Бабы-Я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baba-yaga"/>
          <p:cNvPicPr/>
          <p:nvPr/>
        </p:nvPicPr>
        <p:blipFill>
          <a:blip r:embed="rId1"/>
          <a:stretch/>
        </p:blipFill>
        <p:spPr>
          <a:xfrm>
            <a:off x="539640" y="476280"/>
            <a:ext cx="4597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The World's Legends: Kashchey the Immortal &quot; Игры скачать бесплатно без регистрации"/>
          <p:cNvPicPr/>
          <p:nvPr/>
        </p:nvPicPr>
        <p:blipFill>
          <a:blip r:embed="rId1"/>
          <a:stretch/>
        </p:blipFill>
        <p:spPr>
          <a:xfrm>
            <a:off x="4500720" y="3284640"/>
            <a:ext cx="4416120" cy="331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Афиша Гродно - Новые приключения Бабки Ёжки"/>
          <p:cNvPicPr/>
          <p:nvPr/>
        </p:nvPicPr>
        <p:blipFill>
          <a:blip r:embed="rId2"/>
          <a:stretch/>
        </p:blipFill>
        <p:spPr>
          <a:xfrm>
            <a:off x="214200" y="214200"/>
            <a:ext cx="4605480" cy="3070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364000" y="1916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Художник обычно помещает отрицательных героев в чащу ельника.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Иллюстрации к сказкам Картины и живопись художников. . Графика и галереи."/>
          <p:cNvPicPr/>
          <p:nvPr/>
        </p:nvPicPr>
        <p:blipFill>
          <a:blip r:embed="rId1"/>
          <a:stretch/>
        </p:blipFill>
        <p:spPr>
          <a:xfrm>
            <a:off x="5214960" y="214200"/>
            <a:ext cx="3595680" cy="544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005 - купить онлайн в интернет магазине Artwall.ru - товары для дома и сада - стоимость, прайс-листы - заказ по Москве, Санкт-П"/>
          <p:cNvPicPr/>
          <p:nvPr/>
        </p:nvPicPr>
        <p:blipFill>
          <a:blip r:embed="rId2"/>
          <a:stretch/>
        </p:blipFill>
        <p:spPr>
          <a:xfrm>
            <a:off x="214200" y="193680"/>
            <a:ext cx="4286520" cy="55036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539640" y="580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иллюстрациях И. Билибина всадники Ночь и День пробираются сквозь чащу заколдованного ле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Новые записи в технике Граттаж Страна Мастеров"/>
          <p:cNvPicPr/>
          <p:nvPr/>
        </p:nvPicPr>
        <p:blipFill>
          <a:blip r:embed="rId1"/>
          <a:stretch/>
        </p:blipFill>
        <p:spPr>
          <a:xfrm>
            <a:off x="160200" y="216000"/>
            <a:ext cx="4772160" cy="35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В зимнем лесу. Граттаж - Татьяна Владимировна Сапелкина"/>
          <p:cNvPicPr/>
          <p:nvPr/>
        </p:nvPicPr>
        <p:blipFill>
          <a:blip r:embed="rId2"/>
          <a:stretch/>
        </p:blipFill>
        <p:spPr>
          <a:xfrm>
            <a:off x="4716360" y="3500280"/>
            <a:ext cx="4140360" cy="31053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250920" y="501336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зобрази л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щея Бессмертного и Бабы-Я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технике граттаж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5508720" y="1413000"/>
            <a:ext cx="26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помни этапы выполнения гратт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50920" y="26028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шебный ле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http://s017.radikal.ru/i402/1112/a7/da93a031dd51.jpg"/>
          <p:cNvPicPr/>
          <p:nvPr/>
        </p:nvPicPr>
        <p:blipFill>
          <a:blip r:embed="rId1"/>
          <a:stretch/>
        </p:blipFill>
        <p:spPr>
          <a:xfrm>
            <a:off x="1547640" y="1268280"/>
            <a:ext cx="5281920" cy="4086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395280" y="5661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 , который самостоятельно и добровольно совершает чудеса во благо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50920" y="62064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лес , который самостоятельно и добровольно совершает чудеса во благо гер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дерево, ёлка, природа, лес, пейзаж, красота, зима, снег - (к…"/>
          <p:cNvPicPr/>
          <p:nvPr/>
        </p:nvPicPr>
        <p:blipFill>
          <a:blip r:embed="rId1"/>
          <a:stretch/>
        </p:blipFill>
        <p:spPr>
          <a:xfrm>
            <a:off x="4214880" y="142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Северные Земли Фотосайт Дальнего Востока и Сибири - Кравцовские водопады"/>
          <p:cNvPicPr/>
          <p:nvPr/>
        </p:nvPicPr>
        <p:blipFill>
          <a:blip r:embed="rId2"/>
          <a:stretch/>
        </p:blipFill>
        <p:spPr>
          <a:xfrm>
            <a:off x="214200" y="3618000"/>
            <a:ext cx="457380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4859280" y="4363920"/>
            <a:ext cx="420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лшебный лес особенно красиво украшен: летом – резным зеленым убором, зимой – сверкающи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Дневник nadia_obo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28760" y="571680"/>
            <a:ext cx="428616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493236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. Васнецов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http://time-spending.com/image-17-0-3521.jpg?r=f66d4f45-cb0e-487d-8df8-5a169e5e302f"/>
          <p:cNvPicPr/>
          <p:nvPr/>
        </p:nvPicPr>
        <p:blipFill>
          <a:blip r:embed="rId1"/>
          <a:stretch/>
        </p:blipFill>
        <p:spPr>
          <a:xfrm>
            <a:off x="214200" y="142920"/>
            <a:ext cx="419760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143080" y="300024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Наша страна богата ле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http://mediasubs.ru/group/uploads/mi/mir-iskusstva-tvorchestva-i-krasotyi/image2/NTZkOC00M.jpg"/>
          <p:cNvPicPr/>
          <p:nvPr/>
        </p:nvPicPr>
        <p:blipFill>
          <a:blip r:embed="rId2"/>
          <a:stretch/>
        </p:blipFill>
        <p:spPr>
          <a:xfrm>
            <a:off x="5643720" y="350028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delcapitano.ru/image/cache/data/Tovar/Priroda/PRI%20-%20004-1130x630.jpg"/>
          <p:cNvPicPr/>
          <p:nvPr/>
        </p:nvPicPr>
        <p:blipFill>
          <a:blip r:embed="rId3"/>
          <a:stretch/>
        </p:blipFill>
        <p:spPr>
          <a:xfrm>
            <a:off x="85680" y="3500280"/>
            <a:ext cx="551016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www.tunnel.ru/i/post/350421/3504219845/2063741572/image.jpeg"/>
          <p:cNvPicPr/>
          <p:nvPr/>
        </p:nvPicPr>
        <p:blipFill>
          <a:blip r:embed="rId4"/>
          <a:stretch/>
        </p:blipFill>
        <p:spPr>
          <a:xfrm>
            <a:off x="4678200" y="142920"/>
            <a:ext cx="4465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Откуда появилась Снегурочка?"/>
          <p:cNvPicPr/>
          <p:nvPr/>
        </p:nvPicPr>
        <p:blipFill>
          <a:blip r:embed="rId1"/>
          <a:stretch/>
        </p:blipFill>
        <p:spPr>
          <a:xfrm>
            <a:off x="142920" y="285840"/>
            <a:ext cx="4071960" cy="6254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457200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. Врубель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рыжик Косметика Грин Мама"/>
          <p:cNvPicPr/>
          <p:nvPr/>
        </p:nvPicPr>
        <p:blipFill>
          <a:blip r:embed="rId1"/>
          <a:stretch/>
        </p:blipFill>
        <p:spPr>
          <a:xfrm>
            <a:off x="0" y="620640"/>
            <a:ext cx="8804160" cy="44751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82692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пиши черты характера Снегурочки, увиденные каждым из этих худож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рыжик Косметика Грин Мама"/>
          <p:cNvPicPr/>
          <p:nvPr/>
        </p:nvPicPr>
        <p:blipFill>
          <a:blip r:embed="rId1"/>
          <a:stretch/>
        </p:blipFill>
        <p:spPr>
          <a:xfrm>
            <a:off x="0" y="476280"/>
            <a:ext cx="8804160" cy="447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539640" y="5445000"/>
          <a:ext cx="8064720" cy="11890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храбр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реши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скром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неж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скром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боязли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искрення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наив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хруп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печ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3ffff"/>
                          </a:solidFill>
                          <a:latin typeface="Arial"/>
                        </a:rPr>
                        <a:t>кокетли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826920" y="1628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ic.pics.livejournal.com/alek_yelgor/67890068/9591/9591_900.jpg"/>
          <p:cNvPicPr/>
          <p:nvPr/>
        </p:nvPicPr>
        <p:blipFill>
          <a:blip r:embed="rId1"/>
          <a:stretch/>
        </p:blipFill>
        <p:spPr>
          <a:xfrm>
            <a:off x="4572000" y="3716280"/>
            <a:ext cx="4357800" cy="29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ic.pics.livejournal.com/preciouslace/57302452/4401/4401_900.jpg"/>
          <p:cNvPicPr/>
          <p:nvPr/>
        </p:nvPicPr>
        <p:blipFill>
          <a:blip r:embed="rId2"/>
          <a:stretch/>
        </p:blipFill>
        <p:spPr>
          <a:xfrm>
            <a:off x="250920" y="1890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148360" y="2205000"/>
            <a:ext cx="29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Поэтому дорога, по которой идет сказочный герой, часто проходит через заколдованный ле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5214960" y="8571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гда-то большая часть России была покрыта непроходимой чащей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https://teoramag.files.wordpress.com/2015/01/pic_1326291574_3-e1422310878892.jpg?w=620&amp;h=264&amp;crop=1"/>
          <p:cNvPicPr/>
          <p:nvPr/>
        </p:nvPicPr>
        <p:blipFill>
          <a:blip r:embed="rId3"/>
          <a:stretch/>
        </p:blipFill>
        <p:spPr>
          <a:xfrm>
            <a:off x="250920" y="4581360"/>
            <a:ext cx="38574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https://encrypted-tbn3.gstatic.com/images?q=tbn:ANd9GcTOQFDKmFgK6wA4sHIDFVMwIITS31PR_hRbVR7DkCbLz5WDn4YQrQ"/>
          <p:cNvPicPr/>
          <p:nvPr/>
        </p:nvPicPr>
        <p:blipFill>
          <a:blip r:embed="rId1"/>
          <a:stretch/>
        </p:blipFill>
        <p:spPr>
          <a:xfrm>
            <a:off x="250920" y="0"/>
            <a:ext cx="3927240" cy="26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encrypted-tbn3.gstatic.com/images?q=tbn:ANd9GcQby0uejRG_jDRZVvnvO_2gGAv6QSkCI5M8m6zXPKAvJ0yVgHpDOw"/>
          <p:cNvPicPr/>
          <p:nvPr/>
        </p:nvPicPr>
        <p:blipFill>
          <a:blip r:embed="rId2"/>
          <a:stretch/>
        </p:blipFill>
        <p:spPr>
          <a:xfrm>
            <a:off x="5168880" y="333360"/>
            <a:ext cx="36781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images.sevstar.net/images/44014879435367447533.jpg"/>
          <p:cNvPicPr/>
          <p:nvPr/>
        </p:nvPicPr>
        <p:blipFill>
          <a:blip r:embed="rId3"/>
          <a:stretch/>
        </p:blipFill>
        <p:spPr>
          <a:xfrm>
            <a:off x="179280" y="285264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6215040" y="3571920"/>
            <a:ext cx="26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В таком лесу деревья разговаривают человеческим голосом и помогают или мешают гер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http://s019.radikal.ru/i602/1204/7f/ba00bf35708b.jpg"/>
          <p:cNvPicPr/>
          <p:nvPr/>
        </p:nvPicPr>
        <p:blipFill>
          <a:blip r:embed="rId1"/>
          <a:stretch/>
        </p:blipFill>
        <p:spPr>
          <a:xfrm>
            <a:off x="214200" y="3714840"/>
            <a:ext cx="3757680" cy="30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shuwany.ru/wp-content/uploads/2014/10/1-e1413362218930.jpg"/>
          <p:cNvPicPr/>
          <p:nvPr/>
        </p:nvPicPr>
        <p:blipFill>
          <a:blip r:embed="rId2"/>
          <a:stretch/>
        </p:blipFill>
        <p:spPr>
          <a:xfrm>
            <a:off x="4572000" y="1004760"/>
            <a:ext cx="4321080" cy="571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ask-egida.ru/d/209023/d/833515401_6.jpg"/>
          <p:cNvPicPr/>
          <p:nvPr/>
        </p:nvPicPr>
        <p:blipFill>
          <a:blip r:embed="rId3"/>
          <a:stretch/>
        </p:blipFill>
        <p:spPr>
          <a:xfrm>
            <a:off x="214200" y="214200"/>
            <a:ext cx="342900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4357800" y="285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Чаще всего в сказках обращаются к образу могучего ду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785880" y="2643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го в сказке может олицетворять дуб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http://skazki-larisa.ru/wp-content/uploads/2013/03/6572.jpg"/>
          <p:cNvPicPr/>
          <p:nvPr/>
        </p:nvPicPr>
        <p:blipFill>
          <a:blip r:embed="rId1"/>
          <a:stretch/>
        </p:blipFill>
        <p:spPr>
          <a:xfrm>
            <a:off x="6143760" y="142920"/>
            <a:ext cx="2857320" cy="380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s://encrypted-tbn2.gstatic.com/images?q=tbn:ANd9GcRtsEESgndQiVw0Z0q2qILV5Kb8NiQiEKX3Zxqn4vvNcHE8qWE88w"/>
          <p:cNvPicPr/>
          <p:nvPr/>
        </p:nvPicPr>
        <p:blipFill>
          <a:blip r:embed="rId2"/>
          <a:stretch/>
        </p:blipFill>
        <p:spPr>
          <a:xfrm>
            <a:off x="142920" y="98280"/>
            <a:ext cx="4214880" cy="30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forum.derev-grad.ru/resources/derevo-ryabina/5984"/>
          <p:cNvPicPr/>
          <p:nvPr/>
        </p:nvPicPr>
        <p:blipFill>
          <a:blip r:embed="rId3"/>
          <a:stretch/>
        </p:blipFill>
        <p:spPr>
          <a:xfrm>
            <a:off x="142920" y="3835440"/>
            <a:ext cx="3286080" cy="29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biotop.ru/i/goods/yablonya-sorta.jpg"/>
          <p:cNvPicPr/>
          <p:nvPr/>
        </p:nvPicPr>
        <p:blipFill>
          <a:blip r:embed="rId4"/>
          <a:stretch/>
        </p:blipFill>
        <p:spPr>
          <a:xfrm>
            <a:off x="5357880" y="4041720"/>
            <a:ext cx="3643200" cy="2816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714240" y="3214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А нежная берез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http://ic.pics.livejournal.com/preciouslace/57302452/4401/4401_900.jpg"/>
          <p:cNvPicPr/>
          <p:nvPr/>
        </p:nvPicPr>
        <p:blipFill>
          <a:blip r:embed="rId1"/>
          <a:stretch/>
        </p:blipFill>
        <p:spPr>
          <a:xfrm>
            <a:off x="5500800" y="3786120"/>
            <a:ext cx="3500280" cy="280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http://bytrina11.ru/wp-content/uploads/2013/02/Derevo-yaponskih-risunkovust.jpg"/>
          <p:cNvPicPr/>
          <p:nvPr/>
        </p:nvPicPr>
        <p:blipFill>
          <a:blip r:embed="rId2"/>
          <a:stretch/>
        </p:blipFill>
        <p:spPr>
          <a:xfrm>
            <a:off x="5715000" y="98280"/>
            <a:ext cx="2905200" cy="233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s018.radikal.ru/i525/1309/0e/cf69313bd62a.jpg"/>
          <p:cNvPicPr/>
          <p:nvPr/>
        </p:nvPicPr>
        <p:blipFill>
          <a:blip r:embed="rId3"/>
          <a:stretch/>
        </p:blipFill>
        <p:spPr>
          <a:xfrm>
            <a:off x="142920" y="168120"/>
            <a:ext cx="4500360" cy="6546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5072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Колючая ель близка по духу..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encrypted-tbn3.gstatic.com/images?q=tbn:ANd9GcQ9YvPr9XYszXaT6Q-IbTVlR6x1wVryqSq1Q5R-P1iZizFzp3ze"/>
          <p:cNvPicPr/>
          <p:nvPr/>
        </p:nvPicPr>
        <p:blipFill>
          <a:blip r:embed="rId1"/>
          <a:stretch/>
        </p:blipFill>
        <p:spPr>
          <a:xfrm>
            <a:off x="468360" y="404640"/>
            <a:ext cx="1895400" cy="241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zen-designer.ru/images/user/hudozestvennaya-graphika/2011/graphic-trees-2.jpg"/>
          <p:cNvPicPr/>
          <p:nvPr/>
        </p:nvPicPr>
        <p:blipFill>
          <a:blip r:embed="rId2"/>
          <a:stretch/>
        </p:blipFill>
        <p:spPr>
          <a:xfrm>
            <a:off x="3419640" y="3068640"/>
            <a:ext cx="2381040" cy="343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aniop.ru/wp-content/uploads/2013/03/st8-300x214.jpg"/>
          <p:cNvPicPr/>
          <p:nvPr/>
        </p:nvPicPr>
        <p:blipFill>
          <a:blip r:embed="rId3"/>
          <a:stretch/>
        </p:blipFill>
        <p:spPr>
          <a:xfrm>
            <a:off x="2843280" y="549360"/>
            <a:ext cx="2857320" cy="20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ricynok.ru/sites/default/files/img/po-shagam/9/iva/037-ricynok.ru.jpg"/>
          <p:cNvPicPr/>
          <p:nvPr/>
        </p:nvPicPr>
        <p:blipFill>
          <a:blip r:embed="rId4"/>
          <a:stretch/>
        </p:blipFill>
        <p:spPr>
          <a:xfrm>
            <a:off x="6143760" y="71280"/>
            <a:ext cx="281124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img.espicture.ru/25/osennie-kartinki-karandayshom-14.jpg"/>
          <p:cNvPicPr/>
          <p:nvPr/>
        </p:nvPicPr>
        <p:blipFill>
          <a:blip r:embed="rId5"/>
          <a:stretch/>
        </p:blipFill>
        <p:spPr>
          <a:xfrm>
            <a:off x="395280" y="4005360"/>
            <a:ext cx="2584440" cy="22082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6286680" y="425916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абота по заданиям учебника, тетради.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encrypted-tbn1.gstatic.com/images?q=tbn:ANd9GcQnVLYcRSQkeOghLrbLn5gRrAmGS-Ldm5qfzWmyqH7b3J6gygsGxw"/>
          <p:cNvPicPr/>
          <p:nvPr/>
        </p:nvPicPr>
        <p:blipFill>
          <a:blip r:embed="rId1"/>
          <a:stretch/>
        </p:blipFill>
        <p:spPr>
          <a:xfrm>
            <a:off x="826920" y="1052640"/>
            <a:ext cx="7437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09T16:14:47Z</dcterms:modified>
  <cp:revision>130</cp:revision>
  <dc:subject/>
  <dc:title>Слайд 1</dc:title>
</cp:coreProperties>
</file>