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AF8-FBB5-4389-B4FD-73925E3A3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7309-2242-4792-AA13-4E1DCA6678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D938-6B9D-4A86-94FE-CEB9595BB8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9F2-A61A-4DA6-B293-922BD9CF76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023B-AC12-405D-B709-2D2AAB49AD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FE3F-8473-4FB8-8B45-545461DB57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8ED4-1233-49A8-9155-17C7199878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9855-13E4-4C38-B32D-F1D28AFE87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98A4-4820-4587-B1E3-FFB573FCC8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A0B6-56C1-42E3-9481-5BEDF51A35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825B-49B2-4428-B60D-069C55C607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0FFA-AEFA-4ADC-A55D-CC23AD4424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A42-CF2C-43EC-94A0-BAC5270A77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7F6B-ECFF-452E-A3B2-FED8FB04FD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F54-BA00-4211-B3EB-0978EC794E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4DBD-60FA-4A0E-8038-9C68F96544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31B5-8CE9-4005-B45E-53046A1BED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E1A7-E674-42A4-B2B5-17828598A6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8CDF-EB8B-450C-A641-1E7B4116CC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9CD6-201B-417D-BB24-09EF80E455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8D5-057D-44DE-9F0D-E8416FA2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D81-74BB-4FF6-BC1A-FE0E5F9A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A00-6CFD-41B2-8137-09F0EA31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B86-C0BA-4DCD-A035-CC38A3E5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47C-A4B8-481D-877F-D5754470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AE5-8633-4AA7-9A9D-0A2A5ECD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3A3-8A1D-434A-A273-90E14B76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0E3-186D-4281-865D-EB7A3C8A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E69-2C26-41BE-B2D7-0F01C532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15D-53CE-4531-BA07-E1E8F48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924-20EB-43C6-BBCB-BE759C79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504-5146-444A-B84B-70DBE99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F3D5-07A1-4196-8932-66C29F7594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539640" y="45086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ИЗО 3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МК«Перспективная начальная школ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читель начальных классов: Воронина О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116000" y="148428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entury Schoolbook"/>
              </a:rPr>
              <a:t>Образ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entury Schoolbook"/>
              </a:rPr>
              <a:t>сказочного лес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home-edu.ru/user/f/00000645/izostudija/urok4/pict/kontur3.gif"/>
          <p:cNvPicPr/>
          <p:nvPr/>
        </p:nvPicPr>
        <p:blipFill>
          <a:blip r:embed="rId1"/>
          <a:stretch/>
        </p:blipFill>
        <p:spPr>
          <a:xfrm>
            <a:off x="324000" y="260280"/>
            <a:ext cx="380988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psyoffice.ru/uploads/news/3/2012/promet-derevo-4.jpg"/>
          <p:cNvPicPr/>
          <p:nvPr/>
        </p:nvPicPr>
        <p:blipFill>
          <a:blip r:embed="rId2"/>
          <a:stretch/>
        </p:blipFill>
        <p:spPr>
          <a:xfrm>
            <a:off x="4067280" y="2819520"/>
            <a:ext cx="48830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468360" y="549360"/>
            <a:ext cx="828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лдованный ле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http://ic.pics.livejournal.com/alek_yelgor/67890068/9591/9591_900.jpg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3889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684360" y="5661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 лес, заколдованный по чьей-то злой воле. Он таит опасность для гер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0004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глухой чаще мрачного леса герой выходит к избушке Бабы-Я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тоящий стеной за избушкой дремучий лес – иной ми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кие волшебные слова говорит гер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" descr="Персональный сайт - Главная"/>
          <p:cNvPicPr/>
          <p:nvPr/>
        </p:nvPicPr>
        <p:blipFill>
          <a:blip r:embed="rId1"/>
          <a:stretch/>
        </p:blipFill>
        <p:spPr>
          <a:xfrm>
            <a:off x="1285920" y="214200"/>
            <a:ext cx="67150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5357880" y="2349360"/>
            <a:ext cx="295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кие деревья растут в заколдованном лесу. Почему образ этих деревьев подходит для выражения характера и намерений Бабы-Я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baba-yaga"/>
          <p:cNvPicPr/>
          <p:nvPr/>
        </p:nvPicPr>
        <p:blipFill>
          <a:blip r:embed="rId1"/>
          <a:stretch/>
        </p:blipFill>
        <p:spPr>
          <a:xfrm>
            <a:off x="539640" y="476280"/>
            <a:ext cx="4597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">
                                          <p:stCondLst>
                                            <p:cond delay="91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31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The World's Legends: Kashchey the Immortal &quot; Игры скачать бесплатно без регистрации"/>
          <p:cNvPicPr/>
          <p:nvPr/>
        </p:nvPicPr>
        <p:blipFill>
          <a:blip r:embed="rId1"/>
          <a:stretch/>
        </p:blipFill>
        <p:spPr>
          <a:xfrm>
            <a:off x="4500720" y="3284640"/>
            <a:ext cx="4416120" cy="331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Афиша Гродно - Новые приключения Бабки Ёжки"/>
          <p:cNvPicPr/>
          <p:nvPr/>
        </p:nvPicPr>
        <p:blipFill>
          <a:blip r:embed="rId2"/>
          <a:stretch/>
        </p:blipFill>
        <p:spPr>
          <a:xfrm>
            <a:off x="214200" y="214200"/>
            <a:ext cx="4605480" cy="3070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364000" y="1916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Художник обычно помещает отрицательных героев в чащу ельника. Почем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Иллюстрации к сказкам Картины и живопись художников. . Графика и галереи."/>
          <p:cNvPicPr/>
          <p:nvPr/>
        </p:nvPicPr>
        <p:blipFill>
          <a:blip r:embed="rId1"/>
          <a:stretch/>
        </p:blipFill>
        <p:spPr>
          <a:xfrm>
            <a:off x="5214960" y="214200"/>
            <a:ext cx="3595680" cy="5448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1005 - купить онлайн в интернет магазине Artwall.ru - товары для дома и сада - стоимость, прайс-листы - заказ по Москве, Санкт-П"/>
          <p:cNvPicPr/>
          <p:nvPr/>
        </p:nvPicPr>
        <p:blipFill>
          <a:blip r:embed="rId2"/>
          <a:stretch/>
        </p:blipFill>
        <p:spPr>
          <a:xfrm>
            <a:off x="214200" y="193680"/>
            <a:ext cx="4286520" cy="55036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539640" y="5805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иллюстрациях И. Билибина всадники Ночь и День пробираются сквозь чащу заколдованного ле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Новые записи в технике Граттаж Страна Мастеров"/>
          <p:cNvPicPr/>
          <p:nvPr/>
        </p:nvPicPr>
        <p:blipFill>
          <a:blip r:embed="rId1"/>
          <a:stretch/>
        </p:blipFill>
        <p:spPr>
          <a:xfrm>
            <a:off x="160200" y="216000"/>
            <a:ext cx="4772160" cy="3573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В зимнем лесу. Граттаж - Татьяна Владимировна Сапелкина"/>
          <p:cNvPicPr/>
          <p:nvPr/>
        </p:nvPicPr>
        <p:blipFill>
          <a:blip r:embed="rId2"/>
          <a:stretch/>
        </p:blipFill>
        <p:spPr>
          <a:xfrm>
            <a:off x="4716360" y="3500280"/>
            <a:ext cx="4140360" cy="3105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250920" y="5013360"/>
            <a:ext cx="46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зобрази л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ощея Бессмертного и Бабы-Яг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 технике граттаж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5508720" y="1413000"/>
            <a:ext cx="26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спомни этапы выполнения граттаж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250920" y="26028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шебный ле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http://s017.radikal.ru/i402/1112/a7/da93a031dd51.jpg"/>
          <p:cNvPicPr/>
          <p:nvPr/>
        </p:nvPicPr>
        <p:blipFill>
          <a:blip r:embed="rId1"/>
          <a:stretch/>
        </p:blipFill>
        <p:spPr>
          <a:xfrm>
            <a:off x="1547640" y="1268280"/>
            <a:ext cx="5281920" cy="40863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395280" y="5661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 лес , который самостоятельно и добровольно совершает чудеса во благо гер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50920" y="62064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 лес , который самостоятельно и добровольно совершает чудеса во благо гер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дерево, ёлка, природа, лес, пейзаж, красота, зима, снег - (к…"/>
          <p:cNvPicPr/>
          <p:nvPr/>
        </p:nvPicPr>
        <p:blipFill>
          <a:blip r:embed="rId1"/>
          <a:stretch/>
        </p:blipFill>
        <p:spPr>
          <a:xfrm>
            <a:off x="4214880" y="1429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Северные Земли Фотосайт Дальнего Востока и Сибири - Кравцовские водопады"/>
          <p:cNvPicPr/>
          <p:nvPr/>
        </p:nvPicPr>
        <p:blipFill>
          <a:blip r:embed="rId2"/>
          <a:stretch/>
        </p:blipFill>
        <p:spPr>
          <a:xfrm>
            <a:off x="214200" y="3618000"/>
            <a:ext cx="4573800" cy="30639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4859280" y="4363920"/>
            <a:ext cx="420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лшебный лес особенно красиво украшен: летом – резным зеленым убором, зимой – сверкающим сне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Дневник nadia_obo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428760" y="571680"/>
            <a:ext cx="428616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4932360" y="60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. Васнецов. Снегур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http://time-spending.com/image-17-0-3521.jpg?r=f66d4f45-cb0e-487d-8df8-5a169e5e302f"/>
          <p:cNvPicPr/>
          <p:nvPr/>
        </p:nvPicPr>
        <p:blipFill>
          <a:blip r:embed="rId1"/>
          <a:stretch/>
        </p:blipFill>
        <p:spPr>
          <a:xfrm>
            <a:off x="214200" y="142920"/>
            <a:ext cx="4197600" cy="2857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143080" y="300024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Наша страна богата ле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http://mediasubs.ru/group/uploads/mi/mir-iskusstva-tvorchestva-i-krasotyi/image2/NTZkOC00M.jpg"/>
          <p:cNvPicPr/>
          <p:nvPr/>
        </p:nvPicPr>
        <p:blipFill>
          <a:blip r:embed="rId2"/>
          <a:stretch/>
        </p:blipFill>
        <p:spPr>
          <a:xfrm>
            <a:off x="5643720" y="3500280"/>
            <a:ext cx="34290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delcapitano.ru/image/cache/data/Tovar/Priroda/PRI%20-%20004-1130x630.jpg"/>
          <p:cNvPicPr/>
          <p:nvPr/>
        </p:nvPicPr>
        <p:blipFill>
          <a:blip r:embed="rId3"/>
          <a:stretch/>
        </p:blipFill>
        <p:spPr>
          <a:xfrm>
            <a:off x="85680" y="3500280"/>
            <a:ext cx="5510160" cy="321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www.tunnel.ru/i/post/350421/3504219845/2063741572/image.jpeg"/>
          <p:cNvPicPr/>
          <p:nvPr/>
        </p:nvPicPr>
        <p:blipFill>
          <a:blip r:embed="rId4"/>
          <a:stretch/>
        </p:blipFill>
        <p:spPr>
          <a:xfrm>
            <a:off x="4678200" y="142920"/>
            <a:ext cx="4465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Откуда появилась Снегурочка?"/>
          <p:cNvPicPr/>
          <p:nvPr/>
        </p:nvPicPr>
        <p:blipFill>
          <a:blip r:embed="rId1"/>
          <a:stretch/>
        </p:blipFill>
        <p:spPr>
          <a:xfrm>
            <a:off x="142920" y="285840"/>
            <a:ext cx="4071960" cy="62546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4572000" y="321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. Врубель. Снегур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рыжик Косметика Грин Мама"/>
          <p:cNvPicPr/>
          <p:nvPr/>
        </p:nvPicPr>
        <p:blipFill>
          <a:blip r:embed="rId1"/>
          <a:stretch/>
        </p:blipFill>
        <p:spPr>
          <a:xfrm>
            <a:off x="0" y="620640"/>
            <a:ext cx="8804160" cy="44751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82692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пиши черты характера Снегурочки, увиденные каждым из этих худож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рыжик Косметика Грин Мама"/>
          <p:cNvPicPr/>
          <p:nvPr/>
        </p:nvPicPr>
        <p:blipFill>
          <a:blip r:embed="rId1"/>
          <a:stretch/>
        </p:blipFill>
        <p:spPr>
          <a:xfrm>
            <a:off x="0" y="476280"/>
            <a:ext cx="8804160" cy="447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539640" y="5445000"/>
          <a:ext cx="8064720" cy="118908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храбр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решите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скром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неж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скром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боязли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искрення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наив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хруп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печа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кокетли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826920" y="162864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http://ic.pics.livejournal.com/alek_yelgor/67890068/9591/9591_900.jpg"/>
          <p:cNvPicPr/>
          <p:nvPr/>
        </p:nvPicPr>
        <p:blipFill>
          <a:blip r:embed="rId1"/>
          <a:stretch/>
        </p:blipFill>
        <p:spPr>
          <a:xfrm>
            <a:off x="4572000" y="3716280"/>
            <a:ext cx="4357800" cy="29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ic.pics.livejournal.com/preciouslace/57302452/4401/4401_900.jpg"/>
          <p:cNvPicPr/>
          <p:nvPr/>
        </p:nvPicPr>
        <p:blipFill>
          <a:blip r:embed="rId2"/>
          <a:stretch/>
        </p:blipFill>
        <p:spPr>
          <a:xfrm>
            <a:off x="250920" y="1890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5148360" y="220500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Поэтому дорога, по которой идет сказочный герой, часто проходит через заколдованный ле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5214960" y="8571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Когда-то большая часть России была покрыта непроходимой чащей ле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https://teoramag.files.wordpress.com/2015/01/pic_1326291574_3-e1422310878892.jpg?w=620&amp;h=264&amp;crop=1"/>
          <p:cNvPicPr/>
          <p:nvPr/>
        </p:nvPicPr>
        <p:blipFill>
          <a:blip r:embed="rId3"/>
          <a:stretch/>
        </p:blipFill>
        <p:spPr>
          <a:xfrm>
            <a:off x="250920" y="4581360"/>
            <a:ext cx="38574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https://encrypted-tbn3.gstatic.com/images?q=tbn:ANd9GcTOQFDKmFgK6wA4sHIDFVMwIITS31PR_hRbVR7DkCbLz5WDn4YQrQ"/>
          <p:cNvPicPr/>
          <p:nvPr/>
        </p:nvPicPr>
        <p:blipFill>
          <a:blip r:embed="rId1"/>
          <a:stretch/>
        </p:blipFill>
        <p:spPr>
          <a:xfrm>
            <a:off x="250920" y="0"/>
            <a:ext cx="3927240" cy="263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s://encrypted-tbn3.gstatic.com/images?q=tbn:ANd9GcQby0uejRG_jDRZVvnvO_2gGAv6QSkCI5M8m6zXPKAvJ0yVgHpDOw"/>
          <p:cNvPicPr/>
          <p:nvPr/>
        </p:nvPicPr>
        <p:blipFill>
          <a:blip r:embed="rId2"/>
          <a:stretch/>
        </p:blipFill>
        <p:spPr>
          <a:xfrm>
            <a:off x="5168880" y="333360"/>
            <a:ext cx="36781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images.sevstar.net/images/44014879435367447533.jpg"/>
          <p:cNvPicPr/>
          <p:nvPr/>
        </p:nvPicPr>
        <p:blipFill>
          <a:blip r:embed="rId3"/>
          <a:stretch/>
        </p:blipFill>
        <p:spPr>
          <a:xfrm>
            <a:off x="179280" y="285264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6215040" y="3571920"/>
            <a:ext cx="26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В таком лесу деревья разговаривают человеческим голосом и помогают или мешают гер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http://s019.radikal.ru/i602/1204/7f/ba00bf35708b.jpg"/>
          <p:cNvPicPr/>
          <p:nvPr/>
        </p:nvPicPr>
        <p:blipFill>
          <a:blip r:embed="rId1"/>
          <a:stretch/>
        </p:blipFill>
        <p:spPr>
          <a:xfrm>
            <a:off x="214200" y="3714840"/>
            <a:ext cx="3757680" cy="30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shuwany.ru/wp-content/uploads/2014/10/1-e1413362218930.jpg"/>
          <p:cNvPicPr/>
          <p:nvPr/>
        </p:nvPicPr>
        <p:blipFill>
          <a:blip r:embed="rId2"/>
          <a:stretch/>
        </p:blipFill>
        <p:spPr>
          <a:xfrm>
            <a:off x="4572000" y="1004760"/>
            <a:ext cx="4321080" cy="571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ask-egida.ru/d/209023/d/833515401_6.jpg"/>
          <p:cNvPicPr/>
          <p:nvPr/>
        </p:nvPicPr>
        <p:blipFill>
          <a:blip r:embed="rId3"/>
          <a:stretch/>
        </p:blipFill>
        <p:spPr>
          <a:xfrm>
            <a:off x="214200" y="214200"/>
            <a:ext cx="342900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4357800" y="2858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Чаще всего в сказках обращаются к образу могучего ду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785880" y="2643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Кого в сказке может олицетворять дуб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4"/>
          <p:cNvSpPr/>
          <p:nvPr/>
        </p:nvSpPr>
        <p:spPr>
          <a:xfrm>
            <a:off x="3714840" y="44355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Рябинка? Яблонь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http://skazki-larisa.ru/wp-content/uploads/2013/03/6572.jpg"/>
          <p:cNvPicPr/>
          <p:nvPr/>
        </p:nvPicPr>
        <p:blipFill>
          <a:blip r:embed="rId1"/>
          <a:stretch/>
        </p:blipFill>
        <p:spPr>
          <a:xfrm>
            <a:off x="6143760" y="142920"/>
            <a:ext cx="2857320" cy="3801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s://encrypted-tbn2.gstatic.com/images?q=tbn:ANd9GcRtsEESgndQiVw0Z0q2qILV5Kb8NiQiEKX3Zxqn4vvNcHE8qWE88w"/>
          <p:cNvPicPr/>
          <p:nvPr/>
        </p:nvPicPr>
        <p:blipFill>
          <a:blip r:embed="rId2"/>
          <a:stretch/>
        </p:blipFill>
        <p:spPr>
          <a:xfrm>
            <a:off x="142920" y="98280"/>
            <a:ext cx="4214880" cy="30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forum.derev-grad.ru/resources/derevo-ryabina/5984"/>
          <p:cNvPicPr/>
          <p:nvPr/>
        </p:nvPicPr>
        <p:blipFill>
          <a:blip r:embed="rId3"/>
          <a:stretch/>
        </p:blipFill>
        <p:spPr>
          <a:xfrm>
            <a:off x="142920" y="3835440"/>
            <a:ext cx="3286080" cy="290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www.biotop.ru/i/goods/yablonya-sorta.jpg"/>
          <p:cNvPicPr/>
          <p:nvPr/>
        </p:nvPicPr>
        <p:blipFill>
          <a:blip r:embed="rId4"/>
          <a:stretch/>
        </p:blipFill>
        <p:spPr>
          <a:xfrm>
            <a:off x="5357880" y="4041720"/>
            <a:ext cx="3643200" cy="2816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714240" y="321480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А нежная берез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http://ic.pics.livejournal.com/preciouslace/57302452/4401/4401_900.jpg"/>
          <p:cNvPicPr/>
          <p:nvPr/>
        </p:nvPicPr>
        <p:blipFill>
          <a:blip r:embed="rId1"/>
          <a:stretch/>
        </p:blipFill>
        <p:spPr>
          <a:xfrm>
            <a:off x="5500800" y="3786120"/>
            <a:ext cx="3500280" cy="280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http://bytrina11.ru/wp-content/uploads/2013/02/Derevo-yaponskih-risunkovust.jpg"/>
          <p:cNvPicPr/>
          <p:nvPr/>
        </p:nvPicPr>
        <p:blipFill>
          <a:blip r:embed="rId2"/>
          <a:stretch/>
        </p:blipFill>
        <p:spPr>
          <a:xfrm>
            <a:off x="5715000" y="98280"/>
            <a:ext cx="2905200" cy="2330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s018.radikal.ru/i525/1309/0e/cf69313bd62a.jpg"/>
          <p:cNvPicPr/>
          <p:nvPr/>
        </p:nvPicPr>
        <p:blipFill>
          <a:blip r:embed="rId3"/>
          <a:stretch/>
        </p:blipFill>
        <p:spPr>
          <a:xfrm>
            <a:off x="142920" y="168120"/>
            <a:ext cx="4500360" cy="6546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5072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Колючая ель близка по духу..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encrypted-tbn3.gstatic.com/images?q=tbn:ANd9GcQ9YvPr9XYszXaT6Q-IbTVlR6x1wVryqSq1Q5R-P1iZizFzp3ze"/>
          <p:cNvPicPr/>
          <p:nvPr/>
        </p:nvPicPr>
        <p:blipFill>
          <a:blip r:embed="rId1"/>
          <a:stretch/>
        </p:blipFill>
        <p:spPr>
          <a:xfrm>
            <a:off x="468360" y="404640"/>
            <a:ext cx="1895400" cy="241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zen-designer.ru/images/user/hudozestvennaya-graphika/2011/graphic-trees-2.jpg"/>
          <p:cNvPicPr/>
          <p:nvPr/>
        </p:nvPicPr>
        <p:blipFill>
          <a:blip r:embed="rId2"/>
          <a:stretch/>
        </p:blipFill>
        <p:spPr>
          <a:xfrm>
            <a:off x="3419640" y="3068640"/>
            <a:ext cx="2381040" cy="343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aniop.ru/wp-content/uploads/2013/03/st8-300x214.jpg"/>
          <p:cNvPicPr/>
          <p:nvPr/>
        </p:nvPicPr>
        <p:blipFill>
          <a:blip r:embed="rId3"/>
          <a:stretch/>
        </p:blipFill>
        <p:spPr>
          <a:xfrm>
            <a:off x="2843280" y="549360"/>
            <a:ext cx="2857320" cy="203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ricynok.ru/sites/default/files/img/po-shagam/9/iva/037-ricynok.ru.jpg"/>
          <p:cNvPicPr/>
          <p:nvPr/>
        </p:nvPicPr>
        <p:blipFill>
          <a:blip r:embed="rId4"/>
          <a:stretch/>
        </p:blipFill>
        <p:spPr>
          <a:xfrm>
            <a:off x="6143760" y="71280"/>
            <a:ext cx="2811240" cy="3714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http://img.espicture.ru/25/osennie-kartinki-karandayshom-14.jpg"/>
          <p:cNvPicPr/>
          <p:nvPr/>
        </p:nvPicPr>
        <p:blipFill>
          <a:blip r:embed="rId5"/>
          <a:stretch/>
        </p:blipFill>
        <p:spPr>
          <a:xfrm>
            <a:off x="395280" y="4005360"/>
            <a:ext cx="2584440" cy="22082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6286680" y="425916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Работа по заданиям учебника, тетради.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encrypted-tbn1.gstatic.com/images?q=tbn:ANd9GcQnVLYcRSQkeOghLrbLn5gRrAmGS-Ldm5qfzWmyqH7b3J6gygsGxw"/>
          <p:cNvPicPr/>
          <p:nvPr/>
        </p:nvPicPr>
        <p:blipFill>
          <a:blip r:embed="rId1"/>
          <a:stretch/>
        </p:blipFill>
        <p:spPr>
          <a:xfrm>
            <a:off x="826920" y="1052640"/>
            <a:ext cx="7437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08:38:23Z</dcterms:created>
  <dc:creator>Татьяна</dc:creator>
  <dc:description/>
  <dc:language>en-US</dc:language>
  <cp:lastModifiedBy>Карповская МСОШ</cp:lastModifiedBy>
  <dcterms:modified xsi:type="dcterms:W3CDTF">2015-04-09T16:14:47Z</dcterms:modified>
  <cp:revision>130</cp:revision>
  <dc:subject/>
  <dc:title>Слайд 1</dc:title>
</cp:coreProperties>
</file>