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DAC-F25A-40A9-9F14-2962D2E7B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A67-8F9C-43A6-B05B-B042D3DA5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8F56-09B2-483D-95FC-997CE9D353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7D8-ACA1-4E1B-838D-389BEF0EF7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FF99-A62D-4454-8133-C177567BDB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399-CB2C-44F2-8855-42F7DA6F01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3EE-179D-468B-8D11-39EAB6FE4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AB5A-CF81-48F4-9EFA-4A942B9C14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6BC-B9A3-469E-BAA2-671EAA5544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2020-459E-4DC6-B6D8-5502DA1A8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7D03-66A4-4323-AF24-AB38D7633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3E50-B1C6-41EB-A35A-98478F39BE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1EF8-7755-4D19-B52A-C02C56565D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47CC-D87D-4A68-9906-D6620E9B74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8572-D834-4913-B3CF-35F6C05930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0C9-3A8F-45E8-83DE-BEC3D4673A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DC5-10DC-4AAF-AB11-C9180E4B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6E7-9FEB-4B9D-9D32-492331B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FBA-9BA7-4521-B11E-ABC9690B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626-E9A1-4FB6-B0D1-8FA2AFA3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0EE-65D0-4961-8426-0BEAFAA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B3E-493A-413D-AC00-2A55C6C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F03-9BE4-4E66-9C2A-CB801BF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087-6E41-4456-8DB7-AF27ECB2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DF3-B9A6-4F22-A711-BF2A0457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E7B-4EDE-4C08-B3F1-D755CBB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2BF-8A3E-43F3-B631-E295C2C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214-DC33-45AC-AFA6-42101E9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7F4-86B4-434B-9D7E-DE214B0315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7"/>
          <p:cNvSpPr/>
          <p:nvPr/>
        </p:nvSpPr>
        <p:spPr>
          <a:xfrm>
            <a:off x="500040" y="1571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entury Schoolbook"/>
              </a:rPr>
              <a:t>Образы отрицательных персонаж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500040" y="3105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39640" y="41212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3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50920" y="5300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ы фантастических чудовищ встречались не только в сказках, но и в резьбе, украшающей избы и хра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https://encrypted-tbn1.gstatic.com/images?q=tbn:ANd9GcSmTit1-O-GDHCRaDez-IspM-gN8gSS5hwJMuUv14V8KcbWzJH4"/>
          <p:cNvPicPr/>
          <p:nvPr/>
        </p:nvPicPr>
        <p:blipFill>
          <a:blip r:embed="rId1"/>
          <a:stretch/>
        </p:blipFill>
        <p:spPr>
          <a:xfrm>
            <a:off x="6072120" y="42876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s://encrypted-tbn3.gstatic.com/images?q=tbn:ANd9GcSXCbMzw2TWXgAX286PehVsoY1dIrTsNNIJ084u3-33thzNt1Jl"/>
          <p:cNvPicPr/>
          <p:nvPr/>
        </p:nvPicPr>
        <p:blipFill>
          <a:blip r:embed="rId2"/>
          <a:stretch/>
        </p:blipFill>
        <p:spPr>
          <a:xfrm>
            <a:off x="6858000" y="41432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https://encrypted-tbn2.gstatic.com/images?q=tbn:ANd9GcRiRi6tKKfSTcLPL067wbfwB1R_MncTrr-0Js3baNu82RgnMLxTow"/>
          <p:cNvPicPr/>
          <p:nvPr/>
        </p:nvPicPr>
        <p:blipFill>
          <a:blip r:embed="rId3"/>
          <a:stretch/>
        </p:blipFill>
        <p:spPr>
          <a:xfrm>
            <a:off x="285840" y="214200"/>
            <a:ext cx="3500280" cy="348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www.k-zolotov.ru/images/thumb/IZ-3.gif"/>
          <p:cNvPicPr/>
          <p:nvPr/>
        </p:nvPicPr>
        <p:blipFill>
          <a:blip r:embed="rId4"/>
          <a:stretch/>
        </p:blipFill>
        <p:spPr>
          <a:xfrm>
            <a:off x="3857760" y="257184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 часто изображали чудищ на изразц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s://encrypted-tbn2.gstatic.com/images?q=tbn:ANd9GcQQ4msc26ihzGXdGF5C-9oQVuYMS0QcqB-IX4ELBD-sEuKK-4-6ug"/>
          <p:cNvPicPr/>
          <p:nvPr/>
        </p:nvPicPr>
        <p:blipFill>
          <a:blip r:embed="rId1"/>
          <a:stretch/>
        </p:blipFill>
        <p:spPr>
          <a:xfrm>
            <a:off x="214200" y="3571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s://encrypted-tbn2.gstatic.com/images?q=tbn:ANd9GcTshJeGY0j_uNRy8vPGnXQektLt5lpvhA2LpvZeQvh9VWLzniy0VQ"/>
          <p:cNvPicPr/>
          <p:nvPr/>
        </p:nvPicPr>
        <p:blipFill>
          <a:blip r:embed="rId2"/>
          <a:stretch/>
        </p:blipFill>
        <p:spPr>
          <a:xfrm>
            <a:off x="3429000" y="27147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s://encrypted-tbn3.gstatic.com/images?q=tbn:ANd9GcQ12tjzOx8MElIlfEckZBtzR4Hhnw2cfeP4Cgz0VusGXyCbIncS"/>
          <p:cNvPicPr/>
          <p:nvPr/>
        </p:nvPicPr>
        <p:blipFill>
          <a:blip r:embed="rId3"/>
          <a:stretch/>
        </p:blipFill>
        <p:spPr>
          <a:xfrm>
            <a:off x="357120" y="4714920"/>
            <a:ext cx="3857760" cy="118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s://encrypted-tbn1.gstatic.com/images?q=tbn:ANd9GcSzmO54D6pL8kvbHaeLxqNUvw-iGUJ0gLGdxMXOj5_YSEunhI7s"/>
          <p:cNvPicPr/>
          <p:nvPr/>
        </p:nvPicPr>
        <p:blipFill>
          <a:blip r:embed="rId4"/>
          <a:stretch/>
        </p:blipFill>
        <p:spPr>
          <a:xfrm>
            <a:off x="6357960" y="28584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https://encrypted-tbn1.gstatic.com/images?q=tbn:ANd9GcQjciu6lbShDlmC8zkmRvVszdxTk65oKST1205R37m4pXWK6WBhUw"/>
          <p:cNvPicPr/>
          <p:nvPr/>
        </p:nvPicPr>
        <p:blipFill>
          <a:blip r:embed="rId5"/>
          <a:stretch/>
        </p:blipFill>
        <p:spPr>
          <a:xfrm>
            <a:off x="428760" y="2714760"/>
            <a:ext cx="2562120" cy="178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http://files.vm.ru/photo/vecherka/2014/03/doc6e8k5zj52t418e5zslu9_800_480.jpg"/>
          <p:cNvPicPr/>
          <p:nvPr/>
        </p:nvPicPr>
        <p:blipFill>
          <a:blip r:embed="rId6"/>
          <a:stretch/>
        </p:blipFill>
        <p:spPr>
          <a:xfrm>
            <a:off x="6500880" y="2786040"/>
            <a:ext cx="208908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http://www.russian-ceramics.ru/kamin/yaroslavl/izrazcy/big/izrazec_edinorog.jpg"/>
          <p:cNvPicPr/>
          <p:nvPr/>
        </p:nvPicPr>
        <p:blipFill>
          <a:blip r:embed="rId7"/>
          <a:stretch/>
        </p:blipFill>
        <p:spPr>
          <a:xfrm>
            <a:off x="3643200" y="2858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95280" y="551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разец – это  глиняная плитка с рельефным орнамен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7" descr="http://img1.liveinternet.ru/images/foto/b/3/273/3168273/f_17637906.jpg"/>
          <p:cNvPicPr/>
          <p:nvPr/>
        </p:nvPicPr>
        <p:blipFill>
          <a:blip r:embed="rId1"/>
          <a:stretch/>
        </p:blipFill>
        <p:spPr>
          <a:xfrm>
            <a:off x="142920" y="285840"/>
            <a:ext cx="3370320" cy="3370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http://sdelaikamin.ru/wp-content/uploads/izraztsovaya-plitka-dlya-kaminov.jpg"/>
          <p:cNvPicPr/>
          <p:nvPr/>
        </p:nvPicPr>
        <p:blipFill>
          <a:blip r:embed="rId2"/>
          <a:stretch/>
        </p:blipFill>
        <p:spPr>
          <a:xfrm>
            <a:off x="3786120" y="1785960"/>
            <a:ext cx="51944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95280" y="49417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ветными изразцами украшали фасады каменных храмов и пал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http://www.vesta-hmt.ru/media/gallery/236_f_12.jpg"/>
          <p:cNvPicPr/>
          <p:nvPr/>
        </p:nvPicPr>
        <p:blipFill>
          <a:blip r:embed="rId1"/>
          <a:stretch/>
        </p:blipFill>
        <p:spPr>
          <a:xfrm>
            <a:off x="142920" y="142920"/>
            <a:ext cx="5692680" cy="3786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http://igrushka.kz/vip30/lep.jpg"/>
          <p:cNvPicPr/>
          <p:nvPr/>
        </p:nvPicPr>
        <p:blipFill>
          <a:blip r:embed="rId2"/>
          <a:stretch/>
        </p:blipFill>
        <p:spPr>
          <a:xfrm>
            <a:off x="5429160" y="1214280"/>
            <a:ext cx="3333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95280" y="585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ветными изразцами украшали п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https://lh3.googleusercontent.com/mZ_z8CF_bmhuvRr-yPLMcAYtgpNTNQtLcA7MaES4L-BPLpWAmNhVEqmFZu4Sg3i-qDqtYKklJCTksz33nNKZlFIU4Eq6gWScuFr07LP_IvOx41UkJsXCk6TqNA"/>
          <p:cNvPicPr/>
          <p:nvPr/>
        </p:nvPicPr>
        <p:blipFill>
          <a:blip r:embed="rId1"/>
          <a:stretch/>
        </p:blipFill>
        <p:spPr>
          <a:xfrm>
            <a:off x="285840" y="285840"/>
            <a:ext cx="3773520" cy="30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www.kamin-a.com.ua/wp-content/uploads/2013/05/0922c4b44b6c243625f2283fcb575d41.jpg"/>
          <p:cNvPicPr/>
          <p:nvPr/>
        </p:nvPicPr>
        <p:blipFill>
          <a:blip r:embed="rId2"/>
          <a:stretch/>
        </p:blipFill>
        <p:spPr>
          <a:xfrm>
            <a:off x="6786720" y="142920"/>
            <a:ext cx="21970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www.vectorvip.ru/wp-content/uploads/2014/10/pech-istra.jpg"/>
          <p:cNvPicPr/>
          <p:nvPr/>
        </p:nvPicPr>
        <p:blipFill>
          <a:blip r:embed="rId3"/>
          <a:stretch/>
        </p:blipFill>
        <p:spPr>
          <a:xfrm>
            <a:off x="3357720" y="285768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95280" y="42861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3" descr="https://encrypted-tbn0.gstatic.com/images?q=tbn:ANd9GcQmwYIh0QcWfdmQ4cwhukK-2FTpa79arozUYfaALXKUYuFBBFDmVg"/>
          <p:cNvPicPr/>
          <p:nvPr/>
        </p:nvPicPr>
        <p:blipFill>
          <a:blip r:embed="rId1"/>
          <a:stretch/>
        </p:blipFill>
        <p:spPr>
          <a:xfrm>
            <a:off x="3571920" y="1357200"/>
            <a:ext cx="2133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Сказочные картинки от Виктора Служаева (49 шт. - Иллюстрации - Картинки, иллюстрации, клипарт - ВЕСЕЛЯНДИЯ- Онлайн мультики и фи"/>
          <p:cNvPicPr/>
          <p:nvPr/>
        </p:nvPicPr>
        <p:blipFill>
          <a:blip r:embed="rId1"/>
          <a:stretch/>
        </p:blipFill>
        <p:spPr>
          <a:xfrm>
            <a:off x="179280" y="476280"/>
            <a:ext cx="405288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500720" y="1268280"/>
            <a:ext cx="395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основе любого сказочного сюжета лежит борьба двух главных  противников – противоположных по духу, внешнему виду и целя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Добрый, молодой, сильный герой борется со злым, старым персонажем, не обладающим физической силой, но использующим свои ч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Царевна-лягушка скачать бесплатно Советские мультфильмы или смотреть мультфильм онлайн."/>
          <p:cNvPicPr/>
          <p:nvPr/>
        </p:nvPicPr>
        <p:blipFill>
          <a:blip r:embed="rId1"/>
          <a:stretch/>
        </p:blipFill>
        <p:spPr>
          <a:xfrm>
            <a:off x="900000" y="189000"/>
            <a:ext cx="6878880" cy="5256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324000" y="558972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бы в сказках были только добрые, смелые и честные герои, то у них не было бы столько трудностей в поисках своего счаст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Описание Бабы Яги. Подборка статей по теме Мифические существа. Мир Магии и Волшебства. Маги и магия, Заговоры и заклинания, Маг"/>
          <p:cNvPicPr/>
          <p:nvPr/>
        </p:nvPicPr>
        <p:blipFill>
          <a:blip r:embed="rId1"/>
          <a:stretch/>
        </p:blipFill>
        <p:spPr>
          <a:xfrm>
            <a:off x="468360" y="260280"/>
            <a:ext cx="4751280" cy="458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Велемудр &quot; 2011 &quot; Сентябрь &quot; 19"/>
          <p:cNvPicPr/>
          <p:nvPr/>
        </p:nvPicPr>
        <p:blipFill>
          <a:blip r:embed="rId2"/>
          <a:stretch/>
        </p:blipFill>
        <p:spPr>
          <a:xfrm>
            <a:off x="5668920" y="404640"/>
            <a:ext cx="3206880" cy="4319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24000" y="537372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ложительным героям в сказке противостоят злые, хитрые, коварные персонажи, которые мечтают  не дать главному герою достигнуть цели и даже погубить 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Мрачные картинки &quot; Nibler.ru - мой маленький уютный уголок"/>
          <p:cNvPicPr/>
          <p:nvPr/>
        </p:nvPicPr>
        <p:blipFill>
          <a:blip r:embed="rId1"/>
          <a:stretch/>
        </p:blipFill>
        <p:spPr>
          <a:xfrm>
            <a:off x="1042920" y="333360"/>
            <a:ext cx="6697800" cy="4960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0" y="558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лая и коварная Баба-Яга живет в заколдованном лес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Баба - Яга –   ведьма –   то есть ведающая какой-то тай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9"/>
          <p:cNvSpPr/>
          <p:nvPr/>
        </p:nvSpPr>
        <p:spPr>
          <a:xfrm>
            <a:off x="5435640" y="220500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нешний вид персонажей выдаёт их характер. В них в полной мере соединились реальные и фантастические к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Народные вариации на тему: игла в яйце, яйцо в утке, утка в зайце, заяц в шоке.. +1 &quot; Пипец блоги"/>
          <p:cNvPicPr/>
          <p:nvPr/>
        </p:nvPicPr>
        <p:blipFill>
          <a:blip r:embed="rId1"/>
          <a:stretch/>
        </p:blipFill>
        <p:spPr>
          <a:xfrm>
            <a:off x="468360" y="404640"/>
            <a:ext cx="4424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Forum.iFiction.Ru / КРИЛ-2009: рецензии на игры, конкурсные обзоры"/>
          <p:cNvPicPr/>
          <p:nvPr/>
        </p:nvPicPr>
        <p:blipFill>
          <a:blip r:embed="rId1"/>
          <a:stretch/>
        </p:blipFill>
        <p:spPr>
          <a:xfrm>
            <a:off x="250920" y="260280"/>
            <a:ext cx="4873680" cy="6193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5651640" y="335772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трицательные персонажи наделены огромной силой, подкрепленной колдовскими ча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Образность и мудрость заложенная в русских народных сказках"/>
          <p:cNvPicPr/>
          <p:nvPr/>
        </p:nvPicPr>
        <p:blipFill>
          <a:blip r:embed="rId1"/>
          <a:stretch/>
        </p:blipFill>
        <p:spPr>
          <a:xfrm>
            <a:off x="1042920" y="40464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468360" y="5661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бразы чудовищ возникли в результате преобразований настоящих животных и птиц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Лепка из целого куска вытягиванием - Гипермаркет знаний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2811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24000" y="45734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 реальному виду добавлены различные детали: лапы, крылья, шипы, клы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15T04:40:50Z</dcterms:modified>
  <cp:revision>120</cp:revision>
  <dc:subject/>
  <dc:title>Слайд 1</dc:title>
</cp:coreProperties>
</file>