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F395-793F-4986-9E10-36B68D6A01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84BA-A051-443C-B108-B52AE348B4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B70E-3A7E-4748-83AA-DA52E6F720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8460-67E3-4A0B-901B-6214CEAEEB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6AD5-462E-41F4-8C65-616442B027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4554-6665-4325-A6FF-8205639372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17D0-7AFE-4A83-B4CF-1CA1E0ECA4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8C15-F60F-4008-9762-7D1C90C8C2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A529-3586-4C13-B4A1-D4E3AAAADF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C6B7-ACB6-48D6-8874-5446345D5A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A6C8-6966-4192-AF32-A638C8A6ED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AFEB-CB4F-4285-8247-619148460D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E1F1-B41E-425A-9545-3F6A63B496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9865-11E4-479A-930D-DD5E747616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5BEF-9A2F-444E-8A47-D9FD3E7E5D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676B-773A-484F-A3DF-0510EACF48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EA4-28BF-4FED-9D97-1CBCFC53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0CB-FDC5-45E8-9158-5996C06C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6BF4-1A97-4989-9ACF-2A276C90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D03-BDB3-476E-9402-3E60509D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7AF-DC9C-4616-B433-6476B4FE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4EE-4BD6-45D4-908E-A2CFFE8B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9E7-FC71-4A26-97A3-F0ACE4C3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BFF-9F04-40DA-80BE-FAD964AD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095-C6CD-4882-9032-EFCFF565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470-BF18-4482-B371-EE78EA39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6DF-A6D8-4A1A-8A0F-737149AC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D1E5-F9F9-4C97-8476-73C1E236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FE2C-12C1-4689-89E8-057AF757CF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7"/>
          <p:cNvSpPr/>
          <p:nvPr/>
        </p:nvSpPr>
        <p:spPr>
          <a:xfrm>
            <a:off x="500040" y="157176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entury Schoolbook"/>
              </a:rPr>
              <a:t>Образы отрицательных персонаж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500040" y="310500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539640" y="41212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ИЗО 3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УМК«Перспективная начальная школа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Учитель начальных классов: Воронина О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250920" y="530064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разы фантастических чудовищ встречались не только в сказках, но и в резьбе, украшающей избы и хра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7" descr="https://encrypted-tbn1.gstatic.com/images?q=tbn:ANd9GcSmTit1-O-GDHCRaDez-IspM-gN8gSS5hwJMuUv14V8KcbWzJH4"/>
          <p:cNvPicPr/>
          <p:nvPr/>
        </p:nvPicPr>
        <p:blipFill>
          <a:blip r:embed="rId1"/>
          <a:stretch/>
        </p:blipFill>
        <p:spPr>
          <a:xfrm>
            <a:off x="6072120" y="428760"/>
            <a:ext cx="2276640" cy="2009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ttps://encrypted-tbn3.gstatic.com/images?q=tbn:ANd9GcSXCbMzw2TWXgAX286PehVsoY1dIrTsNNIJ084u3-33thzNt1Jl"/>
          <p:cNvPicPr/>
          <p:nvPr/>
        </p:nvPicPr>
        <p:blipFill>
          <a:blip r:embed="rId2"/>
          <a:stretch/>
        </p:blipFill>
        <p:spPr>
          <a:xfrm>
            <a:off x="6858000" y="414324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https://encrypted-tbn2.gstatic.com/images?q=tbn:ANd9GcRiRi6tKKfSTcLPL067wbfwB1R_MncTrr-0Js3baNu82RgnMLxTow"/>
          <p:cNvPicPr/>
          <p:nvPr/>
        </p:nvPicPr>
        <p:blipFill>
          <a:blip r:embed="rId3"/>
          <a:stretch/>
        </p:blipFill>
        <p:spPr>
          <a:xfrm>
            <a:off x="285840" y="214200"/>
            <a:ext cx="3500280" cy="348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http://www.k-zolotov.ru/images/thumb/IZ-3.gif"/>
          <p:cNvPicPr/>
          <p:nvPr/>
        </p:nvPicPr>
        <p:blipFill>
          <a:blip r:embed="rId4"/>
          <a:stretch/>
        </p:blipFill>
        <p:spPr>
          <a:xfrm>
            <a:off x="3857760" y="257184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0" y="580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собенно часто изображали чудищ на изразц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5" descr="https://encrypted-tbn2.gstatic.com/images?q=tbn:ANd9GcQQ4msc26ihzGXdGF5C-9oQVuYMS0QcqB-IX4ELBD-sEuKK-4-6ug"/>
          <p:cNvPicPr/>
          <p:nvPr/>
        </p:nvPicPr>
        <p:blipFill>
          <a:blip r:embed="rId1"/>
          <a:stretch/>
        </p:blipFill>
        <p:spPr>
          <a:xfrm>
            <a:off x="214200" y="357120"/>
            <a:ext cx="2533680" cy="1809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https://encrypted-tbn2.gstatic.com/images?q=tbn:ANd9GcTshJeGY0j_uNRy8vPGnXQektLt5lpvhA2LpvZeQvh9VWLzniy0VQ"/>
          <p:cNvPicPr/>
          <p:nvPr/>
        </p:nvPicPr>
        <p:blipFill>
          <a:blip r:embed="rId2"/>
          <a:stretch/>
        </p:blipFill>
        <p:spPr>
          <a:xfrm>
            <a:off x="3429000" y="271476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https://encrypted-tbn3.gstatic.com/images?q=tbn:ANd9GcQ12tjzOx8MElIlfEckZBtzR4Hhnw2cfeP4Cgz0VusGXyCbIncS"/>
          <p:cNvPicPr/>
          <p:nvPr/>
        </p:nvPicPr>
        <p:blipFill>
          <a:blip r:embed="rId3"/>
          <a:stretch/>
        </p:blipFill>
        <p:spPr>
          <a:xfrm>
            <a:off x="357120" y="4714920"/>
            <a:ext cx="3857760" cy="1181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https://encrypted-tbn1.gstatic.com/images?q=tbn:ANd9GcSzmO54D6pL8kvbHaeLxqNUvw-iGUJ0gLGdxMXOj5_YSEunhI7s"/>
          <p:cNvPicPr/>
          <p:nvPr/>
        </p:nvPicPr>
        <p:blipFill>
          <a:blip r:embed="rId4"/>
          <a:stretch/>
        </p:blipFill>
        <p:spPr>
          <a:xfrm>
            <a:off x="6357960" y="285840"/>
            <a:ext cx="2200320" cy="2076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https://encrypted-tbn1.gstatic.com/images?q=tbn:ANd9GcQjciu6lbShDlmC8zkmRvVszdxTk65oKST1205R37m4pXWK6WBhUw"/>
          <p:cNvPicPr/>
          <p:nvPr/>
        </p:nvPicPr>
        <p:blipFill>
          <a:blip r:embed="rId5"/>
          <a:stretch/>
        </p:blipFill>
        <p:spPr>
          <a:xfrm>
            <a:off x="428760" y="2714760"/>
            <a:ext cx="2562120" cy="1780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http://files.vm.ru/photo/vecherka/2014/03/doc6e8k5zj52t418e5zslu9_800_480.jpg"/>
          <p:cNvPicPr/>
          <p:nvPr/>
        </p:nvPicPr>
        <p:blipFill>
          <a:blip r:embed="rId6"/>
          <a:stretch/>
        </p:blipFill>
        <p:spPr>
          <a:xfrm>
            <a:off x="6500880" y="2786040"/>
            <a:ext cx="208908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http://www.russian-ceramics.ru/kamin/yaroslavl/izrazcy/big/izrazec_edinorog.jpg"/>
          <p:cNvPicPr/>
          <p:nvPr/>
        </p:nvPicPr>
        <p:blipFill>
          <a:blip r:embed="rId7"/>
          <a:stretch/>
        </p:blipFill>
        <p:spPr>
          <a:xfrm>
            <a:off x="3643200" y="2858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95280" y="5516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зразец – это  глиняная плитка с рельефным орнамен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17" descr="http://img1.liveinternet.ru/images/foto/b/3/273/3168273/f_17637906.jpg"/>
          <p:cNvPicPr/>
          <p:nvPr/>
        </p:nvPicPr>
        <p:blipFill>
          <a:blip r:embed="rId1"/>
          <a:stretch/>
        </p:blipFill>
        <p:spPr>
          <a:xfrm>
            <a:off x="142920" y="285840"/>
            <a:ext cx="3370320" cy="3370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http://sdelaikamin.ru/wp-content/uploads/izraztsovaya-plitka-dlya-kaminov.jpg"/>
          <p:cNvPicPr/>
          <p:nvPr/>
        </p:nvPicPr>
        <p:blipFill>
          <a:blip r:embed="rId2"/>
          <a:stretch/>
        </p:blipFill>
        <p:spPr>
          <a:xfrm>
            <a:off x="3786120" y="1785960"/>
            <a:ext cx="519444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395280" y="494172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ветными изразцами украшали фасады каменных храмов и пала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7" descr="http://www.vesta-hmt.ru/media/gallery/236_f_12.jpg"/>
          <p:cNvPicPr/>
          <p:nvPr/>
        </p:nvPicPr>
        <p:blipFill>
          <a:blip r:embed="rId1"/>
          <a:stretch/>
        </p:blipFill>
        <p:spPr>
          <a:xfrm>
            <a:off x="142920" y="142920"/>
            <a:ext cx="5692680" cy="3786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http://igrushka.kz/vip30/lep.jpg"/>
          <p:cNvPicPr/>
          <p:nvPr/>
        </p:nvPicPr>
        <p:blipFill>
          <a:blip r:embed="rId2"/>
          <a:stretch/>
        </p:blipFill>
        <p:spPr>
          <a:xfrm>
            <a:off x="5429160" y="1214280"/>
            <a:ext cx="333396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395280" y="58579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ветными изразцами украшали пе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5" descr="https://lh3.googleusercontent.com/mZ_z8CF_bmhuvRr-yPLMcAYtgpNTNQtLcA7MaES4L-BPLpWAmNhVEqmFZu4Sg3i-qDqtYKklJCTksz33nNKZlFIU4Eq6gWScuFr07LP_IvOx41UkJsXCk6TqNA"/>
          <p:cNvPicPr/>
          <p:nvPr/>
        </p:nvPicPr>
        <p:blipFill>
          <a:blip r:embed="rId1"/>
          <a:stretch/>
        </p:blipFill>
        <p:spPr>
          <a:xfrm>
            <a:off x="285840" y="285840"/>
            <a:ext cx="3773520" cy="3000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www.kamin-a.com.ua/wp-content/uploads/2013/05/0922c4b44b6c243625f2283fcb575d41.jpg"/>
          <p:cNvPicPr/>
          <p:nvPr/>
        </p:nvPicPr>
        <p:blipFill>
          <a:blip r:embed="rId2"/>
          <a:stretch/>
        </p:blipFill>
        <p:spPr>
          <a:xfrm>
            <a:off x="6786720" y="142920"/>
            <a:ext cx="2197080" cy="292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http://www.vectorvip.ru/wp-content/uploads/2014/10/pech-istra.jpg"/>
          <p:cNvPicPr/>
          <p:nvPr/>
        </p:nvPicPr>
        <p:blipFill>
          <a:blip r:embed="rId3"/>
          <a:stretch/>
        </p:blipFill>
        <p:spPr>
          <a:xfrm>
            <a:off x="3357720" y="285768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395280" y="42861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3" descr="https://encrypted-tbn0.gstatic.com/images?q=tbn:ANd9GcQmwYIh0QcWfdmQ4cwhukK-2FTpa79arozUYfaALXKUYuFBBFDmVg"/>
          <p:cNvPicPr/>
          <p:nvPr/>
        </p:nvPicPr>
        <p:blipFill>
          <a:blip r:embed="rId1"/>
          <a:stretch/>
        </p:blipFill>
        <p:spPr>
          <a:xfrm>
            <a:off x="3571920" y="1357200"/>
            <a:ext cx="2133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Сказочные картинки от Виктора Служаева (49 шт. - Иллюстрации - Картинки, иллюстрации, клипарт - ВЕСЕЛЯНДИЯ- Онлайн мультики и фи"/>
          <p:cNvPicPr/>
          <p:nvPr/>
        </p:nvPicPr>
        <p:blipFill>
          <a:blip r:embed="rId1"/>
          <a:stretch/>
        </p:blipFill>
        <p:spPr>
          <a:xfrm>
            <a:off x="179280" y="476280"/>
            <a:ext cx="4052880" cy="58323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4500720" y="1268280"/>
            <a:ext cx="3958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Arial"/>
              </a:rPr>
              <a:t>В основе любого сказочного сюжета лежит борьба двух главных  противников – противоположных по духу, внешнему виду и целя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Arial"/>
              </a:rPr>
              <a:t>Добрый, молодой, сильный герой борется со злым, старым персонажем, не обладающим физической силой, но использующим свои чар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Царевна-лягушка скачать бесплатно Советские мультфильмы или смотреть мультфильм онлайн."/>
          <p:cNvPicPr/>
          <p:nvPr/>
        </p:nvPicPr>
        <p:blipFill>
          <a:blip r:embed="rId1"/>
          <a:stretch/>
        </p:blipFill>
        <p:spPr>
          <a:xfrm>
            <a:off x="900000" y="189000"/>
            <a:ext cx="6878880" cy="5256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324000" y="558972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бы в сказках были только добрые, смелые и честные герои, то у них не было бы столько трудностей в поисках своего счаст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Описание Бабы Яги. Подборка статей по теме Мифические существа. Мир Магии и Волшебства. Маги и магия, Заговоры и заклинания, Маг"/>
          <p:cNvPicPr/>
          <p:nvPr/>
        </p:nvPicPr>
        <p:blipFill>
          <a:blip r:embed="rId1"/>
          <a:stretch/>
        </p:blipFill>
        <p:spPr>
          <a:xfrm>
            <a:off x="468360" y="260280"/>
            <a:ext cx="4751280" cy="4584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Велемудр &quot; 2011 &quot; Сентябрь &quot; 19"/>
          <p:cNvPicPr/>
          <p:nvPr/>
        </p:nvPicPr>
        <p:blipFill>
          <a:blip r:embed="rId2"/>
          <a:stretch/>
        </p:blipFill>
        <p:spPr>
          <a:xfrm>
            <a:off x="5668920" y="404640"/>
            <a:ext cx="3206880" cy="43196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324000" y="5373720"/>
            <a:ext cx="88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оложительным героям в сказке противостоят злые, хитрые, коварные персонажи, которые мечтают  не дать главному герою достигнуть цели и даже погубить ег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8" descr="Мрачные картинки &quot; Nibler.ru - мой маленький уютный уголок"/>
          <p:cNvPicPr/>
          <p:nvPr/>
        </p:nvPicPr>
        <p:blipFill>
          <a:blip r:embed="rId1"/>
          <a:stretch/>
        </p:blipFill>
        <p:spPr>
          <a:xfrm>
            <a:off x="1042920" y="333360"/>
            <a:ext cx="6697800" cy="49608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0" y="5589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Злая и коварная Баба-Яга живет в заколдованном лес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Баба - Яга –   ведьма –   то есть ведающая какой-то тай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9"/>
          <p:cNvSpPr/>
          <p:nvPr/>
        </p:nvSpPr>
        <p:spPr>
          <a:xfrm>
            <a:off x="5435640" y="2205000"/>
            <a:ext cx="316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нешний вид персонажей выдаёт их характер. В них в полной мере соединились реальные и фантастические кач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7" descr="Народные вариации на тему: игла в яйце, яйцо в утке, утка в зайце, заяц в шоке.. +1 &quot; Пипец блоги"/>
          <p:cNvPicPr/>
          <p:nvPr/>
        </p:nvPicPr>
        <p:blipFill>
          <a:blip r:embed="rId1"/>
          <a:stretch/>
        </p:blipFill>
        <p:spPr>
          <a:xfrm>
            <a:off x="468360" y="404640"/>
            <a:ext cx="442440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Forum.iFiction.Ru / КРИЛ-2009: рецензии на игры, конкурсные обзоры"/>
          <p:cNvPicPr/>
          <p:nvPr/>
        </p:nvPicPr>
        <p:blipFill>
          <a:blip r:embed="rId1"/>
          <a:stretch/>
        </p:blipFill>
        <p:spPr>
          <a:xfrm>
            <a:off x="250920" y="260280"/>
            <a:ext cx="4873680" cy="61930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5651640" y="3357720"/>
            <a:ext cx="309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Отрицательные персонажи наделены огромной силой, подкрепленной колдовскими ча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Образность и мудрость заложенная в русских народных сказках"/>
          <p:cNvPicPr/>
          <p:nvPr/>
        </p:nvPicPr>
        <p:blipFill>
          <a:blip r:embed="rId1"/>
          <a:stretch/>
        </p:blipFill>
        <p:spPr>
          <a:xfrm>
            <a:off x="1042920" y="404640"/>
            <a:ext cx="6782040" cy="50864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468360" y="56610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Образы чудовищ возникли в результате преобразований настоящих животных и птиц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2" descr="Лепка из целого куска вытягиванием - Гипермаркет знаний"/>
          <p:cNvPicPr/>
          <p:nvPr/>
        </p:nvPicPr>
        <p:blipFill>
          <a:blip r:embed="rId1"/>
          <a:stretch/>
        </p:blipFill>
        <p:spPr>
          <a:xfrm>
            <a:off x="1619280" y="549360"/>
            <a:ext cx="5975280" cy="28112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324000" y="45734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 реальному виду добавлены различные детали: лапы, крылья, шипы, клы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08:38:23Z</dcterms:created>
  <dc:creator>Татьяна</dc:creator>
  <dc:description/>
  <dc:language>en-US</dc:language>
  <cp:lastModifiedBy>Карповская МСОШ</cp:lastModifiedBy>
  <dcterms:modified xsi:type="dcterms:W3CDTF">2015-04-15T04:40:50Z</dcterms:modified>
  <cp:revision>120</cp:revision>
  <dc:subject/>
  <dc:title>Слайд 1</dc:title>
</cp:coreProperties>
</file>