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385F-EC64-40D9-BDF4-A19C0AEF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7196-7FC1-4344-9388-8D7757D7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10CF-E469-4FC7-9A32-DDFDDB54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360F-9DE3-4A4F-9761-2F95E000D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A1DA-BD00-4E21-A922-F17C8BA0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2AB-987B-47A6-B3AB-1F812877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6B20-8F68-4A6F-9183-B4E29CCA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9175-06FF-4BF6-A46E-16F8F835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26D2-39C1-44C4-AC77-15BC1312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B329-0FCF-4820-ABB3-27B2F578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71C-DDEC-4862-926A-B680408A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595C-6CE7-44D0-8628-B38C01EB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15F6-8846-4881-BF56-7B4B5CFCC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920" y="23760"/>
            <a:ext cx="9051840" cy="6789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2360" y="1484280"/>
            <a:ext cx="338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cc33"/>
                </a:solidFill>
                <a:latin typeface="Arial"/>
              </a:rPr>
              <a:t>К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ТО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ff00"/>
                </a:solidFill>
                <a:latin typeface="Arial"/>
              </a:rPr>
              <a:t>В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МО</a:t>
            </a:r>
            <a:r>
              <a:rPr b="1" lang="en-US" sz="6600" spc="-1" strike="noStrike">
                <a:solidFill>
                  <a:srgbClr val="33cc33"/>
                </a:solidFill>
                <a:latin typeface="Arial"/>
              </a:rPr>
              <a:t>Р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00"/>
                </a:solidFill>
                <a:latin typeface="Arial"/>
              </a:rPr>
              <a:t>ЖИ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ВЕ</a:t>
            </a:r>
            <a:r>
              <a:rPr b="1" lang="en-US" sz="6600" spc="-1" strike="noStrike">
                <a:solidFill>
                  <a:srgbClr val="33cc33"/>
                </a:solidFill>
                <a:latin typeface="Arial"/>
              </a:rPr>
              <a:t>Т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ff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920" y="23760"/>
            <a:ext cx="9051840" cy="6789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8000" y="584532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МО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Р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Й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Е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23760"/>
            <a:ext cx="9051840" cy="6789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81080" y="577368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МО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Р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З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ВЕ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З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25560"/>
            <a:ext cx="9051840" cy="6788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360" y="584532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СЬ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МИ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36360"/>
            <a:ext cx="9072720" cy="6777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252360" y="5773680"/>
            <a:ext cx="34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7520" y="20520"/>
            <a:ext cx="9061560" cy="6793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7640" y="84240"/>
            <a:ext cx="62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ЗО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ЛО</a:t>
            </a: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ТА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Я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РЫ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Б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23760"/>
            <a:ext cx="9051840" cy="6789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36360" y="5661000"/>
            <a:ext cx="43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ДЕ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ЛЬ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ФИ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328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1080" y="5918040"/>
            <a:ext cx="29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МЕ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ДУ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27000"/>
            <a:ext cx="9058320" cy="678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8000" y="5845320"/>
            <a:ext cx="38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Е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ЛЫ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Й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И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23760"/>
            <a:ext cx="9051840" cy="6789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8000" y="5773680"/>
            <a:ext cx="58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МО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Р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Й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0" y="33480"/>
            <a:ext cx="9055080" cy="6789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580536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ЧЕ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РЕ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Х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0" y="23760"/>
            <a:ext cx="9051840" cy="6789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8000" y="595008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Б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23760"/>
            <a:ext cx="9051840" cy="6789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360" y="5950080"/>
            <a:ext cx="29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У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57720" cy="6878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108000" y="5989680"/>
            <a:ext cx="39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РЕ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Е</a:t>
            </a: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Т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4T22:07:36Z</dcterms:created>
  <dc:creator>Alex.au</dc:creator>
  <dc:description/>
  <dc:language>en-US</dc:language>
  <cp:lastModifiedBy>Alex.au</cp:lastModifiedBy>
  <dcterms:modified xsi:type="dcterms:W3CDTF">2006-04-09T20:06:17Z</dcterms:modified>
  <cp:revision>13</cp:revision>
  <dc:subject/>
  <dc:title>Слайд 1</dc:title>
</cp:coreProperties>
</file>