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4A5-B43C-46C3-9597-2804A644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613-C017-41B7-901C-044B946B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4D4-5C64-43DD-BA9F-F15F3DA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103-47DC-448B-9C3D-DBC38D7E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68C-D48D-44F0-ABCB-A1F75A5C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1A8-8EE0-4F1D-BF68-18F1E94D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988-24DE-4193-AB37-F0273645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172-08DA-4BDF-98A8-A2E5B6F5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249-E0CA-49FA-8744-68C60B80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EDA-F627-471C-BDDC-362AEA5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F7D-6583-4799-B6AE-08665CB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9E9-2FEC-4DA1-AC6C-3A2491D2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B60A-435B-4B41-B357-AA4ED1E8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2360" y="1484280"/>
            <a:ext cx="338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Arial"/>
              </a:rPr>
              <a:t>К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ТО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В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МО</a:t>
            </a:r>
            <a:r>
              <a:rPr b="1" lang="en-US" sz="6600" spc="-1" strike="noStrike">
                <a:solidFill>
                  <a:srgbClr val="33cc33"/>
                </a:solidFill>
                <a:latin typeface="Arial"/>
              </a:rPr>
              <a:t>Р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ЖИ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ВЕ</a:t>
            </a:r>
            <a:r>
              <a:rPr b="1" lang="en-US" sz="66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584532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Й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81080" y="57736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ВЕ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9051840" cy="6788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360" y="58453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СЬ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36360"/>
            <a:ext cx="9072720" cy="6777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52360" y="577368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520" y="20520"/>
            <a:ext cx="9061560" cy="6793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8424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З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О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ТА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РЫ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6360" y="5661000"/>
            <a:ext cx="43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ФИ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2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1080" y="591804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У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058320" cy="678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584532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ЛЫ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Й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57736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33480"/>
            <a:ext cx="9055080" cy="678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80536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Ч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595008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360" y="595008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57720" cy="687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08000" y="598968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22:07:36Z</dcterms:created>
  <dc:creator>Alex.au</dc:creator>
  <dc:description/>
  <dc:language>en-US</dc:language>
  <cp:lastModifiedBy>Alex.au</cp:lastModifiedBy>
  <dcterms:modified xsi:type="dcterms:W3CDTF">2006-04-09T20:06:17Z</dcterms:modified>
  <cp:revision>13</cp:revision>
  <dc:subject/>
  <dc:title>Слайд 1</dc:title>
</cp:coreProperties>
</file>