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700-ABB0-4C78-86BC-D50FE81F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F7E-D310-47B3-B4C1-8F9C893F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01D-CCA8-44C1-8154-F0CDC8EA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B6E-0477-401F-8BAD-2F398339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07D-CE62-47AF-8AF6-C3AE9890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0EB-3975-4D7E-B69E-A84CE2CB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9B3-F001-4BC4-8285-64C700CC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9C2-AA28-4BD4-BF90-15C3304E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4F7-1CA2-471F-BAE4-95EC7CAC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4E3-FEB0-4E2A-9813-DE86BCE7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51C-FFD1-4D7B-BA5B-C4C1C11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839-AABA-4261-B129-7798692E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0DF-1065-4F2B-9B31-61DEB5813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3123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24392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ини - музей как средство развития познавательной сферы дошкольников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708360" y="5950080"/>
            <a:ext cx="5154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124000" y="6021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воспитатель МАДОУ № 78 г. Мурм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пой Татьяна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900000" y="1628640"/>
            <a:ext cx="3133800" cy="421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4788000" y="1628640"/>
            <a:ext cx="32288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0"/>
          <p:cNvSpPr/>
          <p:nvPr/>
        </p:nvSpPr>
        <p:spPr>
          <a:xfrm>
            <a:off x="1476360" y="5805360"/>
            <a:ext cx="5688000" cy="649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редняя группа. Приметы русской стар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24000" y="549360"/>
            <a:ext cx="3257280" cy="2523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324000" y="3141720"/>
            <a:ext cx="3342960" cy="2523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3851280" y="692280"/>
            <a:ext cx="49435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8"/>
          <p:cNvSpPr/>
          <p:nvPr/>
        </p:nvSpPr>
        <p:spPr>
          <a:xfrm>
            <a:off x="5219640" y="4869000"/>
            <a:ext cx="3527640" cy="107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аршая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луостров сокрови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17520" y="316080"/>
            <a:ext cx="4591080" cy="636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5148360" y="333360"/>
            <a:ext cx="3562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8"/>
          <p:cNvSpPr/>
          <p:nvPr/>
        </p:nvSpPr>
        <p:spPr>
          <a:xfrm>
            <a:off x="250920" y="4221000"/>
            <a:ext cx="3529080" cy="107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редняя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лицы нашего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88800" y="412920"/>
            <a:ext cx="3257640" cy="27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3851280" y="189000"/>
            <a:ext cx="5067360" cy="315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4067280" y="3500280"/>
            <a:ext cx="4628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250920" y="765000"/>
            <a:ext cx="252072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аршая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аамы – коренные жители сев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2987640" y="404640"/>
            <a:ext cx="5981760" cy="2686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2627280" y="3860640"/>
            <a:ext cx="3333960" cy="276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6084720" y="3860640"/>
            <a:ext cx="27622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:\Users\User\Desktop\Безымянный.jpg"/>
          <p:cNvPicPr/>
          <p:nvPr/>
        </p:nvPicPr>
        <p:blipFill>
          <a:blip r:embed="rId5"/>
          <a:stretch/>
        </p:blipFill>
        <p:spPr>
          <a:xfrm>
            <a:off x="250920" y="2708280"/>
            <a:ext cx="26096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4643280" y="404640"/>
            <a:ext cx="417672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аршая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родные промысл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2843280" y="2133720"/>
            <a:ext cx="5981760" cy="4486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324000" y="333360"/>
            <a:ext cx="3848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2"/>
          <p:cNvSpPr/>
          <p:nvPr/>
        </p:nvSpPr>
        <p:spPr>
          <a:xfrm>
            <a:off x="250920" y="5229360"/>
            <a:ext cx="417672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тельная 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орода побратимы Мурман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250920" y="476280"/>
            <a:ext cx="2971800" cy="2219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250920" y="2781360"/>
            <a:ext cx="3057480" cy="2219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3492360" y="549360"/>
            <a:ext cx="5343840" cy="378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Users\User\Desktop\Безымянный.jpg"/>
          <p:cNvPicPr/>
          <p:nvPr/>
        </p:nvPicPr>
        <p:blipFill>
          <a:blip r:embed="rId5"/>
          <a:stretch/>
        </p:blipFill>
        <p:spPr>
          <a:xfrm>
            <a:off x="4572000" y="4365720"/>
            <a:ext cx="4286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0"/>
          <p:cNvSpPr/>
          <p:nvPr/>
        </p:nvSpPr>
        <p:spPr>
          <a:xfrm>
            <a:off x="179280" y="4797360"/>
            <a:ext cx="2089080" cy="115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готовительная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ш кр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95280" y="333360"/>
            <a:ext cx="471492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2340000" y="4221000"/>
            <a:ext cx="3029040" cy="2372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5651640" y="260280"/>
            <a:ext cx="2943000" cy="227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C:\Users\User\Desktop\Безымянный.jpg"/>
          <p:cNvPicPr/>
          <p:nvPr/>
        </p:nvPicPr>
        <p:blipFill>
          <a:blip r:embed="rId5"/>
          <a:stretch/>
        </p:blipFill>
        <p:spPr>
          <a:xfrm>
            <a:off x="5435640" y="2637000"/>
            <a:ext cx="34862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999720"/>
            <a:ext cx="7704000" cy="51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Задачи экскурсионной работы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- выявление творческих способностей детей;</a:t>
            </a:r>
            <a:br>
              <a:rPr sz="2800"/>
            </a:b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- расширение представлений о содержании музейной культуры;</a:t>
            </a:r>
            <a:br>
              <a:rPr sz="2800"/>
            </a:b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- развитие начальных навыков восприятия музейного языка;</a:t>
            </a:r>
            <a:br>
              <a:rPr sz="2800"/>
            </a:b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- создание условий для творческого общения и сотрудничеств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50920" y="3500280"/>
            <a:ext cx="3241440" cy="1008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кскур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 мини – музеи других групп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24000" y="549360"/>
            <a:ext cx="3324240" cy="248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3851280" y="333360"/>
            <a:ext cx="5067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G:\DCIM\101MSDCF\DSC06598.JPG"/>
          <p:cNvPicPr/>
          <p:nvPr/>
        </p:nvPicPr>
        <p:blipFill>
          <a:blip r:embed="rId2"/>
          <a:stretch/>
        </p:blipFill>
        <p:spPr>
          <a:xfrm>
            <a:off x="1692360" y="1916280"/>
            <a:ext cx="58798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85840" y="315360"/>
            <a:ext cx="864396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Цели и задачи мини-музе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Реализация направления «Музейная педагог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1.  Обогащение предметно-развивающей среды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2. Обогащение воспитательно-образовательного пространства новыми фор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3.  Формирование у дошкольников представления о муз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4. Расширение кругозора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5. Развитие познавательных способностей и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6. Формирование проектно-исследовательских умени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7. Формирование умения самостоятельно анализировать и систематизировать полученные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8. Развитие творческого и логического мышления,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9. Формирование активной жизненной пози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668520"/>
            <a:ext cx="8280360" cy="54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Принципы руковод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при создании мини-муз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Нагля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До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Достовер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Вариа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Интер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Многофункциона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Преемств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Психологической комфортности и безопасной деятельности в музейном простран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45"/>
                </a:solidFill>
                <a:latin typeface="Times New Roman"/>
              </a:rPr>
              <a:t>- Координация обучения и воспитания в условиях детского сада и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11280" y="807120"/>
            <a:ext cx="7921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Основные требования к организации музейной деятельности в ДОУ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1. Содержание и  разнообразие 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2. Постоянное, ежедневное включение музейных экспонатов во все формы педагогическ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3. Максимальная активность детей на этапах подготовки экспоз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4. Сотрудничество друг с другом и со взрослыми на всех этапах организации муз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619280" y="5516640"/>
            <a:ext cx="6048360" cy="86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накомство с музе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сещение Областного краеведческого музе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1547640" y="765000"/>
            <a:ext cx="6162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3123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1258920" y="5877000"/>
            <a:ext cx="669780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уппа раннего возраста. Животные севера – медве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1476360" y="404640"/>
            <a:ext cx="63626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1403280" y="5877000"/>
            <a:ext cx="648180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уппа раннего возраста. Животные севера – зая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1116000" y="260280"/>
            <a:ext cx="69627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9"/>
          <p:cNvSpPr/>
          <p:nvPr/>
        </p:nvSpPr>
        <p:spPr>
          <a:xfrm>
            <a:off x="250920" y="5157720"/>
            <a:ext cx="5689440" cy="107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уппа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Животные севера – ли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324000" y="692280"/>
            <a:ext cx="5495760" cy="379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6084720" y="1052640"/>
            <a:ext cx="2791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2"/>
          <p:cNvSpPr/>
          <p:nvPr/>
        </p:nvSpPr>
        <p:spPr>
          <a:xfrm>
            <a:off x="1116000" y="6021360"/>
            <a:ext cx="575964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редняя группа. Мурманск во все времена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C:\Users\User\Desktop\Безымянный.jpg"/>
          <p:cNvPicPr/>
          <p:nvPr/>
        </p:nvPicPr>
        <p:blipFill>
          <a:blip r:embed="rId2"/>
          <a:stretch/>
        </p:blipFill>
        <p:spPr>
          <a:xfrm>
            <a:off x="468360" y="260280"/>
            <a:ext cx="3333600" cy="272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:\Users\User\Desktop\Безымянный.jpg"/>
          <p:cNvPicPr/>
          <p:nvPr/>
        </p:nvPicPr>
        <p:blipFill>
          <a:blip r:embed="rId3"/>
          <a:stretch/>
        </p:blipFill>
        <p:spPr>
          <a:xfrm>
            <a:off x="468360" y="3141720"/>
            <a:ext cx="3333600" cy="272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C:\Users\User\Desktop\Безымянный.jpg"/>
          <p:cNvPicPr/>
          <p:nvPr/>
        </p:nvPicPr>
        <p:blipFill>
          <a:blip r:embed="rId4"/>
          <a:stretch/>
        </p:blipFill>
        <p:spPr>
          <a:xfrm>
            <a:off x="4284720" y="260280"/>
            <a:ext cx="41911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0:06:39Z</dcterms:created>
  <dc:creator>Я любимая</dc:creator>
  <dc:description/>
  <dc:language>en-US</dc:language>
  <cp:lastModifiedBy>User</cp:lastModifiedBy>
  <dcterms:modified xsi:type="dcterms:W3CDTF">2015-04-15T20:04:36Z</dcterms:modified>
  <cp:revision>54</cp:revision>
  <dc:subject/>
  <dc:title>Слайд 1</dc:title>
</cp:coreProperties>
</file>