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3D9-188A-4093-AC6E-BF9C2CBD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280-2662-46FC-9CE0-CD1BAE9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3F3-480D-4D90-9BA9-A1E66C32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1D1-9980-4C55-BF15-A05CD953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4455-A2AD-4E6C-A29E-3E24D712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BA60-0B0C-4C71-817B-0820ECD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8F8-64C4-4DD2-ABED-285A3DD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AAD-A018-455D-BD8A-7809A44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B1EF-BF05-4756-AB1E-D7BDDC4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CC6A-67AD-4051-A7FF-99A0F90A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A1C-7694-4FA3-824C-23F81F6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C3E-D7DA-4265-A6B7-78097AE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849-56FE-4CDE-843D-5B4EB4A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5B3-D853-48D8-9C15-0124C46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5AF-4722-4BFA-AFD1-604F0D7D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11D-0BEA-4276-A805-7410E460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3DD-BF8A-4F2D-B2EB-2C33F08B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76BD-96F1-4CE4-AF23-CBC6102A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388E-2AF7-49A1-AE63-A4DA997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0ABA-C777-49DE-9366-D3720C1A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5A8D-E586-4949-813D-FB126EFF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F579-7300-46EF-9147-B0C35D7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936-494E-4A68-B19E-802FB08C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3CCF-77CD-4CA7-899E-CD2E09F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B117-FDEA-4E03-9EC8-D8F7E1C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24EE-3F2E-4F61-A323-4C827FA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C280-1999-47F8-AE6A-1AF62BD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621E-FCF0-41AD-9B7C-6D0CA5D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6D38-07A8-4209-91F3-63BDA87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836F-BAA0-4B0F-A164-EAEE96B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B38B-CF4E-4B32-9C6C-A20FD629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C0A0-1D72-4358-8629-A6D81D6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88F5-4D05-4EC0-98F8-875B2073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3E8-0F2B-4F60-98AE-F2FDB0EA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08A7-A61F-4F48-BF6D-A36E425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A3F3-6064-40F5-A3C6-8601315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4FED9-7874-455A-9D1E-1B676DC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59D1-EB8A-45C9-AE23-346D1993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9E45-0E82-4AF9-92C2-6E3B949C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913F-4AB3-4187-90FA-B1E47C1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3D90-854E-452D-B5EA-E56A89B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3E94-8BEA-4EB8-90B6-298B494B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F843-9C90-4247-8211-F8C6066B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4356-E43A-473D-BCA3-30DEB983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2FB-972E-4D1F-BBA0-EA45E53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FFC8-BC48-4684-AC9D-BED8FFA1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FC3D-9A6E-4433-9A58-11BD8469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86A1-1FC4-4765-9163-9BC5A88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0B19-1BF1-4407-A367-0C3F0982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7F2F-AEDA-4D7A-86A1-6A2FB9A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B568-B0A4-4AB9-837A-A7A33D9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6D04-93E5-4BDF-875A-4814C31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81AB-A34C-43A2-8E47-D9FE50B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AB7D1-89BC-4721-8E3D-2DAF177A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E4DB-F817-4D36-81D4-9B2F282B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E22-621A-44B8-A2A3-E49D27D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03A3-8123-43D5-A1F2-A485B26B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A371-4B11-45F2-BC21-2EF24ADD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E41D-7ADD-45EA-B91E-1340B86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15D1-B05D-4C85-9B02-8237D686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B8E9-6A9D-402B-87F9-D70F20E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F44A-5BE7-4839-8058-17C3E8B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B79E-F7A7-4A04-B613-BC9B60D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7F54-34C9-48FF-A04A-B2DF130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A0FB-78FB-406C-9073-9822A25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C7A40-A7EB-4DB6-9E40-C3F8F68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4F1-00F9-4F2E-A2B9-112D9318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C216-F8F1-440B-9E6B-21C07F9B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E27B-843D-4CC3-A494-FCF5980F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12911-AE53-487D-AF0D-D279EAE5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9D57-B2D7-423B-844D-C439FCA7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6CA0-21E8-4FEB-B690-6A994AB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F57BD-4780-4DCB-9261-945275A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C7DC-F7DA-4D75-A378-3C7244F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524B-30CB-4CBD-BC8D-CB7284F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7B428-1DA4-4A8A-A184-E7001B7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7B22-341B-47B0-861C-687CF96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C6F-3433-4F52-B4DF-19394E4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6D9BB-7320-4E4B-9846-241604F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BD665-7E9A-43B6-B20F-33BEA3F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CA20-87AA-4B65-8B4D-467148D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0030E-5384-4F0E-AF0E-4C3DAC1A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207D-C841-4158-B3E4-221846AD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734-87F8-4364-9BB5-360AFC5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020-F1F4-4332-BAAC-95A9CA6AF8F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C74-E4DA-401D-AE73-157F5322F79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6B0-83F5-42DE-AE97-7BB477C1D30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4400-41CD-4415-B485-8CE4EC1A46F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01E9-60AE-44E6-BB17-DF63FD65A83C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40D0-E793-4C08-A4DD-D4AADF6183F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19C0-B70C-46D0-8AAB-B9687D3C91A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CF9-958D-49F6-925F-098ECA6FC32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680-BD51-430C-B848-1708F4D4026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7BA-975B-4451-915E-25487B32608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9F3F-B6DD-4448-A642-6FA0BE5110C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BC51-E339-4950-AA83-319F686D182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E02-65C7-46D1-9CB7-86E17364520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857-954F-476A-B66D-0BA9802E5EB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  <a:ea typeface="Times New Roman"/>
              </a:rPr>
              <a:t>Организация работы Службы сопровождения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МОУ для детей-сирот и детей, оставшихся без попечения родителей «Детский дом»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центре внимания всегда должны оставаться потребности и наилучшие интересы ребенка, поэтому клиентом Службы является ребенок в замещающей семье. Основным приоритетом остае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хранение семейного воспитания для ребен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и поэтому для обеспечения наилучших интересов ребенка требуется оказание помощи семье, направленной на улучшение ситуации ребенка в семь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то может стать членом междисциплинарной коман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осударственные и муниципальные органы и учреж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щественные объедин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ругие организации, предоставляющие помощь детям и семья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мер междисциплинарной команды: социальный педагог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 педагог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психолог, медицинский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ботник (врач или медицинская сестра), воспитатель, дефектолог, юрист и т. д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Команда определяется в зависимости от направлений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боты организации, а также от конкретного случ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ание для сопровождения замещающей семь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на основании личного обращения заявител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 направлению Управления опеки и попечительства Департамента образования Администрации МО Надымский район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ачественный результат оказания услуги по сопровождени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тие способности замещающей семьи удовлетворять потребности ребенка, совладать с кризисными  периодами в жизни семьи и ребенка, в том числе, за счет навыков социальной компетентности, выражающейся в активном и эффективном привлечение ресурсов помощи за пределами семь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Принципы междисциплинарного ведения случа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1341360"/>
            <a:ext cx="70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ктивное участие клиента в междисциплинарном ведении случая и развитие собственного потенциала клиен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ффективный обмен информацией по ведению случ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ледовательность и преемственность в соблюдении этапов оказания помощ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дивидуальная ответственность специалиста за случа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ноценное использование общественных ресурсов и минимизация зат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тоянная оценка качества и эффективности междисциплинарной помощ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7164360" y="1557360"/>
            <a:ext cx="15112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952960" y="281160"/>
            <a:ext cx="31910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апы реализации услуги по сопровождению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243000" y="70920"/>
            <a:ext cx="6273000" cy="6787080"/>
            <a:chOff x="243000" y="70920"/>
            <a:chExt cx="6273000" cy="6787080"/>
          </a:xfrm>
        </p:grpSpPr>
        <p:sp>
          <p:nvSpPr>
            <p:cNvPr id="365" name="AutoShape 28"/>
            <p:cNvSpPr/>
            <p:nvPr/>
          </p:nvSpPr>
          <p:spPr>
            <a:xfrm>
              <a:off x="243000" y="353880"/>
              <a:ext cx="6155280" cy="64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3"/>
            <p:cNvGrpSpPr/>
            <p:nvPr/>
          </p:nvGrpSpPr>
          <p:grpSpPr>
            <a:xfrm>
              <a:off x="383040" y="70920"/>
              <a:ext cx="6132960" cy="6787080"/>
              <a:chOff x="383040" y="70920"/>
              <a:chExt cx="6132960" cy="6787080"/>
            </a:xfrm>
          </p:grpSpPr>
          <p:grpSp>
            <p:nvGrpSpPr>
              <p:cNvPr id="367" name="Group 21"/>
              <p:cNvGrpSpPr/>
              <p:nvPr/>
            </p:nvGrpSpPr>
            <p:grpSpPr>
              <a:xfrm>
                <a:off x="1539360" y="1197360"/>
                <a:ext cx="3761640" cy="3074400"/>
                <a:chOff x="1539360" y="1197360"/>
                <a:chExt cx="3761640" cy="3074400"/>
              </a:xfrm>
            </p:grpSpPr>
            <p:sp>
              <p:nvSpPr>
                <p:cNvPr id="368" name="Freeform 27"/>
                <p:cNvSpPr/>
                <p:nvPr/>
              </p:nvSpPr>
              <p:spPr>
                <a:xfrm rot="21433800">
                  <a:off x="2654280" y="1235880"/>
                  <a:ext cx="1604520" cy="152640"/>
                </a:xfrm>
                <a:custGeom>
                  <a:avLst/>
                  <a:gdLst>
                    <a:gd name="textAreaLeft" fmla="*/ 0 w 1604520"/>
                    <a:gd name="textAreaRight" fmla="*/ 1604880 w 1604520"/>
                    <a:gd name="textAreaTop" fmla="*/ 0 h 152640"/>
                    <a:gd name="textAreaBottom" fmla="*/ 152640 h 1526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6"/>
                <p:cNvSpPr/>
                <p:nvPr/>
              </p:nvSpPr>
              <p:spPr>
                <a:xfrm rot="17952000">
                  <a:off x="1277640" y="2032920"/>
                  <a:ext cx="1333440" cy="183240"/>
                </a:xfrm>
                <a:custGeom>
                  <a:avLst/>
                  <a:gdLst>
                    <a:gd name="textAreaLeft" fmla="*/ 0 w 1333440"/>
                    <a:gd name="textAreaRight" fmla="*/ 1333800 w 13334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5"/>
                <p:cNvSpPr/>
                <p:nvPr/>
              </p:nvSpPr>
              <p:spPr>
                <a:xfrm rot="10800000">
                  <a:off x="2654640" y="4119120"/>
                  <a:ext cx="1605600" cy="152640"/>
                </a:xfrm>
                <a:custGeom>
                  <a:avLst/>
                  <a:gdLst>
                    <a:gd name="textAreaLeft" fmla="*/ 0 w 1605600"/>
                    <a:gd name="textAreaRight" fmla="*/ 1605960 w 1605600"/>
                    <a:gd name="textAreaTop" fmla="*/ 0 h 152640"/>
                    <a:gd name="textAreaBottom" fmla="*/ 152640 h 1526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4"/>
                <p:cNvSpPr/>
                <p:nvPr/>
              </p:nvSpPr>
              <p:spPr>
                <a:xfrm rot="3565800">
                  <a:off x="4217760" y="1921320"/>
                  <a:ext cx="1331640" cy="182520"/>
                </a:xfrm>
                <a:custGeom>
                  <a:avLst/>
                  <a:gdLst>
                    <a:gd name="textAreaLeft" fmla="*/ 0 w 1331640"/>
                    <a:gd name="textAreaRight" fmla="*/ 1332000 w 13316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3"/>
                <p:cNvSpPr/>
                <p:nvPr/>
              </p:nvSpPr>
              <p:spPr>
                <a:xfrm rot="14491800">
                  <a:off x="1276560" y="3363840"/>
                  <a:ext cx="1334160" cy="181440"/>
                </a:xfrm>
                <a:custGeom>
                  <a:avLst/>
                  <a:gdLst>
                    <a:gd name="textAreaLeft" fmla="*/ 0 w 1334160"/>
                    <a:gd name="textAreaRight" fmla="*/ 1334520 w 133416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2"/>
                <p:cNvSpPr/>
                <p:nvPr/>
              </p:nvSpPr>
              <p:spPr>
                <a:xfrm rot="7041600">
                  <a:off x="4217040" y="3362760"/>
                  <a:ext cx="1333080" cy="182520"/>
                </a:xfrm>
                <a:custGeom>
                  <a:avLst/>
                  <a:gdLst>
                    <a:gd name="textAreaLeft" fmla="*/ 0 w 1333080"/>
                    <a:gd name="textAreaRight" fmla="*/ 1333440 w 13330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0" h="622">
                      <a:moveTo>
                        <a:pt x="0" y="599"/>
                      </a:moveTo>
                      <a:cubicBezTo>
                        <a:pt x="114" y="522"/>
                        <a:pt x="474" y="235"/>
                        <a:pt x="683" y="135"/>
                      </a:cubicBezTo>
                      <a:cubicBezTo>
                        <a:pt x="892" y="35"/>
                        <a:pt x="1076" y="0"/>
                        <a:pt x="1253" y="0"/>
                      </a:cubicBezTo>
                      <a:cubicBezTo>
                        <a:pt x="1430" y="0"/>
                        <a:pt x="1554" y="31"/>
                        <a:pt x="1748" y="135"/>
                      </a:cubicBezTo>
                      <a:cubicBezTo>
                        <a:pt x="1942" y="239"/>
                        <a:pt x="2280" y="521"/>
                        <a:pt x="2420" y="622"/>
                      </a:cubicBezTo>
                    </a:path>
                  </a:pathLst>
                </a:custGeom>
                <a:noFill/>
                <a:ln w="19044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Text Box 20"/>
              <p:cNvSpPr/>
              <p:nvPr/>
            </p:nvSpPr>
            <p:spPr>
              <a:xfrm>
                <a:off x="2247840" y="2016720"/>
                <a:ext cx="2405160" cy="143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000000"/>
                    </a:solidFill>
                    <a:latin typeface="Times New Roman"/>
                  </a:rPr>
                  <a:t>Этапы процесса управления случаем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WordArt 19"/>
              <p:cNvSpPr txBox="1"/>
              <p:nvPr/>
            </p:nvSpPr>
            <p:spPr>
              <a:xfrm rot="13642200">
                <a:off x="945720" y="3071880"/>
                <a:ext cx="2549880" cy="1537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Система пособий и льгот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6" name="WordArt 18"/>
              <p:cNvSpPr txBox="1"/>
              <p:nvPr/>
            </p:nvSpPr>
            <p:spPr>
              <a:xfrm rot="2659800">
                <a:off x="3589560" y="1125360"/>
                <a:ext cx="2807640" cy="7318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есурсы по месту 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жительства семьи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7" name="WordArt 17"/>
              <p:cNvSpPr txBox="1"/>
              <p:nvPr/>
            </p:nvSpPr>
            <p:spPr>
              <a:xfrm rot="7817400">
                <a:off x="3426120" y="2995200"/>
                <a:ext cx="2771640" cy="1603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Координация обслуживания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8" name="WordArt 16"/>
              <p:cNvSpPr txBox="1"/>
              <p:nvPr/>
            </p:nvSpPr>
            <p:spPr>
              <a:xfrm rot="19176600">
                <a:off x="515880" y="1014120"/>
                <a:ext cx="3381120" cy="1276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Физические и 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психологические факторы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379" name="Rectangle 15"/>
              <p:cNvSpPr/>
              <p:nvPr/>
            </p:nvSpPr>
            <p:spPr>
              <a:xfrm>
                <a:off x="383040" y="5172840"/>
                <a:ext cx="668160" cy="33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4"/>
              <p:cNvSpPr/>
              <p:nvPr/>
            </p:nvSpPr>
            <p:spPr>
              <a:xfrm>
                <a:off x="383040" y="5685120"/>
                <a:ext cx="668160" cy="33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"/>
              <p:cNvSpPr/>
              <p:nvPr/>
            </p:nvSpPr>
            <p:spPr>
              <a:xfrm>
                <a:off x="390240" y="6251760"/>
                <a:ext cx="668160" cy="331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3790800" y="6467400"/>
                <a:ext cx="668160" cy="331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1"/>
              <p:cNvSpPr/>
              <p:nvPr/>
            </p:nvSpPr>
            <p:spPr>
              <a:xfrm>
                <a:off x="3822840" y="5726520"/>
                <a:ext cx="668160" cy="332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0"/>
              <p:cNvSpPr/>
              <p:nvPr/>
            </p:nvSpPr>
            <p:spPr>
              <a:xfrm>
                <a:off x="3799440" y="5205600"/>
                <a:ext cx="668160" cy="3348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9"/>
              <p:cNvSpPr/>
              <p:nvPr/>
            </p:nvSpPr>
            <p:spPr>
              <a:xfrm>
                <a:off x="1184760" y="5172840"/>
                <a:ext cx="1986840" cy="33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дготовительны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8"/>
              <p:cNvSpPr/>
              <p:nvPr/>
            </p:nvSpPr>
            <p:spPr>
              <a:xfrm>
                <a:off x="1184760" y="5673240"/>
                <a:ext cx="1986840" cy="38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гностическ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7"/>
              <p:cNvSpPr/>
              <p:nvPr/>
            </p:nvSpPr>
            <p:spPr>
              <a:xfrm>
                <a:off x="1235880" y="6018480"/>
                <a:ext cx="2511360" cy="76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провождение семьи в период адаптации в первый год после приема ребенка в семь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6"/>
              <p:cNvSpPr/>
              <p:nvPr/>
            </p:nvSpPr>
            <p:spPr>
              <a:xfrm>
                <a:off x="4709880" y="5172840"/>
                <a:ext cx="1687680" cy="36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ниторин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5"/>
              <p:cNvSpPr/>
              <p:nvPr/>
            </p:nvSpPr>
            <p:spPr>
              <a:xfrm>
                <a:off x="4802760" y="5540400"/>
                <a:ext cx="1713240" cy="86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провождение замещающей семьи во второй и третий годы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4"/>
              <p:cNvSpPr/>
              <p:nvPr/>
            </p:nvSpPr>
            <p:spPr>
              <a:xfrm>
                <a:off x="4885200" y="6467400"/>
                <a:ext cx="1512360" cy="39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авершающ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Компетенции ответственного специалист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052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проблем и потребностей замещающих родителей и умение корректно обсуждать их с семь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особенностей, проблем и потребностей приемных детей и умение корректно говорить о них с ребенко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устанавливать отношения сотрудничества с членами семьи различных возрасто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устанавливать  и поддерживать позитивный психологический контакт с людьми различных возрасто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онимание  и применение во время визита правил поведения специалиста при осуществлении работы на дому у клиент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и соблюдение правил конфиденциаль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демонстрировать уважение к правилам и устоям семьи. Наличие базовых знаний о правилах и традициях в различных культура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выявлять ресурсы и трудности семьи и ребенк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роводить наблюдения за взаимодействиями членов семь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этапов адаптации приемного ребенка, их признаков, динамики. Умение оценивать по беседе с различными членами семьи этап адаптации замещающей семьи, выявлять проблемы и труд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выявлять и формулировать основные характеристики семейной систем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обобщать информацию  и делать вывод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аккуратно  и организованно передавать полученную на предыдущих этапах информацию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омпетенции ответственного специалис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24000" y="1341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преимуществ надлежащего документального оформления плана работы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редставлять специальную информацию  в доступном вид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ставлять план сопровождения.  Умение корректировать  план сопровождения  по ходу беседы с семь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разъяснить содержание  и формы реализации план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возможностей  и компетенций специалистов, работающих в медицинской, образовательной, социальной и др. (имеющих отношение к услуге) сферах и их применение в работе с замещающими семья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Знание круга местных организаций, специализирующихся на оказании услуг для замещающих сем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развивать  контакт, наблюдать и фиксировать динамику развития семьи, преодолевать стереотипное восприятие семь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делегировать семье ответственность за инициирование  контактов в процессе сопровожден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побуждать  к самостоятельной активности родителе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здавать условия для использования  и реализации собственной компетенции родителям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Умение создавать условия для активности  родителей в самостоятельном поиске решений проблем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ладение техниками дистанционной поддержки  и сопровождения (телефонный разговор, домашние задания, заочные предложения и пр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Относиться к коллегам вежливо и уважительно, а также оказывать содействие для усиления межведомственного межпрофессионального и внутрипрофессионального сотрудничества в интересах семьи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Документальное сопровожде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95280" y="1628280"/>
            <a:ext cx="8353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Журнал учета семей: дата поступления, ФИО членов семьи и степень родства, дата утверждения индивидуального  плана работы с семьей, дата прекращения работы с семьей, причина прекращения работ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Журнал протоколов совещаний (консилиумов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рта сопровождения семьи (представляет собой папку с файлами), содержит данные о посещениях семьи, акты обследования, описание всех проводимых с семьей мероприятий, заключения специалистов и консилиумов, План сопровождения  замещающей семьи, Программа проведения мониторинга результатов сопровождения.  Папку оформляет и ведет ведущий специалист семьи; информацию вносят все специалисты, работающие по услуг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755640" y="1125360"/>
            <a:ext cx="7408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Вовлечение семей в услугу и формирование мотивации к сотрудничеству со специалистам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 В течение 2 неде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 осуществляетс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ем и изучение      информации о семье и ребенк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ервичное собеседование с семьей и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ключение договора о сопровождени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!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ервичное собеседование не должно быть организованно  формально,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должн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ротивопоставлять специалистов и семью, создавать у семьи небезопасное впечатление их «проверки» или «оценки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1 этап - Подготовительны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ТЕХНОЛОГИЯ МЕЖДИСЦИПЛИНАРНОГО  ВЕДЕНИЯ СЛУЧАЯ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2 этап - Диагностическ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1267920"/>
            <a:ext cx="5915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Цель. Выявление особенностей протекания адаптационного периода и взаимоотношений в семье, индивидуальных особенностей ребенка и членов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одолжительность. 2-3 недел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зможен визит в семью (только если семья не возражает!)ответственного специалиста с целью знакомства с устройством жизни замещающей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иагностика особенностей протекания адаптационного периода и взаимоотношений в семье, индивидуальных особенностей ребенка и членов семьи – работа психолог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ценка не статична и не окончательна. Она должна регулярно повторяться и корректироваться, если это необходимо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1" name="Picture 4" descr="C:\Program Files\Microsoft Office\MEDIA\CAGCAT10\j0090070.wmf"/>
          <p:cNvPicPr/>
          <p:nvPr/>
        </p:nvPicPr>
        <p:blipFill>
          <a:blip r:embed="rId1"/>
          <a:stretch/>
        </p:blipFill>
        <p:spPr>
          <a:xfrm>
            <a:off x="6948360" y="1484280"/>
            <a:ext cx="20145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3 этап – Сопровождение семьи в период адаптации в первый год после приема ребенка в семь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71200" y="1699920"/>
            <a:ext cx="787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Создание условий для минимизации трудностей адаптации замещающей семьи, нормализация семейных отношений, помощь в преодолении кризисных ситуаций, повышение родительской компетентности в вопросах воспитания де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1 го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суждение и составление с семьей плана сопровождения замещающей семьи, а также согласование плана на консилиуме специалист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еализация плана сопровождения в соответствии с целями и задачам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Объект 2" descr=""/>
          <p:cNvPicPr/>
          <p:nvPr/>
        </p:nvPicPr>
        <p:blipFill>
          <a:blip r:embed="rId1"/>
          <a:stretch/>
        </p:blipFill>
        <p:spPr>
          <a:xfrm>
            <a:off x="-103320" y="1596960"/>
            <a:ext cx="8345520" cy="4621320"/>
          </a:xfrm>
          <a:prstGeom prst="rect">
            <a:avLst/>
          </a:prstGeom>
          <a:ln w="0">
            <a:noFill/>
          </a:ln>
        </p:spPr>
      </p:pic>
      <p:sp>
        <p:nvSpPr>
          <p:cNvPr id="405" name="Заголовок 3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Оценка потребностей ребенка и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Основная цель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оведения оценки потребностей ребенка и семьи – обеспечение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ринятия обоснованного объективного решения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тносительно будущего ребенка с учетом его наилучших интересов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Заголовок 3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Если в процессе оценки возникает ситуация, угрожающая жизни и здоровью ребенка, необходим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инять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срочные меры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для обеспечения безопасности и защиты несовершеннолетнего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Заголовок 3"/>
          <p:cNvSpPr/>
          <p:nvPr/>
        </p:nvSpPr>
        <p:spPr>
          <a:xfrm>
            <a:off x="2052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Важ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ая прямоугольная выноска 1"/>
          <p:cNvSpPr/>
          <p:nvPr/>
        </p:nvSpPr>
        <p:spPr>
          <a:xfrm>
            <a:off x="631800" y="1773360"/>
            <a:ext cx="7921800" cy="4176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Если в процессе оценки возникает ситуация, угрожающая жизни и здоровью ребенка, необходи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ять срочные меры для обеспечения безопасности и защиты несовершеннолетнего</a:t>
            </a: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Выноска-облако 1"/>
          <p:cNvSpPr/>
          <p:nvPr/>
        </p:nvSpPr>
        <p:spPr>
          <a:xfrm>
            <a:off x="179280" y="549360"/>
            <a:ext cx="8785440" cy="545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оциальный работник анализирует сильные и слабые стороны семьи на протяжении всего процесса оценки. Полнота этого анализа требует обобщения данных, собранных в ходе оценки, и получения ответов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652480" y="476280"/>
            <a:ext cx="649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Что члены семьи делают хорошо? Чем они гордятся? Что порождает в них чувство собственного достоинства и уваж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какими стрессами и проблемами члены семьи успешно справились в прошлом? Как им это удалось? Какие ресурсы и адаптивные стратегии они использовал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м образом сильные стороны семьи могут быть развиты и наиболее эффективно использованы для решения текущих пробле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ие дополнительные обучающие, поддерживающие и другие интервенции могут содействовать укреплению и дальнейшему развитию имеющихся у членов семьи сильных сторон и ресурсов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324000" y="1773360"/>
            <a:ext cx="12952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65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е побудительные мотивы движут членами семьи? Чего родители хотят для себя и для своих детей? Как они могут направить свою энергию на достижение выбранных целе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чем цели и желания членов семьи совпадают с ожиданиями организации социальной работы с детьми, и что может помешать семье в достижении этих целе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Какие барьеры могут быть устранены с помощью социального работника или организации социальной работы с детьми, чтобы дать членам семьи возможность продлить движение к намеченным целя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TextBox 1"/>
          <p:cNvSpPr/>
          <p:nvPr/>
        </p:nvSpPr>
        <p:spPr>
          <a:xfrm>
            <a:off x="6948360" y="1773360"/>
            <a:ext cx="122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Модели социально-психологической помощ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Объект 3" descr=""/>
          <p:cNvPicPr/>
          <p:nvPr/>
        </p:nvPicPr>
        <p:blipFill>
          <a:blip r:embed="rId1"/>
          <a:stretch/>
        </p:blipFill>
        <p:spPr>
          <a:xfrm>
            <a:off x="609480" y="1268280"/>
            <a:ext cx="8285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71560" y="1197000"/>
            <a:ext cx="7408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Оценка динамики адаптации и развития семьи и ребенка, корректировка  формы и содержания сопровождения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олжительность.  Проводится регулярно (1 раз каждые полгода), в течение всего времени оказания услуг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ероприятия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ониторинг состояния развития приемного ребенка в семье и динамики адаптации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ведение консилиума специалистов Службы по итогам мониторинг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4 этап - Мониторин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«ведение случая»?</a:t>
            </a: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2948040"/>
            <a:ext cx="3564000" cy="23414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3635280" y="164952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Ведение случая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циальной работе – это метод предоставления услуг, при котором социальный работник изучает потребности клиента и, при необходимости, его семьи, а также выполняет организационную, координирующую, мониторинговую, оценивающую и защитную функции в процессе предоставления пакета услуг для решения специфических комплексных проблем кли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Цель. Профилактика нормативных кризисов пребывания ребенка в замещающей семье, оказание своевременной поддержки в случае необходимости и по запросу семь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данном этап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ажн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вне зависимости от вида помощи важн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тимулировать семью самостоятельно искат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ути решения сложившихся ситуаций, используя имеющиеся у семьи ресерсы, а также привлекая необходимых для этого специалист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5 этап - Сопровождение замещающей семьи во второй и третий годы после приема ребенка в семью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Цель. Закрепление результатов сопровождения, оценка эффективности самостоятельного функционирования  семьи в вопросах воспитания приемного ребен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одолжительность.  До 2 нед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ходе беседы с семьей об итогах сопровождения ответственный специалист проводит оценку способности семьи эффективно решать проблемы воспитания приемного ребенка, конструктивно  выходить из конфликтных ситуаций, преодолевать кризисы, привлекая как внутрисемейные ресурсы, так и ресурсы вне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ставление результатов сопровождения,  полученные в беседе семьей, а также динамику изменений в семье (по результатам мониторинга)  консилиуму специалист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6 этап - Завершающий:  оценка результатов сопровождения семь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Условия, необходимые для построения командной работ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диные идеологические подходы у всех членов коман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ользование общего языка между представителями различных специальностей и родит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вместимость времени и структуры в рабочем графике специалистов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ет целей, поставленных другими членами команды при проведении программы сопровож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можность совместных обсуждений в ходе планирования и проведения программ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7680" y="1904760"/>
            <a:ext cx="79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рограммы имеют в своей основе неиерархическую философию, философию сотрудничества между специалистами. Отношения между профессионалами, представляющими различные специальности, строятся на основе равноправия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719136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Работа команды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строится на обмене знаниями между профессионалами на разных этапах проведения программы помощи ребенку и семь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Принципы работы междисциплинарной коман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7680" y="148428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Родители должны рассматриваться как члены рабочей группы и должны вносить свой вклад в работу с ребенком, чтобы она была успешн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Оценка ребенка, как и программа сопровождения должны проводиться с учетом мнения семьи и в сотрудничестве с ней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428760" y="67140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ая идея этого метода состоит в оказании с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иенту в получении доступа к реабилитационным, педагогическим, психологическим, медицинским программам, программам поддержки, координации предоставляемых усл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того, важная роль отводится посредничеству между различными службами и профессионалами, ведению защиты от имени клиента, установлению договоренности об услугах, в случае, если необходимые программы недоступ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предполагает практическую деятельность, при которой один эксперт, обычно социальный работник, не только работает с клиентом (семьей) совместно с другими привлеченными профессионалами, но и координирует их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— это метод предоставления услуг, при котором «менеджер случая» изучает потребности, организует, координирует, ведет мониторинг, оценку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же выступает в защиту предоставляемого пакета усл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ориентирован на индивидуальные потребности клиента и зависит от состояния систем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ой службы, в которой оно осуществл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правление случаем» в социальной работе возможно на макро и микро уровнях: вмешательство возможно как на уровне клиента, так 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не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лужба сопровождения замещающих сем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700280"/>
            <a:ext cx="82803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д сопровождением замещающих семей понимается система деятельности специалистов Учреждения по оказанию поддержки и помощи замещающим родителям в создании оптимальных условий для развития, воспитания и социализации детей-сирот и детей, оставшихся без попечения родителей, оказанию психолого-педагогической, социальной и юридической помощи семье, оказавшейся в кризисной ситу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Кто рассматривается в качестве получателя услуг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47680" y="1844640"/>
            <a:ext cx="799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мещающие семьи (опекунские, приемные, семьи усыновителей), воспитывающие детей, оставшихся без попечения родителей, или детей-сирот в возрасте от рождения до 18 л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и-сироты и дети, оставшиеся без попечения родителей, в возрасте от рождения до 18 лет, проживающие в замещающих семь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Мультидисциплинарная коман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384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нсдисциплинарная мод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517860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Междисциплинарная коман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Рисунок 4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35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22:15Z</dcterms:created>
  <dc:creator>stan34</dc:creator>
  <dc:description/>
  <dc:language>en-US</dc:language>
  <cp:lastModifiedBy>User</cp:lastModifiedBy>
  <dcterms:modified xsi:type="dcterms:W3CDTF">2015-03-31T07:33:29Z</dcterms:modified>
  <cp:revision>85</cp:revision>
  <dc:subject/>
  <dc:title>Междисциплинарное ведение случая</dc:title>
</cp:coreProperties>
</file>