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A66-DA7D-492C-B74F-D69C9946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311-71E2-4067-ABB6-4FFCB5F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0BC-E45C-4C04-B5EE-78AAB582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811-1349-4B45-9ED2-BC89695D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8F07-8E1F-43C4-AF0E-6EE2215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4A7A-293C-49C2-981C-8BE2A03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57C-B9D4-45C3-A67F-79EA5FE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09A-771B-4434-BCE3-B2177F63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0A48-ED7E-46CF-9F10-821C362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C073-4619-4A9D-B3BA-D7A591DC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B25-9A86-4FE6-B878-628BE52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A6D-60C0-4F81-AF65-32039B45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EC61-B91F-407A-A86C-6FA9E82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FAE1-D6C0-4954-A64E-CFFDFEA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DA1D-DCE8-495D-B0D6-C146C39F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47A9-EABA-41EE-A770-06C88256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E9E7-44FA-492F-87E1-5C6AE980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EBC5-5B81-42BF-B972-65E89C15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5997-B7C7-4603-A210-B83F7E8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83D1-4000-438C-9DFE-76598A80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E45B-956F-4E7A-83D3-40B72B0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A01E-7F5B-42C3-ABF3-5522412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71A-2296-4C62-B63C-69A5CD4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0655-8CD0-44BF-BC55-488AA58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D39C-CFFD-4F42-84E2-76DDB6C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8893-8319-401E-A5CB-C053E4C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E543-A143-454E-88F9-0F98F86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AA14-C26F-4855-B24D-F0EC75A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9695-E26E-48F7-A270-920B1BC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C73B-3BA2-4C84-9039-901DA095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7B9A-8C0A-49B4-AC90-186B607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821C-546A-4CCB-8097-8BB3624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1A45-AF99-4134-B0D6-6680F8D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E37-F022-4908-8DF9-8BDA362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D277-569A-4C90-8805-C913C39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B2D5-AD07-46BF-95E5-5681028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BA6F-B8EE-47BA-A92E-C9B90E1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5CBC-5A18-48C3-B8CE-DB85FEE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4F1C-E6DE-4A65-8DC5-CAFD426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ACE0-18A7-4F18-9B47-BC75E60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2BA6-8C28-4F14-AA77-2BEE007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775B-DC9F-4422-9DD5-BD42EDCB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A2E5D-85AB-4108-BEAB-20386ACB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1637-F681-4352-8A78-DBD8D549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B84-FA5C-45C6-AB8A-84488C1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DE196-FDD8-438A-9A92-E6B9BB0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0026-3B55-424B-B2D1-0066470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25D2-6F1F-43A3-830C-B43E2582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D2C6-87C2-449B-914B-8DF016E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2E0F-4E32-42E6-9C6B-E889EC83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2184-3D4C-4D2D-9DDA-762B1D7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3590-06F5-4C76-823A-107B2261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5AB6-4B06-4EB0-BBE6-A9E1965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2D04-2076-4C85-8088-36E070E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AE05-8DA0-4571-B1BF-D9252919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E5D-A35A-4CC6-A03F-086767C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CBB5-5C83-410C-A8DC-8E7B5A2F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F3BE-F12E-4B80-948F-13A918C7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37D7-E835-426B-B3EF-E84D2B3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4AA3A-EF6E-4717-8E92-EDED81E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DAD6-1EF3-4BC8-B88D-3F5CEA16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E3E34-D4F7-459B-AB8A-F4C2C4C4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0ABA-172A-4090-80EF-279FC4E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5626E-5C10-442C-A96B-9F1623B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16AB-A706-473C-8A8E-474EEB8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1AD1-FC52-4324-8002-52C5993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663-FA8D-4355-94FC-929AA19D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42E5-A648-46D3-A79F-7231C76E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4969-C99C-4A1C-AC4D-61F7CE0D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A8DFF-F51D-4745-B34F-E893AD6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AF8DE-5A43-4A5E-B3BC-2FAFB136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535C-AC40-40A9-8AE4-A97D30E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CE976-472A-4343-8891-83C9321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B1E6-CDA1-4E4D-A3B7-7B72632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054A-A0A0-4766-BC5A-6F04507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184C-0353-4AE7-B90B-3531ED7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630C-F66C-40D4-A288-75AC379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6A4-FDD8-4DC6-BFA3-BA8DACE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799C8-7F91-46BE-B98B-3D36D81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06B6-15A6-4437-8CA8-6EB4263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7CBE4-C6E6-41C3-9822-9A6B3C9C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1D06-40F3-4A6D-A0D8-399AAA33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A574-DABF-4B3F-9A4F-7BAE9592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09B-4ED7-439C-8E1C-18BD706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7B04-5F78-425F-937A-31BD8E7E9B7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A0A-B773-4B1B-A866-62EB403812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C08-9F16-49E0-8675-54339FE5F0C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0451-C338-4A5E-BF11-35229B11A5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5F3A-81B4-4016-B2C9-3E0C8353DE9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7DE-655C-453B-8EE2-A5CE3DF7F67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040-83AD-4D57-BEF2-C72186702F56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2491-E3AF-4F92-AF63-700EB2E272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33B6-35A4-48CC-8149-9A267DF7602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24E0-53BB-4A8A-9AFE-FF0081B4D60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251-FE0F-4075-83B8-8C9DAA65C11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E05-5DB3-42D0-A41F-7A080D8E3D5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4AEB-7798-4E0A-92E6-6EB514DE0AD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93CF-4764-4558-B47D-CDDB55BB2EE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  <a:ea typeface="Times New Roman"/>
              </a:rPr>
              <a:t>Организация работы Службы сопровожден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МОУ для детей-сирот и детей, оставшихся без попечения родителей «Детский дом»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центре внимания всегда должны оставаться потребности и наилучшие интересы ребенка, поэтому клиентом Службы является ребенок в замещающей семье. Основным приоритетом остае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хранение семейного воспитания для ребен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и поэтому для обеспечения наилучших интересов ребенка требуется оказание помощи семье, направленной на улучшение ситуации ребенка в семь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то может стать членом междисциплинарной коман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осударственные и муниципальные органы и учреж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щественные объедин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ругие организации, предоставляющие помощь детям и семья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мер междисциплинарной команды: социальный педагог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 педагог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психолог, медицинский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ботник (врач или медицинская сестра), воспитатель, дефектолог, юрист и т. д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Команда определяется в зависимости от направлений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боты организации, а также от конкретного случ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ание для сопровождения замещающей семь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на основании личного обращения заявител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 направлению Управления опеки и попечительства Департамента образования Администрации МО Надымский район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ачественный результат оказания услуги по сопровождени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тие способности замещающей семьи удовлетворять потребности ребенка, совладать с кризисными  периодами в жизни семьи и ребенка, в том числе, за счет навыков социальной компетентности, выражающейся в активном и эффективном привлечение ресурсов помощи за пределами семь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Принципы междисциплинарного ведения случа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1341360"/>
            <a:ext cx="70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ктивное участие клиента в междисциплинарном ведении случая и развитие собственного потенциала клиен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ффективный обмен информацией по ведению случ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ледовательность и преемственность в соблюдении этапов оказания помощ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дивидуальная ответственность специалиста за случа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ноценное использование общественных ресурсов и минимизация зат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тоянная оценка качества и эффективности междисциплинарной помощ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7164360" y="1557360"/>
            <a:ext cx="15112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952960" y="281160"/>
            <a:ext cx="31910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апы реализации услуги по сопровождению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243000" y="70920"/>
            <a:ext cx="6273000" cy="6787080"/>
            <a:chOff x="243000" y="70920"/>
            <a:chExt cx="6273000" cy="6787080"/>
          </a:xfrm>
        </p:grpSpPr>
        <p:sp>
          <p:nvSpPr>
            <p:cNvPr id="365" name="AutoShape 28"/>
            <p:cNvSpPr/>
            <p:nvPr/>
          </p:nvSpPr>
          <p:spPr>
            <a:xfrm>
              <a:off x="243000" y="353880"/>
              <a:ext cx="6155280" cy="64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3"/>
            <p:cNvGrpSpPr/>
            <p:nvPr/>
          </p:nvGrpSpPr>
          <p:grpSpPr>
            <a:xfrm>
              <a:off x="383040" y="70920"/>
              <a:ext cx="6132960" cy="6787080"/>
              <a:chOff x="383040" y="70920"/>
              <a:chExt cx="6132960" cy="6787080"/>
            </a:xfrm>
          </p:grpSpPr>
          <p:grpSp>
            <p:nvGrpSpPr>
              <p:cNvPr id="367" name="Group 21"/>
              <p:cNvGrpSpPr/>
              <p:nvPr/>
            </p:nvGrpSpPr>
            <p:grpSpPr>
              <a:xfrm>
                <a:off x="1539360" y="1197360"/>
                <a:ext cx="3761640" cy="3074400"/>
                <a:chOff x="1539360" y="1197360"/>
                <a:chExt cx="3761640" cy="3074400"/>
              </a:xfrm>
            </p:grpSpPr>
            <p:sp>
              <p:nvSpPr>
                <p:cNvPr id="368" name="Freeform 27"/>
                <p:cNvSpPr/>
                <p:nvPr/>
              </p:nvSpPr>
              <p:spPr>
                <a:xfrm rot="21433800">
                  <a:off x="2654280" y="1235880"/>
                  <a:ext cx="1604520" cy="152640"/>
                </a:xfrm>
                <a:custGeom>
                  <a:avLst/>
                  <a:gdLst>
                    <a:gd name="textAreaLeft" fmla="*/ 0 w 1604520"/>
                    <a:gd name="textAreaRight" fmla="*/ 1604880 w 1604520"/>
                    <a:gd name="textAreaTop" fmla="*/ 0 h 152640"/>
                    <a:gd name="textAreaBottom" fmla="*/ 152640 h 1526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6"/>
                <p:cNvSpPr/>
                <p:nvPr/>
              </p:nvSpPr>
              <p:spPr>
                <a:xfrm rot="17952000">
                  <a:off x="1277640" y="2032920"/>
                  <a:ext cx="1333440" cy="183240"/>
                </a:xfrm>
                <a:custGeom>
                  <a:avLst/>
                  <a:gdLst>
                    <a:gd name="textAreaLeft" fmla="*/ 0 w 1333440"/>
                    <a:gd name="textAreaRight" fmla="*/ 1333800 w 13334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5"/>
                <p:cNvSpPr/>
                <p:nvPr/>
              </p:nvSpPr>
              <p:spPr>
                <a:xfrm rot="10800000">
                  <a:off x="2654640" y="4119120"/>
                  <a:ext cx="1605600" cy="15264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152640"/>
                    <a:gd name="textAreaBottom" fmla="*/ 152640 h 1526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4"/>
                <p:cNvSpPr/>
                <p:nvPr/>
              </p:nvSpPr>
              <p:spPr>
                <a:xfrm rot="3565800">
                  <a:off x="4217760" y="1921320"/>
                  <a:ext cx="1331640" cy="182520"/>
                </a:xfrm>
                <a:custGeom>
                  <a:avLst/>
                  <a:gdLst>
                    <a:gd name="textAreaLeft" fmla="*/ 0 w 1331640"/>
                    <a:gd name="textAreaRight" fmla="*/ 1332000 w 13316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3"/>
                <p:cNvSpPr/>
                <p:nvPr/>
              </p:nvSpPr>
              <p:spPr>
                <a:xfrm rot="14491800">
                  <a:off x="1276560" y="3363840"/>
                  <a:ext cx="1334160" cy="181440"/>
                </a:xfrm>
                <a:custGeom>
                  <a:avLst/>
                  <a:gdLst>
                    <a:gd name="textAreaLeft" fmla="*/ 0 w 1334160"/>
                    <a:gd name="textAreaRight" fmla="*/ 1334520 w 133416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2"/>
                <p:cNvSpPr/>
                <p:nvPr/>
              </p:nvSpPr>
              <p:spPr>
                <a:xfrm rot="7041600">
                  <a:off x="4217040" y="3362760"/>
                  <a:ext cx="1333080" cy="182520"/>
                </a:xfrm>
                <a:custGeom>
                  <a:avLst/>
                  <a:gdLst>
                    <a:gd name="textAreaLeft" fmla="*/ 0 w 1333080"/>
                    <a:gd name="textAreaRight" fmla="*/ 1333440 w 13330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Text Box 20"/>
              <p:cNvSpPr/>
              <p:nvPr/>
            </p:nvSpPr>
            <p:spPr>
              <a:xfrm>
                <a:off x="2247840" y="2016720"/>
                <a:ext cx="2405160" cy="143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000000"/>
                    </a:solidFill>
                    <a:latin typeface="Times New Roman"/>
                  </a:rPr>
                  <a:t>Этапы процесса управления случаем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WordArt 19"/>
              <p:cNvSpPr txBox="1"/>
              <p:nvPr/>
            </p:nvSpPr>
            <p:spPr>
              <a:xfrm rot="13642200">
                <a:off x="945720" y="3071880"/>
                <a:ext cx="2549880" cy="1537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Система пособий и льгот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6" name="WordArt 18"/>
              <p:cNvSpPr txBox="1"/>
              <p:nvPr/>
            </p:nvSpPr>
            <p:spPr>
              <a:xfrm rot="2659800">
                <a:off x="3589560" y="1125360"/>
                <a:ext cx="2807640" cy="7318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есурсы по месту 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жительства семьи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7" name="WordArt 17"/>
              <p:cNvSpPr txBox="1"/>
              <p:nvPr/>
            </p:nvSpPr>
            <p:spPr>
              <a:xfrm rot="7817400">
                <a:off x="3426120" y="2995200"/>
                <a:ext cx="2771640" cy="1603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Координация обслуживания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8" name="WordArt 16"/>
              <p:cNvSpPr txBox="1"/>
              <p:nvPr/>
            </p:nvSpPr>
            <p:spPr>
              <a:xfrm rot="19176600">
                <a:off x="515880" y="1014120"/>
                <a:ext cx="3381120" cy="1276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Физические и 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психологические факторы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9" name="Rectangle 15"/>
              <p:cNvSpPr/>
              <p:nvPr/>
            </p:nvSpPr>
            <p:spPr>
              <a:xfrm>
                <a:off x="383040" y="5172840"/>
                <a:ext cx="668160" cy="33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4"/>
              <p:cNvSpPr/>
              <p:nvPr/>
            </p:nvSpPr>
            <p:spPr>
              <a:xfrm>
                <a:off x="383040" y="5685120"/>
                <a:ext cx="668160" cy="33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"/>
              <p:cNvSpPr/>
              <p:nvPr/>
            </p:nvSpPr>
            <p:spPr>
              <a:xfrm>
                <a:off x="390240" y="6251760"/>
                <a:ext cx="668160" cy="331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3790800" y="6467400"/>
                <a:ext cx="668160" cy="331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1"/>
              <p:cNvSpPr/>
              <p:nvPr/>
            </p:nvSpPr>
            <p:spPr>
              <a:xfrm>
                <a:off x="3822840" y="5726520"/>
                <a:ext cx="668160" cy="332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0"/>
              <p:cNvSpPr/>
              <p:nvPr/>
            </p:nvSpPr>
            <p:spPr>
              <a:xfrm>
                <a:off x="3799440" y="5205600"/>
                <a:ext cx="668160" cy="3348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9"/>
              <p:cNvSpPr/>
              <p:nvPr/>
            </p:nvSpPr>
            <p:spPr>
              <a:xfrm>
                <a:off x="1184760" y="5172840"/>
                <a:ext cx="1986840" cy="33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дготовитель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8"/>
              <p:cNvSpPr/>
              <p:nvPr/>
            </p:nvSpPr>
            <p:spPr>
              <a:xfrm>
                <a:off x="1184760" y="5673240"/>
                <a:ext cx="198684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гностическ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7"/>
              <p:cNvSpPr/>
              <p:nvPr/>
            </p:nvSpPr>
            <p:spPr>
              <a:xfrm>
                <a:off x="1235880" y="6018480"/>
                <a:ext cx="2511360" cy="76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провождение семьи в период адаптации в первый год после приема ребенка в семь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6"/>
              <p:cNvSpPr/>
              <p:nvPr/>
            </p:nvSpPr>
            <p:spPr>
              <a:xfrm>
                <a:off x="4709880" y="5172840"/>
                <a:ext cx="1687680" cy="36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ниторин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5"/>
              <p:cNvSpPr/>
              <p:nvPr/>
            </p:nvSpPr>
            <p:spPr>
              <a:xfrm>
                <a:off x="4802760" y="5540400"/>
                <a:ext cx="1713240" cy="86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провождение замещающей семьи во второй и третий годы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4"/>
              <p:cNvSpPr/>
              <p:nvPr/>
            </p:nvSpPr>
            <p:spPr>
              <a:xfrm>
                <a:off x="4885200" y="6467400"/>
                <a:ext cx="1512360" cy="39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авершающ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Компетенции ответственного специалист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проблем и потребностей замещающих родителей и умение корректно обсуждать их с семь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особенностей, проблем и потребностей приемных детей и умение корректно говорить о них с ребенко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устанавливать отношения сотрудничества с членами семьи различных возрасто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устанавливать  и поддерживать позитивный психологический контакт с людьми различных возрасто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 и применение во время визита правил поведения специалиста при осуществлении работы на дому у клиент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и соблюдение правил конфиденциаль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демонстрировать уважение к правилам и устоям семьи. Наличие базовых знаний о правилах и традициях в различных культура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выявлять ресурсы и трудности семьи и ребенк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роводить наблюдения за взаимодействиями членов семь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этапов адаптации приемного ребенка, их признаков, динамики. Умение оценивать по беседе с различными членами семьи этап адаптации замещающей семьи, выявлять проблемы и труд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выявлять и формулировать основные характеристики семейной систем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обобщать информацию  и делать вывод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аккуратно  и организованно передавать полученную на предыдущих этапах информ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омпетенции ответственного специали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24000" y="1341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преимуществ надлежащего документального оформления плана работ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редставлять специальную информацию  в доступном вид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ставлять план сопровождения.  Умение корректировать  план сопровождения  по ходу беседы с семь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разъяснить содержание  и формы реализации план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возможностей  и компетенций специалистов, работающих в медицинской, образовательной, социальной и др. (имеющих отношение к услуге) сферах и их применение в работе с замещающими семья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круга местных организаций, специализирующихся на оказании услуг для замещающих сем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развивать  контакт, наблюдать и фиксировать динамику развития семьи, преодолевать стереотипное восприятие семь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делегировать семье ответственность за инициирование  контактов в процессе сопровожден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обуждать  к самостоятельной активности родител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здавать условия для использования  и реализации собственной компетенции родителя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здавать условия для активности  родителей в самостоятельном поиске решений пробл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ладение техниками дистанционной поддержки  и сопровождения (телефонный разговор, домашние задания, заочные предложения и пр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Относиться к коллегам вежливо и уважительно, а также оказывать содействие для усиления межведомственного межпрофессионального и внутрипрофессионального сотрудничества в интересах семьи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Документальное сопровожде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95280" y="1628280"/>
            <a:ext cx="8353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Журнал учета семей: дата поступления, ФИО членов семьи и степень родства, дата утверждения индивидуального  плана работы с семьей, дата прекращения работы с семьей, причина прекращения работ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Журнал протоколов совещаний (консилиумов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рта сопровождения семьи (представляет собой папку с файлами), содержит данные о посещениях семьи, акты обследования, описание всех проводимых с семьей мероприятий, заключения специалистов и консилиумов, План сопровождения  замещающей семьи, Программа проведения мониторинга результатов сопровождения.  Папку оформляет и ведет ведущий специалист семьи; информацию вносят все специалисты, работающие по услуг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755640" y="1125360"/>
            <a:ext cx="7408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Вовлечение семей в услугу и формирование мотивации к сотрудничеству со специалистам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 В течение 2 неде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 осуществляетс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ем и изучение      информации о семье и ребенк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ервичное собеседование с семьей и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ключение договора о сопровождени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!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ервичное собеседование не должно быть организованно  формально,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должн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ротивопоставлять специалистов и семью, создавать у семьи небезопасное впечатление их «проверки» или «оценки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1 этап - Подготовительны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ТЕХНОЛОГИЯ МЕЖДИСЦИПЛИНАРНОГО  ВЕДЕНИЯ СЛУЧАЯ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2 этап - Диагностическ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1267920"/>
            <a:ext cx="5915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Цель. Выявление особенностей протекания адаптационного периода и взаимоотношений в семье, индивидуальных особенностей ребенка и членов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одолжительность. 2-3 недел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зможен визит в семью (только если семья не возражает!)ответственного специалиста с целью знакомства с устройством жизни замещающей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иагностика особенностей протекания адаптационного периода и взаимоотношений в семье, индивидуальных особенностей ребенка и членов семьи – работа психолог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ценка не статична и не окончательна. Она должна регулярно повторяться и корректироваться, если это необходимо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4" descr="C:\Program Files\Microsoft Office\MEDIA\CAGCAT10\j0090070.wmf"/>
          <p:cNvPicPr/>
          <p:nvPr/>
        </p:nvPicPr>
        <p:blipFill>
          <a:blip r:embed="rId1"/>
          <a:stretch/>
        </p:blipFill>
        <p:spPr>
          <a:xfrm>
            <a:off x="6948360" y="1484280"/>
            <a:ext cx="20145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3 этап – Сопровождение семьи в период адаптации в первый год после приема ребенка в семь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71200" y="1699920"/>
            <a:ext cx="787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Создание условий для минимизации трудностей адаптации замещающей семьи, нормализация семейных отношений, помощь в преодолении кризисных ситуаций, повышение родительской компетентности в вопросах воспитания де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1 го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суждение и составление с семьей плана сопровождения замещающей семьи, а также согласование плана на консилиуме специалист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ализация плана сопровождения в соответствии с целями и задачам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Объект 2" descr=""/>
          <p:cNvPicPr/>
          <p:nvPr/>
        </p:nvPicPr>
        <p:blipFill>
          <a:blip r:embed="rId1"/>
          <a:stretch/>
        </p:blipFill>
        <p:spPr>
          <a:xfrm>
            <a:off x="-103320" y="1596960"/>
            <a:ext cx="8345520" cy="4621320"/>
          </a:xfrm>
          <a:prstGeom prst="rect">
            <a:avLst/>
          </a:prstGeom>
          <a:ln w="0">
            <a:noFill/>
          </a:ln>
        </p:spPr>
      </p:pic>
      <p:sp>
        <p:nvSpPr>
          <p:cNvPr id="405" name="Заголовок 3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Оценка потребностей ребенка и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Основная цель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оведения оценки потребностей ребенка и семьи – обеспечение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ринятия обоснованного объективного решения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тносительно будущего ребенка с учетом его наилучших интересов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Заголовок 3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Если в процессе оценки возникает ситуация, угрожающая жизни и здоровью ребенка, необходим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инять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срочные меры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для обеспечения безопасности и защиты несовершеннолетнего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Заголовок 3"/>
          <p:cNvSpPr/>
          <p:nvPr/>
        </p:nvSpPr>
        <p:spPr>
          <a:xfrm>
            <a:off x="2052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Важ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ая прямоугольная выноска 1"/>
          <p:cNvSpPr/>
          <p:nvPr/>
        </p:nvSpPr>
        <p:spPr>
          <a:xfrm>
            <a:off x="631800" y="1773360"/>
            <a:ext cx="7921800" cy="4176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Если в процессе оценки возникает ситуация, угрожающая жизни и здоровью ребенка, необходи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ять срочные меры для обеспечения безопасности и защиты несовершеннолетнего</a:t>
            </a: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Выноска-облако 1"/>
          <p:cNvSpPr/>
          <p:nvPr/>
        </p:nvSpPr>
        <p:spPr>
          <a:xfrm>
            <a:off x="179280" y="549360"/>
            <a:ext cx="8785440" cy="545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оциальный работник анализирует сильные и слабые стороны семьи на протяжении всего процесса оценки. Полнота этого анализа требует обобщения данных, собранных в ходе оценки, и получения ответов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652480" y="476280"/>
            <a:ext cx="649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Что члены семьи делают хорошо? Чем они гордятся? Что порождает в них чувство собственного достоинства и уваж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какими стрессами и проблемами члены семьи успешно справились в прошлом? Как им это удалось? Какие ресурсы и адаптивные стратегии они использовал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м образом сильные стороны семьи могут быть развиты и наиболее эффективно использованы для решения текущих пробле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ие дополнительные обучающие, поддерживающие и другие интервенции могут содействовать укреплению и дальнейшему развитию имеющихся у членов семьи сильных сторон и ресурсов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324000" y="1773360"/>
            <a:ext cx="12952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65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е побудительные мотивы движут членами семьи? Чего родители хотят для себя и для своих детей? Как они могут направить свою энергию на достижение выбранных целе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чем цели и желания членов семьи совпадают с ожиданиями организации социальной работы с детьми, и что может помешать семье в достижении этих целе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е барьеры могут быть устранены с помощью социального работника или организации социальной работы с детьми, чтобы дать членам семьи возможность продлить движение к намеченным целя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6948360" y="1773360"/>
            <a:ext cx="122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Модели социально-психологической помощ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Объект 3" descr=""/>
          <p:cNvPicPr/>
          <p:nvPr/>
        </p:nvPicPr>
        <p:blipFill>
          <a:blip r:embed="rId1"/>
          <a:stretch/>
        </p:blipFill>
        <p:spPr>
          <a:xfrm>
            <a:off x="609480" y="1268280"/>
            <a:ext cx="8285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71560" y="1197000"/>
            <a:ext cx="7408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Оценка динамики адаптации и развития семьи и ребенка, корректировка  формы и содержания сопровождения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 Проводится регулярно (1 раз каждые полгода), в течение всего времени оказания услуг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ероприяти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ониторинг состояния развития приемного ребенка в семье и динамики адаптации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ведение консилиума специалистов Службы по итогам мониторин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4 этап - Мониторин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«ведение случая»?</a:t>
            </a: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2948040"/>
            <a:ext cx="3564000" cy="23414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3635280" y="164952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Ведение случая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циальной работе – это метод предоставления услуг, при котором социальный работник изучает потребности клиента и, при необходимости, его семьи, а также выполняет организационную, координирующую, мониторинговую, оценивающую и защитную функции в процессе предоставления пакета услуг для решения специфических комплексных проблем кли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Профилактика нормативных кризисов пребывания ребенка в замещающей семье, оказание своевременной поддержки в случае необходимости и по запросу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ажн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вне зависимости от вида помощи важн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тимулировать семью самостоятельно искат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ути решения сложившихся ситуаций, используя имеющиеся у семьи ресерсы, а также привлекая необходимых для этого специалист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5 этап - Сопровождение замещающей семьи во второй и третий годы после приема ребенка в семь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Цель. Закрепление результатов сопровождения, оценка эффективности самостоятельного функционирования  семьи в вопросах воспитания приемного ребен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одолжительность.  До 2 нед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ходе беседы с семьей об итогах сопровождения ответственный специалист проводит оценку способности семьи эффективно решать проблемы воспитания приемного ребенка, конструктивно  выходить из конфликтных ситуаций, преодолевать кризисы, привлекая как внутрисемейные ресурсы, так и ресурсы вне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ставление результатов сопровождения,  полученные в беседе семьей, а также динамику изменений в семье (по результатам мониторинга)  консилиуму специалист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6 этап - Завершающий:  оценка результатов сопровождения семь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Условия, необходимые для построения командной работ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диные идеологические подходы у всех членов коман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ользование общего языка между представителями различных специальностей и родит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вместимость времени и структуры в рабочем графике специалистов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ет целей, поставленных другими членами команды при проведении программы сопровож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можность совместных обсуждений в ходе планирования и проведения програм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7680" y="1904760"/>
            <a:ext cx="79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рограммы имеют в своей основе неиерархическую философию, философию сотрудничества между специалистами. Отношения между профессионалами, представляющими различные специальности, строятся на основе равноправия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719136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Работа команды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строится на обмене знаниями между профессионалами на разных этапах проведения программы помощи ребенку и семь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7680" y="148428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Родители должны рассматриваться как члены рабочей группы и должны вносить свой вклад в работу с ребенком, чтобы она была успешн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Оценка ребенка, как и программа сопровождения должны проводиться с учетом мнения семьи и в сотрудничестве с ней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428760" y="67140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идея этого метода состоит в оказании с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иенту в получении доступа к реабилитационным, педагогическим, психологическим, медицинским программам, программам поддержки, координации предоставляемых усл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того, важная роль отводится посредничеству между различными службами и профессионалами, ведению защиты от имени клиента, установлению договоренности об услугах, в случае, если необходимые программы недоступ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предполагает практическую деятельность, при которой один эксперт, обычно социальный работник, не только работает с клиентом (семьей) совместно с другими привлеченными профессионалами, но и координирует их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— это метод предоставления услуг, при котором «менеджер случая» изучает потребности, организует, координирует, ведет мониторинг, оценку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же выступает в защиту предоставляемого пакета усл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ориентирован на индивидуальные потребности клиента и зависит от состояния систем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ой службы, в которой оно осуществл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возможно на макро и микро уровнях: вмешательство возможно как на уровне клиента, так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не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лужба сопровождения замещающих сем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700280"/>
            <a:ext cx="82803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д сопровождением замещающих семей понимается система деятельности специалистов Учреждения по оказанию поддержки и помощи замещающим родителям в создании оптимальных условий для развития, воспитания и социализации детей-сирот и детей, оставшихся без попечения родителей, оказанию психолого-педагогической, социальной и юридической помощи семье, оказавшейся в кризисной ситу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то рассматривается в качестве получателя услуг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мещающие семьи (опекунские, приемные, семьи усыновителей), воспитывающие детей, оставшихся без попечения родителей, или детей-сирот в возрасте от рождения до 18 л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и-сироты и дети, оставшиеся без попечения родителей, в возрасте от рождения до 18 лет, проживающие в замещающих семь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Мультидисциплинарная коман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384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нсдисциплинарная мод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517860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Междисциплинарная коман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Рисунок 4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35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22:15Z</dcterms:created>
  <dc:creator>stan34</dc:creator>
  <dc:description/>
  <dc:language>en-US</dc:language>
  <cp:lastModifiedBy>User</cp:lastModifiedBy>
  <dcterms:modified xsi:type="dcterms:W3CDTF">2015-03-31T07:33:29Z</dcterms:modified>
  <cp:revision>85</cp:revision>
  <dc:subject/>
  <dc:title>Междисциплинарное ведение случая</dc:title>
</cp:coreProperties>
</file>