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779-D4C7-464F-A97F-5081521D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D3A-AED8-47EB-9542-60944DD3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D86-A4F3-457F-A124-3734CDEC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8D9-E12F-4909-9A30-CF5D7F76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E45E-8C52-47A0-A7E2-ED1726FC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EBE7-18EE-48D8-9DE8-31F496E7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DEEC-820C-4BA7-BB62-BB7E5D10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EFD3-F478-4DDB-8C25-706E1A1A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57D5-CF3C-4ECC-B91B-02FDD688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290F-16F4-4893-AD9A-16C47AE1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9315-4605-4476-8D49-242F6ABB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BC7-4336-4E40-AF5D-E3BA0AF0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1B62-93E5-44AF-A42E-1CC961E6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BCF2-888E-48A6-9FB7-5A7C2D83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D214-B951-40C7-B1E1-C3611136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5B13-1F6B-421B-A18E-583EBA4C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F219-2196-42EA-81AC-B8745A10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72C-51CD-4F7D-975D-A194A05C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ECE-A2CE-4469-A549-74D98C52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366-0440-402B-9487-C59BEAA4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914-CFA9-4E16-BFC3-9ADB654D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05E-F64C-4C92-8748-B4E9A7D1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B71-7577-4A99-AC8D-048050F7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E50-9D33-46AD-870A-A9BBE247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9BAF-47E2-45DE-A360-6433E016CD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463D-8F7E-42B1-8709-25F0BE26DE1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476360" y="260280"/>
            <a:ext cx="6983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С.В.Мироненк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…Главной причиной, не позволившей освободить крестьян уже в начале ХIХ в., оказалось сопротивление подавляющей         части  дворянства. Александр I, попробовавший встать на пу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фор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ынужден был под напором мощной силы повернуть вспять»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иколай I на заседании Государственного Совета 30 марта 1842 г.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ет сомнения, ч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епостное пра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нынешнем его у нас положении есть зло для всех ощутительное и очевидное; но прикасаться к оному теперь было бы злом, конечно еще более гибельным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 rot="10800000"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4f4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79280" y="3933360"/>
            <a:ext cx="6553080" cy="24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Александр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19 февраля 1861 года – подписал Манифест об отмене крепостного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3635280" y="260280"/>
          <a:ext cx="3151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60280"/>
                    <a:ext cx="3151440" cy="3505320"/>
                  </a:xfrm>
                  <a:prstGeom prst="rect">
                    <a:avLst/>
                  </a:prstGeom>
                  <a:ln cap="sq" w="28440">
                    <a:solidFill>
                      <a:srgbClr val="9966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763640" y="260280"/>
            <a:ext cx="691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Юрис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Перечислите права крестьян вышедших из состояния крепостной зависимости, из данного списка в вашем задании. Кому  с юридической точки зрения принадлежал  надел крестьянина, вышедшего из  крепостной зависимости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ивариус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Кто такие временнообязанные крестьяне?  Что такое отрезки? Уставная грамота?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пределение новых слов записать в информационную карту уро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с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Как определялся размер выкупа на землю по реформе 1861г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ли ли быть финансовые потери у помещиков основных хозяйственных районов России: Черноземья и Нечерноземь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о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 Каковы основные итоги крестьянской реформы 1861г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00"/>
                </a:solidFill>
                <a:uFillTx/>
                <a:latin typeface="Times New Roman"/>
              </a:rPr>
              <a:t>Итоги реформ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Реформа не решила аграрный вопро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Крестьяне остались зависимы от помещи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Она  носила двойственный характер: буржуазные и феодальные чер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Была непоследовательная, половинчатая, незавершен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знать о том, как  осуществлялась реформа, её содержание. Выяснить, смог ли Александ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 разработке реформы учесть интересы крестьян и помещиков. Что получили крестьяне, а что потеряли помещики, и что выиграло все общество. Чьи надежды оправдались, а чьи нет? Какое значение имела эта реформа для будущего Рос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332000" y="982800"/>
            <a:ext cx="727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§ 20, прочитать и ответить на вопросы к документу на с. 14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ыбор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Написать «письмо» императору Александру II от имени освобожденного крестьянина или помещика, отпустившего крестьянина на свобо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Написать сочинение-миниатюру на тему «Свободный» крестьянин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619280" y="1197000"/>
            <a:ext cx="523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ОРМ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ВОЛЮЦ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619280" y="260280"/>
            <a:ext cx="640872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: </a:t>
            </a:r>
            <a:r>
              <a:rPr b="1" lang="ru-RU" sz="5400" spc="-1" strike="noStrike">
                <a:solidFill>
                  <a:srgbClr val="91352c"/>
                </a:solidFill>
                <a:latin typeface="Times New Roman"/>
                <a:ea typeface="Times New Roman"/>
              </a:rPr>
              <a:t>«Крестьянская реформа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1352c"/>
                </a:solidFill>
                <a:latin typeface="Times New Roman"/>
                <a:ea typeface="Times New Roman"/>
              </a:rPr>
              <a:t>1861 года. Отмена крепостного прав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5640" y="549000"/>
            <a:ext cx="3119400" cy="39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пишите внешность Александр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Определите по тексту учебника, как к нему относятся авторы учебника?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ак к Александр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относились разные слои населения: столичное дворянство,  провинциальное дворянство, крестьянство?</a:t>
            </a:r>
            <a:br>
              <a:rPr sz="1800"/>
            </a:br>
            <a:endParaRPr b="0" lang="en-US" sz="1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66920" y="4292280"/>
            <a:ext cx="312444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Рисунок 4" descr="Рисунок3"/>
          <p:cNvPicPr/>
          <p:nvPr/>
        </p:nvPicPr>
        <p:blipFill>
          <a:blip r:embed="rId1"/>
          <a:stretch/>
        </p:blipFill>
        <p:spPr>
          <a:xfrm>
            <a:off x="1403280" y="260280"/>
            <a:ext cx="4145040" cy="42688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1476360" y="115920"/>
            <a:ext cx="7416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законы, подрывавшие устои крепостничества, постепенно принимались верховной властью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каз «о вольных хлебопашцах», Указ «о трёхдневной барщин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гда  окончательно было узаконено крепостное право в России?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64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ком докумен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Соборное уложении 164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Что произошло в этом год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497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ят судебник Ива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550 г.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ятие Судебника Ива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802 г.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верждение министерст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816-1819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на крепостного права в Прибалти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6600"/>
                </a:solidFill>
                <a:uFillTx/>
                <a:latin typeface="Times New Roman"/>
              </a:rPr>
              <a:t>Причины отмены крепостного права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Times New Roman"/>
              </a:rPr>
              <a:t>Экономическая, военно-техническая отсталость Росс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Times New Roman"/>
              </a:rPr>
              <a:t>Поражение в Крымской вой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Times New Roman"/>
              </a:rPr>
              <a:t>Выступление крестья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1427040" y="333360"/>
            <a:ext cx="748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историческими терминам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ЕПОСТНОЕ ПРАВО – 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 зависимости крестьян, при которой они наделяются землёй, неся за пользование ею  повинности -  барщину и оброк и полностью зависят от помещика, являясь его собственностью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Юрьев день; барщина;  обр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Определите, что объединяет перечисленный ряд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удебник Ива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 Судебник Ива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 Соборное уложение -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это документы о закрепощении крестья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знать о том, как  осуществлялась реформа, её содержание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ыяснить смог ли Александр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при разработке реформы учесть интересы крестьян и помещиков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то получили крестьяне, а что потеряли помещики, и что выиграло все общество. Чьи надежды оправдались, а чьи нет? И какое значение имела эта реформа для будущего Рос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476360" y="797040"/>
            <a:ext cx="727236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19 февраля 1861 год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лександр II подписал два важных доку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нифест «О всемилостивейшем даровании крепостным людям прав состояния свободных сельских обывателей и об устройстве их быта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Положение о крестьянах, вышедших из крепостной зависимости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репостное право отменялось навсегда в России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3:18:51Z</dcterms:created>
  <dc:creator>1</dc:creator>
  <dc:description/>
  <dc:language>en-US</dc:language>
  <cp:lastModifiedBy>СОШ4</cp:lastModifiedBy>
  <dcterms:modified xsi:type="dcterms:W3CDTF">2015-03-12T07:55:56Z</dcterms:modified>
  <cp:revision>20</cp:revision>
  <dc:subject/>
  <dc:title>Презентация PowerPoint</dc:title>
</cp:coreProperties>
</file>