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588-9FD9-4171-ACD0-D7ABEFC1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969-5EDB-489A-9100-DC41D2E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1AC-B82B-4FD6-9200-F7796CED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EF8-B66E-42E0-A6DE-DB331543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ED08-2E69-4DDC-A870-2D9E850E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8984-3541-4971-A98E-F2AC28AC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58B-6CAF-42FC-B837-518DBA6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B18-91AE-4A06-823E-D429755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D4DA-964F-4829-AD88-F44F590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B6D-96D6-4F78-A0D9-F10256B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AAA2-4760-4B3C-94B2-D86BA4D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02C-8F36-43C4-B3B7-1525333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80DA-848C-4157-B6AE-3BAF91A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08A-370C-4CDE-8A5B-1798808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DC7-C824-4545-B820-EAFAC86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6EA-3628-457C-BF57-DAC9C1B5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255E-DA68-41A1-AA88-D22687A3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D89-106B-4213-9FE5-01C8C73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01C-5DB6-4513-A5E3-562193B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A0E-2EDB-4FC1-BA63-0279F6C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8AF-6FCD-4451-8790-AA467E7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2B2-EDD4-4F38-A47A-4408DD0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69D-6826-4B27-B855-BCE6879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8E3-34C4-49C3-8823-2B74604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2F4-8E9A-4A54-9055-E002F74D96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417-9EB2-4433-A7FF-7B820CDFDFD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476360" y="260280"/>
            <a:ext cx="6983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С.В.Мироненк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…Главной причиной, не позволившей освободить крестьян уже в начале ХIХ в., оказалось сопротивление подавляющей         части  дворянства. Александр I, попробовавший встать на пу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фор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ынужден был под напором мощной силы повернуть вспять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иколай I на заседании Государственного Совета 30 марта 1842 г.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ет сомнения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епостное пра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нынешнем его у нас положении есть зло для всех ощутительное и очевидное; но прикасаться к оному теперь было бы злом, конечно еще более гибельны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 rot="10800000"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4f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9280" y="3933360"/>
            <a:ext cx="655308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Александр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19 февраля 1861 года – подписал Манифест об отмене крепостного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3635280" y="260280"/>
          <a:ext cx="3151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60280"/>
                    <a:ext cx="3151440" cy="3505320"/>
                  </a:xfrm>
                  <a:prstGeom prst="rect">
                    <a:avLst/>
                  </a:prstGeom>
                  <a:ln cap="sq" w="28440">
                    <a:solidFill>
                      <a:srgbClr val="99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763640" y="260280"/>
            <a:ext cx="691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Юри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Перечислите права крестьян вышедших из состояния крепостной зависимости, из данного списка в вашем задании. Кому  с юридической точки зрения принадлежал  надел крестьянина, вышедшего из  крепостной зависимост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вариус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Кто такие временнообязанные крестьяне?  Что такое отрезки? Уставная грамота?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пределение новых слов записать в информационную карту уро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ак определялся размер выкупа на землю по реформе 1861г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ли ли быть финансовые потери у помещиков основных хозяйственных районов России: Черноземья и Нечерноземь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Каковы основные итоги крестьянской реформы 1861г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00"/>
                </a:solidFill>
                <a:uFillTx/>
                <a:latin typeface="Times New Roman"/>
              </a:rPr>
              <a:t>Итоги реформ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Реформа не решила аграрный вопр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Крестьяне остались зависимы от помещи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Она  носила двойственный характер: буржуазные и феодальные чер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Была непоследовательная, половинчатая, незавершен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 о том, как  осуществлялась реформа, её содержание. Выяснить, смог ли Александ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разработке реформы учесть интересы крестьян и помещиков. Что получили крестьяне, а что потеряли помещики, и что выиграло все общество. Чьи надежды оправдались, а чьи нет? Какое значение имела эта реформа для будущего Рос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332000" y="98280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§ 20, прочитать и ответить на вопросы к документу на с. 1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ыбо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Написать «письмо» императору Александру II от имени освобожденного крестьянина или помещика, отпустившего крестьянина на свобо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аписать сочинение-миниатюру на тему «Свободный» крестьянин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619280" y="1197000"/>
            <a:ext cx="523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ОР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ВОЛЮЦ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619280" y="260280"/>
            <a:ext cx="64087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5400" spc="-1" strike="noStrike">
                <a:solidFill>
                  <a:srgbClr val="91352c"/>
                </a:solidFill>
                <a:latin typeface="Times New Roman"/>
                <a:ea typeface="Times New Roman"/>
              </a:rPr>
              <a:t>«Крестьянская реформ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1352c"/>
                </a:solidFill>
                <a:latin typeface="Times New Roman"/>
                <a:ea typeface="Times New Roman"/>
              </a:rPr>
              <a:t>1861 года. Отмена крепостного прав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5640" y="549000"/>
            <a:ext cx="3119400" cy="39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пишите внешность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Определите по тексту учебника, как к нему относятся авторы учебника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к к Александр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тносились разные слои населения: столичное дворянство,  провинциальное дворянство, крестьянство?</a:t>
            </a:r>
            <a:br>
              <a:rPr sz="1800"/>
            </a:br>
            <a:endParaRPr b="0" lang="en-US" sz="1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66920" y="4292280"/>
            <a:ext cx="312444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4" descr="Рисунок3"/>
          <p:cNvPicPr/>
          <p:nvPr/>
        </p:nvPicPr>
        <p:blipFill>
          <a:blip r:embed="rId1"/>
          <a:stretch/>
        </p:blipFill>
        <p:spPr>
          <a:xfrm>
            <a:off x="1403280" y="260280"/>
            <a:ext cx="4145040" cy="42688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1476360" y="115920"/>
            <a:ext cx="741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законы, подрывавшие устои крепостничества, постепенно принимались верховной властью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 «о вольных хлебопашцах», Указ «о трёхдневной барщин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гда  окончательно было узаконено крепостное право в России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64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ом докумен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оборное уложении 164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Что произошло в этом год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49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 судебник Ив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550 г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ие Судебника Ив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802 г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верждение министер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816-1819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на крепостного права в Прибалти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6600"/>
                </a:solidFill>
                <a:uFillTx/>
                <a:latin typeface="Times New Roman"/>
              </a:rPr>
              <a:t>Причины отмены крепостного права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Экономическая, военно-техническая отсталость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Поражение в Крымской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Выступление крестья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427040" y="333360"/>
            <a:ext cx="748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историческими термина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ЕПОСТНОЕ ПРАВО –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 зависимости крестьян, при которой они наделяются землёй, неся за пользование ею  повинности -  барщину и оброк и полностью зависят от помещика, являясь его собственностью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Юрьев день; барщина;  обр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пределите, что объединяет перечисленный ря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удебник Ива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Судебник Ива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Соборное уложение -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это документы о закрепощении крестья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 о том, как  осуществлялась реформа, её содержание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яснить смог ли Александр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при разработке реформы учесть интересы крестьян и помещик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то получили крестьяне, а что потеряли помещики, и что выиграло все общество. Чьи надежды оправдались, а чьи нет? И какое значение имела эта реформа для будущего Рос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476360" y="797040"/>
            <a:ext cx="72723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19 февраля 1861 год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ександр II подписал два важных доку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ифест «О всемилостивейшем даровании крепостным людям прав состояния свободных сельских обывателей и об устройстве их быта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ложение о крестьянах, вышедших из крепостной зависимости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репостное право отменялось навсегда в Росси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3:18:51Z</dcterms:created>
  <dc:creator>1</dc:creator>
  <dc:description/>
  <dc:language>en-US</dc:language>
  <cp:lastModifiedBy>СОШ4</cp:lastModifiedBy>
  <dcterms:modified xsi:type="dcterms:W3CDTF">2015-03-12T07:55:56Z</dcterms:modified>
  <cp:revision>20</cp:revision>
  <dc:subject/>
  <dc:title>Презентация PowerPoint</dc:title>
</cp:coreProperties>
</file>