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878-6241-4751-9654-5DAE6824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D5D-6B45-48CE-86C4-C7406F1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628-E9DE-442F-8316-6907C170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FBC-1CCB-489B-A876-6626F04B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F55-4ED6-4E2F-8620-A756FC2F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D5D-9DC4-484C-BF27-E5A47191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15E-34E0-465A-B4C2-13AB0984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FEC-30F7-4EC3-AE17-9CFD1BB3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596-8FE9-4FBA-8F56-4EB31EC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9EF-762A-4FD4-8630-80319BC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201-6811-416C-80E8-C88BB79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8F5-60A1-4102-A111-96B8E4E2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A2C2-5127-466E-BFA0-63C47AE9B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Documents and Settings\Admin\Рабочий стол\330026694634_6845_stendprevy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Gimnastika_Vysotskogo_detskim_golosom_-_Utrennyaya_zaryadka_(xMusic.me)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620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82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Documents and Settings\Admin\Рабочий стол\bbb0d3565dbf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pic>
        <p:nvPicPr>
          <p:cNvPr id="63" name="Zvuki-Stuk-v-dver_(muzofon.com)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693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40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:\Documents and Settings\Admin\Рабочий стол\bxp51807BG.jpg"/>
          <p:cNvPicPr/>
          <p:nvPr/>
        </p:nvPicPr>
        <p:blipFill>
          <a:blip r:embed="rId1"/>
          <a:stretch/>
        </p:blipFill>
        <p:spPr>
          <a:xfrm>
            <a:off x="324000" y="333360"/>
            <a:ext cx="4114800" cy="280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:\Documents and Settings\Admin\Рабочий стол\_________________518a38252da7d.jpg"/>
          <p:cNvPicPr/>
          <p:nvPr/>
        </p:nvPicPr>
        <p:blipFill>
          <a:blip r:embed="rId2"/>
          <a:stretch/>
        </p:blipFill>
        <p:spPr>
          <a:xfrm rot="20087400">
            <a:off x="604800" y="2935080"/>
            <a:ext cx="3924360" cy="371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Documents and Settings\Admin\Рабочий стол\22_417680_1.jpeg"/>
          <p:cNvPicPr/>
          <p:nvPr/>
        </p:nvPicPr>
        <p:blipFill>
          <a:blip r:embed="rId3"/>
          <a:stretch/>
        </p:blipFill>
        <p:spPr>
          <a:xfrm rot="904800">
            <a:off x="5583240" y="3296880"/>
            <a:ext cx="3198960" cy="319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:\Documents and Settings\Admin\Рабочий стол\11101-REiKyZ.jpg"/>
          <p:cNvPicPr/>
          <p:nvPr/>
        </p:nvPicPr>
        <p:blipFill>
          <a:blip r:embed="rId4"/>
          <a:stretch/>
        </p:blipFill>
        <p:spPr>
          <a:xfrm>
            <a:off x="5219640" y="0"/>
            <a:ext cx="35290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Documents and Settings\Admin\Рабочий стол\sport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Музыка для релаксации - ПУТЕШЕСТВИЕ ПИЛИГРИМА (mp3ostrov.com).mp3" descr=""/>
          <p:cNvPicPr/>
          <p:nvPr/>
        </p:nvPicPr>
        <p:blipFill>
          <a:blip r:embed="rId2"/>
          <a:stretch/>
        </p:blipFill>
        <p:spPr>
          <a:xfrm>
            <a:off x="684360" y="599436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882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Documents and Settings\Admin\Рабочий стол\budte_zdorovy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veselaya_zaryadka.mp3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417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Admin\Рабочий стол\a8d660931ee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Documents and Settings\Admin\Рабочий стол\1311666_74051-700x5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Documents and Settings\Admin\Рабочий стол\zakalivanie-(page-picture-large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Zaryadka+-+Solnyshko+luchistoe+lyubit+skakat__(mp3top100.net).mp3" descr=""/>
          <p:cNvPicPr/>
          <p:nvPr/>
        </p:nvPicPr>
        <p:blipFill>
          <a:blip r:embed="rId2"/>
          <a:stretch/>
        </p:blipFill>
        <p:spPr>
          <a:xfrm>
            <a:off x="8028000" y="6093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77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Documents and Settings\Admin\Рабочий стол\121aasdasd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1415159911716.jpg"/>
          <p:cNvPicPr/>
          <p:nvPr/>
        </p:nvPicPr>
        <p:blipFill>
          <a:blip r:embed="rId1"/>
          <a:srcRect l="6693" t="0" r="34252" b="0"/>
          <a:stretch/>
        </p:blipFill>
        <p:spPr>
          <a:xfrm>
            <a:off x="2484360" y="0"/>
            <a:ext cx="21589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1415159935378.jpg"/>
          <p:cNvPicPr/>
          <p:nvPr/>
        </p:nvPicPr>
        <p:blipFill>
          <a:blip r:embed="rId2"/>
          <a:srcRect l="16535" t="0" r="32283" b="0"/>
          <a:stretch/>
        </p:blipFill>
        <p:spPr>
          <a:xfrm>
            <a:off x="5003640" y="0"/>
            <a:ext cx="18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1415159920362.jpg"/>
          <p:cNvPicPr/>
          <p:nvPr/>
        </p:nvPicPr>
        <p:blipFill>
          <a:blip r:embed="rId3"/>
          <a:srcRect l="28346" t="0" r="24409" b="0"/>
          <a:stretch/>
        </p:blipFill>
        <p:spPr>
          <a:xfrm>
            <a:off x="7199280" y="0"/>
            <a:ext cx="19447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K:\DCIM\Camera\IMG_20141105_120151597.jpg"/>
          <p:cNvPicPr/>
          <p:nvPr/>
        </p:nvPicPr>
        <p:blipFill>
          <a:blip r:embed="rId4"/>
          <a:srcRect l="43661" t="16358" r="8804" b="6828"/>
          <a:stretch/>
        </p:blipFill>
        <p:spPr>
          <a:xfrm>
            <a:off x="0" y="0"/>
            <a:ext cx="2050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Барбарики__БананаМама_(audiopoisk.com).mp3" descr=""/>
          <p:cNvPicPr/>
          <p:nvPr/>
        </p:nvPicPr>
        <p:blipFill>
          <a:blip r:embed="rId5"/>
          <a:stretch/>
        </p:blipFill>
        <p:spPr>
          <a:xfrm>
            <a:off x="1116000" y="404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540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Documents and Settings\Admin\Рабочий стол\Golish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Documents and Settings\Admin\Рабочий стол\1c3cf2fd-b6d4-4b45-b9d3-83d4e5e6141d.jpg"/>
          <p:cNvPicPr/>
          <p:nvPr/>
        </p:nvPicPr>
        <p:blipFill>
          <a:blip r:embed="rId1"/>
          <a:stretch/>
        </p:blipFill>
        <p:spPr>
          <a:xfrm>
            <a:off x="0" y="0"/>
            <a:ext cx="4788000" cy="3645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D:\Documents and Settings\Admin\Рабочий стол\4699903-26e29cebd481d4c0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37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:\Documents and Settings\Admin\Рабочий стол\gigiena.jpg"/>
          <p:cNvPicPr/>
          <p:nvPr/>
        </p:nvPicPr>
        <p:blipFill>
          <a:blip r:embed="rId3"/>
          <a:stretch/>
        </p:blipFill>
        <p:spPr>
          <a:xfrm>
            <a:off x="0" y="3213000"/>
            <a:ext cx="4788000" cy="3645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Documents and Settings\Admin\Рабочий стол\758.gif"/>
          <p:cNvPicPr/>
          <p:nvPr/>
        </p:nvPicPr>
        <p:blipFill>
          <a:blip r:embed="rId4"/>
          <a:stretch/>
        </p:blipFill>
        <p:spPr>
          <a:xfrm>
            <a:off x="5003640" y="3716280"/>
            <a:ext cx="4140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Documents and Settings\Admin\Рабочий стол\70016804_admupload_1269509324_Risunok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finskaya_zaryadka_tritsatsa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693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463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1:19:19Z</dcterms:created>
  <dc:creator>Admin</dc:creator>
  <dc:description/>
  <dc:language>en-US</dc:language>
  <cp:lastModifiedBy>Admin</cp:lastModifiedBy>
  <dcterms:modified xsi:type="dcterms:W3CDTF">2014-11-06T15:04:37Z</dcterms:modified>
  <cp:revision>21</cp:revision>
  <dc:subject/>
  <dc:title>Слайд 1</dc:title>
</cp:coreProperties>
</file>