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01D-8D3A-4D4E-8732-3F67B16E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8C3-0A76-4D8B-8D6E-508D7F0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386-C24D-4F9C-8F7C-668DBB26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E10-A9E8-4C2F-91F7-3639F86D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FA4-9F17-43CC-B6B4-8F9F4D00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AE1-6485-435A-B360-8FB053CA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DAF-05A4-4308-A5DF-0CB54503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241-302A-47C5-91EE-177CCD95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DC6-0440-47F9-BE39-8650FE1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5BB-59E3-498F-BA6B-3CAC150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13-F887-43E0-9DD8-2F8428E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35E-3BA1-4669-AD0A-441E611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BB7-5199-4FA1-969B-39A269119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Admin\Рабочий стол\330026694634_6845_stendprevy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imnastika_Vysotskogo_detskim_golosom_-_Utrennyaya_zaryadka_(xMusic.me)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620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8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Admin\Рабочий стол\bbb0d3565db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pic>
        <p:nvPicPr>
          <p:cNvPr id="63" name="Zvuki-Stuk-v-dver_(muzofon.com)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693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40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Documents and Settings\Admin\Рабочий стол\bxp51807BG.jpg"/>
          <p:cNvPicPr/>
          <p:nvPr/>
        </p:nvPicPr>
        <p:blipFill>
          <a:blip r:embed="rId1"/>
          <a:stretch/>
        </p:blipFill>
        <p:spPr>
          <a:xfrm>
            <a:off x="324000" y="333360"/>
            <a:ext cx="4114800" cy="280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Documents and Settings\Admin\Рабочий стол\_________________518a38252da7d.jpg"/>
          <p:cNvPicPr/>
          <p:nvPr/>
        </p:nvPicPr>
        <p:blipFill>
          <a:blip r:embed="rId2"/>
          <a:stretch/>
        </p:blipFill>
        <p:spPr>
          <a:xfrm rot="20087400">
            <a:off x="604800" y="2935080"/>
            <a:ext cx="3924360" cy="37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Documents and Settings\Admin\Рабочий стол\22_417680_1.jpeg"/>
          <p:cNvPicPr/>
          <p:nvPr/>
        </p:nvPicPr>
        <p:blipFill>
          <a:blip r:embed="rId3"/>
          <a:stretch/>
        </p:blipFill>
        <p:spPr>
          <a:xfrm rot="904800">
            <a:off x="5583240" y="3296880"/>
            <a:ext cx="3198960" cy="319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Documents and Settings\Admin\Рабочий стол\11101-REiKyZ.jpg"/>
          <p:cNvPicPr/>
          <p:nvPr/>
        </p:nvPicPr>
        <p:blipFill>
          <a:blip r:embed="rId4"/>
          <a:stretch/>
        </p:blipFill>
        <p:spPr>
          <a:xfrm>
            <a:off x="5219640" y="0"/>
            <a:ext cx="3529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ocuments and Settings\Admin\Рабочий стол\sport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Музыка для релаксации - ПУТЕШЕСТВИЕ ПИЛИГРИМА (mp3ostrov.com).mp3" descr=""/>
          <p:cNvPicPr/>
          <p:nvPr/>
        </p:nvPicPr>
        <p:blipFill>
          <a:blip r:embed="rId2"/>
          <a:stretch/>
        </p:blipFill>
        <p:spPr>
          <a:xfrm>
            <a:off x="684360" y="5994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882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Documents and Settings\Admin\Рабочий стол\budte_zdorovy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veselaya_zaryadka.mp3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7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a8d660931ee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Documents and Settings\Admin\Рабочий стол\1311666_74051-700x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zakalivanie-(page-picture-large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Zaryadka+-+Solnyshko+luchistoe+lyubit+skakat__(mp3top100.net).mp3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77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121aasdasd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415159911716.jpg"/>
          <p:cNvPicPr/>
          <p:nvPr/>
        </p:nvPicPr>
        <p:blipFill>
          <a:blip r:embed="rId1"/>
          <a:srcRect l="6693" t="0" r="34252" b="0"/>
          <a:stretch/>
        </p:blipFill>
        <p:spPr>
          <a:xfrm>
            <a:off x="2484360" y="0"/>
            <a:ext cx="215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1415159935378.jpg"/>
          <p:cNvPicPr/>
          <p:nvPr/>
        </p:nvPicPr>
        <p:blipFill>
          <a:blip r:embed="rId2"/>
          <a:srcRect l="16535" t="0" r="32283" b="0"/>
          <a:stretch/>
        </p:blipFill>
        <p:spPr>
          <a:xfrm>
            <a:off x="5003640" y="0"/>
            <a:ext cx="18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1415159920362.jpg"/>
          <p:cNvPicPr/>
          <p:nvPr/>
        </p:nvPicPr>
        <p:blipFill>
          <a:blip r:embed="rId3"/>
          <a:srcRect l="28346" t="0" r="24409" b="0"/>
          <a:stretch/>
        </p:blipFill>
        <p:spPr>
          <a:xfrm>
            <a:off x="719928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K:\DCIM\Camera\IMG_20141105_120151597.jpg"/>
          <p:cNvPicPr/>
          <p:nvPr/>
        </p:nvPicPr>
        <p:blipFill>
          <a:blip r:embed="rId4"/>
          <a:srcRect l="43661" t="16358" r="8804" b="6828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Барбарики__БананаМама_(audiopoisk.com).mp3" descr=""/>
          <p:cNvPicPr/>
          <p:nvPr/>
        </p:nvPicPr>
        <p:blipFill>
          <a:blip r:embed="rId5"/>
          <a:stretch/>
        </p:blipFill>
        <p:spPr>
          <a:xfrm>
            <a:off x="1116000" y="404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540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Golish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Documents and Settings\Admin\Рабочий стол\1c3cf2fd-b6d4-4b45-b9d3-83d4e5e6141d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64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Documents and Settings\Admin\Рабочий стол\4699903-26e29cebd481d4c0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Documents and Settings\Admin\Рабочий стол\gigiena.jpg"/>
          <p:cNvPicPr/>
          <p:nvPr/>
        </p:nvPicPr>
        <p:blipFill>
          <a:blip r:embed="rId3"/>
          <a:stretch/>
        </p:blipFill>
        <p:spPr>
          <a:xfrm>
            <a:off x="0" y="3213000"/>
            <a:ext cx="4788000" cy="364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Documents and Settings\Admin\Рабочий стол\758.gif"/>
          <p:cNvPicPr/>
          <p:nvPr/>
        </p:nvPicPr>
        <p:blipFill>
          <a:blip r:embed="rId4"/>
          <a:stretch/>
        </p:blipFill>
        <p:spPr>
          <a:xfrm>
            <a:off x="5003640" y="3716280"/>
            <a:ext cx="414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Documents and Settings\Admin\Рабочий стол\70016804_admupload_1269509324_Risunok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finskaya_zaryadka_tritsatsa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693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463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1:19:19Z</dcterms:created>
  <dc:creator>Admin</dc:creator>
  <dc:description/>
  <dc:language>en-US</dc:language>
  <cp:lastModifiedBy>Admin</cp:lastModifiedBy>
  <dcterms:modified xsi:type="dcterms:W3CDTF">2014-11-06T15:04:37Z</dcterms:modified>
  <cp:revision>21</cp:revision>
  <dc:subject/>
  <dc:title>Слайд 1</dc:title>
</cp:coreProperties>
</file>