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016E-1C5D-4BDD-85DD-6F31AFD9A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190C-7851-4728-BCDC-CA922C939B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BBFF-8083-4690-966D-1220837AEB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6887-D8DE-4C0E-A6DF-AC4C11FB4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33AE-8BE4-444D-B7E2-673B9A0CBB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DD10-D453-4483-8031-71F8BD26CE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D251-7D87-4FCC-96DE-5CB5EDEF62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F3A7-5F2C-419E-B619-57158D4720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2632-ECD6-471D-A23D-83F26A9573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D8C8-7EAC-4180-87F9-4A55208F8F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6F3D-4752-4C83-B6DB-683836A8D9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9B40-83C0-46E0-B484-0FCBB2B972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6833-9D39-4728-84FB-BBAC2618B2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7990-69C4-44FB-8653-48E304D326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9B87-6523-45FE-965C-1A9657C201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480-F73F-452A-BDC6-1B09EA677F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C07C-D36B-4C1B-9D00-32FF6490BF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CC64-8FE0-4B9A-8618-783495702F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3BCE-384D-4980-AFCA-BC845C956D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5A63-ADA4-45E7-B81E-81864354E9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B06A-6D81-431B-936A-F4892A6FA5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4A7-4AED-4768-958B-E12548728B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DDF4-8719-437E-9498-FD8A7BFF09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2C73-9C3F-4AAA-9463-E3AF05C598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C5CF-C89B-474D-BFA6-B86C318853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F87A-C08D-4F99-B83F-7E17361A80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8887-4DE4-4377-AE7A-F9CCE13E7E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4B80-D60E-45FC-87EF-2EE5809CFE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8F65-7D22-4A72-9113-ACB8175ED8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A6B8-59CC-44E5-8857-D5CD40F1E1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9589-5E51-4A73-A899-BBE8749160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0E06-9CBB-40A6-975C-3D19EA7928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6C63-B47C-4F45-AEB6-A8302A479B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828-CF43-494E-9BDD-79BF75DC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670-05BF-4659-9925-CF23DD34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11A-40CB-4A55-8B82-17043326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003-FBA4-4321-8F73-CDBA54DB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A19-C04E-40C0-A269-F3FF3649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463-19DC-46B7-86D3-0608ABE3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640-7597-4666-97AE-0B6194A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8E0-BD44-4E70-A61E-FECCCCA6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55D-403B-4D89-A156-C27EC3E7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DB4-B2BE-4B4F-897B-B8F91713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FB0-3917-400A-95BA-61F7CCF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FC9-202F-41C8-AC2B-AFF94531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5EDE-1AE7-4F77-A296-4885BA754D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539640" y="45086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ИЗО 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МК«Перспективная начальная школ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читель начальных классов: Воронина О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116000" y="1484280"/>
            <a:ext cx="73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entury Schoolbook"/>
              </a:rPr>
              <a:t>Природа – лучший учитель художни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im1-tub-ru.yandex.net/i?id=dbf4205ad9491abeba3817f1a33ed68d&amp;n=21"/>
          <p:cNvPicPr/>
          <p:nvPr/>
        </p:nvPicPr>
        <p:blipFill>
          <a:blip r:embed="rId1"/>
          <a:stretch/>
        </p:blipFill>
        <p:spPr>
          <a:xfrm>
            <a:off x="214200" y="214200"/>
            <a:ext cx="4000680" cy="306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s://im1-tub-ru.yandex.net/i?id=a7f5ff056660727324b7190e43a1f3f9&amp;n=21"/>
          <p:cNvPicPr/>
          <p:nvPr/>
        </p:nvPicPr>
        <p:blipFill>
          <a:blip r:embed="rId2"/>
          <a:stretch/>
        </p:blipFill>
        <p:spPr>
          <a:xfrm>
            <a:off x="4857840" y="21420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s://im2-tub-ru.yandex.net/i?id=be4270e5259bbdea1bc95297ad097846&amp;n=21"/>
          <p:cNvPicPr/>
          <p:nvPr/>
        </p:nvPicPr>
        <p:blipFill>
          <a:blip r:embed="rId3"/>
          <a:stretch/>
        </p:blipFill>
        <p:spPr>
          <a:xfrm>
            <a:off x="214200" y="3714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s://im3-tub-ru.yandex.net/i?id=4411a1eab4b5fde541af9b918f2e9cb2&amp;n=21"/>
          <p:cNvPicPr/>
          <p:nvPr/>
        </p:nvPicPr>
        <p:blipFill>
          <a:blip r:embed="rId4"/>
          <a:stretch/>
        </p:blipFill>
        <p:spPr>
          <a:xfrm>
            <a:off x="4714920" y="3786120"/>
            <a:ext cx="4071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571680" y="4286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то гор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https://im1-tub-ru.yandex.net/i?id=0e529c385c453ed42ed057873c6be9cf&amp;n=21"/>
          <p:cNvPicPr/>
          <p:nvPr/>
        </p:nvPicPr>
        <p:blipFill>
          <a:blip r:embed="rId1"/>
          <a:stretch/>
        </p:blipFill>
        <p:spPr>
          <a:xfrm>
            <a:off x="142920" y="21420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Форум сайта Хорист.ру Powered by Invision Power Board"/>
          <p:cNvPicPr/>
          <p:nvPr/>
        </p:nvPicPr>
        <p:blipFill>
          <a:blip r:embed="rId2"/>
          <a:stretch/>
        </p:blipFill>
        <p:spPr>
          <a:xfrm>
            <a:off x="3429000" y="2519280"/>
            <a:ext cx="5548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1" descr="https://im2-tub-ru.yandex.net/i?id=0ab8e2676f9a26547125a13c1a975b50&amp;n=21"/>
          <p:cNvPicPr/>
          <p:nvPr/>
        </p:nvPicPr>
        <p:blipFill>
          <a:blip r:embed="rId1"/>
          <a:stretch/>
        </p:blipFill>
        <p:spPr>
          <a:xfrm>
            <a:off x="5214960" y="714240"/>
            <a:ext cx="3771720" cy="235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США Page 9"/>
          <p:cNvPicPr/>
          <p:nvPr/>
        </p:nvPicPr>
        <p:blipFill>
          <a:blip r:embed="rId2"/>
          <a:stretch/>
        </p:blipFill>
        <p:spPr>
          <a:xfrm>
            <a:off x="5334120" y="3643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Экстримальная Земля от NGO. . Природа"/>
          <p:cNvPicPr/>
          <p:nvPr/>
        </p:nvPicPr>
        <p:blipFill>
          <a:blip r:embed="rId3"/>
          <a:stretch/>
        </p:blipFill>
        <p:spPr>
          <a:xfrm>
            <a:off x="142920" y="928800"/>
            <a:ext cx="492912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7" descr="http://img1.liveinternet.ru/images/foto/b/3/apps/0/255/255433_1216558938j2mrquf.jpg"/>
          <p:cNvPicPr/>
          <p:nvPr/>
        </p:nvPicPr>
        <p:blipFill>
          <a:blip r:embed="rId1"/>
          <a:stretch/>
        </p:blipFill>
        <p:spPr>
          <a:xfrm>
            <a:off x="714240" y="714240"/>
            <a:ext cx="8050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8" descr="Ян Керк"/>
          <p:cNvPicPr/>
          <p:nvPr/>
        </p:nvPicPr>
        <p:blipFill>
          <a:blip r:embed="rId1"/>
          <a:stretch/>
        </p:blipFill>
        <p:spPr>
          <a:xfrm>
            <a:off x="357120" y="428760"/>
            <a:ext cx="82630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50920" y="404640"/>
            <a:ext cx="332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в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чум - Фотоальбомы - Самиздат: проза, стихи, зарисовки и другие произведения автора"/>
          <p:cNvPicPr/>
          <p:nvPr/>
        </p:nvPicPr>
        <p:blipFill>
          <a:blip r:embed="rId1"/>
          <a:stretch/>
        </p:blipFill>
        <p:spPr>
          <a:xfrm>
            <a:off x="142920" y="3260880"/>
            <a:ext cx="4714920" cy="333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Снимки севера в работах Paula Nicklena www.krasfun.ru"/>
          <p:cNvPicPr/>
          <p:nvPr/>
        </p:nvPicPr>
        <p:blipFill>
          <a:blip r:embed="rId2"/>
          <a:stretch/>
        </p:blipFill>
        <p:spPr>
          <a:xfrm>
            <a:off x="3592440" y="285840"/>
            <a:ext cx="5408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Скачивание изображения: север, природа, зима 268633 / Разрешение: original / Раздел: Пейзажи / HallPic.ru"/>
          <p:cNvPicPr/>
          <p:nvPr/>
        </p:nvPicPr>
        <p:blipFill>
          <a:blip r:embed="rId1"/>
          <a:stretch/>
        </p:blipFill>
        <p:spPr>
          <a:xfrm>
            <a:off x="142920" y="714240"/>
            <a:ext cx="5268960" cy="507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Снимки севера в работах Paula Nicklena www.krasfun.ru"/>
          <p:cNvPicPr/>
          <p:nvPr/>
        </p:nvPicPr>
        <p:blipFill>
          <a:blip r:embed="rId2"/>
          <a:stretch/>
        </p:blipFill>
        <p:spPr>
          <a:xfrm>
            <a:off x="5575320" y="3786120"/>
            <a:ext cx="342576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Ямал - Природа Севера"/>
          <p:cNvPicPr/>
          <p:nvPr/>
        </p:nvPicPr>
        <p:blipFill>
          <a:blip r:embed="rId3"/>
          <a:stretch/>
        </p:blipFill>
        <p:spPr>
          <a:xfrm>
            <a:off x="5500800" y="785880"/>
            <a:ext cx="3533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572000" y="321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. Врубель. Снегур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Ляйсан Трушина (Газимуллина) : Одноклассники"/>
          <p:cNvPicPr/>
          <p:nvPr/>
        </p:nvPicPr>
        <p:blipFill>
          <a:blip r:embed="rId1"/>
          <a:stretch/>
        </p:blipFill>
        <p:spPr>
          <a:xfrm>
            <a:off x="142920" y="3357720"/>
            <a:ext cx="5143320" cy="334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дерево, ёлка, природа, лес, пейзаж, красота, зима, снег - (к…"/>
          <p:cNvPicPr/>
          <p:nvPr/>
        </p:nvPicPr>
        <p:blipFill>
          <a:blip r:embed="rId2"/>
          <a:stretch/>
        </p:blipFill>
        <p:spPr>
          <a:xfrm>
            <a:off x="4214880" y="142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250920" y="40464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а Юг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Обои на kards.qip.ru - Природа - Краски юга - Закачка"/>
          <p:cNvPicPr/>
          <p:nvPr/>
        </p:nvPicPr>
        <p:blipFill>
          <a:blip r:embed="rId1"/>
          <a:stretch/>
        </p:blipFill>
        <p:spPr>
          <a:xfrm>
            <a:off x="214200" y="2143080"/>
            <a:ext cx="6000840" cy="450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МТС и Кавказский заповедник проводят совместную акцию по защите уникальной природы юга России :: Новости - RuFox"/>
          <p:cNvPicPr/>
          <p:nvPr/>
        </p:nvPicPr>
        <p:blipFill>
          <a:blip r:embed="rId2"/>
          <a:stretch/>
        </p:blipFill>
        <p:spPr>
          <a:xfrm>
            <a:off x="5214960" y="214200"/>
            <a:ext cx="37479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амый идиллический штат Индии - Керала, Индия, отдых в Индии, Тривандрум"/>
          <p:cNvPicPr/>
          <p:nvPr/>
        </p:nvPicPr>
        <p:blipFill>
          <a:blip r:embed="rId1"/>
          <a:stretch/>
        </p:blipFill>
        <p:spPr>
          <a:xfrm>
            <a:off x="142920" y="142920"/>
            <a:ext cx="4954680" cy="45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Красивые места в Краснодарском крае.. 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5213520" y="3000240"/>
            <a:ext cx="37731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4"/>
          <p:cNvSpPr/>
          <p:nvPr/>
        </p:nvSpPr>
        <p:spPr>
          <a:xfrm>
            <a:off x="357120" y="47149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Природа Земли разнообраз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214960" y="85716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Ты живешь на большой и прекрасной планете – Зем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https://im0-tub-ru.yandex.net/i?id=16289b67b2200932d0a7366a82874188&amp;n=21"/>
          <p:cNvPicPr/>
          <p:nvPr/>
        </p:nvPicPr>
        <p:blipFill>
          <a:blip r:embed="rId1"/>
          <a:stretch/>
        </p:blipFill>
        <p:spPr>
          <a:xfrm>
            <a:off x="214200" y="14292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Я.ру закрыт"/>
          <p:cNvPicPr/>
          <p:nvPr/>
        </p:nvPicPr>
        <p:blipFill>
          <a:blip r:embed="rId2"/>
          <a:stretch/>
        </p:blipFill>
        <p:spPr>
          <a:xfrm>
            <a:off x="3643200" y="2889360"/>
            <a:ext cx="52866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Русский юг &quot; Фотоприколы и картинки на Чундре"/>
          <p:cNvPicPr/>
          <p:nvPr/>
        </p:nvPicPr>
        <p:blipFill>
          <a:blip r:embed="rId1"/>
          <a:stretch/>
        </p:blipFill>
        <p:spPr>
          <a:xfrm>
            <a:off x="142920" y="142920"/>
            <a:ext cx="4095720" cy="3714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Kerala Nature Wallpaper"/>
          <p:cNvPicPr/>
          <p:nvPr/>
        </p:nvPicPr>
        <p:blipFill>
          <a:blip r:embed="rId2"/>
          <a:stretch/>
        </p:blipFill>
        <p:spPr>
          <a:xfrm>
            <a:off x="3857760" y="2749680"/>
            <a:ext cx="5286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1785960" y="35712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а Запа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Дикая природа Канады.. . Фотограф Norman Rich (145 фото) &quot; Фото лучших фотографов планеты! . Фото девушек, Красивые девушки!"/>
          <p:cNvPicPr/>
          <p:nvPr/>
        </p:nvPicPr>
        <p:blipFill>
          <a:blip r:embed="rId1"/>
          <a:stretch/>
        </p:blipFill>
        <p:spPr>
          <a:xfrm>
            <a:off x="534960" y="1492200"/>
            <a:ext cx="77518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Download дикий запад обои pictures for free and share now"/>
          <p:cNvPicPr/>
          <p:nvPr/>
        </p:nvPicPr>
        <p:blipFill>
          <a:blip r:embed="rId1"/>
          <a:stretch/>
        </p:blipFill>
        <p:spPr>
          <a:xfrm>
            <a:off x="714240" y="500040"/>
            <a:ext cx="7858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Парк чудес дикой природы Путешествия и туризм"/>
          <p:cNvPicPr/>
          <p:nvPr/>
        </p:nvPicPr>
        <p:blipFill>
          <a:blip r:embed="rId1"/>
          <a:stretch/>
        </p:blipFill>
        <p:spPr>
          <a:xfrm>
            <a:off x="214200" y="357120"/>
            <a:ext cx="5465880" cy="364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&quot;Дикий Запад&quot; Тур 2"/>
          <p:cNvPicPr/>
          <p:nvPr/>
        </p:nvPicPr>
        <p:blipFill>
          <a:blip r:embed="rId2"/>
          <a:stretch/>
        </p:blipFill>
        <p:spPr>
          <a:xfrm>
            <a:off x="4357800" y="3286080"/>
            <a:ext cx="45147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857240" y="42876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а Вост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Блог Архангела - Дальний Восток"/>
          <p:cNvPicPr/>
          <p:nvPr/>
        </p:nvPicPr>
        <p:blipFill>
          <a:blip r:embed="rId1"/>
          <a:stretch/>
        </p:blipFill>
        <p:spPr>
          <a:xfrm>
            <a:off x="785880" y="1428840"/>
            <a:ext cx="7512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Фото Клён японский - фотограф Олег Сопов - природа - ФотоФорум.ру"/>
          <p:cNvPicPr/>
          <p:nvPr/>
        </p:nvPicPr>
        <p:blipFill>
          <a:blip r:embed="rId1"/>
          <a:stretch/>
        </p:blipFill>
        <p:spPr>
          <a:xfrm>
            <a:off x="4838760" y="142920"/>
            <a:ext cx="4186080" cy="27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Северные Земли Фотосайт Дальнего Востока и Сибири - Кравцовские водопады"/>
          <p:cNvPicPr/>
          <p:nvPr/>
        </p:nvPicPr>
        <p:blipFill>
          <a:blip r:embed="rId2"/>
          <a:stretch/>
        </p:blipFill>
        <p:spPr>
          <a:xfrm>
            <a:off x="214200" y="2500200"/>
            <a:ext cx="624060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дальний восток россии фото Фотоархив"/>
          <p:cNvPicPr/>
          <p:nvPr/>
        </p:nvPicPr>
        <p:blipFill>
          <a:blip r:embed="rId1"/>
          <a:stretch/>
        </p:blipFill>
        <p:spPr>
          <a:xfrm>
            <a:off x="4214880" y="142920"/>
            <a:ext cx="4714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Природа Дальнего Востока.. 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357120" y="3587760"/>
            <a:ext cx="42148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Новости - GoMap.Az"/>
          <p:cNvPicPr/>
          <p:nvPr/>
        </p:nvPicPr>
        <p:blipFill>
          <a:blip r:embed="rId1"/>
          <a:stretch/>
        </p:blipFill>
        <p:spPr>
          <a:xfrm>
            <a:off x="142920" y="3976560"/>
            <a:ext cx="4286160" cy="2795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илуэты от фотографа Навида Мугала www.krasfun.ru"/>
          <p:cNvPicPr/>
          <p:nvPr/>
        </p:nvPicPr>
        <p:blipFill>
          <a:blip r:embed="rId2"/>
          <a:stretch/>
        </p:blipFill>
        <p:spPr>
          <a:xfrm>
            <a:off x="3500280" y="142920"/>
            <a:ext cx="5477040" cy="3922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684360" y="62064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Художники всегда восхищались красотой и многообразием прир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395280" y="105264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ни изображали природу в разное время года и при разной пог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Исаак Ильич Левитан - Пейзажи всей России Тенденции дизайна"/>
          <p:cNvPicPr/>
          <p:nvPr/>
        </p:nvPicPr>
        <p:blipFill>
          <a:blip r:embed="rId1"/>
          <a:stretch/>
        </p:blipFill>
        <p:spPr>
          <a:xfrm>
            <a:off x="179280" y="3657600"/>
            <a:ext cx="4608720" cy="2882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Анастасия Миранчукова ВКонтакте"/>
          <p:cNvPicPr/>
          <p:nvPr/>
        </p:nvPicPr>
        <p:blipFill>
          <a:blip r:embed="rId2"/>
          <a:stretch/>
        </p:blipFill>
        <p:spPr>
          <a:xfrm>
            <a:off x="4143240" y="177840"/>
            <a:ext cx="4532400" cy="3036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226840" y="59500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И. Леви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9" descr="Страны"/>
          <p:cNvPicPr/>
          <p:nvPr/>
        </p:nvPicPr>
        <p:blipFill>
          <a:blip r:embed="rId1"/>
          <a:stretch/>
        </p:blipFill>
        <p:spPr>
          <a:xfrm>
            <a:off x="3419640" y="3573360"/>
            <a:ext cx="5500440" cy="3000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Гении русского пейзажа. . Левитан Картины и живопись художников. . Графика и галереи."/>
          <p:cNvPicPr/>
          <p:nvPr/>
        </p:nvPicPr>
        <p:blipFill>
          <a:blip r:embed="rId2"/>
          <a:stretch/>
        </p:blipFill>
        <p:spPr>
          <a:xfrm>
            <a:off x="179280" y="133200"/>
            <a:ext cx="3178440" cy="37753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8"/>
          <p:cNvSpPr/>
          <p:nvPr/>
        </p:nvSpPr>
        <p:spPr>
          <a:xfrm>
            <a:off x="3780000" y="119700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Изображение природы в искусстве называется </a:t>
            </a:r>
            <a:r>
              <a:rPr b="1" i="1" lang="ru-RU" sz="3200" spc="-1" strike="noStrike">
                <a:solidFill>
                  <a:srgbClr val="292900"/>
                </a:solidFill>
                <a:latin typeface="Arial"/>
              </a:rPr>
              <a:t>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1554480" y="623736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И. Леви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500040" y="14288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92900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292900"/>
                </a:solidFill>
                <a:latin typeface="Arial"/>
              </a:rPr>
              <a:t>это равни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9" descr="Цены на земли сельскохозяйственного назначения будет расти во всем мире - Новости недвижимости - Справочник по недвижимости Челя"/>
          <p:cNvPicPr/>
          <p:nvPr/>
        </p:nvPicPr>
        <p:blipFill>
          <a:blip r:embed="rId1"/>
          <a:stretch/>
        </p:blipFill>
        <p:spPr>
          <a:xfrm>
            <a:off x="4572000" y="21420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s://im2-tub-ru.yandex.net/i?id=40f6cee758a25b384c5399b8af7d004a&amp;n=21"/>
          <p:cNvPicPr/>
          <p:nvPr/>
        </p:nvPicPr>
        <p:blipFill>
          <a:blip r:embed="rId2"/>
          <a:stretch/>
        </p:blipFill>
        <p:spPr>
          <a:xfrm>
            <a:off x="4929120" y="3643200"/>
            <a:ext cx="4048200" cy="303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красивая природа 5199870a4i"/>
          <p:cNvPicPr/>
          <p:nvPr/>
        </p:nvPicPr>
        <p:blipFill>
          <a:blip r:embed="rId3"/>
          <a:stretch/>
        </p:blipFill>
        <p:spPr>
          <a:xfrm>
            <a:off x="214200" y="3657600"/>
            <a:ext cx="4500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0" descr="Поздравления с памятными датами и праздниками:профессиональными, религиозными и т.д. - Страница 170 - Форум клуба Tiguans"/>
          <p:cNvPicPr/>
          <p:nvPr/>
        </p:nvPicPr>
        <p:blipFill>
          <a:blip r:embed="rId1"/>
          <a:stretch/>
        </p:blipFill>
        <p:spPr>
          <a:xfrm>
            <a:off x="250920" y="3645000"/>
            <a:ext cx="478620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Рерих: &quot;Шекар-дзонг&quot; (сайт - Красота и Мудрость)"/>
          <p:cNvPicPr/>
          <p:nvPr/>
        </p:nvPicPr>
        <p:blipFill>
          <a:blip r:embed="rId2"/>
          <a:stretch/>
        </p:blipFill>
        <p:spPr>
          <a:xfrm>
            <a:off x="3059280" y="476280"/>
            <a:ext cx="5513400" cy="30020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6"/>
          <p:cNvSpPr/>
          <p:nvPr/>
        </p:nvSpPr>
        <p:spPr>
          <a:xfrm>
            <a:off x="5802120" y="5661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Н. Ре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3" descr="искусства &quot; GIGART.RU - Гигабайт искусства - портал обо всем интересном о дизайне, архитектуре."/>
          <p:cNvPicPr/>
          <p:nvPr/>
        </p:nvPicPr>
        <p:blipFill>
          <a:blip r:embed="rId1"/>
          <a:stretch/>
        </p:blipFill>
        <p:spPr>
          <a:xfrm>
            <a:off x="5025960" y="404640"/>
            <a:ext cx="3649680" cy="273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Природа и художник Также читайте"/>
          <p:cNvPicPr/>
          <p:nvPr/>
        </p:nvPicPr>
        <p:blipFill>
          <a:blip r:embed="rId2"/>
          <a:stretch/>
        </p:blipFill>
        <p:spPr>
          <a:xfrm>
            <a:off x="250920" y="1628640"/>
            <a:ext cx="4535280" cy="354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oboi.kards.qip.ru/images/wallpaper/c5/42/82629_1280_1024.jpg"/>
          <p:cNvPicPr/>
          <p:nvPr/>
        </p:nvPicPr>
        <p:blipFill>
          <a:blip r:embed="rId3"/>
          <a:stretch/>
        </p:blipFill>
        <p:spPr>
          <a:xfrm>
            <a:off x="5003640" y="3573360"/>
            <a:ext cx="3662640" cy="29307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974880" y="573264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И. Айвоз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2"/>
          <p:cNvSpPr/>
          <p:nvPr/>
        </p:nvSpPr>
        <p:spPr>
          <a:xfrm>
            <a:off x="826920" y="162864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8"/>
          <p:cNvSpPr/>
          <p:nvPr/>
        </p:nvSpPr>
        <p:spPr>
          <a:xfrm>
            <a:off x="642960" y="1214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…</a:t>
            </a: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поля и степ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0" descr="https://im1-tub-ru.yandex.net/i?id=9329f84fc5aeaac58e5b2e83b6ebc40a&amp;n=21"/>
          <p:cNvPicPr/>
          <p:nvPr/>
        </p:nvPicPr>
        <p:blipFill>
          <a:blip r:embed="rId1"/>
          <a:stretch/>
        </p:blipFill>
        <p:spPr>
          <a:xfrm>
            <a:off x="5429160" y="3429000"/>
            <a:ext cx="347184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Тема дня - Новости"/>
          <p:cNvPicPr/>
          <p:nvPr/>
        </p:nvPicPr>
        <p:blipFill>
          <a:blip r:embed="rId2"/>
          <a:stretch/>
        </p:blipFill>
        <p:spPr>
          <a:xfrm>
            <a:off x="5357880" y="285840"/>
            <a:ext cx="3603600" cy="225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Природа обои - изумительные пейзажи с разных уголков Земли"/>
          <p:cNvPicPr/>
          <p:nvPr/>
        </p:nvPicPr>
        <p:blipFill>
          <a:blip r:embed="rId3"/>
          <a:stretch/>
        </p:blipFill>
        <p:spPr>
          <a:xfrm>
            <a:off x="214200" y="2500200"/>
            <a:ext cx="49294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http://ic.pics.livejournal.com/preciouslace/57302452/4401/4401_900.jpg"/>
          <p:cNvPicPr/>
          <p:nvPr/>
        </p:nvPicPr>
        <p:blipFill>
          <a:blip r:embed="rId1"/>
          <a:stretch/>
        </p:blipFill>
        <p:spPr>
          <a:xfrm>
            <a:off x="4429080" y="142920"/>
            <a:ext cx="4500720" cy="3314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s018.radikal.ru/i525/1309/0e/cf69313bd62a.jpg"/>
          <p:cNvPicPr/>
          <p:nvPr/>
        </p:nvPicPr>
        <p:blipFill>
          <a:blip r:embed="rId2"/>
          <a:stretch/>
        </p:blipFill>
        <p:spPr>
          <a:xfrm>
            <a:off x="285840" y="1071720"/>
            <a:ext cx="3714840" cy="5403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642960" y="5000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Это ле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https://im3-tub-ru.yandex.net/i?id=5e1f8fa1860f5d398792dc75f8985531&amp;n=21"/>
          <p:cNvPicPr/>
          <p:nvPr/>
        </p:nvPicPr>
        <p:blipFill>
          <a:blip r:embed="rId3"/>
          <a:stretch/>
        </p:blipFill>
        <p:spPr>
          <a:xfrm>
            <a:off x="4357800" y="3762360"/>
            <a:ext cx="442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Великолепные красоты природы земли (Часть 9) &quot; Fantastikworld.ru - мир развлечений! . Скачать бесплатно детские рамки, рамки сва"/>
          <p:cNvPicPr/>
          <p:nvPr/>
        </p:nvPicPr>
        <p:blipFill>
          <a:blip r:embed="rId1"/>
          <a:stretch/>
        </p:blipFill>
        <p:spPr>
          <a:xfrm>
            <a:off x="0" y="3357720"/>
            <a:ext cx="4743360" cy="324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delcapitano.ru/image/cache/data/Tovar/Priroda/PRI%20-%20004-1130x630.jpg"/>
          <p:cNvPicPr/>
          <p:nvPr/>
        </p:nvPicPr>
        <p:blipFill>
          <a:blip r:embed="rId2"/>
          <a:stretch/>
        </p:blipFill>
        <p:spPr>
          <a:xfrm>
            <a:off x="1857240" y="285840"/>
            <a:ext cx="5000760" cy="291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time-spending.com/image-17-0-3521.jpg?r=f66d4f45-cb0e-487d-8df8-5a169e5e302f"/>
          <p:cNvPicPr/>
          <p:nvPr/>
        </p:nvPicPr>
        <p:blipFill>
          <a:blip r:embed="rId3"/>
          <a:stretch/>
        </p:blipFill>
        <p:spPr>
          <a:xfrm>
            <a:off x="4857840" y="3357720"/>
            <a:ext cx="41576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4"/>
          <p:cNvSpPr/>
          <p:nvPr/>
        </p:nvSpPr>
        <p:spPr>
          <a:xfrm>
            <a:off x="3714840" y="44355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Рябинка? Яблонь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https://im0-tub-ru.yandex.net/i?id=178c21620ceba6798105d0e74482ebd6&amp;n=21"/>
          <p:cNvPicPr/>
          <p:nvPr/>
        </p:nvPicPr>
        <p:blipFill>
          <a:blip r:embed="rId1"/>
          <a:stretch/>
        </p:blipFill>
        <p:spPr>
          <a:xfrm>
            <a:off x="5929200" y="214200"/>
            <a:ext cx="2859120" cy="228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Природа, Красота красота красота, beauty nature 3, Природа, Красота, Красота, природа, фотографии, basik.ru"/>
          <p:cNvPicPr/>
          <p:nvPr/>
        </p:nvPicPr>
        <p:blipFill>
          <a:blip r:embed="rId2"/>
          <a:stretch/>
        </p:blipFill>
        <p:spPr>
          <a:xfrm>
            <a:off x="142920" y="2286000"/>
            <a:ext cx="6095880" cy="44290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1154160" y="85716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Это реки и моря</a:t>
            </a: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4"/>
          <p:cNvSpPr/>
          <p:nvPr/>
        </p:nvSpPr>
        <p:spPr>
          <a:xfrm>
            <a:off x="3714840" y="44355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Рябинка? Яблонь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Фотопроект &quot;Чудеса природы на планете Земля&quot;"/>
          <p:cNvPicPr/>
          <p:nvPr/>
        </p:nvPicPr>
        <p:blipFill>
          <a:blip r:embed="rId1"/>
          <a:stretch/>
        </p:blipFill>
        <p:spPr>
          <a:xfrm>
            <a:off x="428760" y="928800"/>
            <a:ext cx="8143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s018.radikal.ru/i509/1308/ce/9390e6a0bb74.jpg"/>
          <p:cNvPicPr/>
          <p:nvPr/>
        </p:nvPicPr>
        <p:blipFill>
          <a:blip r:embed="rId1"/>
          <a:stretch/>
        </p:blipFill>
        <p:spPr>
          <a:xfrm>
            <a:off x="285840" y="428760"/>
            <a:ext cx="792936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08:38:23Z</dcterms:created>
  <dc:creator>Татьяна</dc:creator>
  <dc:description/>
  <dc:language>en-US</dc:language>
  <cp:lastModifiedBy>Карповская МСОШ</cp:lastModifiedBy>
  <dcterms:modified xsi:type="dcterms:W3CDTF">2015-04-15T08:38:52Z</dcterms:modified>
  <cp:revision>150</cp:revision>
  <dc:subject/>
  <dc:title>Слайд 1</dc:title>
</cp:coreProperties>
</file>