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78912-48D8-45CF-801E-FADE128F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E897C-C768-440E-8221-FF8FCF24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92A04-440D-482A-A02F-0442F9F7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7E652-0FC9-4802-A032-81C12384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0D793-AB96-4323-9846-38BDE459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3C730-7BAC-4EB9-89CD-D69FEDD2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AF5BB-78BF-4003-9664-3068D963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F577C-5EB1-4C45-8B34-6ED6431E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B92CC-15CF-4B9E-9AFA-15597E95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957-6738-4807-A235-4B4FBBCC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74EE-D3F3-4AFA-B234-909302AF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948-92CC-4882-98F7-B66C7A69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A109-1C3A-4718-B8EA-9E071987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BFBA-7890-40C2-9E0C-5A30D54A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F6A-597A-4203-B517-80A355F4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CE0A-627C-40E9-A927-34E6DC9E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D8B6-557E-42E3-856C-E08A9194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5ED6-60F6-416E-87E0-02C62440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909-06F2-44DD-B6F4-ED39004B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9B5A-3BDA-4010-B260-22628E9A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A83-F1DD-46EB-8D0E-144B66EE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5137-A4A7-4171-9B9A-EA914590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B236-6293-41AB-8EFB-C762A522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83C3-5E5D-41DD-9EA3-30B7919E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90A2-0DF7-4CEB-8911-2D5452A7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EF62-101C-4421-AC03-15A35AA1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6FBD-681D-4DE2-814D-95F0C60A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5E02-AB3D-4D3F-AC49-5F40C198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C314-3E39-40B3-9F7F-D77C8ADA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C968-E38C-4B50-A927-B9D59E4F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477B-8BEA-42C1-9C5F-4C731DDD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D2E6-30CF-41A0-9ECB-1FF493A4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D478-CB1F-4BC4-A2B6-9BE3257D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991F0-E339-4C04-87D4-17122613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D796E-F8F9-4E02-B637-8DE919CA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5CE24-AEEE-47F8-ADA6-BFC62E8C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D80AB-2AD6-4B4F-8BE5-28D4E1A7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FDC05-0989-4DDA-9E99-6DF6498B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17BC1-38EC-4717-A70B-C0A4A965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C7E0D-BB10-4066-ABD6-49C87E31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2E117-24EE-482B-B222-F9F44967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57D0F-BCCF-4CDC-88AE-ED1E8AC7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7899A-273B-4CC3-A065-001E9BBD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13C0B-FFED-4549-BD53-101896EF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C2405-FEB4-4F37-804C-FDC6BB48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004E8-2121-4C02-BF5B-2CC94D5E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6D075-C6A3-4650-9A9C-DDB19157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C110F-178E-4DED-BC9C-8C3B5E7B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B5DB5-5834-4B19-94F1-64D1325E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C9026-6621-499D-9B1C-30816E02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4D399-7C1F-48C7-913D-A595303D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0664B-8ABC-4C27-8565-07A033B6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96CFE-FDD8-4B3D-9332-6DD41D8C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12681-B203-4E67-81DB-0CA8B471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E545C-9B1F-4BAB-87E3-77299241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4160D-CB72-4E4E-A40C-1F9A7B87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817AC-3E6C-4BD0-8C20-E1711155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55578-A4D9-43B7-AA5D-14A5550A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98596-C54F-456E-8D96-1DE3CC66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241F9-1FF8-4155-BAB2-4D71BB03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FBBAA-F5BF-4787-927C-31897AB4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C9299-7018-4011-82B0-8492BECC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52AE5-AD5B-44B2-BB81-0B0C5937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53C12-F9F8-4474-AA24-1D9555C8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A47D8-C8EA-49F1-85BB-CE63072C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ECA27-257E-44B3-A504-C5C8CAC0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945AE-F86A-4357-A062-1A24F1FD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8475C-A2AA-4676-95BC-0DAD790D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0D475-D05E-44C3-87AF-8CF2883B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DC30A-130C-4B71-9758-A810B67C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E442F-8846-43DA-9EDB-F0558676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936F2-1AC7-4896-AF08-611222FA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8DAE6-BABC-4D19-AFC5-1B0F168C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32079-1843-4678-B96A-FDA75BC0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E2E25-D47B-46E5-A8DC-F622AAE0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1DADD-F832-419D-BDA6-FF264B14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AE540-C739-4BD2-8C31-8A6F2B8A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46A92-AF4F-43D1-967A-120B4779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B432C-791E-46F0-A656-72A7D2C3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5928D-ADB2-402E-B72F-D25FFE55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B33E8-0031-446E-B1EA-EBB7651E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57817-546A-4F7B-BEC8-93E5E7B9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76958-0E41-4DFD-BAF0-EB508979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387AD-02E1-4008-8351-569BE854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1September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6CF4-C35A-45EA-AFBD-342DE0A98731}" type="datetime">
              <a:rPr b="0" lang="en-US" sz="10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6CBC-A650-430F-90B2-83F58CB902AD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1September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128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26EC-B53C-4F4E-8259-0A7F2127167F}" type="datetime3">
              <a:rPr b="0" lang="en-US" sz="1000" spc="-1" strike="noStrike">
                <a:solidFill>
                  <a:srgbClr val="073e87"/>
                </a:solidFill>
                <a:latin typeface="Candara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9CED-82EA-428B-9EFC-F2667D1A426A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0367-4756-4BDE-92D6-379CEC77F07C}" type="datetime3">
              <a:rPr b="0" lang="en-US" sz="1000" spc="-1" strike="noStrike">
                <a:solidFill>
                  <a:srgbClr val="073e87"/>
                </a:solidFill>
                <a:latin typeface="Candara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9208-42E1-498B-AD69-3DBA490D6048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223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02C6-85CB-4E58-9657-48C6F75203A1}" type="datetime3">
              <a:rPr b="0" lang="en-US" sz="1000" spc="-1" strike="noStrike">
                <a:solidFill>
                  <a:srgbClr val="073e87"/>
                </a:solidFill>
                <a:latin typeface="Candara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3F5B-5480-4F7F-84E2-E3DD4F7B7572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71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20BC-A4F5-428D-B91B-12E4D07847FC}" type="datetime3">
              <a:rPr b="0" lang="en-US" sz="1000" spc="-1" strike="noStrike">
                <a:solidFill>
                  <a:srgbClr val="073e87"/>
                </a:solidFill>
                <a:latin typeface="Candara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99E6-1952-4744-814D-EA7589023074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319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0679-B37A-4FEB-85F6-7727488D8C6D}" type="datetime3">
              <a:rPr b="0" lang="en-US" sz="1000" spc="-1" strike="noStrike">
                <a:solidFill>
                  <a:srgbClr val="073e87"/>
                </a:solidFill>
                <a:latin typeface="Candara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D9B5-51A4-4F92-B347-F3ABEBE4F1A5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67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DF05-0F01-41CB-87BC-C5CD30CB0AE2}" type="datetime3">
              <a:rPr b="0" lang="en-US" sz="1000" spc="-1" strike="noStrike">
                <a:solidFill>
                  <a:srgbClr val="073e87"/>
                </a:solidFill>
                <a:latin typeface="Candara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BC35-3BF8-471E-891C-4AE47ABD7D5B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1844280"/>
            <a:ext cx="7993080" cy="23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детский сад комбинированного вида «Жемчужинка»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ое сопровождение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го развития ребенка младшего дошкольного возраста</a:t>
            </a:r>
            <a:br>
              <a:rPr sz="4000"/>
            </a:b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0" y="5013360"/>
            <a:ext cx="344808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яс М.О.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5" name="Рисунок 4" descr="D:\Рабочий стол\сенсорика\20150128_094248.jpg"/>
          <p:cNvPicPr/>
          <p:nvPr/>
        </p:nvPicPr>
        <p:blipFill>
          <a:blip r:embed="rId1"/>
          <a:stretch/>
        </p:blipFill>
        <p:spPr>
          <a:xfrm>
            <a:off x="1042920" y="4005360"/>
            <a:ext cx="38163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тереогностический модуль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3" name="Picture 2" descr="D:\Рабочий стол\фоьто11\20150218_140354.jpg"/>
          <p:cNvPicPr/>
          <p:nvPr/>
        </p:nvPicPr>
        <p:blipFill>
          <a:blip r:embed="rId1"/>
          <a:stretch/>
        </p:blipFill>
        <p:spPr>
          <a:xfrm>
            <a:off x="1111320" y="2060640"/>
            <a:ext cx="3587760" cy="2690640"/>
          </a:xfrm>
          <a:prstGeom prst="rect">
            <a:avLst/>
          </a:prstGeom>
          <a:ln w="0">
            <a:noFill/>
          </a:ln>
        </p:spPr>
      </p:pic>
      <p:sp>
        <p:nvSpPr>
          <p:cNvPr id="444" name="Прямоугольник 1"/>
          <p:cNvSpPr/>
          <p:nvPr/>
        </p:nvSpPr>
        <p:spPr>
          <a:xfrm>
            <a:off x="685800" y="5083200"/>
            <a:ext cx="712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52e6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Способствует утончению  восприятия фор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52e6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Развивает быстроту сужд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52e6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Развивает логику математического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Кугельбан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6" name="Picture 2" descr="D:\Рабочий стол\фоьто11\20150218_140550.jpg"/>
          <p:cNvPicPr/>
          <p:nvPr/>
        </p:nvPicPr>
        <p:blipFill>
          <a:blip r:embed="rId1"/>
          <a:stretch/>
        </p:blipFill>
        <p:spPr>
          <a:xfrm>
            <a:off x="1476360" y="1773360"/>
            <a:ext cx="3816360" cy="286200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оугольник 1"/>
          <p:cNvSpPr/>
          <p:nvPr/>
        </p:nvSpPr>
        <p:spPr>
          <a:xfrm>
            <a:off x="324000" y="4941720"/>
            <a:ext cx="78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52e6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ребенок тренирует глазные мыш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52e6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учится концентрировать внимание на объек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52e6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осваивает пространственные поня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9" name="Picture 2" descr="D:\Рабочий стол\фоьто11\20150218_140712.jpg"/>
          <p:cNvPicPr/>
          <p:nvPr/>
        </p:nvPicPr>
        <p:blipFill>
          <a:blip r:embed="rId1"/>
          <a:stretch/>
        </p:blipFill>
        <p:spPr>
          <a:xfrm>
            <a:off x="2268360" y="2060640"/>
            <a:ext cx="3167280" cy="237636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5"/>
          <p:cNvSpPr/>
          <p:nvPr/>
        </p:nvSpPr>
        <p:spPr>
          <a:xfrm>
            <a:off x="539640" y="3645000"/>
            <a:ext cx="74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1"/>
          <p:cNvSpPr/>
          <p:nvPr/>
        </p:nvSpPr>
        <p:spPr>
          <a:xfrm>
            <a:off x="539640" y="4724280"/>
            <a:ext cx="842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52e6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способствует распознаванию ц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52e6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умению формировать ряд одинаковых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52e6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совершенствует зрительно моторную координ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52e6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укрепляет мышцы рук, учит сравнивать и анализир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Прямоугольник 1"/>
          <p:cNvSpPr/>
          <p:nvPr/>
        </p:nvSpPr>
        <p:spPr>
          <a:xfrm>
            <a:off x="1209600" y="4149720"/>
            <a:ext cx="720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Благоприятная  развивающая сре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ndara"/>
              </a:rPr>
              <a:t>совместная деятельность педагогов, специалистов  обеспечивают положительные результаты формирования речевых умений и навыков детей младшего дошкольн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2" descr="D:\Рабочий стол\сенсорика\20141226_101437.jpg"/>
          <p:cNvPicPr/>
          <p:nvPr/>
        </p:nvPicPr>
        <p:blipFill>
          <a:blip r:embed="rId1"/>
          <a:stretch/>
        </p:blipFill>
        <p:spPr>
          <a:xfrm>
            <a:off x="2268360" y="1547640"/>
            <a:ext cx="489600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Содержимое 3" descr=""/>
          <p:cNvPicPr/>
          <p:nvPr/>
        </p:nvPicPr>
        <p:blipFill>
          <a:blip r:embed="rId1"/>
          <a:stretch/>
        </p:blipFill>
        <p:spPr>
          <a:xfrm>
            <a:off x="811080" y="2335320"/>
            <a:ext cx="7442280" cy="202860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 – педагогическое сопровождение-это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8" name="Picture 2" descr="D:\Рабочий стол\Новая папка\IMG_20150115_103412.jpg"/>
          <p:cNvPicPr/>
          <p:nvPr/>
        </p:nvPicPr>
        <p:blipFill>
          <a:blip r:embed="rId2"/>
          <a:stretch/>
        </p:blipFill>
        <p:spPr>
          <a:xfrm>
            <a:off x="2050920" y="4449600"/>
            <a:ext cx="1729080" cy="230364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4" descr="D:\Рабочий стол\сенсорика\20150128_100242.jpg"/>
          <p:cNvPicPr/>
          <p:nvPr/>
        </p:nvPicPr>
        <p:blipFill>
          <a:blip r:embed="rId3"/>
          <a:stretch/>
        </p:blipFill>
        <p:spPr>
          <a:xfrm>
            <a:off x="4859280" y="4700520"/>
            <a:ext cx="2808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Содержимое 3" descr=""/>
          <p:cNvPicPr/>
          <p:nvPr/>
        </p:nvPicPr>
        <p:blipFill>
          <a:blip r:embed="rId1"/>
          <a:stretch/>
        </p:blipFill>
        <p:spPr>
          <a:xfrm>
            <a:off x="311040" y="1700280"/>
            <a:ext cx="8595000" cy="28782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2" name="Рисунок 4" descr="D:\Рабочий стол\сенсорика\20141226_132210.jpg"/>
          <p:cNvPicPr/>
          <p:nvPr/>
        </p:nvPicPr>
        <p:blipFill>
          <a:blip r:embed="rId2"/>
          <a:stretch/>
        </p:blipFill>
        <p:spPr>
          <a:xfrm>
            <a:off x="1476360" y="4354560"/>
            <a:ext cx="2467080" cy="184932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5" descr="D:\Рабочий стол\сенсорика\20141226_102617.jpg"/>
          <p:cNvPicPr/>
          <p:nvPr/>
        </p:nvPicPr>
        <p:blipFill>
          <a:blip r:embed="rId3"/>
          <a:stretch/>
        </p:blipFill>
        <p:spPr>
          <a:xfrm>
            <a:off x="5076720" y="4354560"/>
            <a:ext cx="273528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Содержимое 3" descr=""/>
          <p:cNvPicPr/>
          <p:nvPr/>
        </p:nvPicPr>
        <p:blipFill>
          <a:blip r:embed="rId1"/>
          <a:stretch/>
        </p:blipFill>
        <p:spPr>
          <a:xfrm>
            <a:off x="927000" y="3340080"/>
            <a:ext cx="7467840" cy="23050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азвития детей с нарушениями реч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6" name="Рисунок 4" descr="D:\Рабочий стол\сенсорика\20141226_101541.jpg"/>
          <p:cNvPicPr/>
          <p:nvPr/>
        </p:nvPicPr>
        <p:blipFill>
          <a:blip r:embed="rId2"/>
          <a:stretch/>
        </p:blipFill>
        <p:spPr>
          <a:xfrm>
            <a:off x="539640" y="907920"/>
            <a:ext cx="1731960" cy="231156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5" descr="D:\Рабочий стол\сенсорика\20141226_132153.jpg"/>
          <p:cNvPicPr/>
          <p:nvPr/>
        </p:nvPicPr>
        <p:blipFill>
          <a:blip r:embed="rId3"/>
          <a:stretch/>
        </p:blipFill>
        <p:spPr>
          <a:xfrm>
            <a:off x="4643280" y="1571760"/>
            <a:ext cx="309744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Содержимое 3" descr=""/>
          <p:cNvPicPr/>
          <p:nvPr/>
        </p:nvPicPr>
        <p:blipFill>
          <a:blip r:embed="rId1"/>
          <a:stretch/>
        </p:blipFill>
        <p:spPr>
          <a:xfrm>
            <a:off x="865080" y="2670120"/>
            <a:ext cx="7413840" cy="34686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нормального развития реч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Содержимое 3" descr=""/>
          <p:cNvPicPr/>
          <p:nvPr/>
        </p:nvPicPr>
        <p:blipFill>
          <a:blip r:embed="rId1"/>
          <a:stretch/>
        </p:blipFill>
        <p:spPr>
          <a:xfrm>
            <a:off x="792000" y="3524400"/>
            <a:ext cx="7461360" cy="330984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общения со взрослым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2" name="Рисунок 4" descr="D:\Рабочий стол\сенсорика\20141226_101526.jpg"/>
          <p:cNvPicPr/>
          <p:nvPr/>
        </p:nvPicPr>
        <p:blipFill>
          <a:blip r:embed="rId2"/>
          <a:stretch/>
        </p:blipFill>
        <p:spPr>
          <a:xfrm>
            <a:off x="2050920" y="1773360"/>
            <a:ext cx="36734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Содержимое 3" descr=""/>
          <p:cNvPicPr/>
          <p:nvPr/>
        </p:nvPicPr>
        <p:blipFill>
          <a:blip r:embed="rId1"/>
          <a:stretch/>
        </p:blipFill>
        <p:spPr>
          <a:xfrm>
            <a:off x="792000" y="3041640"/>
            <a:ext cx="7461360" cy="34513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ыщение слышимой речью и появление интереса ребёнка  к слову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5" name="Рисунок 4" descr="D:\Рабочий стол\сенсорика\20141226_101550.jpg"/>
          <p:cNvPicPr/>
          <p:nvPr/>
        </p:nvPicPr>
        <p:blipFill>
          <a:blip r:embed="rId2"/>
          <a:stretch/>
        </p:blipFill>
        <p:spPr>
          <a:xfrm>
            <a:off x="1403280" y="1557360"/>
            <a:ext cx="2592360" cy="165564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6" descr="D:\Рабочий стол\сенсорика\20141226_101532.jpg"/>
          <p:cNvPicPr/>
          <p:nvPr/>
        </p:nvPicPr>
        <p:blipFill>
          <a:blip r:embed="rId3"/>
          <a:stretch/>
        </p:blipFill>
        <p:spPr>
          <a:xfrm>
            <a:off x="5076720" y="1531800"/>
            <a:ext cx="23227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Содержимое 3" descr=""/>
          <p:cNvPicPr/>
          <p:nvPr/>
        </p:nvPicPr>
        <p:blipFill>
          <a:blip r:embed="rId1"/>
          <a:stretch/>
        </p:blipFill>
        <p:spPr>
          <a:xfrm>
            <a:off x="835200" y="2676600"/>
            <a:ext cx="7461000" cy="34686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е предметной деятельности малыша и его делового сотрудничества со взрослым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826560" y="2781360"/>
            <a:ext cx="74091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азвивает и обогащает тактильные ощущения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Формирует исследовательский интерес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чит соотносить ощущения со словами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льная панел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1" name="Picture 2" descr="D:\Рабочий стол\фоьто11\20150218_140116.jpg"/>
          <p:cNvPicPr/>
          <p:nvPr/>
        </p:nvPicPr>
        <p:blipFill>
          <a:blip r:embed="rId1"/>
          <a:stretch/>
        </p:blipFill>
        <p:spPr>
          <a:xfrm>
            <a:off x="3348000" y="413064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17:33Z</dcterms:created>
  <dc:creator>user</dc:creator>
  <dc:description/>
  <dc:language>en-US</dc:language>
  <cp:lastModifiedBy>user</cp:lastModifiedBy>
  <dcterms:modified xsi:type="dcterms:W3CDTF">2015-02-24T07:50:11Z</dcterms:modified>
  <cp:revision>32</cp:revision>
  <dc:subject/>
  <dc:title>Психологическое сопровождение развития ребенка младшего дошкольного возраста</dc:title>
</cp:coreProperties>
</file>