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5073-B407-4FD9-B8ED-8061E9A2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A0A61-4DC4-4217-B4CF-8C223E0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1C71D-2F01-40C4-8D29-7ACF6A3D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0695A-07DB-4754-933A-1983E71D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4ADA-6AAF-4E05-9208-505237DE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14927-9016-437C-A8CD-11E23DFE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BFFD2-0D4C-45F4-8B1C-F1507935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0CF37-78BE-40E8-B713-AA5F93E7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C193-33F6-4735-8297-FDA50145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CFE-6004-41D6-BBC2-7761CD99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397-1C14-4D87-AD90-DFF3FA46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80E-5F08-40D0-BFE3-AE3B2C16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5AF-427A-4844-9B67-06B8C6CF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65F-CE03-4501-A9F9-59CFAB4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BE8-3FCF-4F03-851D-C80F27A8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69B-DD96-42B2-A5D3-F2268EFD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81C-36D0-4AD5-B9DD-7DEE29C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181-126E-4219-956B-03FD276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5D7-2591-47B8-913E-D136DFD3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843-F976-490B-8082-A14F4884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6E4-0C0F-4AFA-AA6A-A5B09E9B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FD59-A69E-4B66-8FF8-DF722267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C56F-E5A5-4FED-B051-F31F7E2C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EFFE-6D2E-4E1F-8F2C-C4DBFF1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9D00-25D6-43D5-B08E-F6BA0428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FB97-CA5F-449B-A5A2-47AA3CF0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B505-4EE9-4F1B-AAF5-5A6240C3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451D-E84C-4FA6-B4C4-44A2AA4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6F94-5D58-4AD4-B668-C9FEA1E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946C-4580-490D-BDCF-A0A3063A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57FC-F2A8-42FD-9747-096720B2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ED81-584E-4D15-9ACC-4AD1579B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B619-C204-4A54-BA40-49D4545C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467E-67D9-4579-B261-D08638C8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D98A-3677-4063-96A9-7669A3DF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A873E-A1F5-47C1-8784-03689C67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CF94-A469-4121-AE2F-40217ECD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6659-DE24-47A1-AF39-827B72F5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84E1-C7FB-456A-9B66-31CE122A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151B-A099-4671-99F9-7A264C4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DD5E-CBEC-4440-8557-D54EBFA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9F02-1934-4EF0-B218-5BD64A3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8856-EC7C-4609-AC0D-CC2A394C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981C-812C-4998-8624-BDA2C4DD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15C4-3E45-4267-9C37-E149C5CB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2CEC-88FC-44C2-BFA7-F351CD35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E832-345B-4EAF-B1C8-506DB942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F729-39C0-4F11-8108-495C2290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65947-70DD-4141-BE66-40A1B3F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63AA-2BBC-42C3-B932-39124BC7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D9B8-E06F-4374-99FE-4E2370F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23A07-0A2C-4790-BDE3-9C7155F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16B4-D456-4280-B1A6-818FCD0C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EAA3-5BAD-44EC-BF5B-300D938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22D8-A2D2-4CDF-AE4B-4A1A3939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ED26-A06D-4610-AD9B-0FB22B6E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58DA-CDDB-4A59-BE96-05A747E6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E9F6-180F-4C3D-B48C-4CF8F240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30C3-AB45-4F36-B83D-4DA60DEB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3D163-3A9B-4B13-BBCB-455CA11D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4838-80A8-438F-BB96-D8929B3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DC129-E0BB-44AE-8F7C-8B203AA8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ED4DE-4F86-42C6-940D-2510D1B6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33E0B-449A-4AF5-A38A-BF3DD34E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BF1DF-BCB8-4AFA-B01B-973060FB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A9D8-9DDF-443B-B2B3-0FA8C61B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2F50-F0F4-4DC1-B8B9-4CEC4A9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4BE6-1061-4E5D-B224-9C8A9B50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33268-1EF1-4927-A198-F9E92F79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87426-0572-471A-B38A-4C6D63CB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A95BC-2481-418A-82E6-F3A702C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B928-FABA-4273-BCEE-B721814D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4E890-4888-4AD8-A36F-64BEC56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655C0-FD66-41C6-8749-C1A1BA7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9666-431D-4489-9371-D03FC82E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0753-CD25-47F6-BB18-268D9E7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79FE-0602-40B6-826D-10DD77DE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EB38-4EDB-4D43-82A4-CDE7A43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B069-0BD3-43BB-B4A1-87561712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5266F-E3D1-45BA-98F9-6318105D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CA66F-9E31-49AF-B4DE-257F2C28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BA176-0B7B-4CF1-8F83-D6A04CBD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CAEC7-50D1-40B9-8404-32044257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3BDED-5117-4A90-B37B-979D234F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Septemb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601B-48B2-4814-9A5B-4F71EF6E4DE9}" type="datetime">
              <a:rPr b="0" lang="en-US" sz="10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6E9F-22E1-41BF-93CB-397FA762740F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1September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28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7639-BC0D-49E6-B7AE-BD88F831E5F4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0F27-AEA9-4E9D-8C75-5C0982137EC8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3472-27B4-46CA-A93F-01993D8FBA62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2934-49C4-48ED-80DE-5B6F627A3E58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23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BC7F-89C3-4BC2-966D-C06F6C17A8C6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854F-0AC2-4A4D-B0D4-E8DFF942E45B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7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A2A1-818F-4EBA-90FF-16250C7B7461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9A0-30A6-4FA3-B499-4ABA89B446D2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19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906-CEC5-4EA7-9E8C-548DCDAA6E8C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85D9-B9FC-4CE9-BDC0-68C0E95F2D2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6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357C-0AAC-4926-B84F-58291E132711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E8AA-B529-47C0-83A9-CB173D51905F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1844280"/>
            <a:ext cx="79930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комбинированного вида «Жемчужинка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е сопровождение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го развития ребенка младшего дошкольного возраста</a:t>
            </a:r>
            <a:br>
              <a:rPr sz="40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0" y="5013360"/>
            <a:ext cx="344808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с М.О.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5" name="Рисунок 4" descr="D:\Рабочий стол\сенсорика\20150128_094248.jpg"/>
          <p:cNvPicPr/>
          <p:nvPr/>
        </p:nvPicPr>
        <p:blipFill>
          <a:blip r:embed="rId1"/>
          <a:stretch/>
        </p:blipFill>
        <p:spPr>
          <a:xfrm>
            <a:off x="1042920" y="4005360"/>
            <a:ext cx="38163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тереогностический модуль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3" name="Picture 2" descr="D:\Рабочий стол\фоьто11\20150218_140354.jpg"/>
          <p:cNvPicPr/>
          <p:nvPr/>
        </p:nvPicPr>
        <p:blipFill>
          <a:blip r:embed="rId1"/>
          <a:stretch/>
        </p:blipFill>
        <p:spPr>
          <a:xfrm>
            <a:off x="1111320" y="2060640"/>
            <a:ext cx="3587760" cy="269064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1"/>
          <p:cNvSpPr/>
          <p:nvPr/>
        </p:nvSpPr>
        <p:spPr>
          <a:xfrm>
            <a:off x="685800" y="5083200"/>
            <a:ext cx="712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Способствует утончению  восприятия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Развивает быстроту су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Развивает логику математического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Кугельба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6" name="Picture 2" descr="D:\Рабочий стол\фоьто11\20150218_140550.jpg"/>
          <p:cNvPicPr/>
          <p:nvPr/>
        </p:nvPicPr>
        <p:blipFill>
          <a:blip r:embed="rId1"/>
          <a:stretch/>
        </p:blipFill>
        <p:spPr>
          <a:xfrm>
            <a:off x="1476360" y="177336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1"/>
          <p:cNvSpPr/>
          <p:nvPr/>
        </p:nvSpPr>
        <p:spPr>
          <a:xfrm>
            <a:off x="324000" y="4941720"/>
            <a:ext cx="78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ребенок тренирует глазные мыш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учится концентрировать внимание на объ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осваивает пространственные по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9" name="Picture 2" descr="D:\Рабочий стол\фоьто11\20150218_140712.jpg"/>
          <p:cNvPicPr/>
          <p:nvPr/>
        </p:nvPicPr>
        <p:blipFill>
          <a:blip r:embed="rId1"/>
          <a:stretch/>
        </p:blipFill>
        <p:spPr>
          <a:xfrm>
            <a:off x="2268360" y="2060640"/>
            <a:ext cx="3167280" cy="23763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5"/>
          <p:cNvSpPr/>
          <p:nvPr/>
        </p:nvSpPr>
        <p:spPr>
          <a:xfrm>
            <a:off x="539640" y="3645000"/>
            <a:ext cx="74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"/>
          <p:cNvSpPr/>
          <p:nvPr/>
        </p:nvSpPr>
        <p:spPr>
          <a:xfrm>
            <a:off x="539640" y="472428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способствует распознаванию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умению формировать ряд одинаков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совершенствует зрительно моторную координ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укрепляет мышцы рук, учит сравнивать и анализ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1209600" y="414972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Благоприятная  развивающая сре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совместная деятельность педагогов, специалистов  обеспечивают положительные результаты формирования речевых умений и навыков детей млад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D:\Рабочий стол\сенсорика\20141226_101437.jpg"/>
          <p:cNvPicPr/>
          <p:nvPr/>
        </p:nvPicPr>
        <p:blipFill>
          <a:blip r:embed="rId1"/>
          <a:stretch/>
        </p:blipFill>
        <p:spPr>
          <a:xfrm>
            <a:off x="2268360" y="1547640"/>
            <a:ext cx="48960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Содержимое 3" descr=""/>
          <p:cNvPicPr/>
          <p:nvPr/>
        </p:nvPicPr>
        <p:blipFill>
          <a:blip r:embed="rId1"/>
          <a:stretch/>
        </p:blipFill>
        <p:spPr>
          <a:xfrm>
            <a:off x="811080" y="2335320"/>
            <a:ext cx="7442280" cy="20286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 – педагогическое сопровождение-это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8" name="Picture 2" descr="D:\Рабочий стол\Новая папка\IMG_20150115_103412.jpg"/>
          <p:cNvPicPr/>
          <p:nvPr/>
        </p:nvPicPr>
        <p:blipFill>
          <a:blip r:embed="rId2"/>
          <a:stretch/>
        </p:blipFill>
        <p:spPr>
          <a:xfrm>
            <a:off x="2050920" y="4449600"/>
            <a:ext cx="1729080" cy="23036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4" descr="D:\Рабочий стол\сенсорика\20150128_100242.jpg"/>
          <p:cNvPicPr/>
          <p:nvPr/>
        </p:nvPicPr>
        <p:blipFill>
          <a:blip r:embed="rId3"/>
          <a:stretch/>
        </p:blipFill>
        <p:spPr>
          <a:xfrm>
            <a:off x="4859280" y="4700520"/>
            <a:ext cx="2808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Содержимое 3" descr=""/>
          <p:cNvPicPr/>
          <p:nvPr/>
        </p:nvPicPr>
        <p:blipFill>
          <a:blip r:embed="rId1"/>
          <a:stretch/>
        </p:blipFill>
        <p:spPr>
          <a:xfrm>
            <a:off x="311040" y="1700280"/>
            <a:ext cx="8595000" cy="28782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2" name="Рисунок 4" descr="D:\Рабочий стол\сенсорика\20141226_132210.jpg"/>
          <p:cNvPicPr/>
          <p:nvPr/>
        </p:nvPicPr>
        <p:blipFill>
          <a:blip r:embed="rId2"/>
          <a:stretch/>
        </p:blipFill>
        <p:spPr>
          <a:xfrm>
            <a:off x="1476360" y="4354560"/>
            <a:ext cx="2467080" cy="18493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5" descr="D:\Рабочий стол\сенсорика\20141226_102617.jpg"/>
          <p:cNvPicPr/>
          <p:nvPr/>
        </p:nvPicPr>
        <p:blipFill>
          <a:blip r:embed="rId3"/>
          <a:stretch/>
        </p:blipFill>
        <p:spPr>
          <a:xfrm>
            <a:off x="5076720" y="4354560"/>
            <a:ext cx="2735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"/>
          <p:cNvPicPr/>
          <p:nvPr/>
        </p:nvPicPr>
        <p:blipFill>
          <a:blip r:embed="rId1"/>
          <a:stretch/>
        </p:blipFill>
        <p:spPr>
          <a:xfrm>
            <a:off x="927000" y="3340080"/>
            <a:ext cx="7467840" cy="2305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вития детей с нарушениями реч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6" name="Рисунок 4" descr="D:\Рабочий стол\сенсорика\20141226_101541.jpg"/>
          <p:cNvPicPr/>
          <p:nvPr/>
        </p:nvPicPr>
        <p:blipFill>
          <a:blip r:embed="rId2"/>
          <a:stretch/>
        </p:blipFill>
        <p:spPr>
          <a:xfrm>
            <a:off x="539640" y="907920"/>
            <a:ext cx="1731960" cy="231156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5" descr="D:\Рабочий стол\сенсорика\20141226_132153.jpg"/>
          <p:cNvPicPr/>
          <p:nvPr/>
        </p:nvPicPr>
        <p:blipFill>
          <a:blip r:embed="rId3"/>
          <a:stretch/>
        </p:blipFill>
        <p:spPr>
          <a:xfrm>
            <a:off x="4643280" y="1571760"/>
            <a:ext cx="309744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Содержимое 3" descr=""/>
          <p:cNvPicPr/>
          <p:nvPr/>
        </p:nvPicPr>
        <p:blipFill>
          <a:blip r:embed="rId1"/>
          <a:stretch/>
        </p:blipFill>
        <p:spPr>
          <a:xfrm>
            <a:off x="865080" y="2670120"/>
            <a:ext cx="7413840" cy="3468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нормального развития реч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Содержимое 3" descr=""/>
          <p:cNvPicPr/>
          <p:nvPr/>
        </p:nvPicPr>
        <p:blipFill>
          <a:blip r:embed="rId1"/>
          <a:stretch/>
        </p:blipFill>
        <p:spPr>
          <a:xfrm>
            <a:off x="792000" y="3524400"/>
            <a:ext cx="7461360" cy="3309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бщения со взрослы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2" name="Рисунок 4" descr="D:\Рабочий стол\сенсорика\20141226_101526.jpg"/>
          <p:cNvPicPr/>
          <p:nvPr/>
        </p:nvPicPr>
        <p:blipFill>
          <a:blip r:embed="rId2"/>
          <a:stretch/>
        </p:blipFill>
        <p:spPr>
          <a:xfrm>
            <a:off x="2050920" y="1773360"/>
            <a:ext cx="36734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Содержимое 3" descr=""/>
          <p:cNvPicPr/>
          <p:nvPr/>
        </p:nvPicPr>
        <p:blipFill>
          <a:blip r:embed="rId1"/>
          <a:stretch/>
        </p:blipFill>
        <p:spPr>
          <a:xfrm>
            <a:off x="792000" y="3041640"/>
            <a:ext cx="7461360" cy="3451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ыщение слышимой речью и появление интереса ребёнка  к слову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5" name="Рисунок 4" descr="D:\Рабочий стол\сенсорика\20141226_101550.jpg"/>
          <p:cNvPicPr/>
          <p:nvPr/>
        </p:nvPicPr>
        <p:blipFill>
          <a:blip r:embed="rId2"/>
          <a:stretch/>
        </p:blipFill>
        <p:spPr>
          <a:xfrm>
            <a:off x="1403280" y="155736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D:\Рабочий стол\сенсорика\20141226_101532.jpg"/>
          <p:cNvPicPr/>
          <p:nvPr/>
        </p:nvPicPr>
        <p:blipFill>
          <a:blip r:embed="rId3"/>
          <a:stretch/>
        </p:blipFill>
        <p:spPr>
          <a:xfrm>
            <a:off x="5076720" y="1531800"/>
            <a:ext cx="2322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Содержимое 3" descr=""/>
          <p:cNvPicPr/>
          <p:nvPr/>
        </p:nvPicPr>
        <p:blipFill>
          <a:blip r:embed="rId1"/>
          <a:stretch/>
        </p:blipFill>
        <p:spPr>
          <a:xfrm>
            <a:off x="835200" y="2676600"/>
            <a:ext cx="7461000" cy="34686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предметной деятельности малыша и его делового сотрудничества со взрослым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826560" y="2781360"/>
            <a:ext cx="74091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вает и обогащает тактильные ощущ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ормирует исследовательский интере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ит соотносить ощущения со словам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ьная панел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1" name="Picture 2" descr="D:\Рабочий стол\фоьто11\20150218_140116.jpg"/>
          <p:cNvPicPr/>
          <p:nvPr/>
        </p:nvPicPr>
        <p:blipFill>
          <a:blip r:embed="rId1"/>
          <a:stretch/>
        </p:blipFill>
        <p:spPr>
          <a:xfrm>
            <a:off x="3348000" y="4130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17:33Z</dcterms:created>
  <dc:creator>user</dc:creator>
  <dc:description/>
  <dc:language>en-US</dc:language>
  <cp:lastModifiedBy>user</cp:lastModifiedBy>
  <dcterms:modified xsi:type="dcterms:W3CDTF">2015-02-24T07:50:11Z</dcterms:modified>
  <cp:revision>32</cp:revision>
  <dc:subject/>
  <dc:title>Психологическое сопровождение развития ребенка младшего дошкольного возраста</dc:title>
</cp:coreProperties>
</file>