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B33D-9177-4357-8041-2D1F4B428F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5D9D-E3AE-4A6B-BCE1-02865CD251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06F-E38D-4CCF-BC07-86D8A1DE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4AF-CD90-4272-BFF5-D7B54AC2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28C-59A3-49AB-A929-8F380205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2F9-82AB-4A94-92F1-6BC90D9C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D86-B518-4794-A1F5-5A1DA689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3AB-52B2-4F14-B5AE-7D1ED213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041-1DA6-46C0-9930-7E7570FF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BE2-3325-401B-8C64-A54D5DE6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B33-BAB1-441F-83C7-BE8BF08C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39F-AA7D-4EE7-9A3D-BCE22164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FAC-0705-4311-A92B-E4030A78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881-F1FC-48B1-AEFA-1C98F4D6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1CEB-53CB-4590-AC75-0B5548159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2">
            <a:alphaModFix amt="60000"/>
          </a:blip>
          <a:stretch/>
        </p:blipFill>
        <p:spPr>
          <a:xfrm>
            <a:off x="2779560" y="2736720"/>
            <a:ext cx="5731200" cy="1878120"/>
          </a:xfrm>
          <a:prstGeom prst="rect">
            <a:avLst/>
          </a:prstGeom>
          <a:ln w="0">
            <a:noFill/>
          </a:ln>
        </p:spPr>
      </p:pic>
      <p:pic>
        <p:nvPicPr>
          <p:cNvPr id="49" name="Title 3" descr=""/>
          <p:cNvPicPr/>
          <p:nvPr/>
        </p:nvPicPr>
        <p:blipFill>
          <a:blip r:embed="rId3"/>
          <a:stretch/>
        </p:blipFill>
        <p:spPr>
          <a:xfrm>
            <a:off x="706320" y="890640"/>
            <a:ext cx="778536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Tolkunova_Valentina_-_Kaby_ne_bylo_zimy_minusovka_(iPlayer.fm)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3" descr="DSCF0258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DSCF0276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752480" y="1600200"/>
            <a:ext cx="5791320" cy="43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32400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DSCF0256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457200" y="1523880"/>
            <a:ext cx="3855960" cy="2892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DSCF0257.JPG"/>
          <p:cNvPicPr/>
          <p:nvPr/>
        </p:nvPicPr>
        <p:blipFill>
          <a:blip r:embed="rId4"/>
          <a:stretch/>
        </p:blipFill>
        <p:spPr>
          <a:xfrm>
            <a:off x="3886200" y="297180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3" descr="DSCF0269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2"/>
          <a:stretch/>
        </p:blipFill>
        <p:spPr>
          <a:xfrm>
            <a:off x="158760" y="0"/>
            <a:ext cx="8813880" cy="14270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DSCF0278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523880" y="16002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DSCF0261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208080" y="66600"/>
            <a:ext cx="8716680" cy="136044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DSCF0271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990720" y="1752480"/>
            <a:ext cx="3276360" cy="40737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DSCF0259.JPG"/>
          <p:cNvPicPr/>
          <p:nvPr/>
        </p:nvPicPr>
        <p:blipFill>
          <a:blip r:embed="rId4"/>
          <a:stretch/>
        </p:blipFill>
        <p:spPr>
          <a:xfrm>
            <a:off x="4800600" y="1752480"/>
            <a:ext cx="3618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3" descr="DSCF0262.JPG"/>
          <p:cNvPicPr/>
          <p:nvPr/>
        </p:nvPicPr>
        <p:blipFill>
          <a:blip r:embed="rId3">
            <a:alphaModFix amt="60000"/>
          </a:blip>
          <a:stretch/>
        </p:blipFill>
        <p:spPr>
          <a:xfrm>
            <a:off x="2590920" y="160020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0:22:01Z</dcterms:created>
  <dc:creator>Корпорация Майкрософт</dc:creator>
  <dc:description>Корпорация Майкрософт</dc:description>
  <cp:keywords>Корпорация Майкрософт</cp:keywords>
  <dc:language>en-US</dc:language>
  <cp:lastModifiedBy>Admin</cp:lastModifiedBy>
  <dcterms:modified xsi:type="dcterms:W3CDTF">2015-04-15T08:43:46Z</dcterms:modified>
  <cp:revision>10</cp:revision>
  <dc:subject>Шаблон оформления</dc:subject>
  <dc:title>Шаблон оформ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81461049</vt:lpwstr>
  </property>
</Properties>
</file>