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A0CB-0CC9-4ACD-8BDD-BC09A06059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EC0F-657D-4EDB-8E8A-30F58EA3C3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C00-3157-45E2-A4BE-94CA5773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C49-32F4-433F-B9F6-F814AE29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9E9-FD3F-421D-8F7C-3A9D5CD8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FC8-FC81-44C0-BC52-B7445A73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272-5669-4139-B3C6-AA360EC0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65C-F749-4184-8A39-7E3D2466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72A-46C1-4BF9-9F52-ABD5BE6C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320-DEEF-4953-9ADC-9D9AEB18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163-6204-4FC3-AFBB-AE0B5219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EDB-60DE-4F14-9539-C2530900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DBC-CA72-475B-A98D-B6C302F6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957-8F72-4C9E-9038-F351EDBF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F114-A38D-40FD-AA4D-56179AB60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2">
            <a:alphaModFix amt="60000"/>
          </a:blip>
          <a:stretch/>
        </p:blipFill>
        <p:spPr>
          <a:xfrm>
            <a:off x="2779560" y="2736720"/>
            <a:ext cx="5731200" cy="1878120"/>
          </a:xfrm>
          <a:prstGeom prst="rect">
            <a:avLst/>
          </a:prstGeom>
          <a:ln w="0">
            <a:noFill/>
          </a:ln>
        </p:spPr>
      </p:pic>
      <p:pic>
        <p:nvPicPr>
          <p:cNvPr id="49" name="Title 3" descr=""/>
          <p:cNvPicPr/>
          <p:nvPr/>
        </p:nvPicPr>
        <p:blipFill>
          <a:blip r:embed="rId3"/>
          <a:stretch/>
        </p:blipFill>
        <p:spPr>
          <a:xfrm>
            <a:off x="706320" y="890640"/>
            <a:ext cx="778536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Tolkunova_Valentina_-_Kaby_ne_bylo_zimy_minusovka_(iPlayer.fm)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3" descr="DSCF0258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DSCF0276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752480" y="1600200"/>
            <a:ext cx="5791320" cy="43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32400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DSCF0256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457200" y="1523880"/>
            <a:ext cx="3855960" cy="2892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DSCF0257.JPG"/>
          <p:cNvPicPr/>
          <p:nvPr/>
        </p:nvPicPr>
        <p:blipFill>
          <a:blip r:embed="rId4"/>
          <a:stretch/>
        </p:blipFill>
        <p:spPr>
          <a:xfrm>
            <a:off x="3886200" y="297180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3" descr="DSCF0269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2"/>
          <a:stretch/>
        </p:blipFill>
        <p:spPr>
          <a:xfrm>
            <a:off x="158760" y="0"/>
            <a:ext cx="8813880" cy="14270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DSCF0278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523880" y="16002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DSCF0261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208080" y="66600"/>
            <a:ext cx="8716680" cy="136044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DSCF0271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990720" y="1752480"/>
            <a:ext cx="3276360" cy="40737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DSCF0259.JPG"/>
          <p:cNvPicPr/>
          <p:nvPr/>
        </p:nvPicPr>
        <p:blipFill>
          <a:blip r:embed="rId4"/>
          <a:stretch/>
        </p:blipFill>
        <p:spPr>
          <a:xfrm>
            <a:off x="4800600" y="1752480"/>
            <a:ext cx="3618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3" descr="DSCF0262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2590920" y="160020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0:22:01Z</dcterms:created>
  <dc:creator>Корпорация Майкрософт</dc:creator>
  <dc:description>Корпорация Майкрософт</dc:description>
  <cp:keywords>Корпорация Майкрософт</cp:keywords>
  <dc:language>en-US</dc:language>
  <cp:lastModifiedBy>Admin</cp:lastModifiedBy>
  <dcterms:modified xsi:type="dcterms:W3CDTF">2015-04-15T08:43:46Z</dcterms:modified>
  <cp:revision>10</cp:revision>
  <dc:subject>Шаблон оформления</dc:subject>
  <dc:title>Шаблон оформ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81461049</vt:lpwstr>
  </property>
</Properties>
</file>