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59.png" ContentType="image/png"/>
  <Override PartName="/ppt/media/image6.jpeg" ContentType="image/jpeg"/>
  <Override PartName="/ppt/media/image50.jpeg" ContentType="image/jpeg"/>
  <Override PartName="/ppt/media/image42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media/image17.jpeg" ContentType="image/jpeg"/>
  <Override PartName="/ppt/media/image60.jpeg" ContentType="image/jpeg"/>
  <Override PartName="/ppt/media/image61.gif" ContentType="image/gif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58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54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5969-EC20-407C-BAEA-C8F12C7496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9F2-C12F-46D2-8F61-AB3F13AF6B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C27-0225-4BD0-B46E-7C896771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838-58EB-46E4-BDD4-1ED8CA1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209-8880-449D-A19E-7016C6EC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277-A00A-4EFB-A177-FD4A9074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851-0B45-44A5-A7AC-8C9A56DC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454E-8262-482F-A4E9-F1EEBFFC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59B2-8651-44C4-8E80-EAED50D8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FDC4-CD2D-4FDF-B955-DD630171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302-784C-49FE-9749-B6D5342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115-80F9-41CD-ADC1-BE664BD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5F7-C60C-431C-B387-2839364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0F9-8A48-44BA-BF8E-30D3FD0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5C29-FC2C-42E3-BE3C-B96A6E6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B1C-E69C-4328-92D6-0B204BCB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7D4-8A3E-4410-BDCD-4FD3BF1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1D9-3E6D-40EA-9F68-021D70F7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F6FA-8D88-4914-9BBA-02BB2753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821-1950-4DAE-9AA4-1CC48F7A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094-0452-4E22-8C4F-13C77CE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D93-F133-4AE9-96E6-F0AD5384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2DB-7121-4CAD-9E9D-5BB55904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0FB-A539-4E40-B651-40D78AD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836-DA1A-4D6F-84CE-CD0469F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E43-6055-422A-952C-B7C1C10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A799-E853-469B-A4A1-0D348DA66D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92DC-982E-45C2-BB28-AB660A571E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kishinev.ru/" TargetMode="External"/><Relationship Id="rId2" Type="http://schemas.openxmlformats.org/officeDocument/2006/relationships/hyperlink" Target="http://natali761.narod.ru/" TargetMode="External"/><Relationship Id="rId3" Type="http://schemas.openxmlformats.org/officeDocument/2006/relationships/hyperlink" Target="http://www.holy.ru/old/camp/pictures01.htm" TargetMode="External"/><Relationship Id="rId4" Type="http://schemas.openxmlformats.org/officeDocument/2006/relationships/hyperlink" Target="http://big.spb.ru/" TargetMode="External"/><Relationship Id="rId5" Type="http://schemas.openxmlformats.org/officeDocument/2006/relationships/hyperlink" Target="http://www.nvrsk.ru/" TargetMode="External"/><Relationship Id="rId6" Type="http://schemas.openxmlformats.org/officeDocument/2006/relationships/hyperlink" Target="http://cliohistory.narod.ru/greek.htm" TargetMode="External"/><Relationship Id="rId7" Type="http://schemas.openxmlformats.org/officeDocument/2006/relationships/hyperlink" Target="http://www.mamaska.ru/" TargetMode="External"/><Relationship Id="rId8" Type="http://schemas.openxmlformats.org/officeDocument/2006/relationships/hyperlink" Target="http://www.wwtravel.ru/" TargetMode="External"/><Relationship Id="rId9" Type="http://schemas.openxmlformats.org/officeDocument/2006/relationships/image" Target="../media/image61.gif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оспитательные системы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прошлое и настоящее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95934b"/>
                </a:solidFill>
                <a:latin typeface="Tahoma"/>
              </a:rPr>
              <a:t>(понятие о воспитательных системах)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Скругленный прямоугольник 5">
            <a:hlinkClick r:id="rId1"/>
          </p:cNvPr>
          <p:cNvSpPr/>
          <p:nvPr/>
        </p:nvSpPr>
        <p:spPr>
          <a:xfrm>
            <a:off x="9347040" y="5805360"/>
            <a:ext cx="134640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9" descr="Костел св"/>
          <p:cNvPicPr/>
          <p:nvPr/>
        </p:nvPicPr>
        <p:blipFill>
          <a:blip r:embed="rId1"/>
          <a:stretch/>
        </p:blipFill>
        <p:spPr>
          <a:xfrm>
            <a:off x="2438280" y="53352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28600" y="4114440"/>
            <a:ext cx="44956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зных странах и у разных народов религиозные идеи воплотились в конкретные формы воспитания, многообразие которых наблюдается и сегод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343400" y="53316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в. большое влияние в мире имела религиозная традиция воспитания, в особенности христианская. Основная задача воспитательной системы – приведение человека к гармонии между земным и небесным существованием через усвоение и выполнение религиозно установленных нравственных норм (христианской,  исламской, буддистско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28" descr="Катол"/>
          <p:cNvPicPr/>
          <p:nvPr/>
        </p:nvPicPr>
        <p:blipFill>
          <a:blip r:embed="rId2"/>
          <a:stretch/>
        </p:blipFill>
        <p:spPr>
          <a:xfrm>
            <a:off x="838080" y="16765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9" descr="Будда"/>
          <p:cNvPicPr/>
          <p:nvPr/>
        </p:nvPicPr>
        <p:blipFill>
          <a:blip r:embed="rId3"/>
          <a:stretch/>
        </p:blipFill>
        <p:spPr>
          <a:xfrm>
            <a:off x="5867280" y="4800600"/>
            <a:ext cx="2297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5261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тличие от большинства государств Средневековья, в Византии сложилась собственная система воспитания человека, которая повлияла на развитие европейской и российской педагогической тради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029200" y="3925440"/>
            <a:ext cx="38131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ако достаточно яркие очертания трехступенчатой системы образования в истории отмечается намного раньше – в Китае в период династии Хань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до н.э.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н.э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133360" y="2666880"/>
            <a:ext cx="4190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но в этот период на Западе определились три основные стадии образования человека – элементарное, среднее и высше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13" descr="Икона"/>
          <p:cNvPicPr/>
          <p:nvPr/>
        </p:nvPicPr>
        <p:blipFill>
          <a:blip r:embed="rId1"/>
          <a:stretch/>
        </p:blipFill>
        <p:spPr>
          <a:xfrm>
            <a:off x="6781680" y="762120"/>
            <a:ext cx="1663920" cy="1828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Мать и детя"/>
          <p:cNvPicPr/>
          <p:nvPr/>
        </p:nvPicPr>
        <p:blipFill>
          <a:blip r:embed="rId2"/>
          <a:stretch/>
        </p:blipFill>
        <p:spPr>
          <a:xfrm>
            <a:off x="1295280" y="4572000"/>
            <a:ext cx="1752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словное воспитание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9" name="Picture 4" descr="Рыцари"/>
          <p:cNvPicPr/>
          <p:nvPr/>
        </p:nvPicPr>
        <p:blipFill>
          <a:blip r:embed="rId1"/>
          <a:stretch/>
        </p:blipFill>
        <p:spPr>
          <a:xfrm>
            <a:off x="5562720" y="304920"/>
            <a:ext cx="3246480" cy="2216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Сословие"/>
          <p:cNvPicPr/>
          <p:nvPr/>
        </p:nvPicPr>
        <p:blipFill>
          <a:blip r:embed="rId2"/>
          <a:stretch/>
        </p:blipFill>
        <p:spPr>
          <a:xfrm>
            <a:off x="914400" y="4092480"/>
            <a:ext cx="32004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словное воспитание на Рус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52" name="Picture 7" descr="Сударыня"/>
          <p:cNvPicPr/>
          <p:nvPr/>
        </p:nvPicPr>
        <p:blipFill>
          <a:blip r:embed="rId1"/>
          <a:stretch/>
        </p:blipFill>
        <p:spPr>
          <a:xfrm>
            <a:off x="914400" y="1523880"/>
            <a:ext cx="1741320" cy="2260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Домострой"/>
          <p:cNvPicPr/>
          <p:nvPr/>
        </p:nvPicPr>
        <p:blipFill>
          <a:blip r:embed="rId2"/>
          <a:stretch/>
        </p:blipFill>
        <p:spPr>
          <a:xfrm>
            <a:off x="6934320" y="4114800"/>
            <a:ext cx="1890720" cy="24955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819160" y="1219320"/>
            <a:ext cx="601956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ческим пособием о том, что делать и как жить,  в средневековой Руси являлся Домосторой – свод учений для зажиточного горожанина, заботливого хозяина и главы дома, имеющего домочадцев и слуг. Домашнее обучение и воспитание, описанное в Домострое, обязывает родителей учить дете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жеств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знаниям) и рукоделию, уважению к старшим, страху перед Богом и отцом с матер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120" y="4419360"/>
            <a:ext cx="62485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 этом свидетельствуют три отдельные главы Домостроя, посвященные проблемам воспитания,  -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детей своих воспитати во всяком наказании и страсе бож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чад воспитати, с наделком замуж выда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дети учити и страхом спаса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Истории известны разные примеры сословного воспитания.</a:t>
            </a:r>
            <a:br>
              <a:rPr sz="2000"/>
            </a:b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В наиболее организованном виде сословное домашнее (или семейное) воспитание представлено в системе рыцарского воспитания и в системе воспитания джентльмена (Дж. Локк)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 рыцарского воспитания включал в себя жертвенность, послушание и одновременно личную свободу, презрительное отношение к книжной грамотности и соблю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декса че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основе содержания рыцарского воспитания лежала программа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еми рыцарских добродетелей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8" descr="Рыцарь"/>
          <p:cNvPicPr/>
          <p:nvPr/>
        </p:nvPicPr>
        <p:blipFill>
          <a:blip r:embed="rId1"/>
          <a:stretch/>
        </p:blipFill>
        <p:spPr>
          <a:xfrm>
            <a:off x="6934320" y="1523880"/>
            <a:ext cx="1206360" cy="2057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РЫЦ"/>
          <p:cNvPicPr/>
          <p:nvPr/>
        </p:nvPicPr>
        <p:blipFill>
          <a:blip r:embed="rId2"/>
          <a:stretch/>
        </p:blipFill>
        <p:spPr>
          <a:xfrm>
            <a:off x="8001000" y="3352680"/>
            <a:ext cx="990720" cy="19814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838080" y="198108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Рыцарское воспит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2057400" y="52578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ладение копьем, фехтование, езда верхом, плавание, охота, игра в шахматы, пение и игра на музыкальных инструмен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Прекр"/>
          <p:cNvPicPr/>
          <p:nvPr/>
        </p:nvPicPr>
        <p:blipFill>
          <a:blip r:embed="rId1"/>
          <a:stretch/>
        </p:blipFill>
        <p:spPr>
          <a:xfrm>
            <a:off x="6400800" y="4343400"/>
            <a:ext cx="2057400" cy="1996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3" descr="Два рыцаря"/>
          <p:cNvPicPr/>
          <p:nvPr/>
        </p:nvPicPr>
        <p:blipFill>
          <a:blip r:embed="rId2"/>
          <a:stretch/>
        </p:blipFill>
        <p:spPr>
          <a:xfrm>
            <a:off x="457200" y="914400"/>
            <a:ext cx="3429000" cy="23572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962520" y="457200"/>
            <a:ext cx="4876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а рыцарского воспитания включал следующие этап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т – домашнее воспит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-1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дворног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пыта при супруге сюзерена (феодал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года мальчик переходил на мужскую половину и становился оруженосцем при рыцарях сюзерена. В этот период осваивалис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чала любви, войны и религ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533520" y="4724280"/>
            <a:ext cx="541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год проходил обряд посвящения в рыцари,  предварявшийся испытаниями на физическую, воинскую и моральную зрелость на турнирах, в поединках и пи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5440" y="37339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ы рыцарского воспитания сохранились и поны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людение юношами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кодекса чести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-  это отражение единства их этического, эстетического и физического развития и, прежде всего,  сохранение чувства собственного достоинства в любых жизненных обстоятельств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Picture 13" descr="Состязание менестрелей в честь пр"/>
          <p:cNvPicPr/>
          <p:nvPr/>
        </p:nvPicPr>
        <p:blipFill>
          <a:blip r:embed="rId1"/>
          <a:stretch/>
        </p:blipFill>
        <p:spPr>
          <a:xfrm>
            <a:off x="3581280" y="457200"/>
            <a:ext cx="180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ние джентльмена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69" name="Picture 4" descr="Англия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308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Рукопожатие"/>
          <p:cNvPicPr/>
          <p:nvPr/>
        </p:nvPicPr>
        <p:blipFill>
          <a:blip r:embed="rId2"/>
          <a:stretch/>
        </p:blipFill>
        <p:spPr>
          <a:xfrm>
            <a:off x="4643280" y="4581360"/>
            <a:ext cx="3170520" cy="2016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Лдентельмены"/>
          <p:cNvPicPr/>
          <p:nvPr/>
        </p:nvPicPr>
        <p:blipFill>
          <a:blip r:embed="rId3"/>
          <a:stretch/>
        </p:blipFill>
        <p:spPr>
          <a:xfrm>
            <a:off x="539640" y="907920"/>
            <a:ext cx="1800360" cy="24498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Цилиндр"/>
          <p:cNvPicPr/>
          <p:nvPr/>
        </p:nvPicPr>
        <p:blipFill>
          <a:blip r:embed="rId4"/>
          <a:stretch/>
        </p:blipFill>
        <p:spPr>
          <a:xfrm>
            <a:off x="6983280" y="1562040"/>
            <a:ext cx="1909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74" name="Picture 4" descr="Деловой человек"/>
          <p:cNvPicPr/>
          <p:nvPr/>
        </p:nvPicPr>
        <p:blipFill>
          <a:blip r:embed="rId1"/>
          <a:stretch/>
        </p:blipFill>
        <p:spPr>
          <a:xfrm>
            <a:off x="533520" y="3809880"/>
            <a:ext cx="3817800" cy="20257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826560" y="260280"/>
            <a:ext cx="80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 воспитания по Дж.Локку –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джентльме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высокообразованный и деловой человек. Как правило, это выходец из высшего общества, получивший воспитание и образование на дому с помощью приглашенных учителей и воспитателей. Джентльмен – человек, отличающийся утонченностью в обращении с людьми и обладавший качествами дельца и предпринимателя. Именно эти особенности легли в основу западной воспитательно-образовательной тради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VII-X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4572000" y="31417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качестве основных воспитательных средств использовались труд и окружение растущего человека. Данная система была ориентирована на учет индивидуальных особенностей воспитанника  и на развитие его личностных качеств как делового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Мелочи дел"/>
          <p:cNvPicPr/>
          <p:nvPr/>
        </p:nvPicPr>
        <p:blipFill>
          <a:blip r:embed="rId1"/>
          <a:stretch/>
        </p:blipFill>
        <p:spPr>
          <a:xfrm>
            <a:off x="1295280" y="3657600"/>
            <a:ext cx="3341880" cy="257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2556000" y="404280"/>
            <a:ext cx="6588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 воспитания джентльмена также имел поэтапный характер и компонентами его выступа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зическое воспитание, выработка характера и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во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равственное воспитание и обучение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им манера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 воспита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любознательности и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еса к учению, которое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жно было иметь ка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у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авленность,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ческ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1" descr="Джентельмен"/>
          <p:cNvPicPr/>
          <p:nvPr/>
        </p:nvPicPr>
        <p:blipFill>
          <a:blip r:embed="rId2"/>
          <a:stretch/>
        </p:blipFill>
        <p:spPr>
          <a:xfrm>
            <a:off x="533520" y="1219320"/>
            <a:ext cx="1788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тельная система как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зеркало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 цивилизаци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95" name="Picture 12" descr="Дети"/>
          <p:cNvPicPr/>
          <p:nvPr/>
        </p:nvPicPr>
        <p:blipFill>
          <a:blip r:embed="rId1"/>
          <a:stretch/>
        </p:blipFill>
        <p:spPr>
          <a:xfrm>
            <a:off x="380880" y="3733920"/>
            <a:ext cx="3429000" cy="2235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тория развития и становления воспитательных традиций связана с определенными воспитательными системами, сложившимися в процессе развития об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38480" y="3352680"/>
            <a:ext cx="5105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истема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от греч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a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ое, составленное из част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единенное) обозначает,  в частности, множество закономерно связанных друг с другом элементов (предметов, явлений, взглядов и т.п.), представляющих собой определенное един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истема коллективного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81" name="Picture 8" descr="Трудов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19209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3" descr="Сельхозрабо"/>
          <p:cNvPicPr/>
          <p:nvPr/>
        </p:nvPicPr>
        <p:blipFill>
          <a:blip r:embed="rId2"/>
          <a:stretch/>
        </p:blipFill>
        <p:spPr>
          <a:xfrm>
            <a:off x="3048120" y="762120"/>
            <a:ext cx="2438280" cy="2292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Дети войны"/>
          <p:cNvPicPr/>
          <p:nvPr/>
        </p:nvPicPr>
        <p:blipFill>
          <a:blip r:embed="rId3"/>
          <a:stretch/>
        </p:blipFill>
        <p:spPr>
          <a:xfrm>
            <a:off x="11430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Пионер"/>
          <p:cNvPicPr/>
          <p:nvPr/>
        </p:nvPicPr>
        <p:blipFill>
          <a:blip r:embed="rId4"/>
          <a:stretch/>
        </p:blipFill>
        <p:spPr>
          <a:xfrm>
            <a:off x="4876920" y="30481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Пацаны"/>
          <p:cNvPicPr/>
          <p:nvPr/>
        </p:nvPicPr>
        <p:blipFill>
          <a:blip r:embed="rId5"/>
          <a:stretch/>
        </p:blipFill>
        <p:spPr>
          <a:xfrm>
            <a:off x="6324480" y="1371600"/>
            <a:ext cx="2362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5" descr="В пионер"/>
          <p:cNvPicPr/>
          <p:nvPr/>
        </p:nvPicPr>
        <p:blipFill>
          <a:blip r:embed="rId1"/>
          <a:stretch/>
        </p:blipFill>
        <p:spPr>
          <a:xfrm>
            <a:off x="7467480" y="457200"/>
            <a:ext cx="1457280" cy="10508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6913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истема воспитания человека в коллективе и через коллекти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А.С. Макаренко была реализована в России в период 1930-1980 гг. Главная задача заключалась в воспитании человека-коллективиста, для которого общественные интересы должны были быть всегда выше личных. Этот процесс рассматривается и реально организуется в соответствии с тремя этапами становления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76000" y="3284280"/>
            <a:ext cx="73659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ся низким уровнем развития коллектива. Ведущая роль в постановке целей, выборе форм коллективной деятельности и оценке результатов отдается воспитателю как организатору и руководител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826920" y="4797360"/>
            <a:ext cx="64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 процессе формирования актива и лидеров, управление частично отдается наиболее инициативным членам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30" descr="Мал"/>
          <p:cNvPicPr/>
          <p:nvPr/>
        </p:nvPicPr>
        <p:blipFill>
          <a:blip r:embed="rId2"/>
          <a:stretch/>
        </p:blipFill>
        <p:spPr>
          <a:xfrm>
            <a:off x="7162920" y="1981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3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41940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еть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ысшем уровне развития коллектива развитие самоуправление становится главным звеном управления всей работой. При этом  усиливается значимость общественного мнения в целях воспитания каждого его члена и ослабляется ведущая роль воспитателя. Каждый коллектив должен руководствоватьс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ами движения коллектив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формулированными          А.С. Макаренко. Например, принцип параллельного и индивидуального действия, система перспективных ли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356000" y="3789360"/>
            <a:ext cx="4788000" cy="28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и показателями успешности воспитания в рамках данной системы считались коллективизм, трудолюбие, дисциплинированность, ответственность перед коллективом, коммунистическая целеустремленность, убежденность и чувство горд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3" name="Picture 15" descr="Коолектив детей"/>
          <p:cNvPicPr/>
          <p:nvPr/>
        </p:nvPicPr>
        <p:blipFill>
          <a:blip r:embed="rId1"/>
          <a:stretch/>
        </p:blipFill>
        <p:spPr>
          <a:xfrm>
            <a:off x="6781680" y="228600"/>
            <a:ext cx="2016360" cy="15732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" descr="дет"/>
          <p:cNvPicPr/>
          <p:nvPr/>
        </p:nvPicPr>
        <p:blipFill>
          <a:blip r:embed="rId2"/>
          <a:stretch/>
        </p:blipFill>
        <p:spPr>
          <a:xfrm>
            <a:off x="4648320" y="914400"/>
            <a:ext cx="2147760" cy="1503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7" descr="Елки"/>
          <p:cNvPicPr/>
          <p:nvPr/>
        </p:nvPicPr>
        <p:blipFill>
          <a:blip r:embed="rId3"/>
          <a:stretch/>
        </p:blipFill>
        <p:spPr>
          <a:xfrm>
            <a:off x="6248520" y="2362320"/>
            <a:ext cx="187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5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временные системы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29" descr="дети"/>
          <p:cNvPicPr/>
          <p:nvPr/>
        </p:nvPicPr>
        <p:blipFill>
          <a:blip r:embed="rId1"/>
          <a:stretch/>
        </p:blipFill>
        <p:spPr>
          <a:xfrm>
            <a:off x="1828800" y="2158920"/>
            <a:ext cx="58388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В современной теории и практике получают развитие гуманистические воспитательные системы </a:t>
            </a:r>
            <a:br>
              <a:rPr sz="2000"/>
            </a:b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(Е.В. Бондаревская, В.В. Караковский, Л.И. Новикова и др.).  Система воспитания становится средой жизнедеятельности  и творческого развития ребенка. Личностно-ориентированный  подход предполагает, что в воспитательной системе управление не распространяется непосредственно на личность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 предметом управления становится создание условий, среды воспитанника, отбор личностно-развивающего содержания, разработка технологий, осуществление мониторинга воспитанности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500" name="Picture 25" descr="Девочка"/>
          <p:cNvPicPr/>
          <p:nvPr/>
        </p:nvPicPr>
        <p:blipFill>
          <a:blip r:embed="rId1"/>
          <a:stretch/>
        </p:blipFill>
        <p:spPr>
          <a:xfrm>
            <a:off x="6858000" y="2286000"/>
            <a:ext cx="1935000" cy="21733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762120" y="3733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041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Цель  воспитания с позиции личностно-ориентированного подх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к культуры, как свободная, духовная, гуманная личность, способная к творческой самореализации, культурной идентификации, нравственной саморегуляции и адаптации в изменяющейся социокультурной среде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503" name="Picture 17" descr="деи-белки"/>
          <p:cNvPicPr/>
          <p:nvPr/>
        </p:nvPicPr>
        <p:blipFill>
          <a:blip r:embed="rId1"/>
          <a:stretch/>
        </p:blipFill>
        <p:spPr>
          <a:xfrm>
            <a:off x="1447920" y="4191120"/>
            <a:ext cx="1650960" cy="121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0" descr="МАл"/>
          <p:cNvPicPr/>
          <p:nvPr/>
        </p:nvPicPr>
        <p:blipFill>
          <a:blip r:embed="rId2"/>
          <a:stretch/>
        </p:blipFill>
        <p:spPr>
          <a:xfrm>
            <a:off x="5791320" y="457200"/>
            <a:ext cx="2651040" cy="2173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2"/>
          <p:cNvSpPr/>
          <p:nvPr/>
        </p:nvSpPr>
        <p:spPr>
          <a:xfrm>
            <a:off x="4191120" y="3276720"/>
            <a:ext cx="46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ичностно-ориентированного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сообраз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льтуросообраз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уально-творческий подх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Фун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ичностно-ориентированного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манитар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льтуросозидатель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иза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04920" y="5335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остно-ориентированный тип воспитания нашел воплощение и развитие в образовательных учреждениях г.Москвы и далеко за его пределами. Каждая школа, выстраивая неповторимую воспитательную систему, реализующую идеи гуманизации и творчества, но с учетом особенностей социума и собственных возмож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609480" y="2438280"/>
            <a:ext cx="678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имер, Школа адаптац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русской куль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психологической культ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гражданской культ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с художественно-эстетической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авленность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– центр гуманитарной культуры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социализации и творческого саморазвития личност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открытого тип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духовно-нравственно развития личности  и др.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11" descr="Учен"/>
          <p:cNvPicPr/>
          <p:nvPr/>
        </p:nvPicPr>
        <p:blipFill>
          <a:blip r:embed="rId1"/>
          <a:stretch/>
        </p:blipFill>
        <p:spPr>
          <a:xfrm>
            <a:off x="6858000" y="4114800"/>
            <a:ext cx="2133720" cy="1754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13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просы для обсуждения  и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или</a:t>
            </a:r>
            <a:br>
              <a:rPr sz="3600"/>
            </a:b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амоконтроля</a:t>
            </a:r>
            <a:br>
              <a:rPr sz="3600"/>
            </a:b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37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включает понят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тельная систем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ажите, что системы воспитания развиваются в связи с общественно-историческим процесс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м отличаются и в чем едины воспитательные системы прошлого и настоящег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м состоит гуманистический смысл новых концепций воспитани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основные направления обновления воспитания на современном этапе лично Вы  относите к приоритетны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жите об интересном опыте воспитания в Вашей школ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4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9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4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9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4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Общие вывод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отношению к воспитательной традиции не существует оценочного критерия тип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х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римеры конкретных систем воспитания показывают, что они выстраивались согласно логике эволюции конкретно-исторических, культурных, нравственных, идеологических и жизненных цен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в течении многих веков в мире по-разному воплощается идея воспитания человека на протяжении всей его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оспитательных системах, как и в общественном сознании, преимущественно отражаются представления о Человеке и его Жизни, Семье, Отечестве, Культуре, Мире, Природе, Добре и Красо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4" descr="BD21313_"/>
          <p:cNvPicPr/>
          <p:nvPr/>
        </p:nvPicPr>
        <p:blipFill>
          <a:blip r:embed="rId1"/>
          <a:stretch/>
        </p:blipFill>
        <p:spPr>
          <a:xfrm>
            <a:off x="1981080" y="594360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9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4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9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Темы самостоятельных исследований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470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ности и цели воспитания при рабовладельческом стр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ыцар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ве стороны одной меда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ние джентльмена как стратегия буржуазного 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ективная система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ти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манистические концепции воспит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ы воспитания человека в информационном обществ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Picture 8" descr="на кресле"/>
          <p:cNvPicPr/>
          <p:nvPr/>
        </p:nvPicPr>
        <p:blipFill>
          <a:blip r:embed="rId1"/>
          <a:stretch/>
        </p:blipFill>
        <p:spPr>
          <a:xfrm>
            <a:off x="3581280" y="1219320"/>
            <a:ext cx="20574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5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0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5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0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80880" y="4647960"/>
            <a:ext cx="830592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ловечеству известно педагогическое наследие древних цивилизаций, эпохи Античности, Средневековья, Возрождения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VII–XI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ов и современного периода развития человечеств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начал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6665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юбая система воспитания востребована конкретным обществом и существует до тех пор, пока сохраняет свою значимость, то есть имеет конкретно-исторический характ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62120" y="22860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808000"/>
                </a:solidFill>
                <a:latin typeface="Tahoma"/>
              </a:rPr>
              <a:t>Воспитательная система – это совокупность взаимосвязанных смыслов, целей и принципов организации воспитательного  процесса, методов и приемов их  поэтапной реализации в рамках определенной социальной структуры (семьи,  школы, вуза или государства в цел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7" descr="Подсолнух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писок рекомендуемой литератур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100 понятий личностно-ориентированного воспитания. Глоссарий. Учеб. Пособие.- Ростов-на-Дону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Теория и практика личностно-ориентированного образования.- Ростов-на-Дону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тинас Б.П. Введение в философию воспитания.- М.,199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журинский А.Н. История зарубежной педагогики.- М., 199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птерев П.Ф. История русской педагогики.- СПб., 199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. пособие для студентов педагогических учебных заведен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А. Сластенин, И.Ф. Исаев, А.И. Мищенко, Е.Н. Шиянов. – 4-е изд. – М.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жков М.И., Байбородова Л.В. Организация воспитательного процесса в школе.- М.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илова М.И. Социализация и воспитание личности школьника в педагогическом процесс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. Пособие.- Красноярск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Использованные ресурс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57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100 понятий личностно-ориентированного воспитания. Глоссарий. Учеб. Пособие.- Ростов-на-Дону, 2000.- 44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рдовская Н.В., РеанА.А. Педагогика. Учебник для вузов.- СПб, 2001.- 304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новационная школа № 1 (12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.ред. Е.В. Бондаревская.- Ростов-на-Дону, 2002.- 96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81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рн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kishinev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http://natali761.naro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3"/>
              </a:rPr>
              <a:t>www.holy.ru/old/camp/pictures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4"/>
              </a:rPr>
              <a:t>http://big.spb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5"/>
              </a:rPr>
              <a:t>www.nvrsk.ru</a:t>
            </a: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6"/>
              </a:rPr>
              <a:t>http://cliohistory.narod.ru/greek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7"/>
              </a:rPr>
              <a:t>http://www.mamaska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8"/>
              </a:rPr>
              <a:t>http://www.wwtravel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5" descr="computador"/>
          <p:cNvPicPr/>
          <p:nvPr/>
        </p:nvPicPr>
        <p:blipFill>
          <a:blip r:embed="rId9"/>
          <a:stretch/>
        </p:blipFill>
        <p:spPr>
          <a:xfrm>
            <a:off x="4419720" y="4876920"/>
            <a:ext cx="16002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8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2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8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2" dur="500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3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ние в Древней Греци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3" name="Picture 4" descr="Афины"/>
          <p:cNvPicPr/>
          <p:nvPr/>
        </p:nvPicPr>
        <p:blipFill>
          <a:blip r:embed="rId1"/>
          <a:stretch/>
        </p:blipFill>
        <p:spPr>
          <a:xfrm>
            <a:off x="762120" y="1447920"/>
            <a:ext cx="3584520" cy="2516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Древняя Греция2"/>
          <p:cNvPicPr/>
          <p:nvPr/>
        </p:nvPicPr>
        <p:blipFill>
          <a:blip r:embed="rId2"/>
          <a:stretch/>
        </p:blipFill>
        <p:spPr>
          <a:xfrm>
            <a:off x="5562720" y="198108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Древняя греция"/>
          <p:cNvPicPr/>
          <p:nvPr/>
        </p:nvPicPr>
        <p:blipFill>
          <a:blip r:embed="rId3"/>
          <a:stretch/>
        </p:blipFill>
        <p:spPr>
          <a:xfrm>
            <a:off x="3809880" y="3352680"/>
            <a:ext cx="1987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партанская система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7" name="Picture 8" descr="Греч"/>
          <p:cNvPicPr/>
          <p:nvPr/>
        </p:nvPicPr>
        <p:blipFill>
          <a:blip r:embed="rId1"/>
          <a:stretch/>
        </p:blipFill>
        <p:spPr>
          <a:xfrm>
            <a:off x="762120" y="1600200"/>
            <a:ext cx="2952720" cy="1800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8" descr="Древняя Греция 1"/>
          <p:cNvPicPr/>
          <p:nvPr/>
        </p:nvPicPr>
        <p:blipFill>
          <a:blip r:embed="rId2"/>
          <a:stretch/>
        </p:blipFill>
        <p:spPr>
          <a:xfrm>
            <a:off x="6934320" y="3733920"/>
            <a:ext cx="1871640" cy="2504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240" y="4952880"/>
            <a:ext cx="6553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9520" y="1142640"/>
            <a:ext cx="53341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воспитания в Спарте – подготовка воина - члена военной общины. До 7 лет ребенок воспитывался в семье няньками-кормилицами. С 7 лет полис (город-государство) брал на себя воспитание и обучение спартиатов. Этот процесс включа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 этап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6"/>
          <p:cNvSpPr/>
          <p:nvPr/>
        </p:nvSpPr>
        <p:spPr>
          <a:xfrm>
            <a:off x="457200" y="3962520"/>
            <a:ext cx="64008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этап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С 7 до 15 лет  дети приобретали навыки письма и чтения, физического совершенствования. В 14 лет мальчиков посвящали в эйрены – члена общины с предоставлением гражданских прав. В течение последующего года их проверяли на стойкость в военных отряд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8" descr="Греч"/>
          <p:cNvPicPr/>
          <p:nvPr/>
        </p:nvPicPr>
        <p:blipFill>
          <a:blip r:embed="rId1"/>
          <a:stretch/>
        </p:blipFill>
        <p:spPr>
          <a:xfrm>
            <a:off x="1981080" y="236232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Геракл"/>
          <p:cNvPicPr/>
          <p:nvPr/>
        </p:nvPicPr>
        <p:blipFill>
          <a:blip r:embed="rId2"/>
          <a:stretch/>
        </p:blipFill>
        <p:spPr>
          <a:xfrm>
            <a:off x="380880" y="45720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Армия Спарты"/>
          <p:cNvPicPr/>
          <p:nvPr/>
        </p:nvPicPr>
        <p:blipFill>
          <a:blip r:embed="rId3"/>
          <a:stretch/>
        </p:blipFill>
        <p:spPr>
          <a:xfrm>
            <a:off x="3048120" y="990720"/>
            <a:ext cx="1168200" cy="1523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3"/>
          <p:cNvSpPr/>
          <p:nvPr/>
        </p:nvSpPr>
        <p:spPr>
          <a:xfrm>
            <a:off x="3657600" y="2819520"/>
            <a:ext cx="5486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20-30 лет  юноши  приобретали статус полноправного члена военной общины. Они свободно владели копьем, мечом, дротиком и другим оружием того времен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304920" y="4430880"/>
            <a:ext cx="83818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 временем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артанская культура воспитания оказалась гипертрофированной военной подготовкой при фактическом невежестве молодого поколения. Воспитательные традиции Спарты перио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-I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в. до н.э. в итоге свелись к физическим упражнениям и испытаниям. Именно эти элементы стали предметом подражания в последующие эпо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4495680" y="22860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15-20 лет – включал дополнительное обучение пению и музыке. Однако способы воспитания ужесточалис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держали в голоде, приучали к самих добывать пищу или спасаться от невзгод природы. К 20 годам юные воины получали полное вооруж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520" y="1447920"/>
            <a:ext cx="8613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а воспитания в Афинах сводилась к гармоничному развитию личности. Главным принципом была соревновательность в гимнастике, танцах, музыке, словесных спорах. Система организованного воспитания реализовывалась поэтап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т  мальчиков воспитывали дома. Затем они одновременно посещали мусическую и гимпастическую (палестра) школы, где получали преимущественно литературное, музыкальное и военно-спортивное образование и воспит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144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озраст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-18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юноши совершенствовали свое образование в гимнасиях. Вершиной достижения молодого человека (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8-2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) считалось пребывание в эфебии – общественном учреждении по совершествованию военного искус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16" descr="Голова Афины"/>
          <p:cNvPicPr/>
          <p:nvPr/>
        </p:nvPicPr>
        <p:blipFill>
          <a:blip r:embed="rId1"/>
          <a:stretch/>
        </p:blipFill>
        <p:spPr>
          <a:xfrm>
            <a:off x="8001000" y="228600"/>
            <a:ext cx="909720" cy="12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iАристотель1"/>
          <p:cNvPicPr/>
          <p:nvPr/>
        </p:nvPicPr>
        <p:blipFill>
          <a:blip r:embed="rId2"/>
          <a:stretch/>
        </p:blipFill>
        <p:spPr>
          <a:xfrm>
            <a:off x="533520" y="4114800"/>
            <a:ext cx="1092240" cy="1257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9" descr="Перикл выступает перед афинянами"/>
          <p:cNvPicPr/>
          <p:nvPr/>
        </p:nvPicPr>
        <p:blipFill>
          <a:blip r:embed="rId3"/>
          <a:stretch/>
        </p:blipFill>
        <p:spPr>
          <a:xfrm>
            <a:off x="1523880" y="4648320"/>
            <a:ext cx="2819520" cy="183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0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Афинская система воспит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-838080" y="1828800"/>
            <a:ext cx="1066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609480" y="2819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52280" y="837720"/>
            <a:ext cx="56390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финская система воспитания ориентировала человека на овла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вокупностью добродетел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 дальнейшем получившей известность как программа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еми свободных искусств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мматика, диалектика, искусство спора, арифметика, геометрия, астрономия, музы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14" descr="Афины1"/>
          <p:cNvPicPr/>
          <p:nvPr/>
        </p:nvPicPr>
        <p:blipFill>
          <a:blip r:embed="rId1"/>
          <a:stretch/>
        </p:blipFill>
        <p:spPr>
          <a:xfrm>
            <a:off x="1066680" y="41911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6" descr="Храмы Др"/>
          <p:cNvPicPr/>
          <p:nvPr/>
        </p:nvPicPr>
        <p:blipFill>
          <a:blip r:embed="rId2"/>
          <a:stretch/>
        </p:blipFill>
        <p:spPr>
          <a:xfrm>
            <a:off x="6629400" y="457200"/>
            <a:ext cx="1779480" cy="25146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648320" y="4114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 программа стала символом образования для многих поколений и вошла в историю как традиция греческой образова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лигиозное воспита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31" name="Picture 4" descr="Библия"/>
          <p:cNvPicPr/>
          <p:nvPr/>
        </p:nvPicPr>
        <p:blipFill>
          <a:blip r:embed="rId1"/>
          <a:stretch/>
        </p:blipFill>
        <p:spPr>
          <a:xfrm>
            <a:off x="914400" y="1905120"/>
            <a:ext cx="3352680" cy="2305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Буддизм"/>
          <p:cNvPicPr/>
          <p:nvPr/>
        </p:nvPicPr>
        <p:blipFill>
          <a:blip r:embed="rId2"/>
          <a:stretch/>
        </p:blipFill>
        <p:spPr>
          <a:xfrm>
            <a:off x="3581280" y="1143000"/>
            <a:ext cx="2549520" cy="2297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АЭ"/>
          <p:cNvPicPr/>
          <p:nvPr/>
        </p:nvPicPr>
        <p:blipFill>
          <a:blip r:embed="rId3"/>
          <a:stretch/>
        </p:blipFill>
        <p:spPr>
          <a:xfrm>
            <a:off x="5791320" y="1600200"/>
            <a:ext cx="2838240" cy="3352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3" descr="Папа рим"/>
          <p:cNvPicPr/>
          <p:nvPr/>
        </p:nvPicPr>
        <p:blipFill>
          <a:blip r:embed="rId4"/>
          <a:stretch/>
        </p:blipFill>
        <p:spPr>
          <a:xfrm>
            <a:off x="6553080" y="4267080"/>
            <a:ext cx="2014560" cy="2379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Мечеть"/>
          <p:cNvPicPr/>
          <p:nvPr/>
        </p:nvPicPr>
        <p:blipFill>
          <a:blip r:embed="rId5"/>
          <a:stretch/>
        </p:blipFill>
        <p:spPr>
          <a:xfrm>
            <a:off x="990720" y="4038480"/>
            <a:ext cx="3276360" cy="2557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Пантеон Афины"/>
          <p:cNvPicPr/>
          <p:nvPr/>
        </p:nvPicPr>
        <p:blipFill>
          <a:blip r:embed="rId6"/>
          <a:stretch/>
        </p:blipFill>
        <p:spPr>
          <a:xfrm>
            <a:off x="2743200" y="2971800"/>
            <a:ext cx="3154320" cy="2494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Поп"/>
          <p:cNvPicPr/>
          <p:nvPr/>
        </p:nvPicPr>
        <p:blipFill>
          <a:blip r:embed="rId7"/>
          <a:stretch/>
        </p:blipFill>
        <p:spPr>
          <a:xfrm>
            <a:off x="4267080" y="3657600"/>
            <a:ext cx="2347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5:21:25Z</dcterms:created>
  <dc:creator>303-3</dc:creator>
  <dc:description/>
  <dc:language>en-US</dc:language>
  <cp:lastModifiedBy>Галина Михайловна</cp:lastModifiedBy>
  <dcterms:modified xsi:type="dcterms:W3CDTF">2015-04-15T13:59:47Z</dcterms:modified>
  <cp:revision>120</cp:revision>
  <dc:subject/>
  <dc:title>Воспитательные системы:  прошлое и настоящее</dc:title>
</cp:coreProperties>
</file>