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864-F0D4-4B96-A40E-4BB6E04D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905-0D6A-40A3-B60B-5F283AD4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9BF-4A24-4EDB-94F6-F00DCAFF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730-176D-4FC6-9626-10091CC9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D911-5836-4437-AABA-2E933008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4412-05D3-479D-B8A2-B0F812DC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9823-E2BE-445F-9342-96324495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99E2-E25C-4DB6-8335-75012805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E6AC-C5C0-402A-BD91-5A5F9549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4062-5929-4661-95C8-3554FAA8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2B4B-0742-4EDA-9912-B8F20E31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D6E-1E58-45D7-BD07-0274AB16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5945-ACFC-4220-AB93-90FFCEC9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8947-D5D3-4DB7-8AA3-FEF6FE5F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76CF-A5A2-48B0-8C92-5F239AF9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D846-DE42-463F-8134-B7BDD480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5B55-7BAB-41EF-8270-FD8A502A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EBE7-96CE-4110-82DF-5ECAD663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FF8-1EBA-4465-9B20-46639D6F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B1C-7DBC-4EFD-84ED-130E1F97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4D7-F77E-481A-8E60-8D7EE890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E9A-4857-45BC-B8CB-B9145870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E69-8A14-4BB8-A09B-5535BD7E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9C6-C01F-43B8-B7B2-2016D804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918D-996F-44E3-B4EE-07F7FDA86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5A49-B3B3-4E14-BF42-F792B41CC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50ds.ru/vospitatel/4566-konspekty-zanyatiy-po-oznakomleniyu-starshikh-doshkolnikov-s-istoriey-i-kulturoy-rodnogo-naroda.html" TargetMode="External"/><Relationship Id="rId2" Type="http://schemas.openxmlformats.org/officeDocument/2006/relationships/hyperlink" Target="http://50ds.ru/metodist/2954-ispolzuya-problemnye-situatsii--zalozhit-v-detskie-dushi-zerna-volshebnogo-mira-knig--probudit-interes-k-obshcheniyu-s-knigoy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Тестопласти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10920" y="2205000"/>
            <a:ext cx="7574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ЕЧ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62420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33896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Цель: научить использовать возможности соленого теста – тестопластики в совместном творчестве родителей и детей.</a:t>
            </a: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познакомить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с историе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возникновения соленого теста, технологическими возможностями этого материал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вызвать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интерес 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данному виду деятель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териал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цветное соленое тест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стеки для лепк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лей П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исти для кле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гуаш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ам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сизал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тка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ножниц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6242040" cy="3828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148360" y="357336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84044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170160" cy="4226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935080" cy="3913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508720" y="4149720"/>
            <a:ext cx="2976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08360" y="260280"/>
            <a:ext cx="468144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04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6248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697520" cy="577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18:11:37Z</dcterms:created>
  <dc:creator>Admin</dc:creator>
  <dc:description/>
  <dc:language>en-US</dc:language>
  <cp:lastModifiedBy>Admin</cp:lastModifiedBy>
  <dcterms:modified xsi:type="dcterms:W3CDTF">2015-04-15T16:46:08Z</dcterms:modified>
  <cp:revision>9</cp:revision>
  <dc:subject/>
  <dc:title>Тестопластика</dc:title>
</cp:coreProperties>
</file>