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C65-BD31-4053-8ED7-9B518601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EEB-A712-479D-ABAE-62A2FC0F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F4C-32BB-49B5-A3F2-5E03A0EB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28E-DE5F-4DA0-AB45-FB2142E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685-B6FC-44D9-BC0D-989BB456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EB9A-153E-4577-A896-9FAB8E5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7758-CB43-4C90-A906-3350C82E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143-6272-4322-8929-803F1FD0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C251-F889-4654-9FF5-DB30624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32E-99B2-4A31-9034-73B425FD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0B72-E0E8-48C2-B2A0-A53B809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712-6EAD-4FFD-92BA-EBCE399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147-D18D-43AB-BB45-F8DB74C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FF1-1239-4AFF-85A2-92E74B7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9092-3A22-4A43-8C1E-88594CBF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9D6F-8220-4108-B5D8-B81D8866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4E7C-00F1-438F-86BE-E3B71E27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D81-4C41-4EA0-9EBD-4EC8B40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769-077F-4C17-844F-40F6A832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A2B-4D61-4AEA-B6B0-31061F10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4E5-131D-4FB2-80D9-8B1BF993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142-FB7E-4F33-B406-FD325C8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9D2-FF85-4BCC-B483-00063B1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C82-DE25-475C-92F1-E48C3C7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0F7-3B53-493E-967C-1CA19BFA0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9DA-F4B4-4D27-AD9E-B808D056C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50ds.ru/vospitatel/4566-konspekty-zanyatiy-po-oznakomleniyu-starshikh-doshkolnikov-s-istoriey-i-kulturoy-rodnogo-naroda.html" TargetMode="External"/><Relationship Id="rId2" Type="http://schemas.openxmlformats.org/officeDocument/2006/relationships/hyperlink" Target="http://50ds.ru/metodist/2954-ispolzuya-problemnye-situatsii--zalozhit-v-detskie-dushi-zerna-volshebnogo-mira-knig--probudit-interes-k-obshcheniyu-s-knigoy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стопласти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757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3389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Цель: научить использовать возможности соленого теста – тестопластики в совместном творчестве родителей и детей.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ознакомить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с историе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озникновения соленого теста, технологическими возможностями этого материа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ызвать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интерес 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данному виду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цветное соленое тес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теки для леп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ей П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исти для кле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уаш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м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иза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ка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ножн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242040" cy="3828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04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170160" cy="4226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935080" cy="391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681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04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248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9752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8:11:37Z</dcterms:created>
  <dc:creator>Admin</dc:creator>
  <dc:description/>
  <dc:language>en-US</dc:language>
  <cp:lastModifiedBy>Admin</cp:lastModifiedBy>
  <dcterms:modified xsi:type="dcterms:W3CDTF">2015-04-15T16:46:08Z</dcterms:modified>
  <cp:revision>9</cp:revision>
  <dc:subject/>
  <dc:title>Тестопластика</dc:title>
</cp:coreProperties>
</file>