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1.jpeg" ContentType="image/jpeg"/>
  <Override PartName="/ppt/media/image18.gif" ContentType="image/gif"/>
  <Override PartName="/ppt/media/image4.png" ContentType="image/png"/>
  <Override PartName="/ppt/media/image17.gif" ContentType="image/gif"/>
  <Override PartName="/ppt/media/image14.jpeg" ContentType="image/jpeg"/>
  <Override PartName="/ppt/media/image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913-A063-43FB-8EE5-AC3B36EA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DFF-D809-4634-922A-54B60BE1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F2A-1214-492E-86CF-017989DE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702-4319-4BC4-82F2-834EC798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387A-B596-4AD8-84BF-A91A87E3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C84A-3D93-405B-A181-074F8951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19EE-0B31-4AEB-A20C-8DB85015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A9EF-C88D-4EE3-A9DF-161A28EA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2E80-795F-48ED-B864-04FDD018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D395-44D5-424C-AB11-A4F526DF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5B27-EB1E-4C3A-A5A3-198701D5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36E-A479-42A1-A0A3-5C6EEFB5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9E34-1BDB-4E52-9E40-95C05AB3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7359-0A89-4927-A18F-E625B9DB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CA6D-65BA-43F2-A37A-AB86394F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E9E1-E131-4AFA-9D5A-90FA27E9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A67F-941E-4138-AB50-7B5C746F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98EE-C587-453F-98EB-D3A9293B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D6EC-3D65-413F-81C4-FC4FE6A6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4AB0-63BC-4BDC-8EFA-7101A57A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320F-39E2-409E-8B91-AED4E44F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96D57-BDBA-43A0-9E99-50E36CB5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692-5D53-4B2E-9F78-EAB4216B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DF75-A8FC-49D2-9C54-29245D03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B599-4668-4E15-A92A-DB012B8E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69C4-A478-4294-84D4-340F759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88C3-39B4-4927-B3D2-FE20175C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953B-4498-4D81-BBBE-D60BD47B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9694-79E1-49EC-A023-70D35AE6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998B-93A1-4BC5-B4C8-8DFA4742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E4A-1DA6-4860-A2A9-D3C2F819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A77-3E38-4171-A0D2-435010F5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618-ED6B-4987-ACDC-BA9FA67E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321-3016-4D10-8729-404A5CF9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2A4-14A3-44D1-91A0-90C32C50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001-8A09-435E-89AA-CBDFD324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197E-2902-4995-8D97-AE630495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EDB1-8F36-42E5-BF27-1CE68C3243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A2CF-EA04-4745-A99F-EC2E7A5F7F8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3635280" cy="2424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523800" cy="1028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rot="10800000">
            <a:off x="4140000" y="4797360"/>
            <a:ext cx="523800" cy="1028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 rot="16200000">
            <a:off x="2376360" y="3104640"/>
            <a:ext cx="523800" cy="1028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 rot="5400000">
            <a:off x="5760720" y="3176640"/>
            <a:ext cx="523800" cy="102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3059280" y="2349360"/>
            <a:ext cx="1114200" cy="828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627280" y="549360"/>
            <a:ext cx="37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ill Sans Ultra Bold"/>
              </a:rPr>
              <a:t>В путь!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ill Sans Ultra Bold"/>
              <a:ea typeface="Gill Sans Ul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3990" r="10826" b="10481"/>
          <a:stretch/>
        </p:blipFill>
        <p:spPr>
          <a:xfrm>
            <a:off x="395280" y="1125360"/>
            <a:ext cx="8280360" cy="501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348000" y="404640"/>
            <a:ext cx="252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38452" t="10395" r="40305" b="71836"/>
          <a:stretch/>
        </p:blipFill>
        <p:spPr>
          <a:xfrm>
            <a:off x="2916360" y="448164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47640" y="3573360"/>
            <a:ext cx="64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263700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(Не)январь, а март открывал год на Руси. Люди радовались концу зимней (не)погоды. Они верили, что весна прогонит все (не)счастья и (не)уда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0" r="5410" b="0"/>
          <a:stretch/>
        </p:blipFill>
        <p:spPr>
          <a:xfrm>
            <a:off x="2916360" y="404640"/>
            <a:ext cx="4678200" cy="5905800"/>
          </a:xfrm>
          <a:prstGeom prst="rect">
            <a:avLst/>
          </a:prstGeom>
          <a:ln w="76320">
            <a:solidFill>
              <a:srgbClr val="ff3300"/>
            </a:solidFill>
            <a:prstDash val="sysDot"/>
            <a:miter/>
          </a:ln>
        </p:spPr>
      </p:pic>
      <p:sp>
        <p:nvSpPr>
          <p:cNvPr id="148" name=""/>
          <p:cNvSpPr txBox="1"/>
          <p:nvPr/>
        </p:nvSpPr>
        <p:spPr>
          <a:xfrm rot="5400000">
            <a:off x="-1152720" y="2528640"/>
            <a:ext cx="568944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Италия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238320" cy="1225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516720" y="2492280"/>
            <a:ext cx="237960" cy="59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916360" y="1844640"/>
            <a:ext cx="1942920" cy="2232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rcRect l="35208" t="72983" r="52166" b="8559"/>
          <a:stretch/>
        </p:blipFill>
        <p:spPr>
          <a:xfrm>
            <a:off x="3995640" y="5778360"/>
            <a:ext cx="1009800" cy="1079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87640" y="3713400"/>
            <a:ext cx="507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ез трубу в дом должна проникн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шебница Беф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положить в их башмачки подар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непослушным детям достаются уголь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6517" t="2588" r="8754" b="1679"/>
          <a:stretch/>
        </p:blipFill>
        <p:spPr>
          <a:xfrm>
            <a:off x="3348000" y="189000"/>
            <a:ext cx="4165560" cy="6337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 rot="5400000">
            <a:off x="-1549080" y="2564640"/>
            <a:ext cx="5975640" cy="165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Германия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257040" cy="314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508720" y="2276640"/>
            <a:ext cx="176040" cy="215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156360" y="2852640"/>
            <a:ext cx="235080" cy="28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508720" y="4005360"/>
            <a:ext cx="234720" cy="287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4859280" y="4365720"/>
            <a:ext cx="235080" cy="287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5292720" y="2997360"/>
            <a:ext cx="2350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>
            <a:off x="6227640" y="4437000"/>
            <a:ext cx="235080" cy="287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rcRect l="30723" t="48031" r="54883" b="28597"/>
          <a:stretch/>
        </p:blipFill>
        <p:spPr>
          <a:xfrm>
            <a:off x="2124000" y="5373720"/>
            <a:ext cx="1150920" cy="1366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050920" y="5058360"/>
            <a:ext cx="70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то прикоснётся к н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 измажется сажей, будет счастлив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5473440" cy="684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1454400" cy="2519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5400000">
            <a:off x="-1512360" y="2240640"/>
            <a:ext cx="6119640" cy="201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Фр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rcRect l="19899" t="52945" r="63880" b="22405"/>
          <a:stretch/>
        </p:blipFill>
        <p:spPr>
          <a:xfrm>
            <a:off x="2556000" y="5416560"/>
            <a:ext cx="12967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516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067280" y="191628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924360" y="249228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64328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932360" y="2781360"/>
            <a:ext cx="404640" cy="404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3348000" y="2997360"/>
            <a:ext cx="405000" cy="40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 rot="5400000">
            <a:off x="-1837080" y="2781000"/>
            <a:ext cx="583272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bbe0e3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Россия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bbe0e3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284720" y="47628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635280" cy="2424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523800" cy="1028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 rot="10800000">
            <a:off x="4140000" y="4868640"/>
            <a:ext cx="523800" cy="1028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 rot="16200000">
            <a:off x="2376360" y="3104640"/>
            <a:ext cx="523800" cy="1028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 rot="5400000">
            <a:off x="5760720" y="3176640"/>
            <a:ext cx="523800" cy="1028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059280" y="2349360"/>
            <a:ext cx="1114200" cy="828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476360" y="333360"/>
            <a:ext cx="612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встречи!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28:49Z</dcterms:created>
  <dc:creator>Тарасова Т.Ю.</dc:creator>
  <dc:description/>
  <dc:language>en-US</dc:language>
  <cp:lastModifiedBy>123</cp:lastModifiedBy>
  <dcterms:modified xsi:type="dcterms:W3CDTF">2010-12-15T21:39:35Z</dcterms:modified>
  <cp:revision>26</cp:revision>
  <dc:subject/>
  <dc:title>Урок-путешествие</dc:title>
</cp:coreProperties>
</file>