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1.jpeg" ContentType="image/jpeg"/>
  <Override PartName="/ppt/media/image18.gif" ContentType="image/gif"/>
  <Override PartName="/ppt/media/image4.png" ContentType="image/png"/>
  <Override PartName="/ppt/media/image17.gif" ContentType="image/gif"/>
  <Override PartName="/ppt/media/image14.jpeg" ContentType="image/jpeg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4F5-8925-4E62-9EA7-9E31640B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E8F-7409-4C4C-9247-F15F1324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625-9064-4C06-ABC6-26CD998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56C-0DFC-4D7B-82E7-8CD9D52C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D299-4FC1-480D-8687-6A3E988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04A6-6468-4E36-ACB0-F98ABB1D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ABE7-B3A2-42A3-A1E4-4E4BF4F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0BDF-8160-40F5-885F-3CB8F5E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B86C-49CB-455C-A413-6F890F3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550-3B38-482F-BB28-942CE0E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D537-199E-4403-9FD6-A253BC7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A63-2C57-4A87-9870-80DF442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236F-21B5-46AC-BBAA-D44ABD1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C3B-2F4E-4434-AF54-C320A88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7C8-B8CB-4A48-A40A-1FE575DD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5869-A0A2-4B0E-972E-B713EAA1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9C66-EA89-4C6F-A55F-99BAF8CF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6C31-87BB-48F7-8F2F-3618D059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E443-A241-4F1C-A4BB-7E61482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B57D-2CE4-41FB-BD87-999623E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558B-6E42-421D-9C45-09EE632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712F-5703-4B0A-A39E-C9BFF8EC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3E6-0A3B-4EA2-BB5E-701DD7E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E703-43F0-46E9-B094-1B40606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8033-A88A-43A9-AA41-48E84ED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189C-0486-4C5A-A845-26010E6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EF52-9C11-4735-BCA0-4E707F9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E70E-F5EF-4A45-99C7-5BEC75C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01DB-8C51-470B-AD12-C5CB39A1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33AE-9D07-4AE9-83BD-63EF1BC7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741-76A3-4C90-B1A4-4C63FD2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6D1-822D-4497-9306-3BA5F525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830-E36A-41F2-A771-984F9D3F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649-4EA6-4638-9289-67A55AC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9BE-5FA2-4C01-8C58-33A1938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CD6-1351-4BE7-900D-9F58625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06B-DB73-4030-95A0-18780B3B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2E68-2DC6-4C7E-A234-10932E2989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CC0-ECDF-45C0-ABBE-0090995140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0800000">
            <a:off x="4140000" y="479736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16200000">
            <a:off x="2376360" y="310464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 rot="5400000">
            <a:off x="5760720" y="3176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1114200" cy="828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627280" y="54936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В путь!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3990" r="10826" b="10481"/>
          <a:stretch/>
        </p:blipFill>
        <p:spPr>
          <a:xfrm>
            <a:off x="395280" y="1125360"/>
            <a:ext cx="8280360" cy="501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348000" y="404640"/>
            <a:ext cx="252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8452" t="10395" r="40305" b="71836"/>
          <a:stretch/>
        </p:blipFill>
        <p:spPr>
          <a:xfrm>
            <a:off x="2916360" y="448164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7640" y="357336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263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(Не)январь, а март открывал год на Руси. Люди радовались концу зимней (не)погоды. Они верили, что весна прогонит все (не)счастья и (не)у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0" r="5410" b="0"/>
          <a:stretch/>
        </p:blipFill>
        <p:spPr>
          <a:xfrm>
            <a:off x="2916360" y="404640"/>
            <a:ext cx="4678200" cy="5905800"/>
          </a:xfrm>
          <a:prstGeom prst="rect">
            <a:avLst/>
          </a:prstGeom>
          <a:ln w="76320">
            <a:solidFill>
              <a:srgbClr val="ff3300"/>
            </a:solidFill>
            <a:prstDash val="sysDot"/>
            <a:miter/>
          </a:ln>
        </p:spPr>
      </p:pic>
      <p:sp>
        <p:nvSpPr>
          <p:cNvPr id="148" name=""/>
          <p:cNvSpPr txBox="1"/>
          <p:nvPr/>
        </p:nvSpPr>
        <p:spPr>
          <a:xfrm rot="5400000">
            <a:off x="-1152720" y="2528640"/>
            <a:ext cx="56894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Итал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238320" cy="122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7960" cy="59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916360" y="184464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rcRect l="35208" t="72983" r="52166" b="8559"/>
          <a:stretch/>
        </p:blipFill>
        <p:spPr>
          <a:xfrm>
            <a:off x="3995640" y="5778360"/>
            <a:ext cx="1009800" cy="107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3713400"/>
            <a:ext cx="50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трубу в дом должна проник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шебница Беф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оложить в их башмачки подар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непослушным детям достаются угол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6517" t="2588" r="8754" b="1679"/>
          <a:stretch/>
        </p:blipFill>
        <p:spPr>
          <a:xfrm>
            <a:off x="3348000" y="189000"/>
            <a:ext cx="4165560" cy="633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 rot="5400000">
            <a:off x="-1549080" y="2564640"/>
            <a:ext cx="597564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ерман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70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508720" y="2276640"/>
            <a:ext cx="176040" cy="21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156360" y="285264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508720" y="4005360"/>
            <a:ext cx="234720" cy="28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4859280" y="436572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292720" y="299736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6227640" y="443700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rcRect l="30723" t="48031" r="54883" b="28597"/>
          <a:stretch/>
        </p:blipFill>
        <p:spPr>
          <a:xfrm>
            <a:off x="2124000" y="5373720"/>
            <a:ext cx="1150920" cy="136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0920" y="5058360"/>
            <a:ext cx="70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то прикоснётся к н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измажется сажей, будет счастлив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473440" cy="684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1454400" cy="2519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5400000">
            <a:off x="-1512360" y="2240640"/>
            <a:ext cx="611964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rcRect l="19899" t="52945" r="63880" b="22405"/>
          <a:stretch/>
        </p:blipFill>
        <p:spPr>
          <a:xfrm>
            <a:off x="2556000" y="5416560"/>
            <a:ext cx="1296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516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924360" y="2492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643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932360" y="2781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348000" y="2997360"/>
            <a:ext cx="405000" cy="40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5400000">
            <a:off x="-1837080" y="2781000"/>
            <a:ext cx="583272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bbe0e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осс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bbe0e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84720" y="4762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rot="10800000">
            <a:off x="4140000" y="4868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 rot="16200000">
            <a:off x="2376360" y="310464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 rot="5400000">
            <a:off x="5760720" y="3176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1114200" cy="828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476360" y="33336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встречи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28:49Z</dcterms:created>
  <dc:creator>Тарасова Т.Ю.</dc:creator>
  <dc:description/>
  <dc:language>en-US</dc:language>
  <cp:lastModifiedBy>123</cp:lastModifiedBy>
  <dcterms:modified xsi:type="dcterms:W3CDTF">2010-12-15T21:39:35Z</dcterms:modified>
  <cp:revision>26</cp:revision>
  <dc:subject/>
  <dc:title>Урок-путешествие</dc:title>
</cp:coreProperties>
</file>