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E02-A2DC-40B1-B230-E2DA46CA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DD4-8B81-41F2-9348-4F2BE316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388-AAD0-464D-A43A-597F7A26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9B9-3CDE-4FD4-92D7-CCFEDB6F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BC8C-09F4-4EE6-B121-A668F6EB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806C-5FFD-4924-88B4-73ECE5A9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D2E0-3485-4A07-AA31-1D436A90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D4E8-B1FD-4FA1-8F31-4D179D2A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6F64-886B-4EC0-A621-0391751A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DB5B-E20A-452B-8524-F057680C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B76A-9C5A-49A6-9C0D-C271A9C8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100-2FD6-48E7-9CC4-696DE26B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B71A-7089-4EF3-B905-6E94E2D1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6FF6-B6C3-4481-ACF8-F8A7B0E5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4B77-6F92-41A2-B1A7-CD2112F1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1B6D-569F-41A5-966E-F5B1E1E0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18BF-43DE-4FA9-95F8-602EB013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285-3440-4A7F-9200-4FD1C9DA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85F-39C7-40FF-A496-E8B0582E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4AE-A298-40CC-B316-E4DD9BFF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7F5-56FE-4375-909C-D578B60F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174-A408-4CCC-8CFC-C58D9BC4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F6A-E8BA-47D6-AE82-9CFE614C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422-8FD1-4FE5-BCC3-913E3CBC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B78A-550F-4F57-A694-3D32674C3C23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3D07-69B9-47FD-8D3A-D0002C2A6C1D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571680" y="1052640"/>
            <a:ext cx="8001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53735"/>
                </a:solidFill>
                <a:latin typeface="Georgia"/>
              </a:rPr>
              <a:t>20 вопросов которые помогут узнать у ребенка-ученика, как дела в школе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427280" y="4076640"/>
            <a:ext cx="376380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539640" y="1125360"/>
            <a:ext cx="813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 хорошее произошло с тобой сегодня в шк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 худшее произошло с тобой сегодня в шк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асскажи мне что-нибудь смешное, над чем ты сегодня посмеял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бы ты мог выбирать, с кем бы ты хотел сидеть в классе? А с кем бы точно не хотел сидеть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асскажи мне о самом интересном месте в школе, клас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бы мы сегодня пригласили к нам в гости твоего учителя, что он нам рассказал о тебе, как дума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ому ты сегодня помог в школ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 может, тебе кто-то помог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егодня на каком уроке ты узнал, что-то ново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ыл ли момент в школе, когда ты чувствовал себя самым счастливым сегодня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ыло ли тебе сегодня очень скучно или грустно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ем ты чаще всего проводишь время на переменах? Что вы делает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бы ты еще больше хотел узнать в школ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бы тебе хотелось меньше делать в школ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его сегодня ты больше всего устал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бя есть какие-нибудь вопросы, которые ты хотел бы задать учителю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случай, когда ты сердился сегодня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ем ты ходил на обед? О чем вы говорили? Что вы ели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 завтра ты стал учителем, что бы ты сделал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вои друзья или одноклассники будут делать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0T22:02:58Z</dcterms:created>
  <dc:creator>Елена</dc:creator>
  <dc:description/>
  <dc:language>en-US</dc:language>
  <cp:lastModifiedBy>Зина</cp:lastModifiedBy>
  <dcterms:modified xsi:type="dcterms:W3CDTF">2015-04-16T15:26:56Z</dcterms:modified>
  <cp:revision>7</cp:revision>
  <dc:subject/>
  <dc:title>Слайд 1</dc:title>
</cp:coreProperties>
</file>