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06F-6F38-4193-AA41-0D8E984B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44F-FD95-48B5-A176-C464ECCC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874-A886-4DD0-820B-2B9D0D36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255-DF46-4208-913E-AE90865C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FCC2-0A3F-4A4C-BA0E-85275BCE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093C-A167-4659-A76D-727153DC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4F7B-8A43-457F-9BAF-B1DFDB1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8072-7B4C-4EA8-8B4F-996A9226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D61E-60FC-448B-8F9C-EAB97AED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ECC7-D2AF-4E3A-8060-9FA2FA0B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245A-B0FC-4118-BFBE-8A18B37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222-EB46-4D7E-BFF1-12953626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C7A5-BE13-4F97-A068-E3416E41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71F4-20D5-4E6A-89BC-BF6EDC84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769C-4D6B-4855-BD8C-12834014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B6B2-7406-49E1-98E0-6B81195D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3A50-B8F5-43A0-8C58-0719A85F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91B-BAB2-479C-A7DF-A440F47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57F-0DE0-49C1-A441-1D5E7534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51D-17F4-4ECA-9065-E0A9A85D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6E0-31B6-4FA1-8EC8-F36C76AF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7FB-962A-4F05-8154-DD925EE0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FF2-6C20-4583-B396-E7AA5C9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811-3E28-4D91-96A4-3319959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E5F1-B3E8-48A5-8AA3-2924AAC29865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7691-9A6A-43C2-A675-1B72326BB407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571680" y="1052640"/>
            <a:ext cx="8001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Georgia"/>
              </a:rPr>
              <a:t>20 вопросов которые помогут узнать у ребенка-ученика, как дела в школ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427280" y="4076640"/>
            <a:ext cx="37638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39640" y="112536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хорошее произошло с тобой сегодня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худшее произошло с тобой сегодня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скажи мне что-нибудь смешное, над чем ты сегодня посмея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мог выбирать, с кем бы ты хотел сидеть в классе? А с кем бы точно не хотел сидеть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скажи мне о самом интересном месте в школе, клас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мы сегодня пригласили к нам в гости твоего учителя, что он нам рассказал о тебе, как дум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у ты сегодня помог в школ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 может, тебе кто-то помог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егодня на каком уроке ты узнал, что-то ново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ыл ли момент в школе, когда ты чувствовал себя самым счастливым сегодн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ыло ли тебе сегодня очень скучно или грустно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ем ты чаще всего проводишь время на переменах? Что вы делает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бы ты еще больше хотел узнать в школ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бы тебе хотелось меньше делать в школ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сегодня ты больше всего устал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бя есть какие-нибудь вопросы, которые ты хотел бы задать учителю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случай, когда ты сердился сегодн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ем ты ходил на обед? О чем вы говорили? Что вы ел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завтра ты стал учителем, что бы ты сделал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вои друзья или одноклассники будут делать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0T22:02:58Z</dcterms:created>
  <dc:creator>Елена</dc:creator>
  <dc:description/>
  <dc:language>en-US</dc:language>
  <cp:lastModifiedBy>Зина</cp:lastModifiedBy>
  <dcterms:modified xsi:type="dcterms:W3CDTF">2015-04-16T15:26:56Z</dcterms:modified>
  <cp:revision>7</cp:revision>
  <dc:subject/>
  <dc:title>Слайд 1</dc:title>
</cp:coreProperties>
</file>