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6A7-C9F7-4A75-AD1F-88496483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8B5-E1C7-439D-B421-63CE859F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499-67B4-4F94-AC93-6BDBECB3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9BB-0EA3-4A94-A16B-09523DF2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EAE-7EC2-411B-9D08-9DEF56B6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7DC-48B7-4435-BCF4-302951A7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DE5-58E0-4A80-82C4-E862EC2A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76B-1B5A-4B3F-8019-93DE3965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579-3BC5-4FF1-9003-852CB9CE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304-DBB2-4D99-98CB-CC47C543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2D3-1242-4C5D-923B-74FEAB07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164-8F76-4CDA-A6CB-2EE5A415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201f"/>
                </a:solidFill>
                <a:latin typeface="Corbe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Corbe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A1FC-A339-4E6B-A8F8-7161E30461A5}" type="slidenum">
              <a:rPr b="0" lang="en-US" sz="1200" spc="-1" strike="noStrike">
                <a:solidFill>
                  <a:srgbClr val="57201f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4000" y="4797360"/>
            <a:ext cx="4762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учитель  физики и математики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 Логунова О.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</a:t>
            </a:r>
            <a:br>
              <a:rPr sz="2400"/>
            </a:br>
            <a:endParaRPr b="1" lang="en-US" sz="2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d0d0d"/>
                </a:solidFill>
                <a:latin typeface="Corbel"/>
              </a:rPr>
              <a:t>Формирование эстетического отношения к науке на уроках естественного цикла</a:t>
            </a:r>
            <a:endParaRPr b="0" lang="en-US" sz="4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01f"/>
                </a:solidFill>
                <a:latin typeface="Corbel"/>
              </a:rPr>
              <a:t>Используемая литература</a:t>
            </a:r>
            <a:endParaRPr b="1" lang="en-US" sz="2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И.Ф. Гончаров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Действительность и искусство в эстетическом воспитании школьников.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Москва. Просвещение. 1978 год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58920" y="620280"/>
            <a:ext cx="6400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« В математике тоже есть: своя красота, как в живописи и поэзии. Эта красота проявляется иногда в отчётливых ярко выраженных идеях, где на виду всякая деталь умозаключений, а иногда поражает она нас в широких замыслах, скрывающих в себе что-то недосказанное, но многообещающее»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Н.Е.Жуковский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Каждый учитель — преподает ли он математику, литературу, физику или географию — должен вносить в преподавание оттенок художественности, владеть языком выразительным, неистертым Формирование эстетического отношения к учению можно, к примеру, начать с урока физики. Учитель, объясняя материал, задерживает внимание школьников на формулах и предлагает выяснить, есть ли в них красота. Такой вопрос может побудить учащихся к сопоставлению науки с искусством, природой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Чрезвычайно ёмко и по-своему красноречиво рассказывает об эстетической стороне науки академик А. И. Китайгородский, когда он обращается к знаменитому закону всемирного тяготения, к его лаконичной формуле: «Закон всемирного тяготения Ньютона, несомненно, красивый закон. Вы не согласны со мной? Вы не видите в этой записи ничего красивого. Но подумайте, сколь эта запись симметрична и проста: именно в симметрии и простоте и заключена красота закона»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Сложность и необычность вопроса вызовет различные ответы, но именно из этой множественности мнений и начнет складываться эстетическая оценка науки. Многообразие точек зрения показывает, что ученики имеют дело со сложным вопросом, для ответа на который у них нет достаточных знаний,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Подобные беседы побуждают школьников к более серьезным эстетическим наблюдениям как в общении с природой, так и в процессе научного познания действительности и самостоятельного чтения литературы. В этом их серьезное значение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rbel"/>
              </a:rPr>
              <a:t>      </a:t>
            </a:r>
            <a:r>
              <a:rPr b="0" lang="en-US" sz="2400" spc="-1" strike="noStrike">
                <a:solidFill>
                  <a:srgbClr val="0d0d0d"/>
                </a:solidFill>
                <a:latin typeface="Corbel"/>
              </a:rPr>
              <a:t>Стремясь к тому, чтобы учащиеся оперативно овладевали знаниями, учились применять их па практике, можно показывать точные и красивые решения различных задач, помогает разобраться в их особенностях. Важно развивать у школьников восприятие красоты самого процесса мышления. Можно продемонстрировать два способа решения задачи, спросив учащихся, какой вариант нравится им больше. Сопоставляя ход решения, школьники анализируют и отвечают: Мне нравится второй способ, в нем есть четкость»; «Я за этот способ. Он последователен»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rbel"/>
              </a:rPr>
              <a:t>      </a:t>
            </a:r>
            <a:r>
              <a:rPr b="0" lang="en-US" sz="2400" spc="-1" strike="noStrike">
                <a:solidFill>
                  <a:srgbClr val="0d0d0d"/>
                </a:solidFill>
                <a:latin typeface="Corbel"/>
              </a:rPr>
              <a:t>А задание на дом: две задачи, которые нужно решить оригинальным, остроумным способом. Такое требование приводит к познавательному и эстетическому результатам. Многие школьники в поисках именно красивого решения проявляют творческую инициативу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В библиотеке можно организовать выставку книг, в которых научный поиск предстает в определенном эстетическом аспекте. Учащиеся, прочитав эти книги, обмениваются впечатлениями с товарищами, друзьями, родителями, знакомыми. Чтение таких книг требует от школьника образного мышления, воображения. Через некоторое время начинается беседа о прочитанном.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На уроке можно организовать эстетические минутки на которых знакомить школьников с поэзией математики и физики. Рассказывать, как исследователь работал над открытием, как доказал истину с помощью теоретического суждения или эксперимента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Это подготавливает подростков к дальнейшему самостоятельному познанию эстетики науки. Старшеклассники стремятся разобраться в литературе, чтобы ответить на ряд вопросов: каковы задачи науки? Что является ее предметом? Чем наука отличается от других форм общественного сознания? Каковы признаки красоты в науке? Что побуждает ученых заниматься исследованиями?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От уроков и самостоятельных занятий следует постоянно обращаться к личному опыту школьников. Это необходимо для того, чтобы знания, приобретенные на уроках и вне уроков, становились осознаннее, развивали мышление, наблюдательность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0d0d0d"/>
                </a:solidFill>
                <a:latin typeface="Corbel"/>
              </a:rPr>
              <a:t>Отвечая, например, на вопрос «Когда изучение математики доставляет человеку наслаждение?», ученики могут опираться на высказывания выдающихся ученых о необычности математики. Это наталкивает на мысль, что математика открывает людям еще непознанные, незамеченные, неосмысленные явления, она исследует вместе с другими науками мир, его законы. Таким образом, в цифрах и формулах школьники начинают видать второй план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12:29Z</dcterms:created>
  <dc:creator>1</dc:creator>
  <dc:description/>
  <dc:language>en-US</dc:language>
  <cp:lastModifiedBy>User</cp:lastModifiedBy>
  <dcterms:modified xsi:type="dcterms:W3CDTF">2015-01-21T09:41:27Z</dcterms:modified>
  <cp:revision>7</cp:revision>
  <dc:subject/>
  <dc:title>Слайд 1</dc:title>
</cp:coreProperties>
</file>