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161-B672-43BF-9B20-E12593DE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C47-446C-4DE9-A35B-42F609C9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F964-16C1-4226-ACD1-7439A9F4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722-7786-44B9-94E2-39BE431C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EF8C2-4F7C-4B06-B210-4E8E7C6B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49D49-4EEB-4CC3-A682-C8C3B347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4762A-184A-498A-9760-C0F331E5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67C77-1796-42D7-B900-491B9DEE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6A2CD-D762-4FA7-A7AC-C3502C11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1892D-02CE-4EFC-ADA9-C2948B00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A41F5-9F02-44A4-856F-C0CF643C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2E18-0B26-4837-8A39-BF7B2B04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859A8-656A-4535-B40F-219C44DA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C0053-3141-47D7-9C26-73E850A8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4F333-52A7-4A1D-993F-B5C39C24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BC124-2C63-4818-B672-9408ECE4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0DE01-12D1-4D4A-8433-B552C409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FDAF-49AD-4A90-B09B-E7F4228A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17E2-B4B4-402B-A60E-D57D0F7F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CCE-179B-48E5-B208-58783C10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533-08BC-4082-B0A0-240D94FD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098-69B6-49F9-A2E2-A3A286B9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1EA-3DA4-4C90-B031-806DC38B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F26-E578-48AE-A027-5B688E7D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6330-F0CB-482D-A6A4-579EB84399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725A-69B2-4B47-95C7-5096FB40F2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НУЖНО ЛИ ОХРАНЯТЬ РЕКИ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258560" y="3284640"/>
            <a:ext cx="777708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дратьева А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б, 2015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920" y="2282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3e3ff"/>
                </a:solidFill>
                <a:latin typeface="Arial"/>
              </a:rPr>
              <a:t>«Вода – источник ЖИЗНИ»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67280" y="1125000"/>
            <a:ext cx="4752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Если мы будем загрязнять водоёмы, то жизнь человека станет хуж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672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640" y="-24336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ль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казать, зачем нужно охранять и беречь водоё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учить влияние деятельности человека на окружающую сред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ределить влияние загрязнения воды на здоровье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учить беречь окружающий ми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чники загрязнения водоёмо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Промышленные предприятия, сбрасывающие отх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На берегах рек расположено большинство городов и посёлков, сбрасывающих в реки недостаточно очищенные сточные в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В сельской местности использование хозяйственных ферм, вследствие чего в водоёмы попадают органические и минеральные удоб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2556000" cy="2160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627280" y="3860640"/>
            <a:ext cx="2992320" cy="2160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WSJ: цены на продукты по всему миру упадут из-за снижения стоимости калийных удобрений :: BIN.ua"/>
          <p:cNvPicPr/>
          <p:nvPr/>
        </p:nvPicPr>
        <p:blipFill>
          <a:blip r:embed="rId3"/>
          <a:stretch/>
        </p:blipFill>
        <p:spPr>
          <a:xfrm>
            <a:off x="5724360" y="3860640"/>
            <a:ext cx="3038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4537080" cy="36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селение устраив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алки в долинах мал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чьёв и речек, а 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которых случа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посредственно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слах рек или на 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4284720" cy="30686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135" name="" descr="19-летний студент изобрел конструкцию, способную очистить ок…"/>
          <p:cNvPicPr/>
          <p:nvPr/>
        </p:nvPicPr>
        <p:blipFill>
          <a:blip r:embed="rId2"/>
          <a:stretch/>
        </p:blipFill>
        <p:spPr>
          <a:xfrm>
            <a:off x="4822920" y="3716280"/>
            <a:ext cx="4321080" cy="3141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ostav.ua - Маркетинг, реклама, PR"/>
          <p:cNvPicPr/>
          <p:nvPr/>
        </p:nvPicPr>
        <p:blipFill>
          <a:blip r:embed="rId3"/>
          <a:stretch/>
        </p:blipFill>
        <p:spPr>
          <a:xfrm>
            <a:off x="4788000" y="260280"/>
            <a:ext cx="43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e3e3ff"/>
                </a:solidFill>
                <a:latin typeface="Arial"/>
              </a:rPr>
              <a:t>Загрязнение водоёмов приводит:</a:t>
            </a:r>
            <a:br>
              <a:rPr sz="24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изменению химического состава во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гибели рыб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нарушению биологического круговорота вещест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заболеваниям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Green Clean"/>
          <p:cNvPicPr/>
          <p:nvPr/>
        </p:nvPicPr>
        <p:blipFill>
          <a:blip r:embed="rId1"/>
          <a:stretch/>
        </p:blipFill>
        <p:spPr>
          <a:xfrm>
            <a:off x="0" y="3068640"/>
            <a:ext cx="4284720" cy="273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Экологический утренник Берегите планету"/>
          <p:cNvPicPr/>
          <p:nvPr/>
        </p:nvPicPr>
        <p:blipFill>
          <a:blip r:embed="rId2"/>
          <a:stretch/>
        </p:blipFill>
        <p:spPr>
          <a:xfrm>
            <a:off x="4680000" y="2997360"/>
            <a:ext cx="4464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ВЫВОД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680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Загрязнение водоёмов приводит к ухудшению жизни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же во многих странах Азии и Африки глобально не хватает пресной в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Значит, давайте вместе беречь водоё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Drought in southern China. Photo The survival encyclopedia"/>
          <p:cNvPicPr/>
          <p:nvPr/>
        </p:nvPicPr>
        <p:blipFill>
          <a:blip r:embed="rId1"/>
          <a:stretch/>
        </p:blipFill>
        <p:spPr>
          <a:xfrm>
            <a:off x="5076720" y="1700280"/>
            <a:ext cx="38275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Правила поведения у водоёма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загрязняй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и и озёр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бросай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сор в рек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оставляй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ходы на берег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643280" cy="3313080"/>
          </a:xfrm>
          <a:prstGeom prst="rect">
            <a:avLst/>
          </a:prstGeom>
          <a:ln w="936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Не будьте равнодушны к окружающему миру!</a:t>
            </a:r>
            <a:br>
              <a:rPr sz="40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СПАСИБО ЗА ВНИМАНИЕ!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56880" y="5375160"/>
            <a:ext cx="706320" cy="1224000"/>
          </a:xfrm>
          <a:custGeom>
            <a:avLst/>
            <a:gdLst/>
            <a:ahLst/>
            <a:rect l="l" t="t" r="r" b="b"/>
            <a:pathLst>
              <a:path w="1961" h="3400">
                <a:moveTo>
                  <a:pt x="27682" y="16222"/>
                </a:moveTo>
                <a:cubicBezTo>
                  <a:pt x="27712" y="16185"/>
                  <a:pt x="27736" y="16159"/>
                  <a:pt x="27756" y="16123"/>
                </a:cubicBezTo>
                <a:cubicBezTo>
                  <a:pt x="27825" y="16002"/>
                  <a:pt x="27835" y="15875"/>
                  <a:pt x="27905" y="15751"/>
                </a:cubicBezTo>
                <a:cubicBezTo>
                  <a:pt x="27997" y="15587"/>
                  <a:pt x="28119" y="15430"/>
                  <a:pt x="28228" y="15280"/>
                </a:cubicBezTo>
                <a:cubicBezTo>
                  <a:pt x="28287" y="15198"/>
                  <a:pt x="28359" y="15118"/>
                  <a:pt x="28401" y="15032"/>
                </a:cubicBezTo>
                <a:cubicBezTo>
                  <a:pt x="28404" y="15027"/>
                  <a:pt x="28428" y="14931"/>
                  <a:pt x="28426" y="14932"/>
                </a:cubicBezTo>
                <a:cubicBezTo>
                  <a:pt x="28379" y="15004"/>
                  <a:pt x="28364" y="15025"/>
                  <a:pt x="28352" y="15081"/>
                </a:cubicBezTo>
                <a:cubicBezTo>
                  <a:pt x="28271" y="15342"/>
                  <a:pt x="28208" y="15642"/>
                  <a:pt x="28104" y="15900"/>
                </a:cubicBezTo>
                <a:cubicBezTo>
                  <a:pt x="27963" y="16250"/>
                  <a:pt x="27828" y="16565"/>
                  <a:pt x="27756" y="16942"/>
                </a:cubicBezTo>
                <a:cubicBezTo>
                  <a:pt x="27731" y="17076"/>
                  <a:pt x="27677" y="17231"/>
                  <a:pt x="27657" y="17363"/>
                </a:cubicBezTo>
                <a:cubicBezTo>
                  <a:pt x="27643" y="17457"/>
                  <a:pt x="27657" y="17565"/>
                  <a:pt x="27657" y="17661"/>
                </a:cubicBezTo>
                <a:cubicBezTo>
                  <a:pt x="27683" y="17588"/>
                  <a:pt x="27641" y="17585"/>
                  <a:pt x="27707" y="17512"/>
                </a:cubicBezTo>
                <a:cubicBezTo>
                  <a:pt x="27862" y="17339"/>
                  <a:pt x="27984" y="17155"/>
                  <a:pt x="28129" y="16966"/>
                </a:cubicBezTo>
                <a:cubicBezTo>
                  <a:pt x="28304" y="16738"/>
                  <a:pt x="28418" y="16553"/>
                  <a:pt x="28501" y="16272"/>
                </a:cubicBezTo>
                <a:cubicBezTo>
                  <a:pt x="28583" y="15996"/>
                  <a:pt x="28669" y="15742"/>
                  <a:pt x="28773" y="15478"/>
                </a:cubicBezTo>
                <a:cubicBezTo>
                  <a:pt x="28839" y="15312"/>
                  <a:pt x="28896" y="15128"/>
                  <a:pt x="28947" y="14957"/>
                </a:cubicBezTo>
                <a:cubicBezTo>
                  <a:pt x="28947" y="14949"/>
                  <a:pt x="28947" y="14940"/>
                  <a:pt x="28947" y="14932"/>
                </a:cubicBezTo>
                <a:cubicBezTo>
                  <a:pt x="28891" y="15016"/>
                  <a:pt x="28859" y="15085"/>
                  <a:pt x="28823" y="15180"/>
                </a:cubicBezTo>
                <a:cubicBezTo>
                  <a:pt x="28738" y="15405"/>
                  <a:pt x="28695" y="15579"/>
                  <a:pt x="28649" y="15825"/>
                </a:cubicBezTo>
                <a:cubicBezTo>
                  <a:pt x="28594" y="16116"/>
                  <a:pt x="28496" y="16307"/>
                  <a:pt x="28377" y="16570"/>
                </a:cubicBezTo>
                <a:cubicBezTo>
                  <a:pt x="28285" y="16772"/>
                  <a:pt x="28253" y="16986"/>
                  <a:pt x="28178" y="17190"/>
                </a:cubicBezTo>
                <a:cubicBezTo>
                  <a:pt x="28170" y="17215"/>
                  <a:pt x="28161" y="17239"/>
                  <a:pt x="28153" y="17264"/>
                </a:cubicBezTo>
                <a:cubicBezTo>
                  <a:pt x="28191" y="17093"/>
                  <a:pt x="28196" y="17064"/>
                  <a:pt x="28228" y="16892"/>
                </a:cubicBezTo>
                <a:cubicBezTo>
                  <a:pt x="28292" y="16553"/>
                  <a:pt x="28421" y="16235"/>
                  <a:pt x="28501" y="15900"/>
                </a:cubicBezTo>
                <a:cubicBezTo>
                  <a:pt x="28511" y="15858"/>
                  <a:pt x="28525" y="15664"/>
                  <a:pt x="28575" y="15627"/>
                </a:cubicBezTo>
                <a:cubicBezTo>
                  <a:pt x="28604" y="15606"/>
                  <a:pt x="28605" y="15688"/>
                  <a:pt x="28649" y="15652"/>
                </a:cubicBezTo>
                <a:cubicBezTo>
                  <a:pt x="28657" y="15645"/>
                  <a:pt x="28681" y="15593"/>
                  <a:pt x="28699" y="15577"/>
                </a:cubicBezTo>
                <a:cubicBezTo>
                  <a:pt x="28696" y="15626"/>
                  <a:pt x="28707" y="15628"/>
                  <a:pt x="28699" y="15677"/>
                </a:cubicBezTo>
                <a:cubicBezTo>
                  <a:pt x="28680" y="15797"/>
                  <a:pt x="28662" y="15934"/>
                  <a:pt x="28625" y="16049"/>
                </a:cubicBezTo>
                <a:cubicBezTo>
                  <a:pt x="28602" y="16118"/>
                  <a:pt x="28567" y="16177"/>
                  <a:pt x="28550" y="16247"/>
                </a:cubicBezTo>
                <a:cubicBezTo>
                  <a:pt x="28550" y="16255"/>
                  <a:pt x="28550" y="16264"/>
                  <a:pt x="28550" y="16272"/>
                </a:cubicBezTo>
                <a:cubicBezTo>
                  <a:pt x="28596" y="16235"/>
                  <a:pt x="28596" y="16233"/>
                  <a:pt x="28649" y="16197"/>
                </a:cubicBezTo>
                <a:cubicBezTo>
                  <a:pt x="28762" y="16121"/>
                  <a:pt x="28891" y="16059"/>
                  <a:pt x="28997" y="15974"/>
                </a:cubicBezTo>
                <a:cubicBezTo>
                  <a:pt x="29126" y="15872"/>
                  <a:pt x="29242" y="15756"/>
                  <a:pt x="29369" y="15652"/>
                </a:cubicBezTo>
                <a:cubicBezTo>
                  <a:pt x="29463" y="15575"/>
                  <a:pt x="29449" y="15624"/>
                  <a:pt x="29542" y="15602"/>
                </a:cubicBezTo>
                <a:cubicBezTo>
                  <a:pt x="29574" y="15594"/>
                  <a:pt x="29585" y="15585"/>
                  <a:pt x="29617" y="15577"/>
                </a:cubicBezTo>
                <a:cubicBezTo>
                  <a:pt x="29606" y="15670"/>
                  <a:pt x="29615" y="15720"/>
                  <a:pt x="29567" y="15801"/>
                </a:cubicBezTo>
                <a:cubicBezTo>
                  <a:pt x="29415" y="16054"/>
                  <a:pt x="29231" y="16319"/>
                  <a:pt x="29071" y="16570"/>
                </a:cubicBezTo>
                <a:cubicBezTo>
                  <a:pt x="28792" y="17006"/>
                  <a:pt x="28573" y="17453"/>
                  <a:pt x="28327" y="17909"/>
                </a:cubicBezTo>
                <a:cubicBezTo>
                  <a:pt x="28265" y="18025"/>
                  <a:pt x="28136" y="18168"/>
                  <a:pt x="28129" y="18306"/>
                </a:cubicBezTo>
                <a:cubicBezTo>
                  <a:pt x="28129" y="18331"/>
                  <a:pt x="28129" y="18339"/>
                  <a:pt x="28153" y="18331"/>
                </a:cubicBezTo>
                <a:cubicBezTo>
                  <a:pt x="28228" y="18290"/>
                  <a:pt x="28285" y="18254"/>
                  <a:pt x="28327" y="18157"/>
                </a:cubicBezTo>
                <a:cubicBezTo>
                  <a:pt x="28429" y="17921"/>
                  <a:pt x="28560" y="17738"/>
                  <a:pt x="28724" y="17537"/>
                </a:cubicBezTo>
                <a:cubicBezTo>
                  <a:pt x="28974" y="17231"/>
                  <a:pt x="29227" y="16901"/>
                  <a:pt x="29443" y="16570"/>
                </a:cubicBezTo>
                <a:cubicBezTo>
                  <a:pt x="29699" y="16179"/>
                  <a:pt x="29617" y="15806"/>
                  <a:pt x="29617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4760" y="6705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291" y="18628"/>
                </a:moveTo>
                <a:lnTo>
                  <a:pt x="4291" y="18628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21:27:53Z</dcterms:created>
  <dc:creator>MIA</dc:creator>
  <dc:description/>
  <dc:language>en-US</dc:language>
  <cp:lastModifiedBy>Пользователь</cp:lastModifiedBy>
  <dcterms:modified xsi:type="dcterms:W3CDTF">2015-04-16T05:14:08Z</dcterms:modified>
  <cp:revision>27</cp:revision>
  <dc:subject/>
  <dc:title>Слайд 1</dc:title>
</cp:coreProperties>
</file>