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E53-2A39-433B-A5F2-0E749F63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A65-2ABE-4ED2-83A6-39BB16C6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5BA-F3BB-464D-A00C-A929A7A0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88B-B1E3-4658-B167-7F081476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43547-7EB6-44B1-8E78-BB18080B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8E9F4-5EC0-4F4B-99C2-6710B010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C835C-13FA-4433-A128-4FE8B409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9074D-9AAD-4DD7-8AC3-69C5B322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3722D-8B22-45A2-95FA-9780244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ECC53-A25F-42EE-B514-9EF93760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5E917-39AB-4399-8E1C-6F33057D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A6E-AC5F-4991-917E-42F52BF1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1E5B6-FE94-459E-8273-A83966E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81234-F2E5-4B43-AB61-BEF76049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CA828-8CD6-43EE-9696-3E5B846F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D2DDD-D54B-406D-B565-40FA33B2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DF598-F305-40AE-886F-90E84B49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AF1-B836-4368-86CF-BD7EABC6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587-326E-4BC7-9B86-42B37411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3D3-353A-43E6-83D0-4A4119B0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BEC-74C3-4931-BA03-F5EC6B78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1A4-101F-48FB-8B9C-CBC22FEB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8CF-BA8A-416B-8FAE-96BF450B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AF7-98E3-4D63-BA98-236A9D43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3399-5210-4744-954C-AA88B7E09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C8BB-7A48-4C3E-8152-436CB65B46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НУЖНО ЛИ ОХРАНЯТЬ РЕКИ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58560" y="3284640"/>
            <a:ext cx="777708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дратьева А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б, 2015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920" y="2282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«Вода – источник ЖИЗНИ»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7280" y="1125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Если мы будем загрязнять водоёмы, то жизнь человека станет хуж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672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-24336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азать, зачем нужно охранять и беречь водоё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ить влияние деятельности человека на окружающую сре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ть влияние загрязнения воды на здоровье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чить беречь окружающий м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чники загрязнения водоёмо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ромышленные предприятия, сбрасывающие отх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а берегах рек расположено большинство городов и посёлков, сбрасывающих в реки недостаточно очищенные сточные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В сельской местности использование хозяйственных ферм, вследствие чего в водоёмы попадают органические и минеральные удоб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2556000" cy="216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27280" y="3860640"/>
            <a:ext cx="299232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WSJ: цены на продукты по всему миру упадут из-за снижения стоимости калийных удобрений :: BIN.ua"/>
          <p:cNvPicPr/>
          <p:nvPr/>
        </p:nvPicPr>
        <p:blipFill>
          <a:blip r:embed="rId3"/>
          <a:stretch/>
        </p:blipFill>
        <p:spPr>
          <a:xfrm>
            <a:off x="5724360" y="3860640"/>
            <a:ext cx="3038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453708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еление устраив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алки в долинах ма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чьёв и речек, а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которых случа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осредственно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лах рек или на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4284720" cy="3068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35" name="" descr="19-летний студент изобрел конструкцию, способную очистить ок…"/>
          <p:cNvPicPr/>
          <p:nvPr/>
        </p:nvPicPr>
        <p:blipFill>
          <a:blip r:embed="rId2"/>
          <a:stretch/>
        </p:blipFill>
        <p:spPr>
          <a:xfrm>
            <a:off x="4822920" y="3716280"/>
            <a:ext cx="4321080" cy="3141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ostav.ua - Маркетинг, реклама, PR"/>
          <p:cNvPicPr/>
          <p:nvPr/>
        </p:nvPicPr>
        <p:blipFill>
          <a:blip r:embed="rId3"/>
          <a:stretch/>
        </p:blipFill>
        <p:spPr>
          <a:xfrm>
            <a:off x="4788000" y="260280"/>
            <a:ext cx="43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e3e3ff"/>
                </a:solidFill>
                <a:latin typeface="Arial"/>
              </a:rPr>
              <a:t>Загрязнение водоёмов приводит:</a:t>
            </a:r>
            <a:br>
              <a:rPr sz="24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изменению химического состава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гибели ры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нарушению биологического круговорота 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заболевания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Green Clean"/>
          <p:cNvPicPr/>
          <p:nvPr/>
        </p:nvPicPr>
        <p:blipFill>
          <a:blip r:embed="rId1"/>
          <a:stretch/>
        </p:blipFill>
        <p:spPr>
          <a:xfrm>
            <a:off x="0" y="3068640"/>
            <a:ext cx="42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Экологический утренник Берегите планету"/>
          <p:cNvPicPr/>
          <p:nvPr/>
        </p:nvPicPr>
        <p:blipFill>
          <a:blip r:embed="rId2"/>
          <a:stretch/>
        </p:blipFill>
        <p:spPr>
          <a:xfrm>
            <a:off x="4680000" y="2997360"/>
            <a:ext cx="446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680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агрязнение водоёмов приводит к ухудшению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же во многих странах Азии и Африки глобально не хватает пресной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начит, давайте вместе беречь водоё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Drought in southern China. Photo The survival encyclopedia"/>
          <p:cNvPicPr/>
          <p:nvPr/>
        </p:nvPicPr>
        <p:blipFill>
          <a:blip r:embed="rId1"/>
          <a:stretch/>
        </p:blipFill>
        <p:spPr>
          <a:xfrm>
            <a:off x="5076720" y="1700280"/>
            <a:ext cx="3827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Правила поведения у водоёма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загрязня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и и озёр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брос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сор в рек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ставляй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ходы на берег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31308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е будьте равнодушны к окружающему миру!</a:t>
            </a:r>
            <a:br>
              <a:rPr sz="40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СПАСИБО ЗА ВНИМАНИЕ!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56880" y="5375160"/>
            <a:ext cx="706320" cy="1224000"/>
          </a:xfrm>
          <a:custGeom>
            <a:avLst/>
            <a:gdLst/>
            <a:ahLst/>
            <a:rect l="l" t="t" r="r" b="b"/>
            <a:pathLst>
              <a:path w="1961" h="3400">
                <a:moveTo>
                  <a:pt x="27682" y="16222"/>
                </a:moveTo>
                <a:cubicBezTo>
                  <a:pt x="27712" y="16185"/>
                  <a:pt x="27736" y="16159"/>
                  <a:pt x="27756" y="16123"/>
                </a:cubicBezTo>
                <a:cubicBezTo>
                  <a:pt x="27825" y="16002"/>
                  <a:pt x="27835" y="15875"/>
                  <a:pt x="27905" y="15751"/>
                </a:cubicBezTo>
                <a:cubicBezTo>
                  <a:pt x="27997" y="15587"/>
                  <a:pt x="28119" y="15430"/>
                  <a:pt x="28228" y="15280"/>
                </a:cubicBezTo>
                <a:cubicBezTo>
                  <a:pt x="28287" y="15198"/>
                  <a:pt x="28359" y="15118"/>
                  <a:pt x="28401" y="15032"/>
                </a:cubicBezTo>
                <a:cubicBezTo>
                  <a:pt x="28404" y="15027"/>
                  <a:pt x="28428" y="14931"/>
                  <a:pt x="28426" y="14932"/>
                </a:cubicBezTo>
                <a:cubicBezTo>
                  <a:pt x="28379" y="15004"/>
                  <a:pt x="28364" y="15025"/>
                  <a:pt x="28352" y="15081"/>
                </a:cubicBezTo>
                <a:cubicBezTo>
                  <a:pt x="28271" y="15342"/>
                  <a:pt x="28208" y="15642"/>
                  <a:pt x="28104" y="15900"/>
                </a:cubicBezTo>
                <a:cubicBezTo>
                  <a:pt x="27963" y="16250"/>
                  <a:pt x="27828" y="16565"/>
                  <a:pt x="27756" y="16942"/>
                </a:cubicBezTo>
                <a:cubicBezTo>
                  <a:pt x="27731" y="17076"/>
                  <a:pt x="27677" y="17231"/>
                  <a:pt x="27657" y="17363"/>
                </a:cubicBezTo>
                <a:cubicBezTo>
                  <a:pt x="27643" y="17457"/>
                  <a:pt x="27657" y="17565"/>
                  <a:pt x="27657" y="17661"/>
                </a:cubicBezTo>
                <a:cubicBezTo>
                  <a:pt x="27683" y="17588"/>
                  <a:pt x="27641" y="17585"/>
                  <a:pt x="27707" y="17512"/>
                </a:cubicBezTo>
                <a:cubicBezTo>
                  <a:pt x="27862" y="17339"/>
                  <a:pt x="27984" y="17155"/>
                  <a:pt x="28129" y="16966"/>
                </a:cubicBezTo>
                <a:cubicBezTo>
                  <a:pt x="28304" y="16738"/>
                  <a:pt x="28418" y="16553"/>
                  <a:pt x="28501" y="16272"/>
                </a:cubicBezTo>
                <a:cubicBezTo>
                  <a:pt x="28583" y="15996"/>
                  <a:pt x="28669" y="15742"/>
                  <a:pt x="28773" y="15478"/>
                </a:cubicBezTo>
                <a:cubicBezTo>
                  <a:pt x="28839" y="15312"/>
                  <a:pt x="28896" y="15128"/>
                  <a:pt x="28947" y="14957"/>
                </a:cubicBezTo>
                <a:cubicBezTo>
                  <a:pt x="28947" y="14949"/>
                  <a:pt x="28947" y="14940"/>
                  <a:pt x="28947" y="14932"/>
                </a:cubicBezTo>
                <a:cubicBezTo>
                  <a:pt x="28891" y="15016"/>
                  <a:pt x="28859" y="15085"/>
                  <a:pt x="28823" y="15180"/>
                </a:cubicBezTo>
                <a:cubicBezTo>
                  <a:pt x="28738" y="15405"/>
                  <a:pt x="28695" y="15579"/>
                  <a:pt x="28649" y="15825"/>
                </a:cubicBezTo>
                <a:cubicBezTo>
                  <a:pt x="28594" y="16116"/>
                  <a:pt x="28496" y="16307"/>
                  <a:pt x="28377" y="16570"/>
                </a:cubicBezTo>
                <a:cubicBezTo>
                  <a:pt x="28285" y="16772"/>
                  <a:pt x="28253" y="16986"/>
                  <a:pt x="28178" y="17190"/>
                </a:cubicBezTo>
                <a:cubicBezTo>
                  <a:pt x="28170" y="17215"/>
                  <a:pt x="28161" y="17239"/>
                  <a:pt x="28153" y="17264"/>
                </a:cubicBezTo>
                <a:cubicBezTo>
                  <a:pt x="28191" y="17093"/>
                  <a:pt x="28196" y="17064"/>
                  <a:pt x="28228" y="16892"/>
                </a:cubicBezTo>
                <a:cubicBezTo>
                  <a:pt x="28292" y="16553"/>
                  <a:pt x="28421" y="16235"/>
                  <a:pt x="28501" y="15900"/>
                </a:cubicBezTo>
                <a:cubicBezTo>
                  <a:pt x="28511" y="15858"/>
                  <a:pt x="28525" y="15664"/>
                  <a:pt x="28575" y="15627"/>
                </a:cubicBezTo>
                <a:cubicBezTo>
                  <a:pt x="28604" y="15606"/>
                  <a:pt x="28605" y="15688"/>
                  <a:pt x="28649" y="15652"/>
                </a:cubicBezTo>
                <a:cubicBezTo>
                  <a:pt x="28657" y="15645"/>
                  <a:pt x="28681" y="15593"/>
                  <a:pt x="28699" y="15577"/>
                </a:cubicBezTo>
                <a:cubicBezTo>
                  <a:pt x="28696" y="15626"/>
                  <a:pt x="28707" y="15628"/>
                  <a:pt x="28699" y="15677"/>
                </a:cubicBezTo>
                <a:cubicBezTo>
                  <a:pt x="28680" y="15797"/>
                  <a:pt x="28662" y="15934"/>
                  <a:pt x="28625" y="16049"/>
                </a:cubicBezTo>
                <a:cubicBezTo>
                  <a:pt x="28602" y="16118"/>
                  <a:pt x="28567" y="16177"/>
                  <a:pt x="28550" y="16247"/>
                </a:cubicBezTo>
                <a:cubicBezTo>
                  <a:pt x="28550" y="16255"/>
                  <a:pt x="28550" y="16264"/>
                  <a:pt x="28550" y="16272"/>
                </a:cubicBezTo>
                <a:cubicBezTo>
                  <a:pt x="28596" y="16235"/>
                  <a:pt x="28596" y="16233"/>
                  <a:pt x="28649" y="16197"/>
                </a:cubicBezTo>
                <a:cubicBezTo>
                  <a:pt x="28762" y="16121"/>
                  <a:pt x="28891" y="16059"/>
                  <a:pt x="28997" y="15974"/>
                </a:cubicBezTo>
                <a:cubicBezTo>
                  <a:pt x="29126" y="15872"/>
                  <a:pt x="29242" y="15756"/>
                  <a:pt x="29369" y="15652"/>
                </a:cubicBezTo>
                <a:cubicBezTo>
                  <a:pt x="29463" y="15575"/>
                  <a:pt x="29449" y="15624"/>
                  <a:pt x="29542" y="15602"/>
                </a:cubicBezTo>
                <a:cubicBezTo>
                  <a:pt x="29574" y="15594"/>
                  <a:pt x="29585" y="15585"/>
                  <a:pt x="29617" y="15577"/>
                </a:cubicBezTo>
                <a:cubicBezTo>
                  <a:pt x="29606" y="15670"/>
                  <a:pt x="29615" y="15720"/>
                  <a:pt x="29567" y="15801"/>
                </a:cubicBezTo>
                <a:cubicBezTo>
                  <a:pt x="29415" y="16054"/>
                  <a:pt x="29231" y="16319"/>
                  <a:pt x="29071" y="16570"/>
                </a:cubicBezTo>
                <a:cubicBezTo>
                  <a:pt x="28792" y="17006"/>
                  <a:pt x="28573" y="17453"/>
                  <a:pt x="28327" y="17909"/>
                </a:cubicBezTo>
                <a:cubicBezTo>
                  <a:pt x="28265" y="18025"/>
                  <a:pt x="28136" y="18168"/>
                  <a:pt x="28129" y="18306"/>
                </a:cubicBezTo>
                <a:cubicBezTo>
                  <a:pt x="28129" y="18331"/>
                  <a:pt x="28129" y="18339"/>
                  <a:pt x="28153" y="18331"/>
                </a:cubicBezTo>
                <a:cubicBezTo>
                  <a:pt x="28228" y="18290"/>
                  <a:pt x="28285" y="18254"/>
                  <a:pt x="28327" y="18157"/>
                </a:cubicBezTo>
                <a:cubicBezTo>
                  <a:pt x="28429" y="17921"/>
                  <a:pt x="28560" y="17738"/>
                  <a:pt x="28724" y="17537"/>
                </a:cubicBezTo>
                <a:cubicBezTo>
                  <a:pt x="28974" y="17231"/>
                  <a:pt x="29227" y="16901"/>
                  <a:pt x="29443" y="16570"/>
                </a:cubicBezTo>
                <a:cubicBezTo>
                  <a:pt x="29699" y="16179"/>
                  <a:pt x="29617" y="15806"/>
                  <a:pt x="29617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4760" y="6705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291" y="18628"/>
                </a:moveTo>
                <a:lnTo>
                  <a:pt x="4291" y="18628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27:53Z</dcterms:created>
  <dc:creator>MIA</dc:creator>
  <dc:description/>
  <dc:language>en-US</dc:language>
  <cp:lastModifiedBy>Пользователь</cp:lastModifiedBy>
  <dcterms:modified xsi:type="dcterms:W3CDTF">2015-04-16T05:14:08Z</dcterms:modified>
  <cp:revision>27</cp:revision>
  <dc:subject/>
  <dc:title>Слайд 1</dc:title>
</cp:coreProperties>
</file>