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77B9-3B94-4E06-AF1A-70F7D1DB9C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7A08-7271-4087-B22F-D024D12DED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0B75-70CE-4686-B5CC-F054E620B5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04480" y="234936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04480" y="234936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gradFill rotWithShape="0">
            <a:gsLst>
              <a:gs pos="0">
                <a:srgbClr val="00cc99">
                  <a:alpha val="0"/>
                </a:srgbClr>
              </a:gs>
              <a:gs pos="100000">
                <a:srgbClr val="1c89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6"/>
          <p:cNvSpPr/>
          <p:nvPr/>
        </p:nvSpPr>
        <p:spPr>
          <a:xfrm>
            <a:off x="0" y="3357720"/>
            <a:ext cx="6659640" cy="1079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04480" y="234936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42600" y="4929120"/>
            <a:ext cx="79297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.А. Цывцын преподаватель спецдисциплин первая квалификационная катего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осты 20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57120" y="2142720"/>
            <a:ext cx="4857840" cy="17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Оценка показателей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сформированности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компетенций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357120" y="285840"/>
            <a:ext cx="678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a3a"/>
                </a:solidFill>
                <a:latin typeface="Arial"/>
              </a:rPr>
              <a:t>Краевое государственное бюджетное профессиональное образовательное уч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a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a3a"/>
                </a:solidFill>
                <a:latin typeface="Arial"/>
              </a:rPr>
              <a:t>«Егорьевский лицей профессионального образован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42720" y="1499760"/>
            <a:ext cx="4714920" cy="1357560"/>
          </a:xfrm>
          <a:prstGeom prst="rect">
            <a:avLst/>
          </a:prstGeom>
          <a:solidFill>
            <a:srgbClr val="15673e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лючение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о сформированности компетенци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3000240"/>
          <a:ext cx="9072720" cy="3648240"/>
        </p:xfrm>
        <a:graphic>
          <a:graphicData uri="http://schemas.openxmlformats.org/drawingml/2006/table">
            <a:tbl>
              <a:tblPr/>
              <a:tblGrid>
                <a:gridCol w="5214960"/>
                <a:gridCol w="3857760"/>
              </a:tblGrid>
              <a:tr h="6480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ые компетен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Освоил  / не освои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50012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1.1. Выполнять подготовительные работы при производстве облицовочных рабо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Освои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150012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1.2.  Выполнять облицовочные работы горизонтальных и вертикальных поверхност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Освои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2560" y="2428920"/>
            <a:ext cx="764388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Благодарю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а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88720"/>
            <a:ext cx="607212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4529"/>
                </a:solidFill>
                <a:latin typeface="Arial"/>
              </a:rPr>
              <a:t>РЕЗУЛЬТАТ   ОБРАЗОВАНИЯ– </a:t>
            </a:r>
            <a:br>
              <a:rPr sz="3600"/>
            </a:br>
            <a:r>
              <a:rPr b="1" lang="ru-RU" sz="3600" spc="-1" strike="noStrike">
                <a:solidFill>
                  <a:srgbClr val="0e4529"/>
                </a:solidFill>
                <a:latin typeface="Arial"/>
              </a:rPr>
              <a:t>СПОСОБЫ ДОСТИЖЕНИЯ И ОЦ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28760" y="2214720"/>
            <a:ext cx="8459640" cy="1079280"/>
          </a:xfrm>
          <a:prstGeom prst="rect">
            <a:avLst/>
          </a:prstGeom>
          <a:solidFill>
            <a:srgbClr val="15673e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Компетенции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ак результат обра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42920" y="3718080"/>
            <a:ext cx="8893080" cy="1079280"/>
          </a:xfrm>
          <a:prstGeom prst="rect">
            <a:avLst/>
          </a:prstGeom>
          <a:solidFill>
            <a:srgbClr val="15673e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Образовательные технологии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ак способ формирования компетен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47600" y="5357880"/>
            <a:ext cx="8817120" cy="1382760"/>
          </a:xfrm>
          <a:prstGeom prst="rect">
            <a:avLst/>
          </a:prstGeom>
          <a:solidFill>
            <a:srgbClr val="15673e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Оценочные средства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ак инструмент доказательства сформированности компетен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3780000" y="4797360"/>
            <a:ext cx="1368360" cy="539640"/>
          </a:xfrm>
          <a:prstGeom prst="downArrow">
            <a:avLst>
              <a:gd name="adj1" fmla="val 50083"/>
              <a:gd name="adj2" fmla="val 44444"/>
            </a:avLst>
          </a:prstGeom>
          <a:solidFill>
            <a:srgbClr val="000099"/>
          </a:solidFill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3780000" y="3249720"/>
            <a:ext cx="1368360" cy="539640"/>
          </a:xfrm>
          <a:prstGeom prst="downArrow">
            <a:avLst>
              <a:gd name="adj1" fmla="val 50083"/>
              <a:gd name="adj2" fmla="val 44444"/>
            </a:avLst>
          </a:prstGeom>
          <a:solidFill>
            <a:srgbClr val="000099"/>
          </a:solidFill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0" y="0"/>
            <a:ext cx="50007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ейс-задача.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Проблемное задание, в котором </a:t>
            </a: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обучающемуся предлагают осмыслить реальную профессионально-ориентированную ситуацию, необходимую для решения  данной проблем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" descr="C:\Users\Nikolay\Desktop\100CANON\IMG_7197.JPG"/>
          <p:cNvPicPr/>
          <p:nvPr/>
        </p:nvPicPr>
        <p:blipFill>
          <a:blip r:embed="rId1">
            <a:lum contrast="22000"/>
          </a:blip>
          <a:stretch/>
        </p:blipFill>
        <p:spPr>
          <a:xfrm>
            <a:off x="4857840" y="0"/>
            <a:ext cx="4286160" cy="5000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p:transition>
    <p:wipe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9290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Задание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D:\Copy C\ЦЫВЦЫН\фото в папку по профессии\DSC03798.JPG"/>
          <p:cNvPicPr/>
          <p:nvPr/>
        </p:nvPicPr>
        <p:blipFill>
          <a:blip r:embed="rId1"/>
          <a:stretch/>
        </p:blipFill>
        <p:spPr>
          <a:xfrm>
            <a:off x="0" y="1866960"/>
            <a:ext cx="4214880" cy="49910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6"/>
          <p:cNvSpPr/>
          <p:nvPr/>
        </p:nvSpPr>
        <p:spPr>
          <a:xfrm>
            <a:off x="571680" y="214200"/>
            <a:ext cx="5572080" cy="1191240"/>
          </a:xfrm>
          <a:prstGeom prst="rect">
            <a:avLst/>
          </a:prstGeom>
          <a:solidFill>
            <a:srgbClr val="1567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офессиональные компетен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5800" y="3000240"/>
            <a:ext cx="4357800" cy="25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ПК 1 .1. Выполнять подготовительные работы при производстве облицовочных раб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571560" y="1857240"/>
            <a:ext cx="535788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 компетенция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фе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Плиточник-облицовщи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ыполнить облицовку поверхности стены согласно эскизу задания глазурованной плиткой размером 200х300 м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змер облицовываемой поверхности 1800х1800 м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D:\Copy C\Фото\100OLYMP\P4170645.JPG"/>
          <p:cNvPicPr/>
          <p:nvPr/>
        </p:nvPicPr>
        <p:blipFill>
          <a:blip r:embed="rId1"/>
          <a:stretch/>
        </p:blipFill>
        <p:spPr>
          <a:xfrm>
            <a:off x="0" y="1857240"/>
            <a:ext cx="3714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480" y="500040"/>
            <a:ext cx="4786200" cy="1000080"/>
          </a:xfrm>
          <a:prstGeom prst="rect">
            <a:avLst/>
          </a:prstGeom>
          <a:solidFill>
            <a:srgbClr val="15673e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итерии оценки работы учащего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2430360"/>
          <a:ext cx="9144000" cy="4403880"/>
        </p:xfrm>
        <a:graphic>
          <a:graphicData uri="http://schemas.openxmlformats.org/drawingml/2006/table">
            <a:tbl>
              <a:tblPr/>
              <a:tblGrid>
                <a:gridCol w="1353960"/>
                <a:gridCol w="2789280"/>
                <a:gridCol w="1857600"/>
                <a:gridCol w="3143160"/>
              </a:tblGrid>
              <a:tr h="998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уемые компетен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880920"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indent="-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Организация рабочего мес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ПК 1.1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Охрана труда и правила техники безопас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ПК 1.1. ПК1.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efe8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6a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Выполнение подготовительных рабо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6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6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a3a"/>
                          </a:solidFill>
                          <a:latin typeface="Times New Roman"/>
                          <a:ea typeface="Times New Roman"/>
                        </a:rPr>
                        <a:t>ПК 1.1. ПК 1.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6a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840" y="2349360"/>
            <a:ext cx="8572680" cy="649440"/>
          </a:xfrm>
          <a:prstGeom prst="rect">
            <a:avLst/>
          </a:prstGeom>
          <a:solidFill>
            <a:srgbClr val="15673e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оверка освоенных компетен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2786040" y="3286080"/>
            <a:ext cx="3786120" cy="642600"/>
          </a:xfrm>
          <a:prstGeom prst="rect">
            <a:avLst/>
          </a:prstGeom>
          <a:solidFill>
            <a:srgbClr val="15673e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своенные П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928800" y="4429080"/>
            <a:ext cx="7215120" cy="642600"/>
          </a:xfrm>
          <a:prstGeom prst="rect">
            <a:avLst/>
          </a:prstGeom>
          <a:solidFill>
            <a:srgbClr val="15673e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казатель оценки результа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3071880" y="5643720"/>
            <a:ext cx="3357360" cy="642600"/>
          </a:xfrm>
          <a:prstGeom prst="rect">
            <a:avLst/>
          </a:prstGeom>
          <a:solidFill>
            <a:srgbClr val="15673e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840" y="1643040"/>
            <a:ext cx="8462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оверка освоенных компетен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523960"/>
          <a:ext cx="9144000" cy="4281480"/>
        </p:xfrm>
        <a:graphic>
          <a:graphicData uri="http://schemas.openxmlformats.org/drawingml/2006/table">
            <a:tbl>
              <a:tblPr/>
              <a:tblGrid>
                <a:gridCol w="2266920"/>
                <a:gridCol w="5194440"/>
                <a:gridCol w="1682640"/>
              </a:tblGrid>
              <a:tr h="3747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ные П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оценки результ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268640">
                <a:tc rowSpan="4"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1 .1. Выполнять подготовительные работы при производстве облицовочных рабо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нованный выбор инструментов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рганизация рабочего места в соответствии с выполняемыми видами работ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/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77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пределение пригодности применяемых материалов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marL="763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/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110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marL="76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владение видом работ по насечке поверхностей вручную (механизированным способом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/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75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владение видом работ по провешиванию поверхностей, устройству марок и маяков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/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3920" y="2071800"/>
            <a:ext cx="6929640" cy="1071360"/>
          </a:xfrm>
          <a:prstGeom prst="rect">
            <a:avLst/>
          </a:prstGeom>
          <a:solidFill>
            <a:srgbClr val="15673e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офессиональные и общие компетен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14720" y="4643280"/>
            <a:ext cx="5286240" cy="1857600"/>
          </a:xfrm>
          <a:prstGeom prst="rect">
            <a:avLst/>
          </a:prstGeom>
          <a:solidFill>
            <a:srgbClr val="15673e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 сформирован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мпетен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Стрелка вниз 3"/>
          <p:cNvSpPr/>
          <p:nvPr/>
        </p:nvSpPr>
        <p:spPr>
          <a:xfrm>
            <a:off x="3357720" y="3429000"/>
            <a:ext cx="2698560" cy="977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33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7:48:38Z</dcterms:created>
  <dc:creator>Elzach</dc:creator>
  <dc:description/>
  <dc:language>en-US</dc:language>
  <cp:lastModifiedBy>Nikolay</cp:lastModifiedBy>
  <dcterms:modified xsi:type="dcterms:W3CDTF">2015-04-13T03:54:36Z</dcterms:modified>
  <cp:revision>175</cp:revision>
  <dc:subject/>
  <dc:title>ОЦЕНИВАНИЕ РЕЗУЛЬТАТОВ В ПРОФЕССИОНАЛЬНОМ ОБРАЗОВАНИИ</dc:title>
</cp:coreProperties>
</file>