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22D8-1FD2-4B2D-A03D-5515AFABF12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A2AA-6BA2-414E-A29B-E4C039799C4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0CEB-2113-4094-8E39-68BA9ABAB54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04480" y="234936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76438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42560" y="4914720"/>
            <a:ext cx="76438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04480" y="234936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425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593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04480" y="234936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27000" y="299700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11440" y="299700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42560" y="491472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27000" y="491472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11440" y="491472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04480" y="234936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42560" y="2997000"/>
            <a:ext cx="7643880" cy="36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04480" y="234936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76438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04480" y="234936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04480" y="234936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04480" y="2349360"/>
            <a:ext cx="764388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04480" y="234936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425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04480" y="234936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42560" y="2997000"/>
            <a:ext cx="7643880" cy="36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04480" y="234936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93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04480" y="234936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42560" y="4914720"/>
            <a:ext cx="76438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04480" y="234936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76438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042560" y="4914720"/>
            <a:ext cx="76438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04480" y="234936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425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9593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04480" y="234936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27000" y="299700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11440" y="299700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042560" y="491472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27000" y="491472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11440" y="491472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04480" y="234936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76438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04480" y="234936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04480" y="234936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04480" y="2349360"/>
            <a:ext cx="764388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04480" y="234936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425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04480" y="234936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93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04480" y="234936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42560" y="4914720"/>
            <a:ext cx="76438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04480" y="234936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5805360"/>
            <a:ext cx="9144000" cy="1052640"/>
          </a:xfrm>
          <a:prstGeom prst="rect">
            <a:avLst/>
          </a:prstGeom>
          <a:gradFill rotWithShape="0">
            <a:gsLst>
              <a:gs pos="0">
                <a:srgbClr val="00cc99">
                  <a:alpha val="0"/>
                </a:srgbClr>
              </a:gs>
              <a:gs pos="100000">
                <a:srgbClr val="1c895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42560" y="2997000"/>
            <a:ext cx="76438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6"/>
          <p:cNvSpPr/>
          <p:nvPr/>
        </p:nvSpPr>
        <p:spPr>
          <a:xfrm>
            <a:off x="0" y="3357720"/>
            <a:ext cx="6659640" cy="1079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04480" y="234936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042560" y="2997000"/>
            <a:ext cx="76438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42600" y="4929120"/>
            <a:ext cx="792972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ЫПОЛНИЛ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.А. Цывцын преподаватель спецдисциплин первая квалификационная категор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росты 20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357120" y="2142720"/>
            <a:ext cx="4857840" cy="171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cc6600"/>
                </a:solidFill>
                <a:latin typeface="Arial"/>
              </a:rPr>
              <a:t>Оценка показателей </a:t>
            </a:r>
            <a:br>
              <a:rPr sz="3600"/>
            </a:br>
            <a:r>
              <a:rPr b="1" lang="ru-RU" sz="3600" spc="-1" strike="noStrike">
                <a:solidFill>
                  <a:srgbClr val="cc6600"/>
                </a:solidFill>
                <a:latin typeface="Arial"/>
              </a:rPr>
              <a:t>сформированности</a:t>
            </a:r>
            <a:br>
              <a:rPr sz="3600"/>
            </a:br>
            <a:r>
              <a:rPr b="1" lang="ru-RU" sz="3600" spc="-1" strike="noStrike">
                <a:solidFill>
                  <a:srgbClr val="cc6600"/>
                </a:solidFill>
                <a:latin typeface="Arial"/>
              </a:rPr>
              <a:t>компетенций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рямоугольник 8"/>
          <p:cNvSpPr/>
          <p:nvPr/>
        </p:nvSpPr>
        <p:spPr>
          <a:xfrm>
            <a:off x="357120" y="285840"/>
            <a:ext cx="678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a3a"/>
                </a:solidFill>
                <a:latin typeface="Arial"/>
              </a:rPr>
              <a:t>Краевое государственное бюджетное профессиональное образовательное учрежд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a3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a3a"/>
                </a:solidFill>
                <a:latin typeface="Arial"/>
              </a:rPr>
              <a:t>«Егорьевский лицей профессионального образования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42720" y="1499760"/>
            <a:ext cx="4714920" cy="1357560"/>
          </a:xfrm>
          <a:prstGeom prst="rect">
            <a:avLst/>
          </a:prstGeom>
          <a:solidFill>
            <a:srgbClr val="15673e"/>
          </a:solidFill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Заключение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о сформированности компетенци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0" y="3000240"/>
          <a:ext cx="9072720" cy="3648240"/>
        </p:xfrm>
        <a:graphic>
          <a:graphicData uri="http://schemas.openxmlformats.org/drawingml/2006/table">
            <a:tbl>
              <a:tblPr/>
              <a:tblGrid>
                <a:gridCol w="5214960"/>
                <a:gridCol w="3857760"/>
              </a:tblGrid>
              <a:tr h="64800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ессиональные компетен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63360" rIns="63360" tIns="63360" bIns="63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a3a"/>
                          </a:solidFill>
                          <a:latin typeface="Times New Roman"/>
                          <a:ea typeface="Times New Roman"/>
                        </a:rPr>
                        <a:t>Освоил  / не освои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1500120"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 1.1. Выполнять подготовительные работы при производстве облицовочных работ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63360" rIns="63360" tIns="63360" bIns="63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a3a"/>
                          </a:solidFill>
                          <a:latin typeface="Times New Roman"/>
                          <a:ea typeface="Times New Roman"/>
                        </a:rPr>
                        <a:t>Освои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</a:tr>
              <a:tr h="1500120"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 1.2.  Выполнять облицовочные работы горизонтальных и вертикальных поверхносте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lIns="63360" rIns="63360" tIns="63360" bIns="63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a3a"/>
                          </a:solidFill>
                          <a:latin typeface="Times New Roman"/>
                          <a:ea typeface="Times New Roman"/>
                        </a:rPr>
                        <a:t>Освои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042560" y="2428920"/>
            <a:ext cx="764388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Благодарю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за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внимание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500"/>
                            </p:stCondLst>
                            <p:childTnLst>
                              <p:par>
                                <p:cTn id="2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288720"/>
            <a:ext cx="6072120" cy="17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e4529"/>
                </a:solidFill>
                <a:latin typeface="Arial"/>
              </a:rPr>
              <a:t>РЕЗУЛЬТАТ   ОБРАЗОВАНИЯ– </a:t>
            </a:r>
            <a:br>
              <a:rPr sz="3600"/>
            </a:br>
            <a:r>
              <a:rPr b="1" lang="ru-RU" sz="3600" spc="-1" strike="noStrike">
                <a:solidFill>
                  <a:srgbClr val="0e4529"/>
                </a:solidFill>
                <a:latin typeface="Arial"/>
              </a:rPr>
              <a:t>СПОСОБЫ ДОСТИЖЕНИЯ И ОЦЕН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28760" y="2214720"/>
            <a:ext cx="8459640" cy="1079280"/>
          </a:xfrm>
          <a:prstGeom prst="rect">
            <a:avLst/>
          </a:prstGeom>
          <a:solidFill>
            <a:srgbClr val="15673e"/>
          </a:soli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Компетенции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как результат образо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142920" y="3718080"/>
            <a:ext cx="8893080" cy="1079280"/>
          </a:xfrm>
          <a:prstGeom prst="rect">
            <a:avLst/>
          </a:prstGeom>
          <a:solidFill>
            <a:srgbClr val="15673e"/>
          </a:soli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Образовательные технологии</a:t>
            </a: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как способ формирования компетенц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47600" y="5357880"/>
            <a:ext cx="8817120" cy="1382760"/>
          </a:xfrm>
          <a:prstGeom prst="rect">
            <a:avLst/>
          </a:prstGeom>
          <a:solidFill>
            <a:srgbClr val="15673e"/>
          </a:soli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Оценочные средства</a:t>
            </a: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как инструмент доказательства сформированности компетенц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3780000" y="4797360"/>
            <a:ext cx="1368360" cy="539640"/>
          </a:xfrm>
          <a:prstGeom prst="downArrow">
            <a:avLst>
              <a:gd name="adj1" fmla="val 50083"/>
              <a:gd name="adj2" fmla="val 44444"/>
            </a:avLst>
          </a:prstGeom>
          <a:solidFill>
            <a:srgbClr val="000099"/>
          </a:solidFill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3780000" y="3249720"/>
            <a:ext cx="1368360" cy="539640"/>
          </a:xfrm>
          <a:prstGeom prst="downArrow">
            <a:avLst>
              <a:gd name="adj1" fmla="val 50083"/>
              <a:gd name="adj2" fmla="val 44444"/>
            </a:avLst>
          </a:prstGeom>
          <a:solidFill>
            <a:srgbClr val="000099"/>
          </a:solidFill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0" y="0"/>
            <a:ext cx="50007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Кейс-задача.</a:t>
            </a: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Arial"/>
              </a:rPr>
              <a:t>Проблемное задание, в котором </a:t>
            </a:r>
            <a:r>
              <a:rPr b="0" i="1" lang="ru-RU" sz="3600" spc="-1" strike="noStrike">
                <a:solidFill>
                  <a:srgbClr val="ffff00"/>
                </a:solidFill>
                <a:latin typeface="Arial"/>
              </a:rPr>
              <a:t>обучающемуся предлагают осмыслить реальную профессионально-ориентированную ситуацию, необходимую для решения  данной проблемы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3" descr="C:\Users\Nikolay\Desktop\100CANON\IMG_7197.JPG"/>
          <p:cNvPicPr/>
          <p:nvPr/>
        </p:nvPicPr>
        <p:blipFill>
          <a:blip r:embed="rId1">
            <a:lum contrast="22000"/>
          </a:blip>
          <a:stretch/>
        </p:blipFill>
        <p:spPr>
          <a:xfrm>
            <a:off x="4857840" y="0"/>
            <a:ext cx="4286160" cy="5000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</p:spTree>
  </p:cSld>
  <p:transition>
    <p:wipe dir="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9290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  <a:ea typeface="Times New Roman"/>
              </a:rPr>
              <a:t>Задание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7" descr="D:\Copy C\ЦЫВЦЫН\фото в папку по профессии\DSC03798.JPG"/>
          <p:cNvPicPr/>
          <p:nvPr/>
        </p:nvPicPr>
        <p:blipFill>
          <a:blip r:embed="rId1"/>
          <a:stretch/>
        </p:blipFill>
        <p:spPr>
          <a:xfrm>
            <a:off x="0" y="1866960"/>
            <a:ext cx="4214880" cy="499104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6"/>
          <p:cNvSpPr/>
          <p:nvPr/>
        </p:nvSpPr>
        <p:spPr>
          <a:xfrm>
            <a:off x="571680" y="214200"/>
            <a:ext cx="5572080" cy="1191240"/>
          </a:xfrm>
          <a:prstGeom prst="rect">
            <a:avLst/>
          </a:prstGeom>
          <a:solidFill>
            <a:srgbClr val="1567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рофессиональные компетен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285800" y="3000240"/>
            <a:ext cx="4357800" cy="25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  <a:ea typeface="Times New Roman"/>
              </a:rPr>
              <a:t>ПК 1 .1. Выполнять подготовительные работы при производстве облицовочных рабо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571560" y="1857240"/>
            <a:ext cx="535788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о компетенция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рофесс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«Плиточник-облицовщик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Выполнить облицовку поверхности стены согласно эскизу задания глазурованной плиткой размером 200х300 м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Размер облицовываемой поверхности 1800х1800 м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4" descr="D:\Copy C\Фото\100OLYMP\P4170645.JPG"/>
          <p:cNvPicPr/>
          <p:nvPr/>
        </p:nvPicPr>
        <p:blipFill>
          <a:blip r:embed="rId1"/>
          <a:stretch/>
        </p:blipFill>
        <p:spPr>
          <a:xfrm>
            <a:off x="0" y="1857240"/>
            <a:ext cx="37148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5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5480" y="500040"/>
            <a:ext cx="4786200" cy="1000080"/>
          </a:xfrm>
          <a:prstGeom prst="rect">
            <a:avLst/>
          </a:prstGeom>
          <a:solidFill>
            <a:srgbClr val="15673e"/>
          </a:solidFill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ритерии оценки работы учащего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2430360"/>
          <a:ext cx="9144000" cy="4403880"/>
        </p:xfrm>
        <a:graphic>
          <a:graphicData uri="http://schemas.openxmlformats.org/drawingml/2006/table">
            <a:tbl>
              <a:tblPr/>
              <a:tblGrid>
                <a:gridCol w="1353960"/>
                <a:gridCol w="2789280"/>
                <a:gridCol w="1857600"/>
                <a:gridCol w="3143160"/>
              </a:tblGrid>
              <a:tr h="998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итер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ируемые компетен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880920">
                <a:tc>
                  <a:txBody>
                    <a:bodyPr lIns="68760" rIns="68760" tIns="0" bIns="0" anchor="ctr">
                      <a:noAutofit/>
                    </a:bodyPr>
                    <a:p>
                      <a:pPr marL="457200" indent="-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a3a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a3a"/>
                          </a:solidFill>
                          <a:latin typeface="Times New Roman"/>
                          <a:ea typeface="Times New Roman"/>
                        </a:rPr>
                        <a:t>Организация рабочего мес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a3a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a3a"/>
                          </a:solidFill>
                          <a:latin typeface="Times New Roman"/>
                          <a:ea typeface="Times New Roman"/>
                        </a:rPr>
                        <a:t>ПК 1.1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</a:tr>
              <a:tr h="1262160"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a3a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a3a"/>
                          </a:solidFill>
                          <a:latin typeface="Times New Roman"/>
                          <a:ea typeface="Times New Roman"/>
                        </a:rPr>
                        <a:t>Охрана труда и правила техники безопаснос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a3a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a3a"/>
                          </a:solidFill>
                          <a:latin typeface="Times New Roman"/>
                          <a:ea typeface="Times New Roman"/>
                        </a:rPr>
                        <a:t>ПК 1.1. ПК1.2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efe8"/>
                    </a:solidFill>
                  </a:tcPr>
                </a:tc>
              </a:tr>
              <a:tr h="1262160"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a3a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6a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a3a"/>
                          </a:solidFill>
                          <a:latin typeface="Times New Roman"/>
                          <a:ea typeface="Times New Roman"/>
                        </a:rPr>
                        <a:t>Выполнение подготовительных рабо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6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a3a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6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a3a"/>
                          </a:solidFill>
                          <a:latin typeface="Times New Roman"/>
                          <a:ea typeface="Times New Roman"/>
                        </a:rPr>
                        <a:t>ПК 1.1. ПК 1.2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6a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3840" y="2349360"/>
            <a:ext cx="8572680" cy="649440"/>
          </a:xfrm>
          <a:prstGeom prst="rect">
            <a:avLst/>
          </a:prstGeom>
          <a:solidFill>
            <a:srgbClr val="15673e"/>
          </a:solidFill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роверка освоенных компетенц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2786040" y="3286080"/>
            <a:ext cx="3786120" cy="642600"/>
          </a:xfrm>
          <a:prstGeom prst="rect">
            <a:avLst/>
          </a:prstGeom>
          <a:solidFill>
            <a:srgbClr val="15673e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Освоенные П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4"/>
          <p:cNvSpPr/>
          <p:nvPr/>
        </p:nvSpPr>
        <p:spPr>
          <a:xfrm>
            <a:off x="928800" y="4429080"/>
            <a:ext cx="7215120" cy="642600"/>
          </a:xfrm>
          <a:prstGeom prst="rect">
            <a:avLst/>
          </a:prstGeom>
          <a:solidFill>
            <a:srgbClr val="15673e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оказатель оценки результа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5"/>
          <p:cNvSpPr/>
          <p:nvPr/>
        </p:nvSpPr>
        <p:spPr>
          <a:xfrm>
            <a:off x="3071880" y="5643720"/>
            <a:ext cx="3357360" cy="642600"/>
          </a:xfrm>
          <a:prstGeom prst="rect">
            <a:avLst/>
          </a:prstGeom>
          <a:solidFill>
            <a:srgbClr val="15673e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Оцен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5840" y="1643040"/>
            <a:ext cx="8462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роверка освоенных компетенц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2523960"/>
          <a:ext cx="9144000" cy="4281480"/>
        </p:xfrm>
        <a:graphic>
          <a:graphicData uri="http://schemas.openxmlformats.org/drawingml/2006/table">
            <a:tbl>
              <a:tblPr/>
              <a:tblGrid>
                <a:gridCol w="2266920"/>
                <a:gridCol w="5194440"/>
                <a:gridCol w="1682640"/>
              </a:tblGrid>
              <a:tr h="37476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военные П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 оценки результа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1268640">
                <a:tc rowSpan="4"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 1 .1. Выполнять подготовительные работы при производстве облицовочных работ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снованный выбор инструментов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Организация рабочего места в соответствии с выполняемыми видами работ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63360" rIns="63360" tIns="63360" bIns="63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/Н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</a:tr>
              <a:tr h="77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Определение пригодности применяемых материалов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lIns="63360" rIns="63360" tIns="63360" bIns="63360" anchor="ctr">
                      <a:noAutofit/>
                    </a:bodyPr>
                    <a:p>
                      <a:pPr marL="7632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/Н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</a:tr>
              <a:tr h="110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marL="763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Овладение видом работ по насечке поверхностей вручную (механизированным способом)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63360" rIns="63360" tIns="63360" bIns="63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/Н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</a:tr>
              <a:tr h="75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Овладение видом работ по провешиванию поверхностей, устройству марок и маяков;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lIns="63360" rIns="63360" tIns="63360" bIns="63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/Н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3920" y="2071800"/>
            <a:ext cx="6929640" cy="1071360"/>
          </a:xfrm>
          <a:prstGeom prst="rect">
            <a:avLst/>
          </a:prstGeom>
          <a:solidFill>
            <a:srgbClr val="15673e"/>
          </a:solidFill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рофессиональные и общие компетен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214720" y="4643280"/>
            <a:ext cx="5286240" cy="1857600"/>
          </a:xfrm>
          <a:prstGeom prst="rect">
            <a:avLst/>
          </a:prstGeom>
          <a:solidFill>
            <a:srgbClr val="15673e"/>
          </a:solidFill>
          <a:ln w="9360">
            <a:solidFill>
              <a:srgbClr val="ffff00"/>
            </a:solidFill>
            <a:miter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Заключ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о сформирован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омпетенц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Стрелка вниз 3"/>
          <p:cNvSpPr/>
          <p:nvPr/>
        </p:nvSpPr>
        <p:spPr>
          <a:xfrm>
            <a:off x="3357720" y="3429000"/>
            <a:ext cx="2698560" cy="977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9933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07:48:38Z</dcterms:created>
  <dc:creator>Elzach</dc:creator>
  <dc:description/>
  <dc:language>en-US</dc:language>
  <cp:lastModifiedBy>Nikolay</cp:lastModifiedBy>
  <dcterms:modified xsi:type="dcterms:W3CDTF">2015-04-13T03:54:36Z</dcterms:modified>
  <cp:revision>175</cp:revision>
  <dc:subject/>
  <dc:title>ОЦЕНИВАНИЕ РЕЗУЛЬТАТОВ В ПРОФЕССИОНАЛЬНОМ ОБРАЗОВАНИИ</dc:title>
</cp:coreProperties>
</file>