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E44-FEE9-41F2-B451-92969A6B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F97-C5A6-4DA3-9346-0E787045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E66-673F-4C93-B7EE-6AB2393F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63A-E886-42BE-A8A2-D22BAD59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ECB-B1D7-48F2-85D4-36A5E579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831-9C13-4F91-A6E3-5885B18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14F9-D682-415D-AC01-9C5556D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E64F-731F-4472-8CED-5D1D5C5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FE1-F4F9-481E-B163-97F1492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E660-BA70-456E-94DB-1B6DB17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2C3-4508-40F7-919D-B9540CD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56F-27D2-42D3-875A-394E93F9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AF43-0F70-403F-A7C2-EB0AC9E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620F-8ABA-463A-B111-0F232AA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DA5-525B-4484-9BDA-8A02012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AA6A-4949-4004-AFE2-B5C0301D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4D0-AAB8-4BCB-9577-7C3C0E56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F5C-B142-4F22-B766-10064E59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91A-30A5-4B25-ACAC-DFF9B554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906-CE22-4215-9373-D8EA021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063-5247-4B34-BEE5-F580EB7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049-970A-4D64-93DB-9116C810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7CA-67FB-46F7-97BF-C947ECA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7DF-75C2-43D2-B76E-57A9774F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5F5-5DAF-46FA-BDEA-C30C50B7A1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3FCA-4819-4A84-9252-CC8F2BB27C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авописание НЕ с наречиям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на О-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1640" y="2636640"/>
            <a:ext cx="712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 с наречиями на О-Е  пиш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860640"/>
            <a:ext cx="1944720" cy="1656000"/>
          </a:xfrm>
          <a:prstGeom prst="wedgeRectCallout">
            <a:avLst>
              <a:gd name="adj1" fmla="val -50569"/>
              <a:gd name="adj2" fmla="val 10503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3789360"/>
            <a:ext cx="1871640" cy="1654200"/>
          </a:xfrm>
          <a:prstGeom prst="wedgeRectCallout">
            <a:avLst>
              <a:gd name="adj1" fmla="val 54750"/>
              <a:gd name="adj2" fmla="val 10873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ит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392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леп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брежн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навистн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годую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искренн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шир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ыс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157720"/>
            <a:ext cx="2592720" cy="825480"/>
          </a:xfrm>
          <a:prstGeom prst="wedgeRectCallout">
            <a:avLst>
              <a:gd name="adj1" fmla="val 4870"/>
              <a:gd name="adj2" fmla="val -23692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употреб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ез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5084640"/>
            <a:ext cx="3311640" cy="825480"/>
          </a:xfrm>
          <a:prstGeom prst="wedgeRectCallout">
            <a:avLst>
              <a:gd name="adj1" fmla="val 4268"/>
              <a:gd name="adj2" fmla="val -22538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но подобрать синоним без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одбери синони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искренн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широко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ыс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з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льш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з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руб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искренне  -  фальши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вежливо   -   груб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широко    -  узко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высоко     -  низк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аздельно, ес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хорошо, а плох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высоко, а низ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крепко, а слаб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все не интерес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леко не прост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чуть не весел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869000"/>
            <a:ext cx="3095640" cy="1081080"/>
          </a:xfrm>
          <a:prstGeom prst="wedgeRectCallout">
            <a:avLst>
              <a:gd name="adj1" fmla="val -58819"/>
              <a:gd name="adj2" fmla="val -20007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сть противопоставление с союзом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157720"/>
            <a:ext cx="3672000" cy="1008000"/>
          </a:xfrm>
          <a:prstGeom prst="wedgeRectCallout">
            <a:avLst>
              <a:gd name="adj1" fmla="val 44291"/>
              <a:gd name="adj2" fmla="val -23283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носятся слова вовсе не, ничуть не, далеко н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ПОМНИТЬ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431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рыть неглубоко, но широ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этом предложен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ть сопоставлен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  союзом   НО, поэтому пишем слит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  по-товарищески ( не на –О и –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оварная работ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раскройте скобки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ть ( не)опрятно; приш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не)крепко; поступить (не)леп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лететь  (не)высоко, а низк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ть мысли (не)последовательн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тать совсем (не)низко; произне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не)громко, а тихо; выполнить (не)бреж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шить(не)крепко, но аккуратно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те 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делать  неопрятно; приш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екрепко; поступить нелеп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злететь  не  высоко, а низк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злагать мысли непоследовательн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Летать совсем не низко; произне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е  громко, а тихо;    выполнить небре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ишить некрепко, но аккуратно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31:23Z</dcterms:created>
  <dc:creator>Глеб</dc:creator>
  <dc:description/>
  <dc:language>en-US</dc:language>
  <cp:lastModifiedBy>Глеб</cp:lastModifiedBy>
  <dcterms:modified xsi:type="dcterms:W3CDTF">2009-02-18T20:53:52Z</dcterms:modified>
  <cp:revision>3</cp:revision>
  <dc:subject/>
  <dc:title>НАРЕЧИЕ КАК ЧАСТЬ РЕЧИ</dc:title>
</cp:coreProperties>
</file>