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D85-B820-4DC4-8C09-6C67E009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2B3-DA1A-4D29-99E3-C6E7369D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12C-28A9-43EC-9DFD-3AD52EBA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64A-20C8-460E-A12C-52D1D411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5AC9-38D7-4670-B300-575F087E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132D-A9D7-4467-AB7B-0537894D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2FD6-A29B-444D-961C-52A9E2AE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387E-569E-4AFE-85DA-A211401D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EE1C-67F7-4C6F-939F-DD36099E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ABEE-23EB-4B2E-B8EF-E0A1F10C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6998-B695-4E42-AF86-36574DDA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447-D3FF-4C79-9601-27AD5A6E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FF69-4048-4296-8725-1D78F67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4534-F933-4DB0-9726-02B4A0B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8488-2A77-4999-A352-78E37452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E80F-6ED5-4004-AEEB-1B8B6B74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8BC4-085E-481D-AD71-E24B8783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525-4A23-4199-A8FE-78B3E87F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207-69DF-4A95-BF94-D8676A48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C40-F082-4E5E-AA0F-B1A0264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8F0-C9AF-498D-837D-3B889984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F38-E99D-4739-A7B4-212F8DFC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0E4-00B1-4D49-A727-DE68E5F0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855-F121-4F95-98DA-A4B44599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ED55-4C8B-4BC2-B63E-2A64124C40E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2A30-D0B2-4A02-BC32-EB5F8E15C5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353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равописание НЕ с наречиям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на О-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1640" y="2636640"/>
            <a:ext cx="7126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 с наречиями на О-Е  пиш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3860640"/>
            <a:ext cx="1944720" cy="1656000"/>
          </a:xfrm>
          <a:prstGeom prst="wedgeRectCallout">
            <a:avLst>
              <a:gd name="adj1" fmla="val -50569"/>
              <a:gd name="adj2" fmla="val 10503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3789360"/>
            <a:ext cx="1871640" cy="1654200"/>
          </a:xfrm>
          <a:prstGeom prst="wedgeRectCallout">
            <a:avLst>
              <a:gd name="adj1" fmla="val 54750"/>
              <a:gd name="adj2" fmla="val 10873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лит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3924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леп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брежн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навистн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годующ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искренн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широк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высок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5157720"/>
            <a:ext cx="2592720" cy="825480"/>
          </a:xfrm>
          <a:prstGeom prst="wedgeRectCallout">
            <a:avLst>
              <a:gd name="adj1" fmla="val 4870"/>
              <a:gd name="adj2" fmla="val -23692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 употреб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без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5084640"/>
            <a:ext cx="3311640" cy="825480"/>
          </a:xfrm>
          <a:prstGeom prst="wedgeRectCallout">
            <a:avLst>
              <a:gd name="adj1" fmla="val 4268"/>
              <a:gd name="adj2" fmla="val -22538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ожно подобрать синоним без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одбери синони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3924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искренн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широко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высок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924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Узк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альш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изк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Груб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 себ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искренне  -  фальшив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вежливо   -   груб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широко    -  узко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высоко     -  низк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Раздельно, есл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хорошо, а плох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высоко, а низк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крепко, а слаб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овсе не интересн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алеко не прост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ичуть не весел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869000"/>
            <a:ext cx="3095640" cy="1081080"/>
          </a:xfrm>
          <a:prstGeom prst="wedgeRectCallout">
            <a:avLst>
              <a:gd name="adj1" fmla="val -58819"/>
              <a:gd name="adj2" fmla="val -20007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Есть противопоставление с союзом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5157720"/>
            <a:ext cx="3672000" cy="1008000"/>
          </a:xfrm>
          <a:prstGeom prst="wedgeRectCallout">
            <a:avLst>
              <a:gd name="adj1" fmla="val 44291"/>
              <a:gd name="adj2" fmla="val -23283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тносятся слова вовсе не, ничуть не, далеко н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 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ПОМНИТЬ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431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ырыть неглубоко, но широк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этом предложени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ть сопоставлени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  союзом   НО, поэтому пишем слит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  по-товарищески ( не на –О и –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ловарная работ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(раскройте скобки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ть ( не)опрятно; приш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не)крепко; поступить (не)лепо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лететь  (не)высоко, а низко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ть мысли (не)последовательн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тать совсем (не)низко; произне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не)громко, а тихо; выполнить (не)брежн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шить(не)крепко, но аккуратно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те  себ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60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делать  неопрятно; приш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екрепко; поступить нелепо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злететь  не  высоко, а низко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злагать мысли непоследовательн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Летать совсем не низко; произне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е  громко, а тихо;    выполнить небре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ришить некрепко, но аккуратно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31:23Z</dcterms:created>
  <dc:creator>Глеб</dc:creator>
  <dc:description/>
  <dc:language>en-US</dc:language>
  <cp:lastModifiedBy>Глеб</cp:lastModifiedBy>
  <dcterms:modified xsi:type="dcterms:W3CDTF">2009-02-18T20:53:52Z</dcterms:modified>
  <cp:revision>3</cp:revision>
  <dc:subject/>
  <dc:title>НАРЕЧИЕ КАК ЧАСТЬ РЕЧИ</dc:title>
</cp:coreProperties>
</file>