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D84-851E-41BF-A9B0-8C078CAF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63A-E131-4827-AC7F-0EA48742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4A9-254C-44C7-AFAE-10564228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1899-299B-4F08-8F34-B142C676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939-E834-4480-A40A-5868B70B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0E0-05B2-46A6-A535-E103A7AB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3C0-436F-4DFE-B0F6-1DB21E8B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B51-4CD8-4E2D-9D3E-B7E7B28B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C3B-B8EA-4A2D-806D-98339D62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F36-1C21-49F3-8FC8-1CEC23B2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645-F5BC-41BB-8DBF-0A24E9A7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0B1-95C5-4794-B58D-259A28F3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EB78-96C8-4C2E-82BA-CEB84149B6E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1773000"/>
            <a:ext cx="7010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Физические свойства карбоновых кислот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Общие химические свойства неорганических и органических кислот 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10 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клас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1258920" y="620640"/>
            <a:ext cx="6842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ссоциация кислот</a:t>
            </a:r>
            <a:endParaRPr b="0" lang="en-US" sz="1800" spc="1" strike="noStrike">
              <a:ln w="25560">
                <a:solidFill>
                  <a:srgbClr val="66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979640" y="22050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Cl     H + C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3203640" y="1989000"/>
            <a:ext cx="2736720" cy="531360"/>
            <a:chOff x="3203640" y="1989000"/>
            <a:chExt cx="2736720" cy="531360"/>
          </a:xfrm>
        </p:grpSpPr>
        <p:sp>
          <p:nvSpPr>
            <p:cNvPr id="95" name="Text Box 6"/>
            <p:cNvSpPr/>
            <p:nvPr/>
          </p:nvSpPr>
          <p:spPr>
            <a:xfrm>
              <a:off x="4284720" y="2060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5580000" y="198900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Line 8"/>
            <p:cNvSpPr/>
            <p:nvPr/>
          </p:nvSpPr>
          <p:spPr>
            <a:xfrm>
              <a:off x="3203640" y="249408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Text Box 10"/>
          <p:cNvSpPr/>
          <p:nvPr/>
        </p:nvSpPr>
        <p:spPr>
          <a:xfrm>
            <a:off x="755640" y="321300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COOH      H  + HCO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4284720" y="306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6877080" y="31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3203640" y="350208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5"/>
          <p:cNvSpPr/>
          <p:nvPr/>
        </p:nvSpPr>
        <p:spPr>
          <a:xfrm flipH="1">
            <a:off x="3132000" y="378936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324000" y="429264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OH      H + C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3203640" y="458136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18"/>
          <p:cNvSpPr/>
          <p:nvPr/>
        </p:nvSpPr>
        <p:spPr>
          <a:xfrm flipH="1">
            <a:off x="3203280" y="479736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4356000" y="4149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7380360" y="422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21"/>
          <p:cNvSpPr/>
          <p:nvPr/>
        </p:nvSpPr>
        <p:spPr>
          <a:xfrm>
            <a:off x="3708360" y="2852640"/>
            <a:ext cx="7923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3924360" y="3933720"/>
            <a:ext cx="792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3995640" y="5013360"/>
            <a:ext cx="7923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3986b"/>
          <p:cNvPicPr/>
          <p:nvPr/>
        </p:nvPicPr>
        <p:blipFill>
          <a:blip r:embed="rId1"/>
          <a:stretch/>
        </p:blipFill>
        <p:spPr>
          <a:xfrm>
            <a:off x="1619280" y="376200"/>
            <a:ext cx="7354800" cy="6002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0_155af_b41650e5_L"/>
          <p:cNvPicPr/>
          <p:nvPr/>
        </p:nvPicPr>
        <p:blipFill>
          <a:blip r:embed="rId2"/>
          <a:stretch/>
        </p:blipFill>
        <p:spPr>
          <a:xfrm>
            <a:off x="179280" y="189000"/>
            <a:ext cx="7129440" cy="633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urtica_dioica0"/>
          <p:cNvPicPr/>
          <p:nvPr/>
        </p:nvPicPr>
        <p:blipFill>
          <a:blip r:embed="rId3"/>
          <a:stretch/>
        </p:blipFill>
        <p:spPr>
          <a:xfrm>
            <a:off x="900000" y="765000"/>
            <a:ext cx="6991560" cy="523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§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0 (стр.178-181)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«Сильная, но… слаба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Как вы уже знаете серная кислота является сильной , а уксусная – слабой. Но почему же тогда реакция слабой уксусной кислоты с карбонатом кальция происходит быстрее, чем в случае действия на карбонат кальция более сильной серной кислот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Verdana"/>
              </a:rPr>
              <a:t>2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«Бабушкин рецепт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Когда кожа чешется и болит от ожога крапивой, укуса комара или муравья, рекомендуют помазать больное место раствором питьевой соды или нашатырным спиртом. Есть ли химическое объяснение действию этих простых средств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062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вещества, содержащие в молекуле одну или несколько карбоксильных групп, соединенных с углеводородным радикалом или атомом водорода, называю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спир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карбоновыми кисло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альдегид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ксусная и муравьиная кислоты относятся к гомологическому ряд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предельных одноосновных карбоновых кисл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непредельных одноосновных карбоновых кисл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предельных двухосновных карбоновых кисло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Систематическое название кислоты с химической формулой С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уксусная кислот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муравьиная кислот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этановая кисло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 природе углеводородного радикала стеариновая кислота относится 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непредельны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предельны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ароматически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Молекулы предельных одноосновных карбоновых кислот содержат в своем составе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полярную карбоксильную группу и неполярный углеводородный радика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неполярную карбоксильную группу и неполярный углеводородный радика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полярную карбоксильную группу и полярный углеводородный радика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Атом водорода в –ОН-группе карбоновых кислот обладает по сравнению со спиртам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большей подвижностью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меньшей подвижностью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такой же как у спирт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ариант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0920" y="1628280"/>
            <a:ext cx="78469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боновые кислоты содержат в своем составе функциональную групп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ьдегидную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гидроксильную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карбоксильну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опионовая кислота относится к гомологическому ряд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непредельных одноосновных карбоновых кисл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предельных одноосновных карбоновых кисл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предельных двухосновных карбоновых кисло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 числу карбоксильных групп пентановая кислота относится к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многоосновны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двухосновны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однооснов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асляная кислота по международной номенклатуре называе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валерианова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гексанова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бутанова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На атоме углерода, входящего в состав –СООН, локализуе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частичный положительный заряд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частичный отрицательный заряд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заряд, равный нул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Связь между атомами кислорода и водорода в гидроксильной группе карбоновых кислот являе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неполярной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полярно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ионно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лючи к тестам( самопроверка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вариан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вариан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55640" y="5157720"/>
          <a:ext cx="5929200" cy="1359000"/>
        </p:xfrm>
        <a:graphic>
          <a:graphicData uri="http://schemas.openxmlformats.org/drawingml/2006/table">
            <a:tbl>
              <a:tblPr/>
              <a:tblGrid>
                <a:gridCol w="1655640"/>
                <a:gridCol w="1081080"/>
                <a:gridCol w="1079640"/>
                <a:gridCol w="936720"/>
                <a:gridCol w="1176120"/>
              </a:tblGrid>
              <a:tr h="48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«5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«4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«3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«2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ых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-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urier New"/>
              </a:rPr>
              <a:t>План описания физических свойств карбоновой кислоты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Агрегатное состояни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Цвет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Запах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Растворимость в вод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Температура кип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(см.справочный материал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1280" y="1341360"/>
          <a:ext cx="7993080" cy="5257800"/>
        </p:xfrm>
        <a:graphic>
          <a:graphicData uri="http://schemas.openxmlformats.org/drawingml/2006/table">
            <a:tbl>
              <a:tblPr/>
              <a:tblGrid>
                <a:gridCol w="2665440"/>
                <a:gridCol w="3095640"/>
                <a:gridCol w="2232000"/>
              </a:tblGrid>
              <a:tr h="12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 кислот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ула кислот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ипения,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°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уравьин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ксусн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пионов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слян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ерианов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. 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еаринов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CO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. 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,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3,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5,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. 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WordArt 23"/>
          <p:cNvSpPr txBox="1"/>
          <p:nvPr/>
        </p:nvSpPr>
        <p:spPr>
          <a:xfrm>
            <a:off x="1187280" y="189000"/>
            <a:ext cx="6667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вания  и температуры кипе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которых карбоновых кисло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ull dir="l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ourier New"/>
              </a:rPr>
              <a:t>Образование димеров </a:t>
            </a: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Courier New"/>
              </a:rPr>
              <a:t>муравьиной  кисл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" name="Group 26"/>
          <p:cNvGrpSpPr/>
          <p:nvPr/>
        </p:nvGrpSpPr>
        <p:grpSpPr>
          <a:xfrm>
            <a:off x="5364000" y="2421000"/>
            <a:ext cx="3357720" cy="1460520"/>
            <a:chOff x="5364000" y="2421000"/>
            <a:chExt cx="3357720" cy="1460520"/>
          </a:xfrm>
        </p:grpSpPr>
        <p:sp>
          <p:nvSpPr>
            <p:cNvPr id="59" name="WordArt 6"/>
            <p:cNvSpPr txBox="1"/>
            <p:nvPr/>
          </p:nvSpPr>
          <p:spPr>
            <a:xfrm>
              <a:off x="8388360" y="2997360"/>
              <a:ext cx="333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>
              <a:off x="7813800" y="3213360"/>
              <a:ext cx="503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WordArt 10"/>
            <p:cNvSpPr txBox="1"/>
            <p:nvPr/>
          </p:nvSpPr>
          <p:spPr>
            <a:xfrm>
              <a:off x="7380360" y="2926080"/>
              <a:ext cx="333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2" name="Line 13"/>
            <p:cNvSpPr/>
            <p:nvPr/>
          </p:nvSpPr>
          <p:spPr>
            <a:xfrm flipV="1">
              <a:off x="6844320" y="3294720"/>
              <a:ext cx="425520" cy="2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Line 14"/>
            <p:cNvSpPr/>
            <p:nvPr/>
          </p:nvSpPr>
          <p:spPr>
            <a:xfrm flipV="1">
              <a:off x="6915960" y="3439440"/>
              <a:ext cx="425520" cy="2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6933240" y="2838600"/>
              <a:ext cx="390960" cy="317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WordArt 17"/>
            <p:cNvSpPr txBox="1"/>
            <p:nvPr/>
          </p:nvSpPr>
          <p:spPr>
            <a:xfrm>
              <a:off x="6445080" y="2421000"/>
              <a:ext cx="352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6" name="WordArt 18"/>
            <p:cNvSpPr txBox="1"/>
            <p:nvPr/>
          </p:nvSpPr>
          <p:spPr>
            <a:xfrm>
              <a:off x="6445080" y="3357720"/>
              <a:ext cx="352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797440" y="2637000"/>
              <a:ext cx="503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WordArt 22"/>
            <p:cNvSpPr txBox="1"/>
            <p:nvPr/>
          </p:nvSpPr>
          <p:spPr>
            <a:xfrm>
              <a:off x="5364000" y="2421000"/>
              <a:ext cx="333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Group 25"/>
          <p:cNvGrpSpPr/>
          <p:nvPr/>
        </p:nvGrpSpPr>
        <p:grpSpPr>
          <a:xfrm>
            <a:off x="108000" y="2421000"/>
            <a:ext cx="3357360" cy="1531440"/>
            <a:chOff x="108000" y="2421000"/>
            <a:chExt cx="3357360" cy="1531440"/>
          </a:xfrm>
        </p:grpSpPr>
        <p:sp>
          <p:nvSpPr>
            <p:cNvPr id="70" name="WordArt 5"/>
            <p:cNvSpPr txBox="1"/>
            <p:nvPr/>
          </p:nvSpPr>
          <p:spPr>
            <a:xfrm>
              <a:off x="108000" y="2925720"/>
              <a:ext cx="33336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1" name="Line 7"/>
            <p:cNvSpPr/>
            <p:nvPr/>
          </p:nvSpPr>
          <p:spPr>
            <a:xfrm flipV="1">
              <a:off x="1586520" y="2718360"/>
              <a:ext cx="425520" cy="2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WordArt 9"/>
            <p:cNvSpPr txBox="1"/>
            <p:nvPr/>
          </p:nvSpPr>
          <p:spPr>
            <a:xfrm>
              <a:off x="1189080" y="2925720"/>
              <a:ext cx="33336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V="1">
              <a:off x="1659600" y="2791440"/>
              <a:ext cx="425520" cy="2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Line 12"/>
            <p:cNvSpPr/>
            <p:nvPr/>
          </p:nvSpPr>
          <p:spPr>
            <a:xfrm>
              <a:off x="539640" y="3141360"/>
              <a:ext cx="503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Line 15"/>
            <p:cNvSpPr/>
            <p:nvPr/>
          </p:nvSpPr>
          <p:spPr>
            <a:xfrm>
              <a:off x="1603800" y="3342960"/>
              <a:ext cx="390960" cy="317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WordArt 19"/>
            <p:cNvSpPr txBox="1"/>
            <p:nvPr/>
          </p:nvSpPr>
          <p:spPr>
            <a:xfrm>
              <a:off x="2124000" y="3428640"/>
              <a:ext cx="352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7" name="WordArt 20"/>
            <p:cNvSpPr txBox="1"/>
            <p:nvPr/>
          </p:nvSpPr>
          <p:spPr>
            <a:xfrm>
              <a:off x="2197080" y="2421000"/>
              <a:ext cx="35244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8" name="Line 23"/>
            <p:cNvSpPr/>
            <p:nvPr/>
          </p:nvSpPr>
          <p:spPr>
            <a:xfrm>
              <a:off x="2556000" y="3644640"/>
              <a:ext cx="502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WordArt 24"/>
            <p:cNvSpPr txBox="1"/>
            <p:nvPr/>
          </p:nvSpPr>
          <p:spPr>
            <a:xfrm>
              <a:off x="3132000" y="3428640"/>
              <a:ext cx="333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0" name="Group 31"/>
          <p:cNvGrpSpPr/>
          <p:nvPr/>
        </p:nvGrpSpPr>
        <p:grpSpPr>
          <a:xfrm>
            <a:off x="3419640" y="2637000"/>
            <a:ext cx="649080" cy="71280"/>
            <a:chOff x="3419640" y="2637000"/>
            <a:chExt cx="649080" cy="71280"/>
          </a:xfrm>
        </p:grpSpPr>
        <p:sp>
          <p:nvSpPr>
            <p:cNvPr id="81" name="Oval 28"/>
            <p:cNvSpPr/>
            <p:nvPr/>
          </p:nvSpPr>
          <p:spPr>
            <a:xfrm>
              <a:off x="3419640" y="263700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29"/>
            <p:cNvSpPr/>
            <p:nvPr/>
          </p:nvSpPr>
          <p:spPr>
            <a:xfrm>
              <a:off x="3708360" y="263700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30"/>
            <p:cNvSpPr/>
            <p:nvPr/>
          </p:nvSpPr>
          <p:spPr>
            <a:xfrm>
              <a:off x="3996000" y="2637000"/>
              <a:ext cx="727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" name="Group 32"/>
          <p:cNvGrpSpPr/>
          <p:nvPr/>
        </p:nvGrpSpPr>
        <p:grpSpPr>
          <a:xfrm>
            <a:off x="4427640" y="3645000"/>
            <a:ext cx="649080" cy="71280"/>
            <a:chOff x="4427640" y="3645000"/>
            <a:chExt cx="649080" cy="71280"/>
          </a:xfrm>
        </p:grpSpPr>
        <p:sp>
          <p:nvSpPr>
            <p:cNvPr id="85" name="Oval 33"/>
            <p:cNvSpPr/>
            <p:nvPr/>
          </p:nvSpPr>
          <p:spPr>
            <a:xfrm>
              <a:off x="4427640" y="364500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34"/>
            <p:cNvSpPr/>
            <p:nvPr/>
          </p:nvSpPr>
          <p:spPr>
            <a:xfrm>
              <a:off x="4716360" y="364500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35"/>
            <p:cNvSpPr/>
            <p:nvPr/>
          </p:nvSpPr>
          <p:spPr>
            <a:xfrm>
              <a:off x="5004000" y="3645000"/>
              <a:ext cx="727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23 -0.00648 L 0.08177 -0.00254 E">
                                      <p:cBhvr>
                                        <p:cTn id="8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-0.00139 L -0.12049 -0.00139 E">
                                      <p:cBhvr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Химические свойства неорганических кислот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менение окраски индикатор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заимодействие с металлам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заимодействие с оксидами металл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заимодействие с основаниям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заимодействие с солями более слабых и летучих кисло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лан оформления отчёта о проведённом исследовани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2421000"/>
          <a:ext cx="8001000" cy="341316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2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делал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наблюдал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воды. Уравнения реакци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 опы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0:36:18Z</dcterms:created>
  <dc:creator>Customer</dc:creator>
  <dc:description/>
  <dc:language>en-US</dc:language>
  <cp:lastModifiedBy>Наталья Ковалева</cp:lastModifiedBy>
  <dcterms:modified xsi:type="dcterms:W3CDTF">2014-05-11T09:42:34Z</dcterms:modified>
  <cp:revision>14</cp:revision>
  <dc:subject/>
  <dc:title>Тема урока:</dc:title>
</cp:coreProperties>
</file>