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498-60C2-4CC0-89BD-F250FD62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3D2-3805-4E68-8717-7C5D5AFA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792-20E6-4CF1-92F3-DE3C2E17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309-D39B-41EB-A3DC-6B58514C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D469-B538-47F6-8E96-BE23EEE5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4789-6E83-4CCE-A100-B50D184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8EE7-F98A-43CD-B712-00EEA1C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2B3-5F8F-4F5D-A62A-5CDAD15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446-BB0C-4392-84F4-525FF1AB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AE6-7474-450A-ADE2-4D03A33E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FA9-725F-4621-BCF8-1CF5194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2BD-3460-4900-9F31-6E972EB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35D0-3EB6-4A69-B390-F6AC523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591-17AC-4AA7-84B0-3968C66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E00E-B074-4607-8602-1AB5EBE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2745-D783-4798-93A7-2DC95A60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424B-BE84-4800-A948-BB428194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45BB-00BA-42E9-856E-1DA5E040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2770-4B83-4906-97CE-6BB2B1A9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EE78-07C5-4DB5-814F-44C033E4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ACD0-7A2B-4488-9E54-6D87F9E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A033-39E3-4114-80BB-8D07A5F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8F7-4008-44F7-AD29-160A988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D4FD-4F3F-4BD1-987E-697D21F4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52AD-04BA-4431-A569-BD8DAB3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5987-905A-435F-A975-0079357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0C3E-9F6C-4F28-9CEF-DB0D648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8893-4852-4691-AC4D-F42C345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FFEB-050E-4C30-9736-DB95C3D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44E6-E9B6-42E9-9CCC-B2652354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FD46-EFAD-4796-883D-C08E6267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EDEC-C6DB-443C-B573-05419A3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2796-DB2E-4A4B-B1E3-CE043540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F01-F3FF-446F-B609-2EE5FDF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B5B1-4745-404B-8593-E43ABBA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DA41-A1AE-4CFB-89AA-D5926D49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93C6-4F79-4A86-8031-307D0D1B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6CED-7BE1-41E1-96F2-733334F7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BAF4-274D-49E9-A007-CCE95A1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2477-A461-442A-BFD8-4F4E8D3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B72B-9456-4BE5-845F-E00C565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EB8E-2645-4CC1-A3E9-DBCDAFA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8939-6258-4158-9D3A-043B2A91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CFA-4EBE-4F51-8816-A06B3AE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4F7-DBA8-41D8-B51C-B7823BFC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212-12CD-4035-B60A-675BE397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F97-0E99-4A38-B718-E74767D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AAF-D7CF-48F7-942A-2D8EFB3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ABA-CD07-46CD-B724-7B04612D1B8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E25B-BBFF-4325-83CE-75F24A2750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DFF-D9C5-4891-AD62-7F7238BE4D8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462-54C9-4564-B974-3EA97078DB0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0d0d0d"/>
                </a:solidFill>
                <a:latin typeface="Trebuchet MS"/>
              </a:rPr>
              <a:t>Речевое общение. Условия речевого общения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61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Речь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 – это</a:t>
            </a:r>
            <a:br>
              <a:rPr sz="8000"/>
            </a:b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язык </a:t>
            </a:r>
            <a:br>
              <a:rPr sz="8000"/>
            </a:b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в действии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3c43"/>
                </a:solidFill>
                <a:latin typeface="Arial"/>
              </a:rPr>
              <a:t>Условия речевого общения: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есть говорящий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и слушающий;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существует потребность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в общении;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ящий и слушающий  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владеют одним языком.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422160" y="189000"/>
            <a:ext cx="202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Arial"/>
              </a:rPr>
              <a:t>Речь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2340000" y="1125360"/>
            <a:ext cx="100800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508720" y="1197000"/>
            <a:ext cx="86364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11280" y="1844640"/>
            <a:ext cx="262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моноло-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гическа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4787280" y="1795320"/>
            <a:ext cx="43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диалогическа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835280" y="3429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588000" y="2852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50920" y="393372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ит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один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человек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76720" y="38606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576320" y="3429000"/>
            <a:ext cx="423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ят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оба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собеседника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попеременно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8000" spc="-1" strike="noStrike">
                <a:solidFill>
                  <a:srgbClr val="54a021"/>
                </a:solidFill>
                <a:latin typeface="Trebuchet MS"/>
              </a:rPr>
              <a:t>Монолог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 – речь одного человека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6500" spc="-1" strike="noStrike">
                <a:solidFill>
                  <a:srgbClr val="54a021"/>
                </a:solidFill>
                <a:latin typeface="Trebuchet MS"/>
              </a:rPr>
              <a:t>Диалог </a:t>
            </a:r>
            <a:r>
              <a:rPr b="0" lang="ru-RU" sz="6500" spc="-1" strike="noStrike">
                <a:solidFill>
                  <a:srgbClr val="90c226"/>
                </a:solidFill>
                <a:latin typeface="Trebuchet MS"/>
              </a:rPr>
              <a:t>– речь двух или нескольких человек.</a:t>
            </a:r>
            <a:endParaRPr b="0" lang="en-US" sz="6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878544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400" spc="-1" strike="noStrike">
                <a:solidFill>
                  <a:srgbClr val="54a021"/>
                </a:solidFill>
                <a:latin typeface="Trebuchet MS"/>
              </a:rPr>
              <a:t>Орфограмма</a:t>
            </a:r>
            <a:r>
              <a:rPr b="0" lang="ru-RU" sz="6400" spc="-1" strike="noStrike">
                <a:solidFill>
                  <a:srgbClr val="90c226"/>
                </a:solidFill>
                <a:latin typeface="Trebuchet MS"/>
              </a:rPr>
              <a:t> – ошибкоопасное место!</a:t>
            </a:r>
            <a:endParaRPr b="0" lang="en-US" sz="6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b9d181"/>
                </a:solidFill>
                <a:latin typeface="Trebuchet MS"/>
              </a:rPr>
              <a:t>Словарик</a:t>
            </a:r>
            <a:endParaRPr b="0" lang="en-US" sz="8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1773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Е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РОВ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Щ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ЦА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0" y="42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Д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О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Г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5445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ОГ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0" y="260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П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РАТ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48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Э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ТРО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НН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ЫЙ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0" y="2708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МЫ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Ш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0" y="400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ВЫЛЬ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0" y="5300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Р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ТИ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-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ОЛЕ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14:49Z</dcterms:created>
  <dc:creator>АВ</dc:creator>
  <dc:description/>
  <dc:language>en-US</dc:language>
  <cp:lastModifiedBy>002</cp:lastModifiedBy>
  <dcterms:modified xsi:type="dcterms:W3CDTF">2015-04-16T11:25:47Z</dcterms:modified>
  <cp:revision>4</cp:revision>
  <dc:subject/>
  <dc:title>Речевое общение. Условия речевого общения.</dc:title>
</cp:coreProperties>
</file>