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1B3-B16B-45F8-B0CC-E231DD0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D51-270C-4D99-B300-34C98B6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65D-2E4F-466C-A1C0-4A2B2492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8D5-4A95-4F74-B4B3-1B24B1FB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408-F132-4296-88DA-572820DA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D097-60D9-483D-8C1F-8B89495E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4429-981F-48ED-B522-1D8FD61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3A5-4CDA-4DD8-BDBD-7936949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471-E574-4294-A1AB-8F64919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F30-0424-479B-9EE2-E28C74E1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B04B-BE18-4C32-A399-E7F88C3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E32-DC5B-485E-8AB9-37DFC499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4E31-1A98-45F6-8F38-AA0FDC8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34EB-C1CF-4B04-A18C-D5FCC7A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4073-5ADC-4B50-A83F-B20DD8C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8BB-7CE2-4001-8E72-282B8F5F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E27-3FD1-467E-BB11-EF891DBE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25E1-EC3B-4063-B4B0-90F2BD4D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0DDA-3DFC-4561-B15C-CE47C738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E52F-F3A0-4987-A284-2C4014C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D06E-11F8-4468-9CF4-7AA976E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2667-180C-446B-9E26-00CE285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972-9409-46FA-875D-4155912B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542C-106A-4DFB-ACD8-213E3BB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D1B5-750E-46B5-8522-4B5E3FA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6DDB-A9A6-486A-B515-47CF90C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2D50-F687-427C-8FEE-800EBD2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5797-F838-4333-9410-0CAF4C7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4E42-2C75-4F5D-8C8B-42A2A126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2F5E-3ED6-47C0-8358-732CA103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70B0-FE85-41E1-99C1-008E5D6B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A896-3CA9-44AD-B3C4-93B8CE0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7AFF-7D29-4ABC-B363-6FEDF08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BB7-E165-4258-B382-44C58E74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2E58-E6F6-4893-8F6A-A28C0874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6367-2F4D-4FE9-AB5D-16819898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FAC1-AF46-4FE2-AE10-7A11DD1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7618-C569-41B8-81CC-A591523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E1D8-B40A-4E6F-B316-A356198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A26C-1D06-4C5C-AA6E-DF33814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73CE-45D0-4EF4-B9E7-68A517D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BFF3-1FFE-49BE-B57E-404E3CB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8C19-0C55-4071-B486-E90C0BF2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F85-C0A8-4D82-A5A1-09479B96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5D4-E292-44BB-8EFC-250020B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D9C-6CFA-46B4-BCC2-EE31116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407-36ED-4B53-9336-7702515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06C-E650-4FB9-A225-A368078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61D0-5A89-4D1F-9494-724E50BA88D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338-BCC2-495F-BEB2-BEFDC83FD77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99F-A1DE-49F0-B6C9-313A3A2A83B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DDFF-4F4A-43E5-981E-F27BA04D417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0d0d0d"/>
                </a:solidFill>
                <a:latin typeface="Trebuchet MS"/>
              </a:rPr>
              <a:t>Речевое общение. Условия речевого общения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61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Речь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 – это</a:t>
            </a:r>
            <a:br>
              <a:rPr sz="8000"/>
            </a:b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язык </a:t>
            </a:r>
            <a:br>
              <a:rPr sz="8000"/>
            </a:b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в действии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3c43"/>
                </a:solidFill>
                <a:latin typeface="Arial"/>
              </a:rPr>
              <a:t>Условия речевого общения: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есть говорящий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и слушающий;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существует потребность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в общении;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a02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ящий и слушающий  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владеют одним языком.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422160" y="189000"/>
            <a:ext cx="202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Arial"/>
              </a:rPr>
              <a:t>Речь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2340000" y="1125360"/>
            <a:ext cx="100800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508720" y="1197000"/>
            <a:ext cx="86364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11280" y="1844640"/>
            <a:ext cx="262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моноло-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гическа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4787280" y="1795320"/>
            <a:ext cx="43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c43"/>
                </a:solidFill>
                <a:latin typeface="Arial"/>
              </a:rPr>
              <a:t>диалогическа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835280" y="3429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588000" y="285264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50920" y="393372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ит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один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человек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76720" y="38606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576320" y="3429000"/>
            <a:ext cx="423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говорят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оба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собеседника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4a021"/>
                </a:solidFill>
                <a:latin typeface="Arial"/>
              </a:rPr>
              <a:t>попеременно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8000" spc="-1" strike="noStrike">
                <a:solidFill>
                  <a:srgbClr val="54a021"/>
                </a:solidFill>
                <a:latin typeface="Trebuchet MS"/>
              </a:rPr>
              <a:t>Монолог</a:t>
            </a:r>
            <a:r>
              <a:rPr b="0" lang="ru-RU" sz="8000" spc="-1" strike="noStrike">
                <a:solidFill>
                  <a:srgbClr val="90c226"/>
                </a:solidFill>
                <a:latin typeface="Trebuchet MS"/>
              </a:rPr>
              <a:t> – речь одного человека.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ru-RU" sz="6500" spc="-1" strike="noStrike">
                <a:solidFill>
                  <a:srgbClr val="54a021"/>
                </a:solidFill>
                <a:latin typeface="Trebuchet MS"/>
              </a:rPr>
              <a:t>Диалог </a:t>
            </a:r>
            <a:r>
              <a:rPr b="0" lang="ru-RU" sz="6500" spc="-1" strike="noStrike">
                <a:solidFill>
                  <a:srgbClr val="90c226"/>
                </a:solidFill>
                <a:latin typeface="Trebuchet MS"/>
              </a:rPr>
              <a:t>– речь двух или нескольких человек.</a:t>
            </a:r>
            <a:endParaRPr b="0" lang="en-US" sz="6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878544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400" spc="-1" strike="noStrike">
                <a:solidFill>
                  <a:srgbClr val="54a021"/>
                </a:solidFill>
                <a:latin typeface="Trebuchet MS"/>
              </a:rPr>
              <a:t>Орфограмма</a:t>
            </a:r>
            <a:r>
              <a:rPr b="0" lang="ru-RU" sz="6400" spc="-1" strike="noStrike">
                <a:solidFill>
                  <a:srgbClr val="90c226"/>
                </a:solidFill>
                <a:latin typeface="Trebuchet MS"/>
              </a:rPr>
              <a:t> – ошибкоопасное место!</a:t>
            </a:r>
            <a:endParaRPr b="0" lang="en-US" sz="6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14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b9d181"/>
                </a:solidFill>
                <a:latin typeface="Trebuchet MS"/>
              </a:rPr>
              <a:t>Словарик</a:t>
            </a:r>
            <a:endParaRPr b="0" lang="en-US" sz="8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1773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Е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РОВ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Щ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ЦА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0" y="42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Д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И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О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Г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5445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ОГ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0" y="260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П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РАТ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48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Э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ТРО</a:t>
            </a:r>
            <a:r>
              <a:rPr b="0" lang="ru-RU" sz="6600" spc="-1" strike="noStrike">
                <a:solidFill>
                  <a:srgbClr val="99ca3c"/>
                </a:solidFill>
                <a:latin typeface="Arial Black"/>
              </a:rPr>
              <a:t>НН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ЫЙ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0" y="2708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МЫ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Ш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0" y="40053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ВЫЛЬ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0" y="5300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Р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Е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К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ТИ</a:t>
            </a:r>
            <a:r>
              <a:rPr b="0" lang="ru-RU" sz="6600" spc="-1" strike="noStrike">
                <a:solidFill>
                  <a:srgbClr val="2c3c43"/>
                </a:solidFill>
                <a:latin typeface="Arial Black"/>
              </a:rPr>
              <a:t>-</a:t>
            </a: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ПОЛЕ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14:49Z</dcterms:created>
  <dc:creator>АВ</dc:creator>
  <dc:description/>
  <dc:language>en-US</dc:language>
  <cp:lastModifiedBy>002</cp:lastModifiedBy>
  <dcterms:modified xsi:type="dcterms:W3CDTF">2015-04-16T11:25:47Z</dcterms:modified>
  <cp:revision>4</cp:revision>
  <dc:subject/>
  <dc:title>Речевое общение. Условия речевого общения.</dc:title>
</cp:coreProperties>
</file>