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90520" y="781200"/>
            <a:ext cx="4469040" cy="33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0200" y="4349520"/>
            <a:ext cx="47336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190520" y="784080"/>
            <a:ext cx="4473720" cy="335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190520" y="784080"/>
            <a:ext cx="4473720" cy="335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544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76309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5920" y="4190760"/>
            <a:ext cx="76309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6240" y="193788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5920" y="419076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6240" y="419076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24570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6040" y="1937880"/>
            <a:ext cx="24570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06520" y="1937880"/>
            <a:ext cx="24570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5920" y="4190760"/>
            <a:ext cx="24570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6040" y="4190760"/>
            <a:ext cx="24570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06520" y="4190760"/>
            <a:ext cx="24570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5920" y="1937880"/>
            <a:ext cx="76309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76309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3723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6240" y="1937880"/>
            <a:ext cx="3723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6240" y="1937880"/>
            <a:ext cx="3723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5920" y="419076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3723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6240" y="193788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6240" y="419076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788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240" y="1937880"/>
            <a:ext cx="3723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190760"/>
            <a:ext cx="76309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5920" y="1937880"/>
            <a:ext cx="76309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Урок русского языка </a:t>
            </a:r>
            <a:br>
              <a:rPr sz="4800"/>
            </a:b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в 3 классе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УМК «Планета Знаний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МАОУ «СОШ №50 с углублённым изучением английского языка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г. Перм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учитель начальных классов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Волкова Н.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679320"/>
            <a:ext cx="78073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омашнее задание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думать и записать ряд сложных сло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Если хочешь, придумай историю про сложные слов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ожешь нарисовать иллюстрацию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дведём итог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Я узнал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нял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учился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не особенно понравилось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119640" y="4711680"/>
            <a:ext cx="236088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81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99284c"/>
                </a:solidFill>
                <a:latin typeface="Arial"/>
              </a:rPr>
              <a:t>Тема:</a:t>
            </a:r>
            <a:r>
              <a:rPr b="1" lang="ru-RU" sz="4800" spc="-1" strike="noStrike" u="sng">
                <a:solidFill>
                  <a:srgbClr val="99284c"/>
                </a:solidFill>
                <a:uFillTx/>
                <a:latin typeface="Arial"/>
              </a:rPr>
              <a:t>.............................</a:t>
            </a:r>
            <a:endParaRPr b="1" i="1" lang="en-US" sz="4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Минутка «Грязнописания» - чистописания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040360" y="2558880"/>
            <a:ext cx="2728800" cy="31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87160"/>
            <a:ext cx="78073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Тема: </a:t>
            </a:r>
            <a:r>
              <a:rPr b="1" i="1" lang="ru-RU" sz="4000" spc="-1" strike="noStrike" u="sng">
                <a:solidFill>
                  <a:srgbClr val="99284c"/>
                </a:solidFill>
                <a:uFillTx/>
                <a:latin typeface="Arial"/>
              </a:rPr>
              <a:t>Сложные слов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9144000" y="-776160"/>
            <a:ext cx="304920" cy="304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1360" y="2071800"/>
            <a:ext cx="71434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«</a:t>
            </a:r>
            <a:r>
              <a:rPr b="1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Благодарность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— признак </a:t>
            </a:r>
            <a:r>
              <a:rPr b="1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благородства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души»            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Эзоп VI в.до н.э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Благо - ....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Arial"/>
              </a:rPr>
              <a:t>_____________________________________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681120" indent="0" algn="r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0" i="1" lang="ru-RU" sz="2600" spc="-1" strike="noStrike">
                <a:solidFill>
                  <a:srgbClr val="333333"/>
                </a:solidFill>
                <a:latin typeface="Arial"/>
              </a:rPr>
              <a:t>*</a:t>
            </a: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Афоризм- краткое изречение,        побуждающее к раздумью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87160"/>
            <a:ext cx="78073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Цель: научиться...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8991720" y="-749160"/>
            <a:ext cx="304560" cy="304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1. Находить 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2. Составлять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3. Грамотно писать..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" name="Picture 7" descr="E:\Урок русского языка\J0251125.WMF"/>
          <p:cNvPicPr/>
          <p:nvPr/>
        </p:nvPicPr>
        <p:blipFill>
          <a:blip r:embed="rId1"/>
          <a:stretch/>
        </p:blipFill>
        <p:spPr>
          <a:xfrm>
            <a:off x="5929200" y="3571920"/>
            <a:ext cx="233856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87160"/>
            <a:ext cx="78073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Игра: «Узнай сложное слово»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8839080" y="-612720"/>
            <a:ext cx="304920" cy="30492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юбит книг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ечёт хлеб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азводит пчё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охраняет овощ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ыращивает пти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Чистит снег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осёт пыл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Качает воду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87160"/>
            <a:ext cx="78073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Работа в парах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8839080" y="-517680"/>
            <a:ext cx="304920" cy="30492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571400"/>
            <a:ext cx="763560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Составьте сложные слова из двух основ.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лова на карточках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Сам катится, рубит мясо, тушит огонь, ловит мышей, чёрная земля, растут в воде, хранит овощи, плавает по морям, отводит гром, режет лёд, сам сваливает, селится в новый дом, командует  полком, пашет землю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оверим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356840"/>
            <a:ext cx="33415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амока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Мясоруб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Огнетушител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Мышелов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Чернозём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одоросли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Овощехранилищ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Мореплавател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Громоотвод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Ледокол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амосвал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овосёл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36800" y="1937880"/>
            <a:ext cx="37400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олководец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емлепашец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8839080" y="-544680"/>
            <a:ext cx="304920" cy="30492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688000" y="3780000"/>
            <a:ext cx="241128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785880"/>
            <a:ext cx="78073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Работа в группах</a:t>
            </a:r>
            <a:br>
              <a:rPr sz="4000"/>
            </a:b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Arial"/>
              </a:rPr>
              <a:t>1 группа </a:t>
            </a: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составляет слова с корнем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САМ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Arial"/>
              </a:rPr>
              <a:t>2 группа </a:t>
            </a: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составляет слова с корнем: СНЕГ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Arial"/>
              </a:rPr>
              <a:t>3 группа </a:t>
            </a: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с корнем: ХОД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87160"/>
            <a:ext cx="78073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пиши одним словом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есто на реке, куда приходят пить звер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ремительно падающая вод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ечение водо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есто, где сохраняется чистая вод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ращательное движение вод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бор для измерения количества протекающей вод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81120" indent="-6811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Человек, везущий воду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6:56:03Z</dcterms:created>
  <dc:creator>vvv</dc:creator>
  <dc:description/>
  <dc:language>en-US</dc:language>
  <cp:lastModifiedBy>User10</cp:lastModifiedBy>
  <dcterms:modified xsi:type="dcterms:W3CDTF">2013-06-18T09:05:20Z</dcterms:modified>
  <cp:revision>10</cp:revision>
  <dc:subject/>
  <dc:title>30 СТРАН МИРА</dc:title>
</cp:coreProperties>
</file>