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ECB-7095-467F-8188-CECD796B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F4F-8782-4F42-BBB4-D0118BB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4DC-1BAA-4A92-BC87-6776083A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768-5191-4DDF-B7CC-046BAA15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ED57-024E-4815-BA3A-C1F6558F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25A0-985A-4506-A908-2E05E01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5381-961A-4E93-A28A-1042C6DE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B4CC-822E-4092-A5D8-401DA7C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8CD-8D78-4ADF-875D-E248148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920F-6874-4DEB-9D04-CE80048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DDE4-3AD6-4B7F-9B54-D3988D0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743-3E0A-487A-8C4A-74BA91C0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D4A6-4117-4ED2-B955-FFA4C52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446-D8F0-4C1B-8E18-E130F3E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1BFF-14D9-4D43-B894-2966FAB2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91FA-B0A2-4D74-86D3-042F25DC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ACD-2A4F-4B17-BFB6-D2D8CDAD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76C-E6A2-44C9-AD4F-A5889E0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94F-68F3-4C00-A710-2AF77CE2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164-5D52-4B1C-80CD-D81DCCCA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020-BB64-408E-B62E-353E6D0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21C-ADF9-4C7C-B99D-D72E288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B2A-BFC0-4BEB-A371-8C6A5A6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9B5-6E68-4050-B20E-140321BF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382-C3F7-4995-8337-601C3C0CBFD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BE36-ECEA-4F6B-AF51-320049CCECF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The Construction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d3333"/>
                </a:solidFill>
                <a:latin typeface="Times New Roman"/>
              </a:rPr>
              <a:t>there  is/are</a:t>
            </a: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2000"/>
                </a:solidFill>
                <a:latin typeface="Times New Roman"/>
              </a:rPr>
              <a:t>in Present and Past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is” or “are”.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four books in my ba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two pens and a copy-book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a birthday present for my Grann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three carrots for your sala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very much food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sweets on the tabl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orange juice for dinne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a holiday on Saturda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jam in the cup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birthday parties in the group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Fill in “is”, “are”, 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Look! There … three pupils in the clas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one boy who had a do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cookies I liked to 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four meals a day in Englan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supper time between seven and te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1A. Fill in “is” or “a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a present for Mum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many children in the garden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some coffee in the cup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a pen and two pencils in the box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three apples and one banana on the dish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2A. Fill  in  “was 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There … many pupils at school last wee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There … juice for dinner yesterday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There … sweets on the table a minute ago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4. There … a holiday last Saturday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. There … one elephant and two giraffes at the Zoo yesterda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3B. Fill in “is”, “are”, 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“was” or “were”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1. There … a birthday cake for you on the table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2. There … some birds in the tree five minutes ag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3. There … many flowers in the vase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4. There … a table and some chairs in the classroo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02000"/>
                </a:solidFill>
                <a:latin typeface="Times New Roman"/>
              </a:rPr>
              <a:t>5. There … a Christmas party at school yesterda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Keys: 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2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3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4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5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A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2A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were   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3B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were     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w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8:09:08Z</dcterms:created>
  <dc:creator>Рязанова</dc:creator>
  <dc:description/>
  <dc:language>en-US</dc:language>
  <cp:lastModifiedBy>Рязанова</cp:lastModifiedBy>
  <dcterms:modified xsi:type="dcterms:W3CDTF">2015-03-24T11:00:27Z</dcterms:modified>
  <cp:revision>16</cp:revision>
  <dc:subject/>
  <dc:title>Possessive case of nouns </dc:title>
</cp:coreProperties>
</file>