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7CB-2E23-4B4A-BE0D-C745AC9C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48B-282B-4F61-B2AC-AFB5440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76C-A119-4CFD-9F75-41BB45AE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A3C-D699-45EF-9E71-0702BF3A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06BE-9F5D-424D-80A4-A47EDCB7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58DB-D977-432A-AC26-B59ACB6A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44BC-3A50-47A0-8E89-9C712FD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28C3-E29B-4C0F-AAFF-7A4CE1F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529-C806-4BEC-B930-D5C9764A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52E-253A-41DA-8107-1C17B086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CE8-EEEB-4A8F-A068-660ADD8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C4F-9D8F-45B7-BE45-76E834F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F2E1-2164-46AE-B566-FEA24BA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42A2-43DE-4022-B7D1-7BCF712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5339-5EB1-4A7D-9E7E-56099D8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7A1-FB36-4A92-ABD6-4C84D934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AD7-7248-4E75-B189-ACB728C9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382-ABFC-44F2-BAD1-41CD31D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0DF-60BE-4095-BB7F-F5F9816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148-918D-4596-83F3-E7198CD6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C8A-C417-4768-B10C-A5E07C5F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471-A7F4-4EA9-92BD-4453DD7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3F0-3213-4734-913A-9C59642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B4F-E502-464E-8C46-3241B5A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869-3572-4496-A28A-3E8B207E226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17A-C3DF-4554-87C5-4D7D8DC0B5B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The Construction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d3333"/>
                </a:solidFill>
                <a:latin typeface="Times New Roman"/>
              </a:rPr>
              <a:t>there  is/are</a:t>
            </a: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in Present and Past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is” or “are”.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four books in my ba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two pens and a copy-book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a birthday present for my Grann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three carrots for your sala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very much food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sweets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orange juice for dinne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a holiday on Saturda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jam in the cup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birthday parties in the group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is”, “are”, 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Look! There … three pupils in the clas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one boy who had a do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cookies I liked to 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four meals a day in Englan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supper time between seven and te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1A. Fill in “is” or “a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a present for Mum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many children in the garden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some coffee in the cup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a pen and two pencils in the box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three apples and one banana on the dish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2A. Fill  in  “was 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many pupils at school last wee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juice for dinner yesterday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sweets on the table a minute ago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a holiday last Saturday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one elephant and two giraffes at the Zoo yesterda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3B. Fill in “is”, “are”, 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1. There … a birthday cake for you on the table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2. There … some birds in the tree five minutes ag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3. There … many flowers in the vase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4. There … a table and some chairs in the classroo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5. There … a Christmas party at school yesterda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Keys: 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2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3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4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5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A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2A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were   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3B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were    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8:09:08Z</dcterms:created>
  <dc:creator>Рязанова</dc:creator>
  <dc:description/>
  <dc:language>en-US</dc:language>
  <cp:lastModifiedBy>Рязанова</cp:lastModifiedBy>
  <dcterms:modified xsi:type="dcterms:W3CDTF">2015-03-24T11:00:27Z</dcterms:modified>
  <cp:revision>16</cp:revision>
  <dc:subject/>
  <dc:title>Possessive case of nouns </dc:title>
</cp:coreProperties>
</file>