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6F1-5010-4716-9E1B-E8A17AF1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019-531E-4E88-83B8-52E31974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E6B-EFEA-4091-9695-F327ACF6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D3E-EDBF-499A-8AB3-9CCDA363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AD5-CD74-4D8F-907B-95093857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A824-48F1-448B-8968-83B1507D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A8C3-73C8-4C15-8763-FC0B1657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67D8-45E0-4BF5-B9E4-DDB5E288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447F-1134-47CF-BE4C-9498DB2C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E86A-FCBA-4162-B78A-E5D9CE03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7465-650B-4BFC-907A-9D08110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993-6436-4413-B99F-9B62DEB3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A9E1-BC37-44A7-87E4-38FB8455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C8A3-D836-41BA-9AEE-7480C8D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F1F6-9E29-454E-886F-4051C730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1109-BC33-491B-B6A8-4DD18381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5F88-5EB0-49DF-83C7-2E6088C2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FB3-EBAF-479E-A5B1-02064B50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7A7-3A68-411D-95BA-1003A3E1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F4E-D1F5-4907-B560-6A46CE43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920-D546-415E-B3EF-A8EC546C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1A5-4260-490E-99BB-81AB93B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0AA-1F2A-4429-8555-8D4794B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008-DA28-4004-889C-14B3571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7B66-3C0C-47C4-9285-5320D99451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3678-4865-449F-803E-B1A9C38DA9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мире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знаете ли 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Лебеди - самые крупные водоплавающие птиц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387600" cy="280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284640"/>
            <a:ext cx="3217680" cy="3024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00"/>
                            </p:stCondLst>
                            <p:childTnLst>
                              <p:par>
                                <p:cTn id="1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60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Тигр – самая большая кошка на земл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845160" cy="4680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жи – хищник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85960" y="2379600"/>
            <a:ext cx="3178080" cy="297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62440" y="2625840"/>
            <a:ext cx="3811680" cy="2477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Голуби – вегетарианцы, едят только растительную пищ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2859120" cy="3103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2859120" cy="3127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лоны могут слышать ногами так же как и ушам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29120" y="2639880"/>
            <a:ext cx="2867040" cy="3224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екорд, находиться без воды, принадлежит скалистой белк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2720" y="2224080"/>
            <a:ext cx="5327640" cy="3608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ое тяжелое наземное млекопитающее - белый медвед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257800" cy="3749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767ff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767ff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ое высокое млекопитающее - жира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29829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ое зубастое млекопитающее – кашалот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1440" y="2495520"/>
            <a:ext cx="4967280" cy="3414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ое маленькое млекопитающее – карликовая белозубк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8200" y="2830680"/>
            <a:ext cx="5616360" cy="3189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амый быстрый из млекопитающих - гепар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7440" y="2136600"/>
            <a:ext cx="3816360" cy="3783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ала – сумчатый медведь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30400" y="2205000"/>
            <a:ext cx="3922920" cy="3960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7:33:44Z</dcterms:created>
  <dc:creator>Kassandra</dc:creator>
  <dc:description/>
  <dc:language>en-US</dc:language>
  <cp:lastModifiedBy>Kassandra</cp:lastModifiedBy>
  <dcterms:modified xsi:type="dcterms:W3CDTF">2008-04-20T18:41:33Z</dcterms:modified>
  <cp:revision>4</cp:revision>
  <dc:subject/>
  <dc:title>В мире животных.</dc:title>
</cp:coreProperties>
</file>