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7D2-B017-471B-9A40-EA1D718D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CF4-C6E9-4C2A-834A-AD65D60F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F76-FE3C-4284-B69E-55CE8BBC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039-01C6-423C-AA84-CC0D658D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11F7-DC99-4C58-B1F6-533054CE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2D9D-924A-4553-BF1A-60E450A5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D302-906B-4CEF-91C6-28CD0D55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2B0F-B96A-4015-BA0D-64F0A26D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E97B-7A66-4B64-AD31-8BC1C78A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F5A-4187-4281-A75C-7823A7E8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763-E947-4932-A8BD-B142175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890-E5A5-4465-8F92-39339F52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CCB9-FEA9-4EE2-ACFC-09FCDF5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D5CA-0805-4E12-BB9C-9B7FE01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E184-6E28-48A7-AF21-AD7881BD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7EF7-9EBF-4828-8B45-D67FE31E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C4C0-E7BF-46B3-8792-EA8E5D16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8F1-1812-43E2-BA34-F4227A5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964-C793-42C8-BA27-0AA528A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B69-24B0-4C35-A31D-48233987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84A-D7EE-463B-964A-F2CE811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21B-27F5-4832-BF8C-928B98C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BB0-0ACE-4AB0-866D-A4BE6B8C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100-BA19-4FDF-A8BB-1F59C887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7D4-8C37-4667-BD1B-E60DF4EA15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E66C-D453-40DB-B279-01A6EED84F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мире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знаете ли 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Лебеди - самые крупные водоплавающие птиц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387600" cy="280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217680" cy="302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00"/>
                            </p:stCondLst>
                            <p:childTnLst>
                              <p:par>
                                <p:cTn id="1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6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игр – самая большая кошка на земл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84516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жи – хищник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85960" y="2379600"/>
            <a:ext cx="3178080" cy="297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62440" y="2625840"/>
            <a:ext cx="3811680" cy="2477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Голуби – вегетарианцы, едят только растительную пищ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2859120" cy="3103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2859120" cy="3127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лоны могут слышать ногами так же как и уша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9120" y="2639880"/>
            <a:ext cx="2867040" cy="3224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екорд, находиться без воды, принадлежит скалистой белк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2720" y="2224080"/>
            <a:ext cx="5327640" cy="3608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тяжелое наземное млекопитающее - белый медвед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257800" cy="3749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767ff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767ff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высокое млекопитающее - жира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9829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зубастое млекопитающее – кашало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1440" y="2495520"/>
            <a:ext cx="4967280" cy="3414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маленькое млекопитающее – карликовая белозуб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8200" y="2830680"/>
            <a:ext cx="5616360" cy="3189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ый быстрый из млекопитающих - гепар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7440" y="2136600"/>
            <a:ext cx="3816360" cy="3783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ала – сумчатый медведь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30400" y="2205000"/>
            <a:ext cx="3922920" cy="3960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7:33:44Z</dcterms:created>
  <dc:creator>Kassandra</dc:creator>
  <dc:description/>
  <dc:language>en-US</dc:language>
  <cp:lastModifiedBy>Kassandra</cp:lastModifiedBy>
  <dcterms:modified xsi:type="dcterms:W3CDTF">2008-04-20T18:41:33Z</dcterms:modified>
  <cp:revision>4</cp:revision>
  <dc:subject/>
  <dc:title>В мире животных.</dc:title>
</cp:coreProperties>
</file>