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D5E-2B1B-46B8-9DDE-9DADB1E8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20F-36EC-45F4-860C-152C8167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C82-4852-41B2-906E-77C92222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747-9A96-4FEF-9D6E-AEF81333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A1CB-94E0-46AA-8E8D-4AD7EA98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3983-C830-434D-9373-F53F082B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3EAD-468E-471E-8002-1D8FEE4C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6B97-450A-45BC-B58C-9CA558CB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7555-8D94-4418-9D1A-CFA19EFC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F32E-D54E-4708-AF86-55E0B552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698A-B7F0-4CFF-9A58-D5542245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DB8-DDAD-46D1-8628-98E5CF43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A7A9-2439-466E-8E79-CBDDFB1B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6FF1-7393-4DFA-8D0E-C3D36049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9ECF-0773-496A-90CE-AC607127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5EDA-A3E7-422B-8BE7-21F14731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1E04-2FF2-4380-9695-23A30BDB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13A-5ECF-47F6-A96B-E101A5C1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E5F-CD8B-48AE-AFA2-B0DD9E56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876-5238-475F-B296-1E5F5EC1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F2E-F5BF-4347-AF04-86F6778F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D45-120B-4458-9C44-36603C3A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01D-C0D6-4275-9AFE-B50AA33B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569-E76C-415B-8D8A-02DFDCE3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" name="Line 4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" name="Line 5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" name="Line 6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" name="Line 7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" name="Line 8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" name="Line 9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" name="Line 10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" name="Line 11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" name="Line 1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1" name="Line 1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2" name="Line 1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3" name="Line 1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4" name="Line 1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5" name="Line 1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8C0D-F877-4349-98AD-A52B1051A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29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1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2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2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9" name="Freeform 4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0" name="Freeform 5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1" name="Freeform 6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2" name="Freeform 7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3" name="Line 8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8" name="Line 1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0" name="Line 1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1" name="Line 1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2" name="Line 1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3" name="Line 1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8" name="Freeform 23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Castellar"/>
            </a:endParaRPr>
          </a:p>
        </p:txBody>
      </p:sp>
      <p:grpSp>
        <p:nvGrpSpPr>
          <p:cNvPr id="91" name="Group 30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31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sp>
        <p:nvSpPr>
          <p:cNvPr id="94" name="Rectangle 33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5" name="Line 34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6" name="Rectangle 35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97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EBA0-AA70-40C5-AD24-D0EB858CD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838080"/>
            <a:ext cx="822960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тизация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звука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в стихотворных текстах.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Речевой материал в картинках.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666880" y="45716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дготовила учитель-лого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Чижова Ирин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990720" y="4038480"/>
            <a:ext cx="208728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42" name="Прямоугольник 5"/>
          <p:cNvSpPr/>
          <p:nvPr/>
        </p:nvSpPr>
        <p:spPr>
          <a:xfrm>
            <a:off x="228600" y="4495680"/>
            <a:ext cx="106668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Как бы мне пошла кор-рона!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ордо каркает…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8" name="Содержимое 3" descr="ворона.jpg"/>
          <p:cNvPicPr/>
          <p:nvPr/>
        </p:nvPicPr>
        <p:blipFill>
          <a:blip r:embed="rId1"/>
          <a:stretch/>
        </p:blipFill>
        <p:spPr>
          <a:xfrm>
            <a:off x="990720" y="1393920"/>
            <a:ext cx="6267240" cy="5030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7467480" y="4800600"/>
            <a:ext cx="1297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ёрный, проворный, кричит «Кр - рак» - червякам враг…</a:t>
            </a:r>
            <a:br>
              <a:rPr sz="2400"/>
            </a:b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1" name="Содержимое 3" descr="гоач.jpg"/>
          <p:cNvPicPr/>
          <p:nvPr/>
        </p:nvPicPr>
        <p:blipFill>
          <a:blip r:embed="rId1"/>
          <a:stretch/>
        </p:blipFill>
        <p:spPr>
          <a:xfrm>
            <a:off x="990720" y="1828800"/>
            <a:ext cx="7122960" cy="3809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"/>
          <p:cNvPicPr/>
          <p:nvPr/>
        </p:nvPicPr>
        <p:blipFill>
          <a:blip r:embed="rId2"/>
          <a:stretch/>
        </p:blipFill>
        <p:spPr>
          <a:xfrm>
            <a:off x="7543800" y="4800600"/>
            <a:ext cx="1297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180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м во двор забрался крот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ет землю у ворот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нна в рот земли войдё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крот раскроет рот.</a:t>
            </a:r>
            <a:br>
              <a:rPr sz="1800"/>
            </a:br>
            <a:r>
              <a:rPr b="1" i="1" lang="ru-RU" sz="1100" spc="-1" strike="noStrike">
                <a:solidFill>
                  <a:srgbClr val="0000ff"/>
                </a:solidFill>
                <a:latin typeface="Arial"/>
              </a:rPr>
              <a:t>(Экскаватор)</a:t>
            </a:r>
            <a:br>
              <a:rPr sz="1800"/>
            </a:br>
            <a:endParaRPr b="1" lang="en-US" sz="11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4" name="Содержимое 3" descr="экскав.jpg"/>
          <p:cNvPicPr/>
          <p:nvPr/>
        </p:nvPicPr>
        <p:blipFill>
          <a:blip r:embed="rId1"/>
          <a:stretch/>
        </p:blipFill>
        <p:spPr>
          <a:xfrm>
            <a:off x="2666880" y="1909800"/>
            <a:ext cx="4953240" cy="4221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2"/>
          <a:stretch/>
        </p:blipFill>
        <p:spPr>
          <a:xfrm>
            <a:off x="1063800" y="5029200"/>
            <a:ext cx="1295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229600" cy="26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c3300"/>
                </a:solidFill>
                <a:latin typeface="Castellar"/>
              </a:rPr>
              <a:t>Спасибо</a:t>
            </a:r>
            <a:br>
              <a:rPr sz="4400"/>
            </a:br>
            <a:r>
              <a:rPr b="1" lang="ru-RU" sz="4400" spc="-1" strike="noStrike">
                <a:solidFill>
                  <a:srgbClr val="cc3300"/>
                </a:solidFill>
                <a:latin typeface="Castellar"/>
              </a:rPr>
              <a:t>за работу.</a:t>
            </a:r>
            <a:br>
              <a:rPr sz="4400"/>
            </a:b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252360" y="4495680"/>
            <a:ext cx="106668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1295280" y="4495680"/>
            <a:ext cx="1067040" cy="10670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89" name="Прямоугольник 2"/>
          <p:cNvSpPr/>
          <p:nvPr/>
        </p:nvSpPr>
        <p:spPr>
          <a:xfrm>
            <a:off x="1295280" y="4503600"/>
            <a:ext cx="1067040" cy="10670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90" name="Picture 17" descr="090"/>
          <p:cNvPicPr/>
          <p:nvPr/>
        </p:nvPicPr>
        <p:blipFill>
          <a:blip r:embed="rId1"/>
          <a:stretch/>
        </p:blipFill>
        <p:spPr>
          <a:xfrm>
            <a:off x="457200" y="2133720"/>
            <a:ext cx="357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Цель: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крепить правильное  произношение звука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       в  связной речи.</a:t>
            </a:r>
            <a:br>
              <a:rPr sz="2000"/>
            </a:b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Сегодня к нам на занятие пришёл Петрушка. Он будет слушать и смотреть, как ты будешь заним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124080" cy="4038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/>
          <p:cNvPicPr/>
          <p:nvPr/>
        </p:nvPicPr>
        <p:blipFill>
          <a:blip r:embed="rId2"/>
          <a:stretch/>
        </p:blipFill>
        <p:spPr>
          <a:xfrm>
            <a:off x="4862520" y="914400"/>
            <a:ext cx="3595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осорог бодает рогом,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 шутите с носорогом.</a:t>
            </a:r>
            <a:br>
              <a:rPr sz="2800"/>
            </a:b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8" name="Содержимое 3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7086600" cy="4800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/>
          <p:cNvPicPr/>
          <p:nvPr/>
        </p:nvPicPr>
        <p:blipFill>
          <a:blip r:embed="rId2"/>
          <a:stretch/>
        </p:blipFill>
        <p:spPr>
          <a:xfrm>
            <a:off x="128520" y="4724280"/>
            <a:ext cx="1297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осит мама- кенгуру в тёплой сумке детвору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 ребятки – кенгурятки целый день играют в прятки.</a:t>
            </a:r>
            <a:br>
              <a:rPr sz="3600"/>
            </a:b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99840" y="2361960"/>
            <a:ext cx="4876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533520" y="1198440"/>
            <a:ext cx="7543800" cy="4592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296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оет землю серый крот, разоряет огород.</a:t>
            </a:r>
            <a:br>
              <a:rPr sz="2800"/>
            </a:b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315200" cy="5029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7696080" y="4876920"/>
            <a:ext cx="1297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или – были раки, раки – забияки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или раки шумно, затевали драки.</a:t>
            </a:r>
            <a:br>
              <a:rPr sz="2400"/>
            </a:b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8" name="Содержимое 3" descr="рак.jpg"/>
          <p:cNvPicPr/>
          <p:nvPr/>
        </p:nvPicPr>
        <p:blipFill>
          <a:blip r:embed="rId1"/>
          <a:stretch/>
        </p:blipFill>
        <p:spPr>
          <a:xfrm>
            <a:off x="457200" y="1981080"/>
            <a:ext cx="4281480" cy="3429000"/>
          </a:xfrm>
          <a:prstGeom prst="rect">
            <a:avLst/>
          </a:prstGeom>
          <a:ln w="0">
            <a:noFill/>
          </a:ln>
        </p:spPr>
      </p:pic>
      <p:pic>
        <p:nvPicPr>
          <p:cNvPr id="159" name="Содержимое 3" descr="рак2.jpg"/>
          <p:cNvPicPr/>
          <p:nvPr/>
        </p:nvPicPr>
        <p:blipFill>
          <a:blip r:embed="rId2"/>
          <a:stretch/>
        </p:blipFill>
        <p:spPr>
          <a:xfrm>
            <a:off x="4724280" y="1981080"/>
            <a:ext cx="3759480" cy="3353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"/>
          <p:cNvPicPr/>
          <p:nvPr/>
        </p:nvPicPr>
        <p:blipFill>
          <a:blip r:embed="rId3"/>
          <a:stretch/>
        </p:blipFill>
        <p:spPr>
          <a:xfrm>
            <a:off x="7696080" y="4876920"/>
            <a:ext cx="1297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ыбке рак — ни друг, ни враг.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ыбке вряд ли страшен рак.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ыбке страшен червячок.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Что насажен на крючок</a:t>
            </a:r>
            <a:br>
              <a:rPr sz="1600"/>
            </a:b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2" name="Содержимое 10" descr="рыбка.jpg"/>
          <p:cNvPicPr/>
          <p:nvPr/>
        </p:nvPicPr>
        <p:blipFill>
          <a:blip r:embed="rId1"/>
          <a:stretch/>
        </p:blipFill>
        <p:spPr>
          <a:xfrm>
            <a:off x="1371600" y="1523880"/>
            <a:ext cx="6477120" cy="48736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2"/>
          <p:cNvSpPr/>
          <p:nvPr/>
        </p:nvSpPr>
        <p:spPr>
          <a:xfrm>
            <a:off x="257040" y="-2400480"/>
            <a:ext cx="6658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257040" y="-2400480"/>
            <a:ext cx="6658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257040" y="-2400480"/>
            <a:ext cx="6658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257040" y="-2400480"/>
            <a:ext cx="6658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257040" y="-2400480"/>
            <a:ext cx="6658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257040" y="-2400480"/>
            <a:ext cx="6658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7543800" y="4876920"/>
            <a:ext cx="1297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дворе стоит гор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катаемся с утр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еговик – бедняжка зли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е может прокатиться.</a:t>
            </a:r>
            <a:br>
              <a:rPr sz="1800"/>
            </a:b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1" name="Содержимое 3" descr="снеговик.jpg"/>
          <p:cNvPicPr/>
          <p:nvPr/>
        </p:nvPicPr>
        <p:blipFill>
          <a:blip r:embed="rId1"/>
          <a:stretch/>
        </p:blipFill>
        <p:spPr>
          <a:xfrm>
            <a:off x="3505320" y="1752480"/>
            <a:ext cx="5335560" cy="3810240"/>
          </a:xfrm>
          <a:prstGeom prst="rect">
            <a:avLst/>
          </a:prstGeom>
          <a:ln w="0">
            <a:noFill/>
          </a:ln>
        </p:spPr>
      </p:pic>
      <p:pic>
        <p:nvPicPr>
          <p:cNvPr id="172" name="Содержимое 6" descr="с.jpg"/>
          <p:cNvPicPr/>
          <p:nvPr/>
        </p:nvPicPr>
        <p:blipFill>
          <a:blip r:embed="rId2"/>
          <a:stretch/>
        </p:blipFill>
        <p:spPr>
          <a:xfrm>
            <a:off x="457200" y="1676520"/>
            <a:ext cx="3124080" cy="4200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3"/>
          <a:stretch/>
        </p:blipFill>
        <p:spPr>
          <a:xfrm>
            <a:off x="228600" y="0"/>
            <a:ext cx="1297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арким летом по горам в шубе бегает…</a:t>
            </a:r>
            <a:br>
              <a:rPr sz="2400"/>
            </a:b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5" name="Содержимое 9" descr="баран.png"/>
          <p:cNvPicPr/>
          <p:nvPr/>
        </p:nvPicPr>
        <p:blipFill>
          <a:blip r:embed="rId1"/>
          <a:stretch/>
        </p:blipFill>
        <p:spPr>
          <a:xfrm>
            <a:off x="2362320" y="1371600"/>
            <a:ext cx="4081320" cy="4200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2"/>
          <a:stretch/>
        </p:blipFill>
        <p:spPr>
          <a:xfrm>
            <a:off x="7086600" y="4505400"/>
            <a:ext cx="1297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>www.themegallery.com</dc:creator>
  <dc:description/>
  <dc:language>en-US</dc:language>
  <cp:lastModifiedBy>KABINET</cp:lastModifiedBy>
  <dcterms:modified xsi:type="dcterms:W3CDTF">2015-03-17T07:07:09Z</dcterms:modified>
  <cp:revision>63</cp:revision>
  <dc:subject/>
  <dc:title>ThemeGallery PowerTemplate</dc:title>
</cp:coreProperties>
</file>