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216-8FA2-434C-B29D-09B6347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916-8EA0-405E-A0E6-0ED11C5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0F4-7B81-4C27-A246-9F0FFE38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DAD-A6FB-4154-AACC-6DA96A3A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D9C-0CEE-4FB9-878C-9BD7307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353-0283-420F-8B70-4EB62C00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11F-C47E-4E12-A70F-89BE7A9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91D6-DE17-4F2D-8FC3-A85DC84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DE63-0226-4CC4-BE4D-48BE9E89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00F-9802-4DD7-B116-2429FE78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9E89-E745-400F-B050-4E5E064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2E6-1035-4BCF-9414-B57E9C31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84AE-7667-46E2-89FA-E3E41C2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6DB5-C559-4C6F-BF51-A3C1650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2C6B-1690-4606-A405-23F67EA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905C-9413-4B0C-B533-007F3BD5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3E1-A852-4CA4-B5D4-3356BAE1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9CC-64CF-4D24-93A3-0B81E79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544-8A5F-4D29-BD46-DDA09BC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54D-BA8C-4396-A807-0506455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73D-234E-4C39-BC47-72E2C604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EF8-A5C7-4886-8084-A8D5D4F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2E5-07E4-4901-A12A-11E443F3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922-77B8-44B6-BBD2-591E253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B58F-7020-4CFD-9F5E-671A624F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78E-BCDD-4F89-8B10-3B29020BF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838080"/>
            <a:ext cx="82296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тизац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звук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 стихотворных текстах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Речевой материал в картинках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666880" y="4571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дготовила 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Чижова Ири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990720" y="4038480"/>
            <a:ext cx="20872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ак бы мне пошла кор-рона!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ордо каркает…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8" name="Содержимое 3" descr="ворона.jpg"/>
          <p:cNvPicPr/>
          <p:nvPr/>
        </p:nvPicPr>
        <p:blipFill>
          <a:blip r:embed="rId1"/>
          <a:stretch/>
        </p:blipFill>
        <p:spPr>
          <a:xfrm>
            <a:off x="990720" y="1393920"/>
            <a:ext cx="6267240" cy="503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ёрный, проворный, кричит «Кр - рак» - червякам враг…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1" name="Содержимое 3" descr="гоач.jpg"/>
          <p:cNvPicPr/>
          <p:nvPr/>
        </p:nvPicPr>
        <p:blipFill>
          <a:blip r:embed="rId1"/>
          <a:stretch/>
        </p:blipFill>
        <p:spPr>
          <a:xfrm>
            <a:off x="990720" y="1828800"/>
            <a:ext cx="712296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2"/>
          <a:stretch/>
        </p:blipFill>
        <p:spPr>
          <a:xfrm>
            <a:off x="7543800" y="480060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во двор забрался кро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ет землю у воро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нна в рот земли войдё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т раскроет рот.</a:t>
            </a:r>
            <a:br>
              <a:rPr sz="1800"/>
            </a:br>
            <a:r>
              <a:rPr b="1" i="1" lang="ru-RU" sz="1100" spc="-1" strike="noStrike">
                <a:solidFill>
                  <a:srgbClr val="0000ff"/>
                </a:solidFill>
                <a:latin typeface="Arial"/>
              </a:rPr>
              <a:t>(Экскаватор)</a:t>
            </a:r>
            <a:br>
              <a:rPr sz="1800"/>
            </a:br>
            <a:endParaRPr b="1" lang="en-US" sz="11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4" name="Содержимое 3" descr="экскав.jpg"/>
          <p:cNvPicPr/>
          <p:nvPr/>
        </p:nvPicPr>
        <p:blipFill>
          <a:blip r:embed="rId1"/>
          <a:stretch/>
        </p:blipFill>
        <p:spPr>
          <a:xfrm>
            <a:off x="2666880" y="1909800"/>
            <a:ext cx="4953240" cy="422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1063800" y="50292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26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за работу.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5236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1295280" y="449568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1295280" y="450360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90" name="Picture 17" descr="090"/>
          <p:cNvPicPr/>
          <p:nvPr/>
        </p:nvPicPr>
        <p:blipFill>
          <a:blip r:embed="rId1"/>
          <a:stretch/>
        </p:blipFill>
        <p:spPr>
          <a:xfrm>
            <a:off x="457200" y="213372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ель: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репить правильное  произношение звук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в  связной речи.</a:t>
            </a:r>
            <a:br>
              <a:rPr sz="20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егодня к нам на занятие пришёл Петрушка. Он будет слушать и смотреть, как ты будешь заним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2"/>
          <a:stretch/>
        </p:blipFill>
        <p:spPr>
          <a:xfrm>
            <a:off x="4862520" y="914400"/>
            <a:ext cx="35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сорог бодает рогом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шутите с носорогом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086600" cy="480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2"/>
          <a:stretch/>
        </p:blipFill>
        <p:spPr>
          <a:xfrm>
            <a:off x="128520" y="472428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сит мама- кенгуру в тёплой сумке детвору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ребятки – кенгурятки целый день играют в прятки.</a:t>
            </a:r>
            <a:br>
              <a:rPr sz="36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4876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533520" y="1198440"/>
            <a:ext cx="7543800" cy="459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296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оет землю серый крот, разоряет огород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ли – были раки, раки – забияки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ли раки шумно, затевали драки.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Содержимое 3" descr="рак.jpg"/>
          <p:cNvPicPr/>
          <p:nvPr/>
        </p:nvPicPr>
        <p:blipFill>
          <a:blip r:embed="rId1"/>
          <a:stretch/>
        </p:blipFill>
        <p:spPr>
          <a:xfrm>
            <a:off x="457200" y="1981080"/>
            <a:ext cx="428148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рак2.jpg"/>
          <p:cNvPicPr/>
          <p:nvPr/>
        </p:nvPicPr>
        <p:blipFill>
          <a:blip r:embed="rId2"/>
          <a:stretch/>
        </p:blipFill>
        <p:spPr>
          <a:xfrm>
            <a:off x="4724280" y="1981080"/>
            <a:ext cx="3759480" cy="335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3"/>
          <a:stretch/>
        </p:blipFill>
        <p:spPr>
          <a:xfrm>
            <a:off x="769608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рак — ни друг, ни враг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вряд ли страшен рак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ыбке страшен червячок.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то насажен на крючок</a:t>
            </a:r>
            <a:br>
              <a:rPr sz="1600"/>
            </a:b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2" name="Содержимое 10" descr="рыбка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73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257040" y="-2400480"/>
            <a:ext cx="66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7543800" y="487692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дворе стоит го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катаемся с ут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еговик – бедняжка зл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 может прокатиться.</a:t>
            </a:r>
            <a:br>
              <a:rPr sz="1800"/>
            </a:b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" name="Содержимое 3" descr="снеговик.jpg"/>
          <p:cNvPicPr/>
          <p:nvPr/>
        </p:nvPicPr>
        <p:blipFill>
          <a:blip r:embed="rId1"/>
          <a:stretch/>
        </p:blipFill>
        <p:spPr>
          <a:xfrm>
            <a:off x="3505320" y="1752480"/>
            <a:ext cx="5335560" cy="38102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6" descr="с.jpg"/>
          <p:cNvPicPr/>
          <p:nvPr/>
        </p:nvPicPr>
        <p:blipFill>
          <a:blip r:embed="rId2"/>
          <a:stretch/>
        </p:blipFill>
        <p:spPr>
          <a:xfrm>
            <a:off x="457200" y="1676520"/>
            <a:ext cx="3124080" cy="4200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3"/>
          <a:stretch/>
        </p:blipFill>
        <p:spPr>
          <a:xfrm>
            <a:off x="228600" y="0"/>
            <a:ext cx="1297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рким летом по горам в шубе бегает…</a:t>
            </a:r>
            <a:br>
              <a:rPr sz="2400"/>
            </a:b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5" name="Содержимое 9" descr="баран.png"/>
          <p:cNvPicPr/>
          <p:nvPr/>
        </p:nvPicPr>
        <p:blipFill>
          <a:blip r:embed="rId1"/>
          <a:stretch/>
        </p:blipFill>
        <p:spPr>
          <a:xfrm>
            <a:off x="2362320" y="1371600"/>
            <a:ext cx="4081320" cy="4200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7086600" y="4505400"/>
            <a:ext cx="1297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KABINET</cp:lastModifiedBy>
  <dcterms:modified xsi:type="dcterms:W3CDTF">2015-03-17T07:07:09Z</dcterms:modified>
  <cp:revision>63</cp:revision>
  <dc:subject/>
  <dc:title>ThemeGallery PowerTemplate</dc:title>
</cp:coreProperties>
</file>