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1F08-1133-4147-8F35-FD11335CF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0E3-68BB-4FC5-923D-D3791F9C1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D9C-C549-4C05-ABB3-6DBD8E839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9C0-F290-408D-8E33-58CE7253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534-A633-4260-9206-A8EBDC1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AAD-FD4C-40D8-A11C-2DFEE0B4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07A-BBDB-425F-8216-0FC27215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BE2-D028-4635-ADDC-84F3EC7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384-B999-4138-95E7-4ABF57E5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935-DE3E-4304-B996-1CBF0955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34F-4063-4318-95A9-6FDA1B1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714-27B4-4AB5-8EED-AE41C0C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9E7-1F41-45AB-9A3B-FA25A1E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D9B-D207-4047-AB28-2CCBBDC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D77-B503-4402-A051-DD66786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8F3-2822-464A-9F61-7B35815B8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obr3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622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Былинные геро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Древней Руси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авила  честного  поеди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)Существовал запрет  н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итростей и  случайных преимущест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)Нельзя наносить удар в    спин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ажнейшая добродетель воинск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ужины – верность. Это верност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сяге,   клятве, слову, данному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варищам по    оруж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4" descr="byliny-02"/>
          <p:cNvPicPr/>
          <p:nvPr/>
        </p:nvPicPr>
        <p:blipFill>
          <a:blip r:embed="rId1"/>
          <a:stretch/>
        </p:blipFill>
        <p:spPr>
          <a:xfrm flipH="1" rot="21288600">
            <a:off x="279000" y="2931840"/>
            <a:ext cx="26146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УССКИЕ   БОГАТЫРИ!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перевелись ещё богатыри на  земле  русской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Рисунок 3" descr="Karelin-4.jpg"/>
          <p:cNvPicPr/>
          <p:nvPr/>
        </p:nvPicPr>
        <p:blipFill>
          <a:blip r:embed="rId1"/>
          <a:stretch/>
        </p:blipFill>
        <p:spPr>
          <a:xfrm>
            <a:off x="7162920" y="2286000"/>
            <a:ext cx="180972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Khadartsev.jpg"/>
          <p:cNvPicPr/>
          <p:nvPr/>
        </p:nvPicPr>
        <p:blipFill>
          <a:blip r:embed="rId2"/>
          <a:stretch/>
        </p:blipFill>
        <p:spPr>
          <a:xfrm>
            <a:off x="5105520" y="1371600"/>
            <a:ext cx="1904760" cy="2095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poddub01.jpg"/>
          <p:cNvPicPr/>
          <p:nvPr/>
        </p:nvPicPr>
        <p:blipFill>
          <a:blip r:embed="rId3"/>
          <a:stretch/>
        </p:blipFill>
        <p:spPr>
          <a:xfrm>
            <a:off x="228600" y="2209680"/>
            <a:ext cx="2209680" cy="2863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Mazur-Antons.jpg"/>
          <p:cNvPicPr/>
          <p:nvPr/>
        </p:nvPicPr>
        <p:blipFill>
          <a:blip r:embed="rId4"/>
          <a:stretch/>
        </p:blipFill>
        <p:spPr>
          <a:xfrm>
            <a:off x="2819520" y="1371600"/>
            <a:ext cx="1904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 Выбери, что тебе интересн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подготовь рассказ на тему «Нравственный образец богатыря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арисуй картинку о подвиге богатыря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альбомном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ист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Picture 4" descr="ft_big9"/>
          <p:cNvPicPr/>
          <p:nvPr/>
        </p:nvPicPr>
        <p:blipFill>
          <a:blip r:embed="rId1"/>
          <a:stretch/>
        </p:blipFill>
        <p:spPr>
          <a:xfrm>
            <a:off x="7162920" y="4343400"/>
            <a:ext cx="15746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ft_big1"/>
          <p:cNvPicPr/>
          <p:nvPr/>
        </p:nvPicPr>
        <p:blipFill>
          <a:blip r:embed="rId2"/>
          <a:stretch/>
        </p:blipFill>
        <p:spPr>
          <a:xfrm>
            <a:off x="380880" y="4495680"/>
            <a:ext cx="154008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lya"/>
          <p:cNvPicPr/>
          <p:nvPr/>
        </p:nvPicPr>
        <p:blipFill>
          <a:blip r:embed="rId3"/>
          <a:stretch/>
        </p:blipFill>
        <p:spPr>
          <a:xfrm>
            <a:off x="3581280" y="4419720"/>
            <a:ext cx="180684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j0288928"/>
          <p:cNvPicPr/>
          <p:nvPr/>
        </p:nvPicPr>
        <p:blipFill>
          <a:blip r:embed="rId4"/>
          <a:stretch/>
        </p:blipFill>
        <p:spPr>
          <a:xfrm>
            <a:off x="838080" y="3049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obr3[1]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за работу на уроке всем ученикам 4-а класса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760" y="761760"/>
            <a:ext cx="75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Былины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830592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rebuchet MS"/>
              </a:rPr>
              <a:t>     </a:t>
            </a:r>
            <a:r>
              <a:rPr b="0" lang="ru-RU" sz="3200" spc="-1" strike="noStrike">
                <a:solidFill>
                  <a:srgbClr val="996633"/>
                </a:solidFill>
                <a:latin typeface="Trebuchet MS"/>
              </a:rPr>
              <a:t>«Былина – рассказ о том, что было, что случилось, рассказ невымышленный и правдивый.»                  В.И. Дал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Picture 5" descr="{D2413E99-69FC-4601-B0E3-A080E1F7808E}"/>
          <p:cNvPicPr/>
          <p:nvPr/>
        </p:nvPicPr>
        <p:blipFill>
          <a:blip r:embed="rId1"/>
          <a:stretch/>
        </p:blipFill>
        <p:spPr>
          <a:xfrm>
            <a:off x="457200" y="1219320"/>
            <a:ext cx="365760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{1A2C6C4D-2AD0-415B-89A6-FF4669794BCF}"/>
          <p:cNvPicPr/>
          <p:nvPr/>
        </p:nvPicPr>
        <p:blipFill>
          <a:blip r:embed="rId2"/>
          <a:stretch/>
        </p:blipFill>
        <p:spPr>
          <a:xfrm>
            <a:off x="5105520" y="1295280"/>
            <a:ext cx="365760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7080" y="30492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А и сильные, могучие богатыри на Славной Рус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373356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Picture 6" descr="vasnecov_24"/>
          <p:cNvPicPr/>
          <p:nvPr/>
        </p:nvPicPr>
        <p:blipFill>
          <a:blip r:embed="rId1"/>
          <a:stretch/>
        </p:blipFill>
        <p:spPr>
          <a:xfrm>
            <a:off x="609480" y="380880"/>
            <a:ext cx="3886200" cy="30448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8" name="Rectangle 10"/>
          <p:cNvSpPr/>
          <p:nvPr/>
        </p:nvSpPr>
        <p:spPr>
          <a:xfrm>
            <a:off x="152280" y="380988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какать врагам по н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птать их коням земл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у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затмить им солнце наш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стоит Русь – не шатает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ека простоит, не шелохн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dobr1"/>
          <p:cNvPicPr/>
          <p:nvPr/>
        </p:nvPicPr>
        <p:blipFill>
          <a:blip r:embed="rId2"/>
          <a:stretch/>
        </p:blipFill>
        <p:spPr>
          <a:xfrm>
            <a:off x="5410080" y="3429000"/>
            <a:ext cx="35053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ужно встали – раз, два,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ри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ы теперь богатыр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ы ладонь к глазам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став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ги крепкие расстав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орачиваясь вправ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глядимся велич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лево надо тож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глядеть из-под ладо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право, и ещ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рез левое плеч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уквой Л расставим ног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чно в танце – руки в бо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клонились влево, вправо Получается на славу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Picture 16" descr="Ilya_Muromets_I_Solovey_Razboynik"/>
          <p:cNvPicPr/>
          <p:nvPr/>
        </p:nvPicPr>
        <p:blipFill>
          <a:blip r:embed="rId1"/>
          <a:srcRect l="62997" t="0" r="0" b="0"/>
          <a:stretch/>
        </p:blipFill>
        <p:spPr>
          <a:xfrm>
            <a:off x="5545080" y="1143000"/>
            <a:ext cx="3079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ружно встали – раз, два,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и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ы теперь богаты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ы ладонь к глазам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истав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ги крепкие расстави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ворачиваясь впра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глядимся велича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лево надо тож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глядеть из-под ладош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право, и ещ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ерез левое плеч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уквой Л расставим ног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чно в танце – руки в бо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клонились влево, вправо Получается на славу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Picture 4" descr="Ilya_Muromets_I_Solovey_Razboynik"/>
          <p:cNvPicPr/>
          <p:nvPr/>
        </p:nvPicPr>
        <p:blipFill>
          <a:blip r:embed="rId1"/>
          <a:srcRect l="62997" t="0" r="0" b="0"/>
          <a:stretch/>
        </p:blipFill>
        <p:spPr>
          <a:xfrm>
            <a:off x="6095880" y="1676520"/>
            <a:ext cx="2495520" cy="422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MMj02347270000[1]"/>
          <p:cNvPicPr/>
          <p:nvPr/>
        </p:nvPicPr>
        <p:blipFill>
          <a:blip r:embed="rId2"/>
          <a:stretch/>
        </p:blipFill>
        <p:spPr>
          <a:xfrm>
            <a:off x="685800" y="342900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55736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Mj02347270000[1]"/>
          <p:cNvPicPr/>
          <p:nvPr/>
        </p:nvPicPr>
        <p:blipFill>
          <a:blip r:embed="rId4"/>
          <a:stretch/>
        </p:blipFill>
        <p:spPr>
          <a:xfrm>
            <a:off x="3809880" y="350532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Mj02347270000[1]"/>
          <p:cNvPicPr/>
          <p:nvPr/>
        </p:nvPicPr>
        <p:blipFill>
          <a:blip r:embed="rId5"/>
          <a:stretch/>
        </p:blipFill>
        <p:spPr>
          <a:xfrm>
            <a:off x="6553080" y="3429000"/>
            <a:ext cx="1057320" cy="1152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33520" y="2590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33920" y="2590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477120" y="2666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иктор Михайлович Васнецов «Богатыри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5" descr="{8C84BEC3-9FF6-11D7-A6D4-8B1BE8B97504}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А жили ли на самом деле эти богатыри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ена русских богатырей встречаются в древних летописях. В Киево- Печерской лавре есть гробница Ильи Муромца. За свои подвиги он причислен к лику святых, в Муроме ему установлен памятни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лёшей Поповичем мог быть ростовский воин Александр Попович, сын попа, который погиб в битве на реке Калке, где русские потерпели от татар поражени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брыня Никитич был родным дядей князя Владимира, братом его матери. Вместе с ним Добрыня поехал в Новгород и много лет правил там от имени Владимира. А когда выросший Владимир сел на Киевский престол, он оставил Добрыню Никитича новгородским посадник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8" name="Picture 5" descr="02"/>
          <p:cNvPicPr/>
          <p:nvPr/>
        </p:nvPicPr>
        <p:blipFill>
          <a:blip r:embed="rId1"/>
          <a:stretch/>
        </p:blipFill>
        <p:spPr>
          <a:xfrm>
            <a:off x="304920" y="1066680"/>
            <a:ext cx="2155680" cy="296892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79" name="Picture 7" descr="pkr-6091"/>
          <p:cNvPicPr/>
          <p:nvPr/>
        </p:nvPicPr>
        <p:blipFill>
          <a:blip r:embed="rId2"/>
          <a:stretch/>
        </p:blipFill>
        <p:spPr>
          <a:xfrm>
            <a:off x="769608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10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к зовут этих богатырей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3" descr="ft_big1"/>
          <p:cNvPicPr/>
          <p:nvPr/>
        </p:nvPicPr>
        <p:blipFill>
          <a:blip r:embed="rId1"/>
          <a:stretch/>
        </p:blipFill>
        <p:spPr>
          <a:xfrm>
            <a:off x="152280" y="990720"/>
            <a:ext cx="1963800" cy="28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ilya"/>
          <p:cNvPicPr/>
          <p:nvPr/>
        </p:nvPicPr>
        <p:blipFill>
          <a:blip r:embed="rId2"/>
          <a:stretch/>
        </p:blipFill>
        <p:spPr>
          <a:xfrm>
            <a:off x="380880" y="4343400"/>
            <a:ext cx="186696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alesha"/>
          <p:cNvPicPr/>
          <p:nvPr/>
        </p:nvPicPr>
        <p:blipFill>
          <a:blip r:embed="rId3"/>
          <a:stretch/>
        </p:blipFill>
        <p:spPr>
          <a:xfrm>
            <a:off x="7391520" y="3886200"/>
            <a:ext cx="1317600" cy="268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50px-IlyaMuromec1"/>
          <p:cNvPicPr/>
          <p:nvPr/>
        </p:nvPicPr>
        <p:blipFill>
          <a:blip r:embed="rId4"/>
          <a:stretch/>
        </p:blipFill>
        <p:spPr>
          <a:xfrm>
            <a:off x="6934320" y="990720"/>
            <a:ext cx="1987560" cy="2209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286000" y="1066680"/>
            <a:ext cx="4343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ыня Никит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я Муром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о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ёша Поп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209680" y="20574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V="1">
            <a:off x="1600200" y="1905120"/>
            <a:ext cx="19810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2971800" y="31240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 flipV="1">
            <a:off x="5562360" y="2666520"/>
            <a:ext cx="2057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 flipH="1" flipV="1">
            <a:off x="5638680" y="1294920"/>
            <a:ext cx="1905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авила  честного  поеди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Противники договаривалис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 месте и времени поедин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Если один противник был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оружён хуже другого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едовало его довооружит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биться на равн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Рисунок 3" descr="поединок  2.jpg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ремина О. Н. </dc:creator>
  <dc:description/>
  <dc:language>en-US</dc:language>
  <cp:lastModifiedBy>user</cp:lastModifiedBy>
  <dcterms:modified xsi:type="dcterms:W3CDTF">2012-12-05T14:18:39Z</dcterms:modified>
  <cp:revision>21</cp:revision>
  <dc:subject>Былинные богатыри Древней Руси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