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B7A7-98E6-4291-B056-B2A33C23F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323B-66D7-4CF8-AC9A-08F97C4BD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795-B639-4835-BADF-EC9732ADF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2D4-A0F2-4E1F-82A5-6F0CA2B6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DF3-1282-442F-AF4F-C69B9FAE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760-596A-4FF1-BB8F-D4F1DD13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E84-215A-41E3-A970-2F81597A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BB6-1014-476D-BC9B-B9C8EB85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DED-B99D-44CB-89C2-DBC88AB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590-D791-4275-95CC-6B70F7C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8DA-6824-4749-8FE9-D3E06EF1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61E-02C2-480D-9807-6B389550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986-5832-4AFA-8101-CA299E5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6E-DF67-4FE6-A95D-19BBA44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6F7-5BC6-4133-BB64-E9929BC9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563-1F8D-4A8E-B2C0-12B25F90A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obr3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622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Былинные геро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Древней Руси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авила  честного  поеди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)Существовал запрет  н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итростей и  случайных преимущест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4)Нельзя наносить удар в    спин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ажнейшая добродетель воинск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ужины – верность. Это верност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сяге,   клятве, слову, данному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варищам по    оруж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4" descr="byliny-02"/>
          <p:cNvPicPr/>
          <p:nvPr/>
        </p:nvPicPr>
        <p:blipFill>
          <a:blip r:embed="rId1"/>
          <a:stretch/>
        </p:blipFill>
        <p:spPr>
          <a:xfrm flipH="1" rot="21288600">
            <a:off x="279000" y="2931840"/>
            <a:ext cx="26146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УССКИЕ   БОГАТЫРИ!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 перевелись ещё богатыри на  земле  русской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Рисунок 3" descr="Karelin-4.jpg"/>
          <p:cNvPicPr/>
          <p:nvPr/>
        </p:nvPicPr>
        <p:blipFill>
          <a:blip r:embed="rId1"/>
          <a:stretch/>
        </p:blipFill>
        <p:spPr>
          <a:xfrm>
            <a:off x="7162920" y="2286000"/>
            <a:ext cx="180972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Khadartsev.jpg"/>
          <p:cNvPicPr/>
          <p:nvPr/>
        </p:nvPicPr>
        <p:blipFill>
          <a:blip r:embed="rId2"/>
          <a:stretch/>
        </p:blipFill>
        <p:spPr>
          <a:xfrm>
            <a:off x="5105520" y="1371600"/>
            <a:ext cx="1904760" cy="2095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poddub01.jpg"/>
          <p:cNvPicPr/>
          <p:nvPr/>
        </p:nvPicPr>
        <p:blipFill>
          <a:blip r:embed="rId3"/>
          <a:stretch/>
        </p:blipFill>
        <p:spPr>
          <a:xfrm>
            <a:off x="228600" y="2209680"/>
            <a:ext cx="2209680" cy="2863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Mazur-Antons.jpg"/>
          <p:cNvPicPr/>
          <p:nvPr/>
        </p:nvPicPr>
        <p:blipFill>
          <a:blip r:embed="rId4"/>
          <a:stretch/>
        </p:blipFill>
        <p:spPr>
          <a:xfrm>
            <a:off x="2819520" y="1371600"/>
            <a:ext cx="1904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Задание на дом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 Выбери, что тебе интересн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подготовь рассказ на тему «Нравственный образец богатыря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нарисуй картинку о подвиге богатыря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 альбомном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лист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Picture 4" descr="ft_big9"/>
          <p:cNvPicPr/>
          <p:nvPr/>
        </p:nvPicPr>
        <p:blipFill>
          <a:blip r:embed="rId1"/>
          <a:stretch/>
        </p:blipFill>
        <p:spPr>
          <a:xfrm>
            <a:off x="7162920" y="4343400"/>
            <a:ext cx="15746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ft_big1"/>
          <p:cNvPicPr/>
          <p:nvPr/>
        </p:nvPicPr>
        <p:blipFill>
          <a:blip r:embed="rId2"/>
          <a:stretch/>
        </p:blipFill>
        <p:spPr>
          <a:xfrm>
            <a:off x="380880" y="4495680"/>
            <a:ext cx="154008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lya"/>
          <p:cNvPicPr/>
          <p:nvPr/>
        </p:nvPicPr>
        <p:blipFill>
          <a:blip r:embed="rId3"/>
          <a:stretch/>
        </p:blipFill>
        <p:spPr>
          <a:xfrm>
            <a:off x="3581280" y="4419720"/>
            <a:ext cx="180684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j0288928"/>
          <p:cNvPicPr/>
          <p:nvPr/>
        </p:nvPicPr>
        <p:blipFill>
          <a:blip r:embed="rId4"/>
          <a:stretch/>
        </p:blipFill>
        <p:spPr>
          <a:xfrm>
            <a:off x="838080" y="3049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obr3[1]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за работу на уроке всем ученикам 4-а класса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760" y="761760"/>
            <a:ext cx="75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Былины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830592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rebuchet MS"/>
              </a:rPr>
              <a:t>     </a:t>
            </a:r>
            <a:r>
              <a:rPr b="0" lang="ru-RU" sz="3200" spc="-1" strike="noStrike">
                <a:solidFill>
                  <a:srgbClr val="996633"/>
                </a:solidFill>
                <a:latin typeface="Trebuchet MS"/>
              </a:rPr>
              <a:t>«Былина – рассказ о том, что было, что случилось, рассказ невымышленный и правдивый.»                  В.И. Дал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Picture 5" descr="{D2413E99-69FC-4601-B0E3-A080E1F7808E}"/>
          <p:cNvPicPr/>
          <p:nvPr/>
        </p:nvPicPr>
        <p:blipFill>
          <a:blip r:embed="rId1"/>
          <a:stretch/>
        </p:blipFill>
        <p:spPr>
          <a:xfrm>
            <a:off x="457200" y="1219320"/>
            <a:ext cx="3657600" cy="357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{1A2C6C4D-2AD0-415B-89A6-FF4669794BCF}"/>
          <p:cNvPicPr/>
          <p:nvPr/>
        </p:nvPicPr>
        <p:blipFill>
          <a:blip r:embed="rId2"/>
          <a:stretch/>
        </p:blipFill>
        <p:spPr>
          <a:xfrm>
            <a:off x="5105520" y="1295280"/>
            <a:ext cx="365760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7080" y="30492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А и сильные, могучие богатыри на Славной Рус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3733560"/>
            <a:ext cx="518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Picture 6" descr="vasnecov_24"/>
          <p:cNvPicPr/>
          <p:nvPr/>
        </p:nvPicPr>
        <p:blipFill>
          <a:blip r:embed="rId1"/>
          <a:stretch/>
        </p:blipFill>
        <p:spPr>
          <a:xfrm>
            <a:off x="609480" y="380880"/>
            <a:ext cx="3886200" cy="30448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8" name="Rectangle 10"/>
          <p:cNvSpPr/>
          <p:nvPr/>
        </p:nvSpPr>
        <p:spPr>
          <a:xfrm>
            <a:off x="152280" y="380988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какать врагам по н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птать их коням земл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у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затмить им солнце наш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стоит Русь – не шатает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ека простоит, не шелохн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dobr1"/>
          <p:cNvPicPr/>
          <p:nvPr/>
        </p:nvPicPr>
        <p:blipFill>
          <a:blip r:embed="rId2"/>
          <a:stretch/>
        </p:blipFill>
        <p:spPr>
          <a:xfrm>
            <a:off x="5410080" y="3429000"/>
            <a:ext cx="35053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ужно встали – раз, два,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ри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ы теперь богатыр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ы ладонь к глазам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стави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ги крепкие расстав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орачиваясь вправ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глядимся велич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лево надо тож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глядеть из-под ладо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право, и ещ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ерез левое плеч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уквой Л расставим ног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чно в танце – руки в бо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клонились влево, вправо Получается на славу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Picture 16" descr="Ilya_Muromets_I_Solovey_Razboynik"/>
          <p:cNvPicPr/>
          <p:nvPr/>
        </p:nvPicPr>
        <p:blipFill>
          <a:blip r:embed="rId1"/>
          <a:srcRect l="62997" t="0" r="0" b="0"/>
          <a:stretch/>
        </p:blipFill>
        <p:spPr>
          <a:xfrm>
            <a:off x="5545080" y="1143000"/>
            <a:ext cx="3079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ружно встали – раз, два,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и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ы теперь богатыр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ы ладонь к глазам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истав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ги крепкие расстави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ворачиваясь впра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глядимся велича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лево надо тож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глядеть из-под ладошек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право, и ещ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ерез левое плеч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уквой Л расставим ног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чно в танце – руки в бо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клонились влево, вправо Получается на славу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Picture 4" descr="Ilya_Muromets_I_Solovey_Razboynik"/>
          <p:cNvPicPr/>
          <p:nvPr/>
        </p:nvPicPr>
        <p:blipFill>
          <a:blip r:embed="rId1"/>
          <a:srcRect l="62997" t="0" r="0" b="0"/>
          <a:stretch/>
        </p:blipFill>
        <p:spPr>
          <a:xfrm>
            <a:off x="6095880" y="1676520"/>
            <a:ext cx="2495520" cy="422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MMj02347270000[1]"/>
          <p:cNvPicPr/>
          <p:nvPr/>
        </p:nvPicPr>
        <p:blipFill>
          <a:blip r:embed="rId2"/>
          <a:stretch/>
        </p:blipFill>
        <p:spPr>
          <a:xfrm>
            <a:off x="685800" y="342900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55736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Mj02347270000[1]"/>
          <p:cNvPicPr/>
          <p:nvPr/>
        </p:nvPicPr>
        <p:blipFill>
          <a:blip r:embed="rId4"/>
          <a:stretch/>
        </p:blipFill>
        <p:spPr>
          <a:xfrm>
            <a:off x="3809880" y="350532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Mj02347270000[1]"/>
          <p:cNvPicPr/>
          <p:nvPr/>
        </p:nvPicPr>
        <p:blipFill>
          <a:blip r:embed="rId5"/>
          <a:stretch/>
        </p:blipFill>
        <p:spPr>
          <a:xfrm>
            <a:off x="6553080" y="3429000"/>
            <a:ext cx="1057320" cy="1152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533520" y="2590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33920" y="2590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477120" y="2666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иктор Михайлович Васнецов «Богатыри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5" descr="{8C84BEC3-9FF6-11D7-A6D4-8B1BE8B97504}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А жили ли на самом деле эти богатыри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мена русских богатырей встречаются в древних летописях. В Киево- Печерской лавре есть гробница Ильи Муромца. За свои подвиги он причислен к лику святых, в Муроме ему установлен памятни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лёшей Поповичем мог быть ростовский воин Александр Попович, сын попа, который погиб в битве на реке Калке, где русские потерпели от татар поражение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брыня Никитич был родным дядей князя Владимира, братом его матери. Вместе с ним Добрыня поехал в Новгород и много лет правил там от имени Владимира. А когда выросший Владимир сел на Киевский престол, он оставил Добрыню Никитича новгородским посадник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8" name="Picture 5" descr="02"/>
          <p:cNvPicPr/>
          <p:nvPr/>
        </p:nvPicPr>
        <p:blipFill>
          <a:blip r:embed="rId1"/>
          <a:stretch/>
        </p:blipFill>
        <p:spPr>
          <a:xfrm>
            <a:off x="304920" y="1066680"/>
            <a:ext cx="2155680" cy="296892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pic>
        <p:nvPicPr>
          <p:cNvPr id="79" name="Picture 7" descr="pkr-6091"/>
          <p:cNvPicPr/>
          <p:nvPr/>
        </p:nvPicPr>
        <p:blipFill>
          <a:blip r:embed="rId2"/>
          <a:stretch/>
        </p:blipFill>
        <p:spPr>
          <a:xfrm>
            <a:off x="769608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10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к зовут этих богатырей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1" name="Picture 3" descr="ft_big1"/>
          <p:cNvPicPr/>
          <p:nvPr/>
        </p:nvPicPr>
        <p:blipFill>
          <a:blip r:embed="rId1"/>
          <a:stretch/>
        </p:blipFill>
        <p:spPr>
          <a:xfrm>
            <a:off x="152280" y="990720"/>
            <a:ext cx="1963800" cy="28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ilya"/>
          <p:cNvPicPr/>
          <p:nvPr/>
        </p:nvPicPr>
        <p:blipFill>
          <a:blip r:embed="rId2"/>
          <a:stretch/>
        </p:blipFill>
        <p:spPr>
          <a:xfrm>
            <a:off x="380880" y="4343400"/>
            <a:ext cx="186696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alesha"/>
          <p:cNvPicPr/>
          <p:nvPr/>
        </p:nvPicPr>
        <p:blipFill>
          <a:blip r:embed="rId3"/>
          <a:stretch/>
        </p:blipFill>
        <p:spPr>
          <a:xfrm>
            <a:off x="7391520" y="3886200"/>
            <a:ext cx="1317600" cy="268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50px-IlyaMuromec1"/>
          <p:cNvPicPr/>
          <p:nvPr/>
        </p:nvPicPr>
        <p:blipFill>
          <a:blip r:embed="rId4"/>
          <a:stretch/>
        </p:blipFill>
        <p:spPr>
          <a:xfrm>
            <a:off x="6934320" y="990720"/>
            <a:ext cx="1987560" cy="2209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286000" y="1066680"/>
            <a:ext cx="4343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ыня Никит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я Муром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о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ёша Поп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209680" y="20574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 flipV="1">
            <a:off x="1600200" y="1905120"/>
            <a:ext cx="19810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2971800" y="31240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 flipV="1">
            <a:off x="5562360" y="2666520"/>
            <a:ext cx="2057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 flipH="1" flipV="1">
            <a:off x="5638680" y="1294920"/>
            <a:ext cx="1905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Правила  честного  поединк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)Противники договаривалис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 месте и времени поедин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)Если один противник был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ооружён хуже другого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ледовало его довооружит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биться на равн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Рисунок 3" descr="поединок  2.jpg"/>
          <p:cNvPicPr/>
          <p:nvPr/>
        </p:nvPicPr>
        <p:blipFill>
          <a:blip r:embed="rId1"/>
          <a:stretch/>
        </p:blipFill>
        <p:spPr>
          <a:xfrm>
            <a:off x="76320" y="1752480"/>
            <a:ext cx="3047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ремина О. Н. </dc:creator>
  <dc:description/>
  <dc:language>en-US</dc:language>
  <cp:lastModifiedBy>user</cp:lastModifiedBy>
  <dcterms:modified xsi:type="dcterms:W3CDTF">2012-12-05T14:18:39Z</dcterms:modified>
  <cp:revision>21</cp:revision>
  <dc:subject>Былинные богатыри Древней Руси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