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2BE6-F6AF-4D92-8110-AD6CFB22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3A58-F3E6-4194-866C-6E9FA7C7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1FC0-F4AB-46AA-9960-B8EBD54E3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151A-9C49-46DC-8E2C-6D9B4DD3A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3755-A7CC-4844-ABBF-44D8AF29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A806-2D65-4D8D-A6E3-B90A9F0F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8686-C019-44A8-8384-71AFEA69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AB3F-57CA-4375-8575-4D5FC105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CFA0-1877-4006-A3CB-C9A7DFEA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F88F-1D62-42F1-AD45-0D1BB623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47E7-E984-459B-946A-0DA5596E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20E9-25D0-4CF3-9A4C-63DE049D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3BF1-E7DD-4F29-876F-2FADBA4AF9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95280" y="1341000"/>
            <a:ext cx="5148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5950080"/>
            <a:ext cx="7521480" cy="7920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инина Елена Никола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МБОУ сош №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4067280" y="1484280"/>
            <a:ext cx="50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Современные образовательные технологии в условиях реализации ФГОС ОО 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ТОД  ПРОЕКТОВ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иды проектов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ктико-ориентированный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сследовательский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нформационный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ворческий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олево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1219771840_shokola-6.jpg"/>
          <p:cNvPicPr/>
          <p:nvPr/>
        </p:nvPicPr>
        <p:blipFill>
          <a:blip r:embed="rId2"/>
          <a:stretch/>
        </p:blipFill>
        <p:spPr>
          <a:xfrm>
            <a:off x="5435640" y="2602080"/>
            <a:ext cx="370836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формационно-коммуникационные технологии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ые средства включения ребёнка в процесс творчества на урок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 деятельность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оложительных эмоциональных ситуаций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парах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ое обуче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imgpreview1.jpg"/>
          <p:cNvPicPr/>
          <p:nvPr/>
        </p:nvPicPr>
        <p:blipFill>
          <a:blip r:embed="rId2"/>
          <a:stretch/>
        </p:blipFill>
        <p:spPr>
          <a:xfrm>
            <a:off x="0" y="0"/>
            <a:ext cx="18939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60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Применение ИКТ на уроках усиливает</a:t>
            </a:r>
            <a:r>
              <a:rPr b="0" lang="ru-RU" sz="60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: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ложительную мотивацию обучения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ктивизирует познавательную деятельность обучающихся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ование ИКТ на уроке позволили в полной мере реализовать основные принципы активизации познавательной деятельности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ринцип равенства позиций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ринцип доверительности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ринцип обратной связи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ринцип занятия исследовательской позиц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ДОРОВЬЕСБЕРЕГАЮЩИЕ ТЕХНОЛОГИИ,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е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ют решить важнейшие задачи – сохранить здоровье ребёнка, приучить его к активной здоровой жизни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едагогические технологии, которые позволяют сохранить, а в некоторых случаях и укрепить уровень имеющегося здоровь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ет возрастных особенностей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мократический стиль общен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уроке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фференцированное обучение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гровые технологии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изминут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тод Портфолио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ся с целью мониторинга развития ученика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6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читель и ученик – это единое целое, учимся вместе, помогаем друг другу, роль учителя – направлять, контролировать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3" descr="0011-011-Spasibo-za-vniman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-360"/>
            <a:ext cx="9144000" cy="42210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« Скажи мне, и я забуд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кажи мне – я смогу запомни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зволь мне это сделать самому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и это станет моим навсегд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Древняя мудр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3" descr="imgpreview.jpg"/>
          <p:cNvPicPr/>
          <p:nvPr/>
        </p:nvPicPr>
        <p:blipFill>
          <a:blip r:embed="rId1"/>
          <a:stretch/>
        </p:blipFill>
        <p:spPr>
          <a:xfrm>
            <a:off x="2556000" y="4292640"/>
            <a:ext cx="3744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социальные запросы, отраженные в ФГОС, определяют цели образования как общекультурное, личностное и познавательное развитие учащихся, обеспечивающие такую ключевую компетенцию образования, как «научить учиться»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в начальной школе ребенка должны научить: не только читать, считать, писать, чему и сейчас учат вполне успешно. Ему должны привить две группы новых умений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группа - это </a:t>
            </a:r>
            <a:r>
              <a:rPr b="1" i="1" lang="ru-RU" sz="5400" spc="-1" strike="noStrike" u="sng">
                <a:solidFill>
                  <a:srgbClr val="4f6228"/>
                </a:solidFill>
                <a:uFillTx/>
                <a:latin typeface="Times New Roman"/>
                <a:ea typeface="Times New Roman"/>
              </a:rPr>
              <a:t>универсальные учебные действия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ставляющие основу умения учиться: навыки решения творческих задач и навыки поиска, анализа и интерпретации информации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группа – это </a:t>
            </a:r>
            <a:r>
              <a:rPr b="1" i="1" lang="ru-RU" sz="6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формирование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детей </a:t>
            </a:r>
            <a:r>
              <a:rPr b="1" i="1" lang="ru-RU" sz="6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мотивации</a:t>
            </a:r>
            <a:r>
              <a:rPr b="0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6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к обучению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ощи им в самоорганизации и саморазвитии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ИСТЕМНО-ДЕЯТЕЛЬНОСТНЫЙ ПОДХОД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метод обучения, при котором ребенок не получает знания в готовом виде, а добывает их сам в процессе собственной учебно-познавательной деятель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результативности урок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Цели урока задаются с тенденцией передачи функции от учителя к ученик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читель систематически обучает детей осуществлять рефлексивное действие (оценивать свою готовность, обнаруживать незнание, находить причины затруднений и т.п.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спользуются разнообразные формы, методы и приемы обучения, повышающие степень активности учащихся в учебном процесс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Учитель владеет технологией диалога, обучает учащихся ставить   вопросы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читель эффективно (адекватно цели урока) сочетает репродуктивную и проблемную формы обучения, учит детей работать по правилу и творческ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 уроке задаются задачи и четкие критерии самоконтроля и самооценки (происходит специальное формирование контрольно-оценочной деятельности у обучающихся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Учитель добивается осмысления учебного материала всеми учащимися, используя для этого специальные приемы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Учитель стремиться оценивать реальное продвижение каждого ученика, поощряет и поддерживает минимальные успехи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Учитель специально планирует коммуникативные задачи урока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Учитель принимает и поощряет, выражаемую учеником, собственную позицию, иное мнение, обучает корректным формам их выражения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Стиль, тон отношений, задаваемый на уроке, создают атмосферу сотрудничества, сотворчества, психологического комфорт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На уроке осуществляется глубокое личностное воздействие «учитель – ученик» (через отношения, совместную деятельность и т.д.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Методы, используемые учителем начальной школы на уроках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   Метод проектов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   Информационно-коммуникационные технологи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    Здоровьесберегающие технологи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    Портфоли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5T08:49:31Z</dcterms:created>
  <dc:creator>admin</dc:creator>
  <dc:description/>
  <dc:language>en-US</dc:language>
  <cp:lastModifiedBy>admin</cp:lastModifiedBy>
  <dcterms:modified xsi:type="dcterms:W3CDTF">2014-10-15T14:00:27Z</dcterms:modified>
  <cp:revision>23</cp:revision>
  <dc:subject/>
  <dc:title>Слайд 1</dc:title>
</cp:coreProperties>
</file>