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A3D-02E8-4797-9175-8EA8654F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4F1-0145-47BD-B3F3-986FF89A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21F-2F0F-4084-AEB3-C3CFAFEB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F54-852E-4D38-BD5C-4BEF059F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906-3C65-46FC-8C45-1B9F84CE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CAE1-66C7-4A43-B464-0C337687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822-1CA7-4806-90E1-99F4744B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304-D9DC-4966-B299-EED7B9E8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A3E-585F-490A-9DD4-F11E95D3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C70-3353-46CC-BD23-E1056101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F46-D8B0-40ED-87FC-AE4E76DF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0A5-E9B8-436D-866D-956A26DE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8DA6-F7C0-4D8B-BE78-DE9F01C08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280" y="1341000"/>
            <a:ext cx="5148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950080"/>
            <a:ext cx="7521480" cy="7920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нина Елена Никола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МБОУ сош №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067280" y="148428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овременные образовательные технологии в условиях реализации ФГОС ОО 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  ПРОЕКТО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ды проектов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ко-ориентирован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следовательски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формацион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ворчески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лев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1219771840_shokola-6.jpg"/>
          <p:cNvPicPr/>
          <p:nvPr/>
        </p:nvPicPr>
        <p:blipFill>
          <a:blip r:embed="rId2"/>
          <a:stretch/>
        </p:blipFill>
        <p:spPr>
          <a:xfrm>
            <a:off x="5435640" y="2602080"/>
            <a:ext cx="370836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ормационно-коммуникационные технологи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ые средства включения ребёнка в процесс творчества на урок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оложительных эмоциональных ситуаци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ах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обуч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imgpreview1.jpg"/>
          <p:cNvPicPr/>
          <p:nvPr/>
        </p:nvPicPr>
        <p:blipFill>
          <a:blip r:embed="rId2"/>
          <a:stretch/>
        </p:blipFill>
        <p:spPr>
          <a:xfrm>
            <a:off x="0" y="0"/>
            <a:ext cx="18939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60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Применение ИКТ на уроках усиливает</a:t>
            </a:r>
            <a:r>
              <a:rPr b="0" lang="ru-RU" sz="60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ожительную мотивацию обучения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тивизирует познавательную деятельность обучающихся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ИКТ на уроке позволили в полной мере реализовать основные принципы активизации познавательной деятельност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инцип равенства позици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нцип доверительности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инцип обратной связи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инцип занятия исследовательской пози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ДОРОВЬЕСБЕРЕГАЮЩИЕ ТЕХНОЛОГИИ,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ют решить важнейшие задачи – сохранить здоровье ребёнка, приучить его к активной здоровой жизн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дагогические технологии, которые позволяют сохранить, а в некоторых случаях и укрепить уровень имеющегося здоровь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т возрастных особенносте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мократический стиль обще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урок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фференцированное обучен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овые технологи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минут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 Портфолио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с целью мониторинга развития ученика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итель и ученик – это единое целое, учимся вместе, помогаем друг другу, роль учителя – направлять, контролировать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0011-011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-360"/>
            <a:ext cx="9144000" cy="4221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 Скажи мне, и я забуд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кажи мне – я смогу запомни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зволь мне это сделать самому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 это станет моим навсегд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Древняя мудр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imgpreview.jpg"/>
          <p:cNvPicPr/>
          <p:nvPr/>
        </p:nvPicPr>
        <p:blipFill>
          <a:blip r:embed="rId1"/>
          <a:stretch/>
        </p:blipFill>
        <p:spPr>
          <a:xfrm>
            <a:off x="2556000" y="4292640"/>
            <a:ext cx="3744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социальные запросы, отраженные в ФГОС, определяют цели образования как общекультурное, личностное и познавательное развитие учащихся, обеспечивающие такую ключевую компетенцию образования, как «научить учиться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в начальной школе ребенка должны научить: не только читать, считать, писать, чему и сейчас учат вполне успешно. Ему должны привить две группы новых умени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группа - это </a:t>
            </a:r>
            <a:r>
              <a:rPr b="1" i="1" lang="ru-RU" sz="5400" spc="-1" strike="noStrike" u="sng">
                <a:solidFill>
                  <a:srgbClr val="4f6228"/>
                </a:solidFill>
                <a:uFillTx/>
                <a:latin typeface="Times New Roman"/>
                <a:ea typeface="Times New Roman"/>
              </a:rPr>
              <a:t>универсальные учебные действия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ставляющие основу умения учиться: навыки решения творческих задач и навыки поиска, анализа и интерпретации информации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– это </a:t>
            </a:r>
            <a:r>
              <a:rPr b="1" i="1" lang="ru-RU" sz="6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формирование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детей </a:t>
            </a:r>
            <a:r>
              <a:rPr b="1" i="1" lang="ru-RU" sz="6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мотивации</a:t>
            </a: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к обучению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ощи им в самоорганизации и саморазвитии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СТЕМНО-ДЕЯТЕЛЬНОСТНЫЙ ПОДХОД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метод обучения, при котором ребенок не получает знания в готовом виде, а добывает их сам в процессе собственной учебно-познавательной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результативности урок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Цели урока задаются с тенденцией передачи функции от учителя к учени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итель систематически обучает детей осуществлять рефлексивное действие (оценивать свою готовность, обнаруживать незнание, находить причины затруднений и т.п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пользуются разнообразные формы, методы и приемы обучения, повышающие степень активности учащихся в учебном процесс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читель владеет технологией диалога, обучает учащихся ставить   вопрос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читель эффективно (адекватно цели урока) сочетает репродуктивную и проблемную формы обучения, учит детей работать по правилу и творческ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 уроке задаются задачи и четкие критерии самоконтроля и самооценки (происходит специальное формирование контрольно-оценочной деятельности у обучающихся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читель добивается осмысления учебного материала всеми учащимися, используя для этого специальные прием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Учитель стремиться оценивать реальное продвижение каждого ученика, поощряет и поддерживает минимальные успех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Учитель специально планирует коммуникативные задачи урок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Учитель принимает и поощряет, выражаемую учеником, собственную позицию, иное мнение, обучает корректным формам их выражен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Стиль, тон отношений, задаваемый на уроке, создают атмосферу сотрудничества, сотворчества, психологического комфор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На уроке осуществляется глубокое личностное воздействие «учитель – ученик» (через отношения, совместную деятельность и т.д.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етоды, используемые учителем начальной школы на уроках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 Метод проекто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Информационно-коммуникационные технолог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    Здоровьесберегающие технолог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  Портфоли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08:49:31Z</dcterms:created>
  <dc:creator>admin</dc:creator>
  <dc:description/>
  <dc:language>en-US</dc:language>
  <cp:lastModifiedBy>admin</cp:lastModifiedBy>
  <dcterms:modified xsi:type="dcterms:W3CDTF">2014-10-15T14:00:27Z</dcterms:modified>
  <cp:revision>23</cp:revision>
  <dc:subject/>
  <dc:title>Слайд 1</dc:title>
</cp:coreProperties>
</file>