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6EF3-5E9D-49D7-BC10-7667F7D14B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DEA-B71B-4BF2-81F7-951A881DE8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AA3-0906-4D1E-94D6-32D6F5722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089-4EDB-4ABD-88EF-D3CC50ED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2CD-AC67-4092-AD74-FCE8CD8B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F91-C133-4F73-90EB-D6C707BA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AFA-D9C5-4437-9357-F8A60D18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31C5-CCE3-4E31-AE63-30BA7301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23DA-600B-496E-910F-9FEDEA5E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1401-08D8-435B-A1A2-8D3F4CF8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F7D9-AD2F-4567-9A35-0228C83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660B-5CF1-455A-9C78-3A3885C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838F-5926-439C-A652-B9C6750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C227-8358-4558-BF84-9CCA90C3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5E2-298C-4BC9-84AB-1FF5005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B52-598C-42E5-8110-FA50C6D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949F-9E5D-4248-B214-34016F9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2C13-0E41-464C-95E1-91C61D8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532C-871E-4C86-A231-79696926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8830-5D15-4ECA-8722-DA525CDA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D018-80CB-4E7E-AC68-33980D21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3EBB-8F99-42E1-B915-BA6D838E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2184-C679-4736-B640-CC6FED1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5AB3-5852-45EB-9E0C-805DDCAE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D9DF-0CB2-47A9-A7AB-4946A271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461-6649-4533-8C86-C59FBB6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8895-0E86-4051-95C0-BB9B0EE9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FF68-3F98-4EC8-99DB-E179470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981A-35D6-40CF-9633-23C020A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D36A-D10D-4470-AE01-0AFE35B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3D9F-9711-4614-8F3D-0B148CB6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404E-D113-4C80-89E2-2A5B10F3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E1D4-14FD-41A9-9BD7-33B0D589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D3FB-154F-4BD6-BBE2-BFDF721D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C6BF-82D0-40D6-AC80-F72A711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E366-D729-4652-A1CF-A9234F7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85F-4CD6-45AE-88C4-82101EC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0A35-BF64-4CEE-A8D5-86EF242A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3FF1-E436-4F4E-A9BF-11A22D15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B0C1-F565-41BB-855E-545C75E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0CC0-9AD3-45D8-9E18-BCE3B51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6351-F494-4A65-8C71-DA7709F9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9660-30EA-44FD-BD1C-C48FC81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F2BCA-B67B-489A-9399-5BC171E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49EF3-C7B4-47DA-BE2B-C2637DF8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E40B-EB39-4BEA-970F-1FCB4EE9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00E4A-A05C-42CE-A746-DFA2E8A2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70D-D1C6-4958-95EE-257A9F93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6DB1F-0BBB-4694-9820-48C625E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1637-E716-4451-A9FF-33F12023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B025-3658-4F3C-9100-5E231455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798D-8C43-41AE-853F-FED2F5D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C393-BB3C-41B2-BA97-632CDC4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9D5F-FE6A-47B3-BAA4-B8DB6569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C64C-EC8C-4CDA-990C-34EC563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DB10-68F2-42F1-87EC-471BE888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EA6C-2346-4E45-B1D6-830C2E2E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A55BD-EAB3-4078-924C-39A42C2E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B2A-E342-4D62-98C2-AF0FF10A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6151-6338-44C3-975F-C32C4162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01213-86D5-4188-B0D2-A41BA0F6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A783-F8B4-436E-A600-F935983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183B-5D6B-473D-A02D-13DBB6D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9086-1D90-4DA3-A8E3-3DF3BDF5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47044-072D-41FC-87F4-9BE87A3D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C9755-F2FE-4764-B04F-7C70081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6F59-632D-4A18-B391-95DFFDB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4BA6F-4503-433F-999F-A10A8A3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368D2-2B04-49A7-B8E7-0C113DE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870-A6FC-4EB6-A8B0-EC8A54E1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2DC8E-970A-43D2-9AA9-0B6CB47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9E31C-4BF2-418D-B543-6A5A6D39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F3C8F-F42D-4901-8D53-0B463105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9A0-7EBD-43EC-BB8D-A722A722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7CF-8FBA-4024-B9E7-818B95DE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4936-A369-4B3E-8068-24CEFCBCD6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B14-1339-432C-B920-B56A25EDF2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6DB-4DEB-48C8-8FDB-6F73DFECE9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2A7E-5362-42C7-985A-0FE7BDFCC9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1EC1-B50C-40AE-A2E9-ECA5DB1E31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AAA4-0962-459A-AE58-9245D8A9CB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347760" y="4206960"/>
            <a:ext cx="8540640" cy="2852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321" name="Объект 3" descr=""/>
          <p:cNvPicPr/>
          <p:nvPr/>
        </p:nvPicPr>
        <p:blipFill>
          <a:blip r:embed="rId2"/>
          <a:stretch/>
        </p:blipFill>
        <p:spPr>
          <a:xfrm>
            <a:off x="928800" y="142920"/>
            <a:ext cx="7215120" cy="42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22" name="TextBox 4"/>
          <p:cNvSpPr/>
          <p:nvPr/>
        </p:nvSpPr>
        <p:spPr>
          <a:xfrm>
            <a:off x="6875640" y="4941720"/>
            <a:ext cx="1854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1030320"/>
          </a:xfrm>
          <a:prstGeom prst="rect">
            <a:avLst/>
          </a:prstGeom>
          <a:ln w="0">
            <a:noFill/>
          </a:ln>
        </p:spPr>
      </p:pic>
      <p:pic>
        <p:nvPicPr>
          <p:cNvPr id="340" name="Объект 1" descr=""/>
          <p:cNvPicPr/>
          <p:nvPr/>
        </p:nvPicPr>
        <p:blipFill>
          <a:blip r:embed="rId2"/>
          <a:stretch/>
        </p:blipFill>
        <p:spPr>
          <a:xfrm>
            <a:off x="195120" y="1268280"/>
            <a:ext cx="8888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23804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3" descr="99069254.jpg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122400" y="622440"/>
            <a:ext cx="88992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0" y="0"/>
          <a:ext cx="9252000" cy="6789600"/>
        </p:xfrm>
        <a:graphic>
          <a:graphicData uri="http://schemas.openxmlformats.org/drawingml/2006/table">
            <a:tbl>
              <a:tblPr/>
              <a:tblGrid>
                <a:gridCol w="3110040"/>
                <a:gridCol w="61419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РАСТ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ЭФФ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76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Лимон, эвкалипт, муск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Снижает усталость, активизирует , способствует умственному труду, повышает работоспособно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Розма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Способствует процессу познания, стимулирует памя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Р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овышает работоспособность и сосредоточение, ускоряет выполнение зада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218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Бергамот, ромашка, лаванда, сандал. дер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Успокаивает, расслабляет, позволяет восстановить сил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341280" y="1481040"/>
            <a:ext cx="86137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Franklin Gothic Medium"/>
                <a:ea typeface="Trebuchet MS"/>
              </a:rPr>
              <a:t>ВО ВРЕМЯ ПРАВИЛЬНОГО ДЫХАНИЯ ЗАДЕЙСТВОВАНЫ ВАЖНЫЕ ОРГАНЫ И СИСТЕМЫ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47" name="Picture 2" descr="C:\Users\татьяна\Pictures\Марина\пппппп.jpg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8645760" cy="1054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мех, улыбка, юмор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азмышления о приятном, хорошем – отвлечение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азличные движения типа потягивания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апряжение - расслабление мышц – физические нагрузки переключают эмоции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ассматривание цветов в помещении, пейзажа за окном, фотографий, других приятных или дорогих вещей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«купание» (реальное или мысленное) в солнечных лучах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дыхание свежего воздуха;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ысказывание похвалы, комплиментов кому-либо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1"/>
          <p:cNvSpPr/>
          <p:nvPr/>
        </p:nvSpPr>
        <p:spPr>
          <a:xfrm>
            <a:off x="426960" y="115920"/>
            <a:ext cx="8353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C:\Users\Nadezhda\Desktop\Горячая линия ЕГЭ 2015.jpg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542880" y="189000"/>
            <a:ext cx="8315280" cy="105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250920" y="2060280"/>
            <a:ext cx="3673440" cy="2663640"/>
          </a:xfrm>
          <a:prstGeom prst="rect">
            <a:avLst/>
          </a:prstGeom>
          <a:gradFill rotWithShape="0">
            <a:gsLst>
              <a:gs pos="0">
                <a:srgbClr val="fdefc8"/>
              </a:gs>
              <a:gs pos="100000">
                <a:srgbClr val="b6a168"/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рогулки на свежем воздух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занятия спорто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зарядка, комплекс упражне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40404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5" name="Picture 5" descr="C:\Users\цпмсс-леново-нов-3\Desktop\80548413_big__17_.jpg"/>
          <p:cNvPicPr/>
          <p:nvPr/>
        </p:nvPicPr>
        <p:blipFill>
          <a:blip r:embed="rId2"/>
          <a:stretch/>
        </p:blipFill>
        <p:spPr>
          <a:xfrm>
            <a:off x="3924360" y="907920"/>
            <a:ext cx="50403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7" name="Текст 7" descr=""/>
          <p:cNvPicPr/>
          <p:nvPr/>
        </p:nvPicPr>
        <p:blipFill>
          <a:blip r:embed="rId1"/>
          <a:stretch/>
        </p:blipFill>
        <p:spPr>
          <a:xfrm>
            <a:off x="92160" y="1243080"/>
            <a:ext cx="4467240" cy="4829040"/>
          </a:xfrm>
          <a:prstGeom prst="rect">
            <a:avLst/>
          </a:prstGeom>
          <a:ln w="0">
            <a:noFill/>
          </a:ln>
        </p:spPr>
      </p:pic>
      <p:pic>
        <p:nvPicPr>
          <p:cNvPr id="328" name="Объект 6" descr=""/>
          <p:cNvPicPr/>
          <p:nvPr/>
        </p:nvPicPr>
        <p:blipFill>
          <a:blip r:embed="rId2"/>
          <a:stretch/>
        </p:blipFill>
        <p:spPr>
          <a:xfrm>
            <a:off x="4753080" y="743040"/>
            <a:ext cx="4140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СИХОЛОГИЧЕСКОЕ ЗДОРОВЬ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30" name="Объект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332" name="Заголовок 2" descr=""/>
          <p:cNvPicPr/>
          <p:nvPr/>
        </p:nvPicPr>
        <p:blipFill>
          <a:blip r:embed="rId1"/>
          <a:stretch/>
        </p:blipFill>
        <p:spPr>
          <a:xfrm>
            <a:off x="182520" y="2846520"/>
            <a:ext cx="86868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42920" y="142920"/>
          <a:ext cx="8858160" cy="677376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64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С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131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34136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4136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ри стрессе, нагрузке увеличивают тонус умственной деятельности. Время выполнения заданий уменьшаетс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экзаменационные работы могут выполняться лучше текущих. Могут сделать задание «в один присест»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допустим небольшой уровень шума Общество сверстников не мешает, а только помогает их работе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требуется некоторая «раскачка» в начале работы, поэтому предпочтительнее делать задания от легких к трудным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главных действий намного больше, чем вспомогательных, т.е.  требуется меньше времени на подготовку к работе, проверку правильности выполнения. Однако точность выполнения работы при этом может страда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42920" y="0"/>
          <a:ext cx="8858160" cy="675000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СЛАБ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2316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низкая выносливость, требуется больше времени на выполнение заданий, чтобы дать отдых нервным клеткам, это сохраняет оптимальную работоспособность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одходит  стиль деятельности, при котором есть возможность выполнять качественно разнородные действия. Если этого не обеспечить - могут сами переходить к выполнению следующих действий до получения результатов предыдущих. (объяснение:  включается охранительное торможение, которое помогает избегать переутомления)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при заучивании текста полезны вспомогательные действия - деление текста на фрагменты, рисование мысленных картинок к ним, составление плана текста и т.п.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142920"/>
          <a:ext cx="8786880" cy="6500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6969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1581f"/>
                          </a:solidFill>
                          <a:latin typeface="Franklin Gothic Book"/>
                        </a:rPr>
                        <a:t>СЛАБ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8039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необходимы перерывы в работе, полная тишина и уединение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стоит сначала делать более трудные задани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в ситуации экзамена тонус умственной деятельности снижается, время выполнения задания увеличивается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624"/>
                        </a:spcBef>
                        <a:spcAft>
                          <a:spcPts val="1624"/>
                        </a:spcAft>
                        <a:buClr>
                          <a:srgbClr val="91581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91581f"/>
                          </a:solidFill>
                          <a:latin typeface="Times New Roman"/>
                          <a:ea typeface="Times New Roman"/>
                        </a:rPr>
                        <a:t>количество главных действий меньше, чем вспомогательных. Для получения высокого результата необходимо тщательно подготовить рабочее место, настроиться на работу, проверять ее в конце раб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304920" y="311040"/>
            <a:ext cx="868680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116000" y="2276640"/>
            <a:ext cx="741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Franklin Gothic Book"/>
              </a:rPr>
              <a:t>       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603b14"/>
                </a:solidFill>
                <a:latin typeface="Franklin Gothic Book"/>
              </a:rPr>
              <a:t>ФИТОТЕРАПИ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8" name="Содержимое 9" descr="7.jpg"/>
          <p:cNvPicPr/>
          <p:nvPr/>
        </p:nvPicPr>
        <p:blipFill>
          <a:blip r:embed="rId2"/>
          <a:stretch/>
        </p:blipFill>
        <p:spPr>
          <a:xfrm>
            <a:off x="755640" y="1755720"/>
            <a:ext cx="7777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6:04:04Z</dcterms:created>
  <dc:creator>Чернушенко</dc:creator>
  <dc:description/>
  <dc:language>en-US</dc:language>
  <cp:lastModifiedBy>Муханова</cp:lastModifiedBy>
  <cp:lastPrinted>2014-04-29T12:44:28Z</cp:lastPrinted>
  <dcterms:modified xsi:type="dcterms:W3CDTF">2015-04-17T20:24:39Z</dcterms:modified>
  <cp:revision>68</cp:revision>
  <dc:subject/>
  <dc:title>ЕГЭ НА ОТЛИЧНО</dc:title>
</cp:coreProperties>
</file>