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5633640" y="-36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32587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5633640" y="651312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1D17-DC96-484D-AA4E-A05FDDC4EB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E7D0-D388-4ABB-9E07-593D87A067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C18A-BD6D-4902-BB36-6E759D8841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A713-A490-4AB8-B201-562EE426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7E68-D205-4FF4-8198-62FE0647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3F16-9E89-4E0B-B2EF-3FFC5743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682-E417-4FFB-9A99-AD924185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C0FB-8AAD-4EBB-ABD7-F5D37057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809E-68E9-4602-A87B-EC2FAB6D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FBE0-00A7-4FB2-8513-0AD962EB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701F-F169-444A-A11F-359DF0AB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3300-CB19-4E4B-BA3A-9435482C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708B-9CDA-4103-AE6C-C240CFA1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68A5-ABDE-417D-A382-8E381DAD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C95-9C13-494F-B72E-587F97EF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3214-7262-41FA-BFA4-FCFDB3A1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7238-9640-49B8-9938-243E20AC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BCC0-5308-4A94-AB89-60E04B02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CD76-6F4C-4BAC-8DEC-CFC6C465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B27F-8494-422B-B190-57A28FDC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C303F-E9F1-4D61-955B-788B7EF5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FADD0-841D-4735-9EFD-A2E663B8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BB0CF-F179-4550-A68F-26172A20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5AB8E-F6F4-42B6-B4CB-E5E868D4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BED53-560B-4DAF-8411-E3A424C1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C210-92F7-47D8-A727-45D5F876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E813F-9965-43A9-B29D-D9A7B80E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8CEAD-0C00-4237-972A-A4351EDF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CC9DE-E04F-41F7-8DE0-6BA1319A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17315-6CF1-4762-BA84-A2F26A9E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9AF2F-8AC2-45CB-84D4-37C2A1D5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FCD9E-03FD-4C6E-928F-4AF2F791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8520-8682-4BC5-ACEF-43C32D5D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5F554-59AD-4B64-A26C-8C4D3FC7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F4D58-20F3-4EA0-8F6E-7C08C246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91734-EFF8-40EC-9687-22F6E2BA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A1D-CD85-4108-9ED7-C60763F1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FEB3B-FD04-437E-AA27-156AE5A0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0B876-B409-454F-809E-8F6CDD7C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400E5-0411-443D-BFE7-46206C74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2F3E7-8D9D-41B7-B5E2-7E6E7F63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E8F3E-F30E-4A50-AF8C-BD041668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BD292-11E5-4A5A-98B7-785D0872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B43B9-3ABE-4973-921A-D08CAE4C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8838A-5A9C-4A18-AD2F-4C8E088F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92288-1817-4E9F-8D58-A0F7EF7F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AB551-8491-4A26-BE8F-21762532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BA9-FC41-48BA-B869-374F4DD6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343D2-945A-4C11-B5A5-3A55D4ED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28F97-25FE-4EB9-B635-7343FD62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71C13-F4C4-4528-B95E-A8F99096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2CACA-C84D-4B7D-9EA9-C9ABBA3E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8CEF7-6D57-4948-B3F5-58C0AB45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574B8-A6C9-42E0-B244-12526A12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424E9-A877-45B5-98C8-B2A28809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64611-C761-439A-8894-512719B3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95F30-84BC-4AC6-9F96-C710CC1A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A8CDD-EBC6-4342-A0C6-98D986AA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DBF-9E73-4D95-95A7-8B560C6B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F1C99-D2EE-4898-BE05-407F4274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99DBB-2A6E-4C16-8F36-1BF103C3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EC7A7-0921-4844-ADE5-3DC15708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510BB-0E69-4A56-8A25-7D6F872D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099EC-E0CA-40FB-8832-719C40B9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AB347-3D18-4DAF-90A1-E8152098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1E388-8A78-495A-9970-A96DD5BB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F76C3-AC13-4F7F-A1DC-010A9EC8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54DDD-9689-4652-B2BC-8C328AD7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9E42B-929A-4F93-A1B0-222CBEFC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6A7-0559-4F5C-AC2A-8540882A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296F4-C6E3-48DB-B0B5-DD729D06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8F0CB-E2EF-41E4-87E3-6F37C9C9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B26D7-7270-43F5-917C-C225F244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7C8-812B-4332-9AE1-91373D39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40B-42F5-4593-940C-2DA3627D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3455-C68F-4025-8B75-5B275EF1549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2A35-6CCB-4D0A-AED5-71872F2FFE3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44FA-0C58-4886-8453-58EEC95C1BB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04A7-7BD1-4C27-96B8-D55E3D8574B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6BE5-68BF-4B27-9DC3-ACABB35863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7CF2-6E2E-4E88-8B3B-3D06D87179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347760" y="4206960"/>
            <a:ext cx="8540640" cy="2852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321" name="Объект 3" descr=""/>
          <p:cNvPicPr/>
          <p:nvPr/>
        </p:nvPicPr>
        <p:blipFill>
          <a:blip r:embed="rId2"/>
          <a:stretch/>
        </p:blipFill>
        <p:spPr>
          <a:xfrm>
            <a:off x="928800" y="142920"/>
            <a:ext cx="7215120" cy="4263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22" name="TextBox 4"/>
          <p:cNvSpPr/>
          <p:nvPr/>
        </p:nvSpPr>
        <p:spPr>
          <a:xfrm>
            <a:off x="6875640" y="4941720"/>
            <a:ext cx="1854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1030320"/>
          </a:xfrm>
          <a:prstGeom prst="rect">
            <a:avLst/>
          </a:prstGeom>
          <a:ln w="0">
            <a:noFill/>
          </a:ln>
        </p:spPr>
      </p:pic>
      <p:pic>
        <p:nvPicPr>
          <p:cNvPr id="340" name="Объект 1" descr=""/>
          <p:cNvPicPr/>
          <p:nvPr/>
        </p:nvPicPr>
        <p:blipFill>
          <a:blip r:embed="rId2"/>
          <a:stretch/>
        </p:blipFill>
        <p:spPr>
          <a:xfrm>
            <a:off x="195120" y="1268280"/>
            <a:ext cx="88884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238040"/>
          </a:xfrm>
          <a:prstGeom prst="rect">
            <a:avLst/>
          </a:prstGeom>
          <a:ln w="0">
            <a:noFill/>
          </a:ln>
        </p:spPr>
      </p:pic>
      <p:pic>
        <p:nvPicPr>
          <p:cNvPr id="342" name="Содержимое 3" descr="99069254.jpg"/>
          <p:cNvPicPr/>
          <p:nvPr/>
        </p:nvPicPr>
        <p:blipFill>
          <a:blip r:embed="rId2"/>
          <a:stretch/>
        </p:blipFill>
        <p:spPr>
          <a:xfrm>
            <a:off x="826920" y="1268280"/>
            <a:ext cx="74901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122400" y="622440"/>
            <a:ext cx="889920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0" y="0"/>
          <a:ext cx="9252000" cy="6789600"/>
        </p:xfrm>
        <a:graphic>
          <a:graphicData uri="http://schemas.openxmlformats.org/drawingml/2006/table">
            <a:tbl>
              <a:tblPr/>
              <a:tblGrid>
                <a:gridCol w="3110040"/>
                <a:gridCol w="61419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РАСТ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ЭФФ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76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Лимон, эвкалипт, муск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Снижает усталость, активизирует , способствует умственному труду, повышает работоспособнос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Розмар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Способствует процессу познания, стимулирует памя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Р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Повышает работоспособность и сосредоточение, ускоряет выполнение зада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218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Бергамот, ромашка, лаванда, сандал. дере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Успокаивает, расслабляет, позволяет восстановить сил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341280" y="1481040"/>
            <a:ext cx="86137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1581f"/>
                </a:solidFill>
                <a:latin typeface="Franklin Gothic Medium"/>
                <a:ea typeface="Trebuchet MS"/>
              </a:rPr>
              <a:t>ВО ВРЕМЯ ПРАВИЛЬНОГО ДЫХАНИЯ ЗАДЕЙСТВОВАНЫ ВАЖНЫЕ ОРГАНЫ И СИСТЕМЫ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47" name="Picture 2" descr="C:\Users\татьяна\Pictures\Марина\пппппп.jpg"/>
          <p:cNvPicPr/>
          <p:nvPr/>
        </p:nvPicPr>
        <p:blipFill>
          <a:blip r:embed="rId1"/>
          <a:stretch/>
        </p:blipFill>
        <p:spPr>
          <a:xfrm>
            <a:off x="1042920" y="1484280"/>
            <a:ext cx="7129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249120" y="115920"/>
            <a:ext cx="8645760" cy="1054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смех, улыбка, юмор;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размышления о приятном, хорошем – отвлечение;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различные движения типа потягивания;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напряжение - расслабление мышц – физические нагрузки переключают эмоции;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рассматривание цветов в помещении, пейзажа за окном, фотографий, других приятных или дорогих вещей;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«купание» (реальное или мысленное) в солнечных лучах;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вдыхание свежего воздуха;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высказывание похвалы, комплиментов кому-либо.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Заголовок 1"/>
          <p:cNvSpPr/>
          <p:nvPr/>
        </p:nvSpPr>
        <p:spPr>
          <a:xfrm>
            <a:off x="426960" y="115920"/>
            <a:ext cx="835344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C:\Users\Nadezhda\Desktop\Горячая линия ЕГЭ 2015.jpg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542880" y="189000"/>
            <a:ext cx="8315280" cy="1054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250920" y="2060280"/>
            <a:ext cx="3673440" cy="2663640"/>
          </a:xfrm>
          <a:prstGeom prst="rect">
            <a:avLst/>
          </a:prstGeom>
          <a:gradFill rotWithShape="0">
            <a:gsLst>
              <a:gs pos="0">
                <a:srgbClr val="fdefc8"/>
              </a:gs>
              <a:gs pos="100000">
                <a:srgbClr val="b6a168"/>
              </a:gs>
            </a:gsLst>
            <a:lin ang="5400000"/>
          </a:gradFill>
          <a:ln w="0">
            <a:noFill/>
          </a:ln>
        </p:spPr>
        <p:txBody>
          <a:bodyPr anchor="ctr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рогулки на свежем воздух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занятия спорто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зарядка, комплекс упражнени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5" name="Picture 5" descr="C:\Users\цпмсс-леново-нов-3\Desktop\80548413_big__17_.jpg"/>
          <p:cNvPicPr/>
          <p:nvPr/>
        </p:nvPicPr>
        <p:blipFill>
          <a:blip r:embed="rId2"/>
          <a:stretch/>
        </p:blipFill>
        <p:spPr>
          <a:xfrm>
            <a:off x="3924360" y="907920"/>
            <a:ext cx="50403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27" name="Текст 7" descr=""/>
          <p:cNvPicPr/>
          <p:nvPr/>
        </p:nvPicPr>
        <p:blipFill>
          <a:blip r:embed="rId1"/>
          <a:stretch/>
        </p:blipFill>
        <p:spPr>
          <a:xfrm>
            <a:off x="92160" y="1243080"/>
            <a:ext cx="4467240" cy="4829040"/>
          </a:xfrm>
          <a:prstGeom prst="rect">
            <a:avLst/>
          </a:prstGeom>
          <a:ln w="0">
            <a:noFill/>
          </a:ln>
        </p:spPr>
      </p:pic>
      <p:pic>
        <p:nvPicPr>
          <p:cNvPr id="328" name="Объект 6" descr=""/>
          <p:cNvPicPr/>
          <p:nvPr/>
        </p:nvPicPr>
        <p:blipFill>
          <a:blip r:embed="rId2"/>
          <a:stretch/>
        </p:blipFill>
        <p:spPr>
          <a:xfrm>
            <a:off x="4753080" y="743040"/>
            <a:ext cx="4140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СИХОЛОГИЧЕСКОЕ ЗДОРОВЬ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30" name="Объект 3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056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332" name="Заголовок 2" descr=""/>
          <p:cNvPicPr/>
          <p:nvPr/>
        </p:nvPicPr>
        <p:blipFill>
          <a:blip r:embed="rId1"/>
          <a:stretch/>
        </p:blipFill>
        <p:spPr>
          <a:xfrm>
            <a:off x="182520" y="2846520"/>
            <a:ext cx="868680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42920" y="142920"/>
          <a:ext cx="8858160" cy="6773760"/>
        </p:xfrm>
        <a:graphic>
          <a:graphicData uri="http://schemas.openxmlformats.org/drawingml/2006/table">
            <a:tbl>
              <a:tblPr/>
              <a:tblGrid>
                <a:gridCol w="8858160"/>
              </a:tblGrid>
              <a:tr h="64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1581f"/>
                          </a:solidFill>
                          <a:latin typeface="Franklin Gothic Book"/>
                        </a:rPr>
                        <a:t>СИ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131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34136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4136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при стрессе, нагрузке увеличивают тонус умственной деятельности. Время выполнения заданий уменьшаетс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экзаменационные работы могут выполняться лучше текущих. Могут сделать задание «в один присест»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допустим небольшой уровень шума Общество сверстников не мешает, а только помогает их работе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требуется некоторая «раскачка» в начале работы, поэтому предпочтительнее делать задания от легких к трудным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главных действий намного больше, чем вспомогательных, т.е.  требуется меньше времени на подготовку к работе, проверку правильности выполнения. Однако точность выполнения работы при этом может страдать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142920" y="0"/>
          <a:ext cx="8858160" cy="6750000"/>
        </p:xfrm>
        <a:graphic>
          <a:graphicData uri="http://schemas.openxmlformats.org/drawingml/2006/table">
            <a:tbl>
              <a:tblPr/>
              <a:tblGrid>
                <a:gridCol w="88581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1581f"/>
                          </a:solidFill>
                          <a:latin typeface="Franklin Gothic Book"/>
                        </a:rPr>
                        <a:t>СЛАБ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23160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низкая выносливость, требуется больше времени на выполнение заданий, чтобы дать отдых нервным клеткам, это сохраняет оптимальную работоспособность;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подходит  стиль деятельности, при котором есть возможность выполнять качественно разнородные действия. Если этого не обеспечить - могут сами переходить к выполнению следующих действий до получения результатов предыдущих. (объяснение:  включается охранительное торможение, которое помогает избегать переутомления);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при заучивании текста полезны вспомогательные действия - деление текста на фрагменты, рисование мысленных картинок к ним, составление плана текста и т.п.;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214200" y="142920"/>
          <a:ext cx="8786880" cy="6500880"/>
        </p:xfrm>
        <a:graphic>
          <a:graphicData uri="http://schemas.openxmlformats.org/drawingml/2006/table">
            <a:tbl>
              <a:tblPr/>
              <a:tblGrid>
                <a:gridCol w="8786880"/>
              </a:tblGrid>
              <a:tr h="6969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1581f"/>
                          </a:solidFill>
                          <a:latin typeface="Franklin Gothic Book"/>
                        </a:rPr>
                        <a:t>СЛАБ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580392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необходимы перерывы в работе, полная тишина и уединение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стоит сначала делать более трудные задания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в ситуации экзамена тонус умственной деятельности снижается, время выполнения задания увеличивается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количество главных действий меньше, чем вспомогательных. Для получения высокого результата необходимо тщательно подготовить рабочее место, настроиться на работу, проверять ее в конце работ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304920" y="311040"/>
            <a:ext cx="8686800" cy="14018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1116000" y="2276640"/>
            <a:ext cx="7416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Franklin Gothic Book"/>
              </a:rPr>
              <a:t>                       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Franklin Gothic Book"/>
              </a:rPr>
              <a:t> </a:t>
            </a:r>
            <a:r>
              <a:rPr b="1" lang="ru-RU" sz="4000" spc="-1" strike="noStrike">
                <a:solidFill>
                  <a:srgbClr val="603b14"/>
                </a:solidFill>
                <a:latin typeface="Franklin Gothic Book"/>
              </a:rPr>
              <a:t>ФИТОТЕРАПИЯ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8" name="Содержимое 9" descr="7.jpg"/>
          <p:cNvPicPr/>
          <p:nvPr/>
        </p:nvPicPr>
        <p:blipFill>
          <a:blip r:embed="rId2"/>
          <a:stretch/>
        </p:blipFill>
        <p:spPr>
          <a:xfrm>
            <a:off x="755640" y="1755720"/>
            <a:ext cx="777708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6:04:04Z</dcterms:created>
  <dc:creator>Чернушенко</dc:creator>
  <dc:description/>
  <dc:language>en-US</dc:language>
  <cp:lastModifiedBy>Муханова</cp:lastModifiedBy>
  <cp:lastPrinted>2014-04-29T12:44:28Z</cp:lastPrinted>
  <dcterms:modified xsi:type="dcterms:W3CDTF">2015-04-17T20:24:39Z</dcterms:modified>
  <cp:revision>68</cp:revision>
  <dc:subject/>
  <dc:title>ЕГЭ НА ОТЛИЧНО</dc:title>
</cp:coreProperties>
</file>