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5633640" y="-36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32587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5633640" y="6513120"/>
            <a:ext cx="4311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21BC-02DD-42A0-9590-47C0A658CB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5634000" y="6513480"/>
            <a:ext cx="431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8633-0549-4D8D-ADFC-386ADA8873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2E5-6C3B-4E3C-B534-1475AFDE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5DE-B68E-46A7-8C52-289F5C87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CDC-10D0-4DC5-86D2-05BA9C7E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4D9-A211-4F76-BD5C-823A30ED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355F-29AB-40DA-8610-902C4FDA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DDBC-E870-4FC4-B448-02514970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C056-989A-45FD-9A4E-8FC136F0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A789-A14B-441F-820A-1DE1971A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1800-EFA5-4CD7-BB0C-46E57A60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F982-CA1F-4B45-A1CD-E81E01C7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848E-38E1-484D-A945-22F92832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B46-5EF7-444F-A4FC-01DCCC21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A5FB-6AC7-49CC-8301-ACD55138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4C2C-01FF-4B95-B224-81434A3E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D1D1-478E-426F-99FE-A358CED5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35B0-D897-4A2C-ADFB-CF3368AC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E5A7-EE64-4454-BAC9-DAAADB8A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86926-9C25-48A8-A81F-894313F1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A3A2-D116-4A2A-89BA-FACF1B90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81D6-A637-42F3-8251-29385269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0199D-98D3-4970-ADE0-DEF824E7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F8CE4-AA05-4799-83ED-58E3D2CD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2F0-6359-4B60-A0D0-DC63781E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2ABE0-3C74-4CF8-BE3E-19DF5977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7C815-3C21-4108-94B8-FF7A3653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7E2A8-7E0C-4FA2-85E6-83D000BA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E1BA5-0DBD-4F4B-A9B6-480BF700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37E5-C94E-4A6F-9788-52A1F510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9F83-92D9-4A30-9A88-F7C55C7C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FA39B-BF03-4B2A-AD3C-3373B8D1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6724E-E533-497E-99C4-F2443694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04CD8-AD97-4031-AA6F-4BC123E2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E8465-B924-46DF-A066-063DBC8B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078-9836-4164-A413-6AC642B3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26E79-8F8F-4321-AF96-6F106184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79189-FE17-4041-87E5-B70E045D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2998E-B5A7-4737-BCFA-0449D8DF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E9009-D214-4817-99DE-3FB9F1DB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C40BE-AB04-47C1-A430-1AD3E798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43F9A-13A6-4F77-846D-74C1DEDE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198EB-AB9B-4E21-A547-3A0697D2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950E4-7945-4E93-A226-7EC237EA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2AEA1-3C73-4026-A3C8-7868BF41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EDF22-AFBC-438E-9D7E-017FAB3B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E4E5-1A40-4507-A98C-DE42A409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4C017-A38E-401C-BDA2-7B0F295B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408C4-2A10-4FAF-A1D6-B1EF0F7D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E341F-6F0E-4400-9AF0-4E59B5BA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882DA-D361-4487-9D9E-9B1A5573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43094-2A91-4A64-AB75-D5936048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14C79-8147-4164-A82C-A8825256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2F8F3-EA9A-4632-9AEC-54A39F89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86786-ED02-4750-8357-AC0EFB63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B8DC0-10D4-4126-A452-47014A2F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2D50B-B430-4FBD-A248-1D5DE7FF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413-0AF3-43A5-94D5-876FA223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1EE76-FF12-4877-81DD-2FDBBE39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A8AB8-CCB7-4888-8202-8C4CEB3E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9F95B-7FF4-4C68-967D-4CB182E5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95D0E-4401-4976-9610-AC2BBCCE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FF93E-6346-4262-84DE-180042AA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4210C-A4B5-4256-8C26-BD29ADD6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E480B-3A60-48A7-B70A-BB2E282A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DD66E-1B7B-4A93-B59D-688CBC26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6D79F-3693-4698-9BC0-9A6C6E0E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8A9C5-71E3-4A1E-940B-F94B8721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D54-BA74-427E-A55E-09C3A7AA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F1C49-97F3-4325-95CB-0A9975B2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624AF-2952-4D3E-8695-0D51C304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6D400-B49A-4A14-BE99-55E42398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A20-5102-4D76-8B3C-B16158D1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C98-860B-4E71-A632-47E2395C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C3CD-878E-4379-BAAE-7320670F68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66AD-3CC3-400B-990C-8B45D562C01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E1D0-A0DE-4A8F-9FC4-37E157BBB44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10B7-DE13-4B93-AE24-E0F76A51FD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D8E3-8FA7-436B-B045-8B2DB620DC7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FF56-86A1-44E0-8588-C2687D545EF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347760" y="4206960"/>
            <a:ext cx="8540640" cy="2852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321" name="Объект 3" descr=""/>
          <p:cNvPicPr/>
          <p:nvPr/>
        </p:nvPicPr>
        <p:blipFill>
          <a:blip r:embed="rId2"/>
          <a:stretch/>
        </p:blipFill>
        <p:spPr>
          <a:xfrm>
            <a:off x="928800" y="142920"/>
            <a:ext cx="7215120" cy="4263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22" name="TextBox 4"/>
          <p:cNvSpPr/>
          <p:nvPr/>
        </p:nvSpPr>
        <p:spPr>
          <a:xfrm>
            <a:off x="6875640" y="4941720"/>
            <a:ext cx="1854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506520" y="1268280"/>
            <a:ext cx="8235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74444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040"/>
              </a:solidFill>
              <a:latin typeface="Franklin Gothic Medium"/>
            </a:endParaRPr>
          </a:p>
        </p:txBody>
      </p:sp>
      <p:pic>
        <p:nvPicPr>
          <p:cNvPr id="342" name="Picture 2" descr="C:\Users\татьяна\Pictures\Марина\dieta-184.jpg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5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24000" y="189000"/>
            <a:ext cx="8496000" cy="640872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Морковь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 облегчает запоминание, так как стимулирует обмен веществ в мозгу. Совет: перед зубрежкой съесть тарелку тертой моркови с растительным масло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Ананас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Тот, кому необходимо удерживать в памяти большой объем текста или нотных знаков, нуждается в витамине С, который в большом количестве содержится в этом фрукте. кислот. Достаточно половины плод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Репчатый лук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помогает при умственном переутомлении или психической усталости. Способствует разжижению крови, улучшает снабжение мозга кислородом. Минимум половина луковицы ежедневн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Franklin Gothic Book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5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24000" y="189000"/>
            <a:ext cx="8496000" cy="640872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рех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и особенно хороши, если предстоит умственный «марафон». Укрепляют нервную систему, стимулируют деятельность мозг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Тмин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способствует рождению гениальных идей. Эфирные масла, содержащиеся в тмине, стимулируют всю нервную систему. Чай из тмина: две чайные ложки измельченных семян на чашк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Капуста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снимает нервозность, так как снижает активность щитовидной железы. Чтобы прошло напряжение, съешьте салат из капусты перед экзаменом.</a:t>
            </a:r>
            <a:r>
              <a:rPr b="0" lang="ru-RU" sz="2800" spc="-1" strike="noStrike">
                <a:solidFill>
                  <a:srgbClr val="91581f"/>
                </a:solidFill>
                <a:latin typeface="Franklin Gothic Book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89000"/>
            <a:ext cx="8496000" cy="640872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Креветки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снабжают важнейшими жирными кислотами, которые не дадут вниманию ослабнуть. Достаточно 100г в день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априка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– чем острее, тем лучше. Ароматические вещества способствуют выделению «гормона счастья» - эндорфин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Клубника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быстро нейтрализует отрицательные эмоци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Бананы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 содержат серототин – вещество, необходимое мозгу, чтобы тот сигнализировал: «Вы счастливы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Заголовок 1"/>
          <p:cNvSpPr/>
          <p:nvPr/>
        </p:nvSpPr>
        <p:spPr>
          <a:xfrm>
            <a:off x="426960" y="115920"/>
            <a:ext cx="835344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5" descr="C:\Users\Nadezhda\Desktop\Горячая линия ЕГЭ 2015.jpg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9800" y="1125360"/>
            <a:ext cx="7124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  <a:ea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9280" y="1197000"/>
            <a:ext cx="8785440" cy="5472000"/>
          </a:xfrm>
          <a:prstGeom prst="rect">
            <a:avLst/>
          </a:prstGeom>
          <a:gradFill rotWithShape="0">
            <a:gsLst>
              <a:gs pos="0">
                <a:srgbClr val="fdf5df"/>
              </a:gs>
              <a:gs pos="100000">
                <a:srgbClr val="f3cd60"/>
              </a:gs>
            </a:gsLst>
            <a:lin ang="5400000"/>
          </a:gradFill>
          <a:ln w="10080">
            <a:solidFill>
              <a:srgbClr val="c1752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ctr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сохранить здоровье ребен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снизить риски стресса у старшеклассни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беспечить дома комфортные условия для подготовки к выпускным экзаменам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казать поддержку в выборе профессии с учетом любых результатов экзамен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9800" y="30240"/>
            <a:ext cx="8277480" cy="10857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142560" y="836640"/>
            <a:ext cx="8821800" cy="5905440"/>
          </a:xfrm>
          <a:prstGeom prst="rect">
            <a:avLst/>
          </a:prstGeom>
          <a:gradFill rotWithShape="0">
            <a:gsLst>
              <a:gs pos="0">
                <a:srgbClr val="fdf5df"/>
              </a:gs>
              <a:gs pos="100000">
                <a:srgbClr val="f3cd60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создать оптимальные условия для подготовки и... не мешать. Поощрение, поддержка, реальная помощь, спокойствие взрослых помогают ребенку успешно справиться с волнением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не запугивать, не напоминать о сложности и ответственности предстоящих экзаменов. Это снижает мотивацию, создает эмоциональные барьеры, которые сам ребенок преодолеть не может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скорректировать ожидания. Объясните: для хорошего результата не обязательно отвечать на все вопросы. Гораздо эффективнее дать ответы на вопросы, которые он знает, чем переживать из-за нерешенных заданий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независимо от результата экзамена, щедро и от всей души говорите о том, что он – самый любимый, что все у него в жизни получится! Вера в успех, уверенность в своем ребенке, его возможностях очень важн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Т ЧЕГО ЗАВИСИТ УСПЕХ?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29" name="Объект 5" descr=""/>
          <p:cNvPicPr/>
          <p:nvPr/>
        </p:nvPicPr>
        <p:blipFill>
          <a:blip r:embed="rId1"/>
          <a:stretch/>
        </p:blipFill>
        <p:spPr>
          <a:xfrm>
            <a:off x="-66600" y="1212840"/>
            <a:ext cx="9302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304920" y="212760"/>
            <a:ext cx="8686800" cy="1079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23640" y="1125360"/>
            <a:ext cx="8569080" cy="5399280"/>
          </a:xfrm>
          <a:prstGeom prst="rect">
            <a:avLst/>
          </a:prstGeom>
          <a:gradFill rotWithShape="0">
            <a:gsLst>
              <a:gs pos="0">
                <a:srgbClr val="fdf5df"/>
              </a:gs>
              <a:gs pos="100000">
                <a:srgbClr val="f3cd60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важно разработать стратегию деятельности при подготовке и во время экзамена. (аудиал, визуал и т.д.)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дна из главных причин предэкзаменационного стресса - ситуация неопределенности. Заблаговременное ознакомление с правил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ведения ЕГЭ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полнения бланк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ями экзаме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оможет разрешить эту ситуацию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59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РГАНИЗАЦИЯ ЗАНЯТИЙ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2920" y="1196640"/>
            <a:ext cx="8848800" cy="5545080"/>
          </a:xfrm>
          <a:prstGeom prst="rect">
            <a:avLst/>
          </a:prstGeom>
          <a:gradFill rotWithShape="0">
            <a:gsLst>
              <a:gs pos="0">
                <a:srgbClr val="fdf5df"/>
              </a:gs>
              <a:gs pos="100000">
                <a:srgbClr val="f3cd60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решение пробных тестовых заданий уменьшит чувство неизвестности; в процессе работы  приучайте ребёнка ориентироваться во времени и уметь его распределять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омогите распределить темы подготовки по дня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беспечьте ребенку удобное место для занятий, чтобы ему нравилось там занимать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озаботьтесь об организации режима дня и полноценного пита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не допускайте перегрузок ребенка. Через каждые 40-50 минут занятий обязательно нужно делать перерывы на 10-15 минут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59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ОРГАНИЗАЦИЯ ЗАНЯТИЙ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197000"/>
            <a:ext cx="8686800" cy="5472000"/>
          </a:xfrm>
          <a:prstGeom prst="rect">
            <a:avLst/>
          </a:prstGeom>
          <a:gradFill rotWithShape="0">
            <a:gsLst>
              <a:gs pos="0">
                <a:srgbClr val="fdf5df"/>
              </a:gs>
              <a:gs pos="100000">
                <a:srgbClr val="f3cd60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накануне экзамена ребенок должен отдохнуть и выспаться; в период активной подготовки время сна нужно увеличить на 1 час; проследите за эти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в экзаменационную пору всегда присутствует психологическое напряжение; стресс при этом - абсолютно нормальная реакция организма. важно формирование адекватного отношения к ситуации; это поможет ребенку разумно распределить силы для подготовки и сдачи экзамена, а родителям - оказать ему правильную помощ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ЭФФЕКТИВНОЕ ЗАУЧИВАНИ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78920" y="1197000"/>
            <a:ext cx="881244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овторять рекомендуется сразу в течение 15-20 минут, через 8-9 часов и через 24 часа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олезно повторять материал за 15-20 минут до сна и утром, «на свежую голову»; при каждом повторении нужно осмысливать ошибки и обращать внимание на  трудные места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повторение будет эффективным, если воспроизводить материал своими словами близко к тексту; обращения к тексту лучше делать, если вспомнить материал не удается в течение 2-3 минут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чтобы перевести информацию в долговременную память, нужно делать повторения спустя сутки, двое и так далее, постепенно увеличивая временные интервалы между повторениями; такой способ обеспечит запоминание надолго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396720" y="311040"/>
            <a:ext cx="8204400" cy="1603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C:\Users\цпмсс-леново-нов-3\Desktop\Рисунок1.jpg"/>
          <p:cNvPicPr/>
          <p:nvPr/>
        </p:nvPicPr>
        <p:blipFill>
          <a:blip r:embed="rId2"/>
          <a:stretch/>
        </p:blipFill>
        <p:spPr>
          <a:xfrm>
            <a:off x="395280" y="2044800"/>
            <a:ext cx="8381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6:04:04Z</dcterms:created>
  <dc:creator>Чернушенко</dc:creator>
  <dc:description/>
  <dc:language>en-US</dc:language>
  <cp:lastModifiedBy>Муханова</cp:lastModifiedBy>
  <cp:lastPrinted>2014-04-29T12:44:28Z</cp:lastPrinted>
  <dcterms:modified xsi:type="dcterms:W3CDTF">2015-04-17T20:23:47Z</dcterms:modified>
  <cp:revision>68</cp:revision>
  <dc:subject/>
  <dc:title>ЕГЭ НА ОТЛИЧНО</dc:title>
</cp:coreProperties>
</file>