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AB70-B8FD-420D-91C1-D3321CC97C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34B6-DBB4-415D-B842-79E13DB721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7E3-3CCA-4E9A-B7DC-3B729A51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43D-0DA4-4623-B0CB-3A15EEDB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36B-ADF3-4621-ADC9-0EAB045F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C8F-AA61-4F2E-B62E-168FCF20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A43B-E8DF-4A92-AD57-52AE360A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497A-CA17-403C-9F8A-41140C4F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F971-ABCB-4C24-8A73-B1F6BC94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1259-973A-4167-9AB0-76F42811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0C3-9631-4A41-B31D-22D6D6F8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7918-AF0F-47E4-A937-6CA42858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9586-53EE-4558-87DD-727EB178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B70-C4BA-4FBB-9348-BB1CF0DB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C0AB-99CA-4BEA-87F8-3F489CF9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17AB-C979-4CBC-B716-B8620EB0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35D0-64F8-41AB-9F0D-B5077E73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7988-5B35-430C-A187-BB6BD111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969-8E20-4E32-A4F0-3D0E50F9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0511-EA49-4141-B0FC-91AA875E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651A-08EE-4630-8BA8-CE216B63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93C9-3A43-441B-AF65-4FE39B68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C5F2-8775-48E5-BAF7-2FCD08BA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34DF-8A2B-4129-B9F6-5440B9B0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D53-881F-4C0E-8B7C-25CC699E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3620-06FD-4730-985B-E3F39632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3683-815C-4CED-8F54-AE4BEFD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171B-CCE2-4A45-92C6-540662C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AA60A-7F31-4B33-9A77-93FE4074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0651-8DB4-4987-8ECC-024ED394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83FF-B57E-4764-A9F3-009F8E35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6F38-E20C-4802-AED7-EBB6EDD9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CD2C-8BC6-456A-B67D-187FBF93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4E2C-C823-4D16-B672-E8D95506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5DC5-72B8-413E-B319-8E4EEE88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796-27CB-4CF3-A539-802C2D12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2BE4-8EB6-4C74-A848-1AB805EF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980B1-606C-4BE4-A43D-109AC0CC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DE4C-D16E-4905-8D05-ED10745F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EBCA-5496-4293-BEAF-F2BEFB5C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1A4F0-036B-4CF7-BD46-6BD1921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5C58-7940-4AB1-8340-62C7E8B5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EB88-ED62-4E1E-AB12-92841FC4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0C0B0-10EB-4C30-9E7F-E6B32993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7E794-99F9-4C44-8629-F7180124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E6F9C-0387-43EF-92D2-5118A882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B8D-DBEB-4CB2-9C21-DC2C7237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60FE-2CEB-4D05-AF3A-49223A5B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BE00E-55A9-4F28-A51D-189DC1CC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6909B-2CC3-478D-885A-D5EF5044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7AB8-0006-4EEA-82C2-6B06B9D9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E7BD1-81AB-44EF-8E0C-DE7B3436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EC0D3-F1F2-4CB1-B3CF-BDA8EE6A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5445-110B-45C4-9CB7-5E47957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18DE-26AE-464F-9E52-40CC126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D9B4E-8FE2-4815-8F9D-B44AF011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2BC11-9FA5-42BF-8E70-C35DF8D5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B8D-1883-46E3-A429-F5CA37E7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605C-C8B7-4283-8AC2-935B82D6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77A25-F8B9-4745-A86F-5DDC92FA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6DD87-3D32-441A-AE05-485B163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8BB05-CADF-4CF3-9D26-1F9EDBF8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9E4DF-8644-48C8-84D8-7F24FDD7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281B2-CD63-4198-B698-02A1865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0665A-8F94-49C4-A129-954C938B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A7BB-2FE5-4CD4-B943-618DB975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E8C22-68D8-4AA5-ACAA-6F89660B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D2EE4-F86F-4D82-A1FF-5198C35B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2D0-823F-4E3E-A823-5F9E30EE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2AA89-57AE-4973-8C57-05AD4E3F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E220-A35B-411C-A63C-879D0A90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235D-6A62-424E-9D4A-A4E39B88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B30-93B2-442B-B48F-F71E975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55B-6DA0-455B-B926-59C19FD3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31C8-07AA-4C89-BF36-217637D4E9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7CE0-08F9-4632-B189-B1DBC02B9C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D7C7-ED28-417C-AD45-A4732F5606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49F8-C403-43E4-B128-A9293B5C3A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019F-FC11-48D6-BEA8-DC39068888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545C-C78C-4BF2-9995-E50F654FD8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347760" y="4206960"/>
            <a:ext cx="8540640" cy="2852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321" name="Объект 3" descr=""/>
          <p:cNvPicPr/>
          <p:nvPr/>
        </p:nvPicPr>
        <p:blipFill>
          <a:blip r:embed="rId2"/>
          <a:stretch/>
        </p:blipFill>
        <p:spPr>
          <a:xfrm>
            <a:off x="928800" y="142920"/>
            <a:ext cx="7215120" cy="426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22" name="TextBox 4"/>
          <p:cNvSpPr/>
          <p:nvPr/>
        </p:nvSpPr>
        <p:spPr>
          <a:xfrm>
            <a:off x="6875640" y="4941720"/>
            <a:ext cx="1854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506520" y="1268280"/>
            <a:ext cx="8235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74444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Franklin Gothic Medium"/>
            </a:endParaRPr>
          </a:p>
        </p:txBody>
      </p:sp>
      <p:pic>
        <p:nvPicPr>
          <p:cNvPr id="342" name="Picture 2" descr="C:\Users\татьяна\Pictures\Марина\dieta-184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Морковь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 облегчает запоминание, так как стимулирует обмен веществ в мозгу. Совет: перед зубрежкой съесть тарелку тертой моркови с растительным масл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Ананас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Тот, кому необходимо удерживать в памяти большой объем текста или нотных знаков, нуждается в витамине С, который в большом количестве содержится в этом фрукте. кислот. Достаточно половины плод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епчатый лук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помогает при умственном переутомлении или психической усталости. Способствует разжижению крови, улучшает снабжение мозга кислородом. Минимум половина луковицы ежедневн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рех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и особенно хороши, если предстоит умственный «марафон». Укрепляют нервную систему, стимулируют деятельность мозг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Тмин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способствует рождению гениальных идей. Эфирные масла, содержащиеся в тмине, стимулируют всю нервную систему. Чай из тмина: две чайные ложки измельченных семян на чаш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Капуста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снимает нервозность, так как снижает активность щитовидной железы. Чтобы прошло напряжение, съешьте салат из капусты перед экзаменом.</a:t>
            </a:r>
            <a:r>
              <a:rPr b="0" lang="ru-RU" sz="2800" spc="-1" strike="noStrike">
                <a:solidFill>
                  <a:srgbClr val="91581f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Креветки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снабжают важнейшими жирными кислотами, которые не дадут вниманию ослабнуть. Достаточно 100г в ден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априка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– чем острее, тем лучше. Ароматические вещества способствуют выделению «гормона счастья» - эндорфи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Клубника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быстро нейтрализует отрицательные эмоц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Бананы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содержат серототин – вещество, необходимое мозгу, чтобы тот сигнализировал: «Вы счастливы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Заголовок 1"/>
          <p:cNvSpPr/>
          <p:nvPr/>
        </p:nvSpPr>
        <p:spPr>
          <a:xfrm>
            <a:off x="426960" y="115920"/>
            <a:ext cx="83534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C:\Users\Nadezhda\Desktop\Горячая линия ЕГЭ 2015.jpg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9800" y="1125360"/>
            <a:ext cx="7124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  <a:ea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c1752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охранить здоровье ребен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низить риски стресса у старшеклассни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беспечить дома комфортные условия для подготовки к выпускным экзаменам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казать поддержку в выборе профессии с учетом любых результатов экзамен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77480" cy="1085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142560" y="836640"/>
            <a:ext cx="8821800" cy="590544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оздать оптимальные условия для подготовки и... не мешать. Поощрение, поддержка, реальная помощь, спокойствие взрослых помогают ребенку успешно справиться с волнением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е запугивать, не напоминать о сложности и ответственности предстоящих экзаменов. Это снижает мотивацию, создает эмоциональные барьеры, которые сам ребенок преодолеть не может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корректировать ожидания. Объясните: для хорошего результата не обязательно отвечать на все вопросы. Гораздо эффективнее дать ответы на вопросы, которые он знает, чем переживать из-за нерешенных задани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езависимо от результата экзамена, щедро и от всей души говорите о том, что он – самый любимый, что все у него в жизни получится! Вера в успех, уверенность в своем ребенке, его возможностях очень важн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Т ЧЕГО ЗАВИСИТ УСПЕХ?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29" name="Объект 5" descr=""/>
          <p:cNvPicPr/>
          <p:nvPr/>
        </p:nvPicPr>
        <p:blipFill>
          <a:blip r:embed="rId1"/>
          <a:stretch/>
        </p:blipFill>
        <p:spPr>
          <a:xfrm>
            <a:off x="-66600" y="1212840"/>
            <a:ext cx="9302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212760"/>
            <a:ext cx="8686800" cy="1079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важно разработать стратегию деятельности при подготовке и во время экзамена. (аудиал, визуал и т.д.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дна из главных причин предэкзаменационного стресса - ситуация неопределенности. Заблаговременное ознакомление с правил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дения ЕГЭ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олнения бланк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ями экзаме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может разрешить эту ситуацию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РГАНИЗАЦИЯ ЗАНЯТИЙ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2920" y="1196640"/>
            <a:ext cx="8848800" cy="554508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ешение пробных тестовых заданий уменьшит чувство неизвестности; в процессе работы  приучайте ребёнка ориентироваться во времени и уметь его распределять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могите распределить темы подготовки по дня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беспечьте ребенку удобное место для занятий, чтобы ему нравилось там занимать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заботьтесь об организации режима дня и полноценного пит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е допускайте перегрузок ребенка. Через каждые 40-50 минут занятий обязательно нужно делать перерывы на 10-15 минут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РГАНИЗАЦИЯ ЗАНЯТИЙ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197000"/>
            <a:ext cx="8686800" cy="547200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акануне экзамена ребенок должен отдохнуть и выспаться; в период активной подготовки время сна нужно увеличить на 1 час; проследите за эт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в экзаменационную пору всегда присутствует психологическое напряжение; стресс при этом - абсолютно нормальная реакция организма. важно формирование адекватного отношения к ситуации; это поможет ребенку разумно распределить силы для подготовки и сдачи экзамена, а родителям - оказать ему правильную помощ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ЭФФЕКТИВНОЕ ЗАУЧИВАН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78920" y="1197000"/>
            <a:ext cx="881244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вторять рекомендуется сразу в течение 15-20 минут, через 8-9 часов и через 24 час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лезно повторять материал за 15-20 минут до сна и утром, «на свежую голову»; при каждом повторении нужно осмысливать ошибки и обращать внимание на  трудные мест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вторение будет эффективным, если воспроизводить материал своими словами близко к тексту; обращения к тексту лучше делать, если вспомнить материал не удается в течение 2-3 минут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чтобы перевести информацию в долговременную память, нужно делать повторения спустя сутки, двое и так далее, постепенно увеличивая временные интервалы между повторениями; такой способ обеспечит запоминание надолго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396720" y="311040"/>
            <a:ext cx="8204400" cy="1603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цпмсс-леново-нов-3\Desktop\Рисунок1.jpg"/>
          <p:cNvPicPr/>
          <p:nvPr/>
        </p:nvPicPr>
        <p:blipFill>
          <a:blip r:embed="rId2"/>
          <a:stretch/>
        </p:blipFill>
        <p:spPr>
          <a:xfrm>
            <a:off x="395280" y="2044800"/>
            <a:ext cx="8381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6:04:04Z</dcterms:created>
  <dc:creator>Чернушенко</dc:creator>
  <dc:description/>
  <dc:language>en-US</dc:language>
  <cp:lastModifiedBy>Муханова</cp:lastModifiedBy>
  <cp:lastPrinted>2014-04-29T12:44:28Z</cp:lastPrinted>
  <dcterms:modified xsi:type="dcterms:W3CDTF">2015-04-17T20:23:47Z</dcterms:modified>
  <cp:revision>68</cp:revision>
  <dc:subject/>
  <dc:title>ЕГЭ НА ОТЛИЧНО</dc:title>
</cp:coreProperties>
</file>