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54F-9069-4B1B-BF30-5C127F41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8D3-B578-4F5A-B042-4A834FE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658-D3B9-454B-9A8C-4446B292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9F9-F96F-495E-9745-18AE58BF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57A-37BA-4B8F-A6BD-4EF41F0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7A9-076E-43AF-8207-EC9A561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2611-F5C1-4C68-8EE8-E5BFD726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3B94-4FA0-4D9D-9B4C-8AB592B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ECB2-B712-4A7F-BE30-9DB49FFF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B869-463D-4661-A58F-7086BADD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E74D-2E1A-4546-BD96-3CCCAA4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86-7E82-41C8-82A9-A040404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A91-4628-4E2E-8B1C-335F39A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010D-4226-4D04-9A1F-4457319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1A1-DCBE-4EE8-92CB-D56E249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A3DB-DACF-4EA2-8395-C1EE89B1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9A54-6FB3-466F-BFCD-CE827EB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0255-2E54-4308-BAB8-A5F7A0F3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7DC5-A679-460C-8824-55B3EBB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5BE4-7E34-4000-9B54-E9ECA7C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D3DA-DA7E-4FF0-8F57-B614AF58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716F-8434-4D19-832C-C0B152B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116-4D6C-45D0-9FD8-73DF257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6FF6-CCE8-4F92-8A41-63D95D8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1D3B-849A-451A-8A3E-126E3E68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D089-D6B3-4046-9512-607F5F9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7002-A940-4521-A5C1-6E79EDF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2BA0-85BE-4508-8C71-1B5C6D32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9517-C1FC-43D2-8140-B2E23781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262A-DCDB-4C7F-91D8-BE46C186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A55C-6344-4A17-B5F8-707D5553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1B19-8F0B-453E-A608-098B087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08E6-898F-471B-BAD4-C89058C2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56B-48CE-498A-8B41-25403F9D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AC3C-060C-4EAF-88FF-E885CBC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D550-E92A-42D4-A387-B96A284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9A74-97E3-46D6-8E06-5DA7F78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BBDF-FE89-4D04-A908-C0CD5B3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D1D7-6217-43AB-8426-418FB89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8B3C-7693-4D29-96CE-54B7B2A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D36A-315F-4A71-82FE-011E6C9D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CF4B-2665-4E94-AD97-9D92BF21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9FF7-E88D-476D-88DC-05253893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1784-0BDC-4490-8509-757BE165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502-A9B8-4526-A1A7-0121A394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9EA9-D0EA-413C-8F66-247A5CE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F9FA-76F7-4146-BB62-2563F12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99B3F-D6E3-4BFB-8CB3-D9A68621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3FA4-0BD1-4FB2-B949-A65B06D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D956-4D48-43E3-8AC3-6F600193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FB1A-8258-41C1-AEA6-1E6D81C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F48C-74A5-43BE-9D38-97E9188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F8C3B-0BBE-4119-82C6-04BFBFA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46E4-FE3B-47DE-A8F2-31BD90C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17CC-01E9-422D-9A34-A5F69260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AA5-A445-4B09-946A-526CA48E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E629-E24F-4330-BAEF-872103AD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C21-9C58-4369-A508-B726667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2D8-B15D-4E41-9CBC-2577979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F36-EA38-47CE-9255-1CD26A5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2F9D-7854-4549-A2B7-C5B73E5D138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EDC-095A-429A-91D1-258860F8B36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654-0AD2-4CA4-9917-2EA98734BB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D1B0-38DF-4F63-89BB-A700EC83C41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DA1-2FB0-4E45-8947-A1E20A299F6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Verdana"/>
              </a:rPr>
              <a:t>Они сражались за Родину.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143000" cy="8967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71320" y="3929040"/>
            <a:ext cx="385092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857160" y="500040"/>
            <a:ext cx="7500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516720" y="5084640"/>
            <a:ext cx="208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подготовила учитель МКОУ ООШ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бунина О.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825480" y="457200"/>
            <a:ext cx="71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143000" cy="8967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4211640" y="62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ни тысяч тружеников Челябинской обл. изъявили желание вступить в ряды защитников Родины. В числе добровольцев было немало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84360" y="2781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амять о погибших создана Книг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ов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1-1945 гг. – жителей Челябинской област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611280" y="1268280"/>
            <a:ext cx="76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марта 2015 года на дне озера Увильды - самого красивого на Южном Урале – был установлен подводный мемориал, посвященный морякам-подводникам и всем, погибшим на фронтах Великой Отечественной Войны. Этот памятник безвозмездно изготовили мастера Златоустовской оружейной компании.  В годы В О В на деньги жителей Челябинской области были построены две современные на тот момент подводные лодки – «Ленинский комсомол» и «Челябинский комсомолец». Тысячи южноуральцев сражались в рядах военно-морских сил страны. Многие не вернулись на малую родину, отдав жизни на благо будущих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630360" y="47628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елябинской области на дне озера Увиль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ли памятник героям 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information_items_129232.jpg"/>
          <p:cNvPicPr/>
          <p:nvPr/>
        </p:nvPicPr>
        <p:blipFill>
          <a:blip r:embed="rId1"/>
          <a:stretch/>
        </p:blipFill>
        <p:spPr>
          <a:xfrm>
            <a:off x="2627280" y="4078440"/>
            <a:ext cx="3657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64268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Ни кто не забыт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ни что не забыто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Кобзон Иосиф - Журавли  (audiopoisk.com).mp3" descr=""/>
          <p:cNvPicPr/>
          <p:nvPr/>
        </p:nvPicPr>
        <p:blipFill>
          <a:blip r:embed="rId1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334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1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peoples.ru/state/citizen/kosmodemianskaya/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2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zanimatika.narod.ru/RF34_2_1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3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otvoyna.ru/deti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4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fresher.ru/manager_content/images/deti-vojny/14.jpg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5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otvoyna.ru/geroy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6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province.ru/chelyabinsk/news/item/1655-v-chelyabinskoy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7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chebarcul.ru/interactive/official-announcements/official-announcements_286.html</a:t>
            </a:r>
            <a:endParaRPr b="1" lang="en-US" sz="13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500800" y="33325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567520" y="981000"/>
            <a:ext cx="3489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б ни шёл, ни ехал ты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десь остановись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иле этой дорогой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сердцем поклонись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б ни был ты — рыб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хтё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ёный иль пастух, —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ек запомни: здесь лежит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й самый лучший друг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ля тебя, и для меня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делал все, что мог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бя в бою не пожалел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Родину сберё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. Иса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4788000" y="1052640"/>
            <a:ext cx="3571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т далекий летний день 22 июня 1941 года люди занимались обычными для себя делами. Школьники готовились к выпускному вечеру. Девчонки строили шалаши и играли в "дочки-матери", непоседливые мальчишки скакали верхом на деревянных лошадках, представляя себя красноармейцами. И никто не подозревал, что и приятные хлопоты, и задорные игры, и многие жизни перечеркнет одно страшное слово – война. У целого поколения, рожденного с 1928 по 1945 год, украли детств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928800" y="57168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 – 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5" descr="14 (1).jpg"/>
          <p:cNvPicPr/>
          <p:nvPr/>
        </p:nvPicPr>
        <p:blipFill>
          <a:blip r:embed="rId2"/>
          <a:stretch/>
        </p:blipFill>
        <p:spPr>
          <a:xfrm>
            <a:off x="324000" y="1773360"/>
            <a:ext cx="439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995640" y="476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яли родителей, братьев и сестер. Иногда напуганные дети по нескольку дней сидели рядом с холодными телами погибших матерей, ожидая решения своей участи. В лучшем случае их ждал советский детдом, в худшем – в фашистские застенки. Но многие боролись с фашизмом с оружием в руках, становясь сыновьями и дочерями полк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8" descr="99.jpg"/>
          <p:cNvPicPr/>
          <p:nvPr/>
        </p:nvPicPr>
        <p:blipFill>
          <a:blip r:embed="rId1"/>
          <a:stretch/>
        </p:blipFill>
        <p:spPr>
          <a:xfrm>
            <a:off x="395280" y="3357720"/>
            <a:ext cx="424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611280" y="981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потребовала от народа величайшего напряжения сил и огромных жертв в общенациональном масштабе, раскрыла стойкость и мужество советского человека, способность к самопожертвованию во имя свободы и независимости Родины. В годы войны героизм стал массовым, стал нормой поведения советских людей. Тысячи солдат и офицеров обессмертили свои имена при обороне Брестской крепости, Одессы, Севастополя, Киева, Ленинграда, Новороссийска, в битве под Москвой, Сталинградом, Курском, на Северном Кавказе, Днепре, в предгорьях Карпат, при штурме Берлина и в других сра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338560" y="5493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оизм во время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01840" y="40680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ктор Васильевич Талалих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4088520" y="4076640"/>
            <a:ext cx="451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ях Великой Отечественной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юня 194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ёл более 60-и боевых выл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и осенью 1941 года, сражал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Мос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 боевые отличия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ждён орденами Красного Зна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41) и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7" descr="tal.jpg"/>
          <p:cNvPicPr/>
          <p:nvPr/>
        </p:nvPicPr>
        <p:blipFill>
          <a:blip r:embed="rId2"/>
          <a:stretch/>
        </p:blipFill>
        <p:spPr>
          <a:xfrm>
            <a:off x="826920" y="1341360"/>
            <a:ext cx="3024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286240" y="39063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2064960" y="54936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Никитович Коже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421164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й Советского Союза (1944 – дважды; 1945). В Великую Отечественную войну в истребительной авиации, командир эскадрильи, заместитель командира полка, провёл 120 воздушных боёв; сбил 62 самолё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7" descr="kogedub.jpg"/>
          <p:cNvPicPr/>
          <p:nvPr/>
        </p:nvPicPr>
        <p:blipFill>
          <a:blip r:embed="rId2"/>
          <a:stretch/>
        </p:blipFill>
        <p:spPr>
          <a:xfrm>
            <a:off x="539640" y="981000"/>
            <a:ext cx="51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182320" y="50220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Космодемья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000760" y="1455120"/>
            <a:ext cx="3786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илась в сентябре 1923 года в Тамбовской области. Два раза Зоя была в тылу врага. В ноябре 1941 года в деревне Петрищево Московской области ее схватили нем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выведать секретную информацию, ее подвергали различным пыткам. Но Зоя молчала, не сказав ничего, даже имени и фамилии. После тяжелых пыток Зоя Космодемьянская была казнена на сельской площади деревни Петрищево 29 ноября 194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6 февраля 1942 года Зое Космодемьянской посмертно присудили звание Героя Советского Союза и наградили орденом Ленина. Ее героический подвиг служил примером во время войны для мно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214280" cy="952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Фотография Зоя Космодемьянская (photo Zoya Kosmodemianskaya)"/>
          <p:cNvPicPr/>
          <p:nvPr/>
        </p:nvPicPr>
        <p:blipFill>
          <a:blip r:embed="rId2"/>
          <a:stretch/>
        </p:blipFill>
        <p:spPr>
          <a:xfrm>
            <a:off x="755640" y="1413000"/>
            <a:ext cx="360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273400" y="430920"/>
            <a:ext cx="45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колай Гасте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3419640" y="1291680"/>
            <a:ext cx="5222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ю Гастелло было суждено совершить бессмертный подвиг, который остался в памяти народа. Николай родился в Москве в 1907 году.  26 июня 1941 года экипаж ДБ-3ф состоящий из Анатолия Бурденюка, Григория Скоробогатого и Алексея Калинина  вышел на боевое задание. Командовал самолетом капитан Гастелло. Летчикам предстояло бомбить немецкую колонну на дороге Молодечно-Радошковичи. Вскоре летчики заметили врага, отбомбившись, самолет взял курс на базу, как вдруг в машину попала зенитная немецкая ракета. У команды был шанс спастись, но ребята решили сделать по-другому. Горящий самолет, Гастелло и его товарищи отправили на колонну немецкой техники…      Врагу был нанесен серьезный уро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" descr="Gastello100.JPG"/>
          <p:cNvPicPr/>
          <p:nvPr/>
        </p:nvPicPr>
        <p:blipFill>
          <a:blip r:embed="rId2"/>
          <a:stretch/>
        </p:blipFill>
        <p:spPr>
          <a:xfrm>
            <a:off x="395280" y="1268280"/>
            <a:ext cx="280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15-04-15T13:13:19Z</dcterms:modified>
  <cp:revision>46</cp:revision>
  <dc:subject/>
  <dc:title>Слайд 1</dc:title>
</cp:coreProperties>
</file>