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D4A-EDC6-4E86-8563-4B5F940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23F-EFEC-4428-80A1-442CA2E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968-148E-4829-9C9A-B7451060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E78-970A-45D1-A3E2-FF14F136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BCF7-7C03-4BCA-B9AA-A450E274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BB84-D57A-4A97-95BF-12AA7C5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6735-A120-4F20-9B13-5E28155B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9CB4-4F53-4BDE-85D0-116B046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7AB-EC26-41B8-9C1D-C88E8DB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979-5FFE-4A27-9F7B-5B3B5333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C308-5601-4655-89C4-F6FB8F0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7C4-4924-49D4-B95E-9729B57A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A381-C5FA-49E8-8D4C-4E68BD2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8178-D01A-4361-A321-3710A875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9747-DDF9-4C6D-B6D5-303F642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8A7C-DAA2-4C3B-8D09-437282DB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765F-1053-4A95-AB18-42AC33AA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C866-E049-4D37-9C77-F858D7B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1AF8-5391-46C1-A245-6E618B7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5872-762D-4F6E-A227-EDC3511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B363-FAE7-4F37-BB19-81D2FC3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DE21-C863-4BF4-B03B-36A716A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1E5-C1C0-4ECC-B887-976DDBA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7D86-3B78-4526-BA50-7D2D68B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C802-811C-4734-A3FD-F1B32FB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5697-5C00-455A-B2A8-87C99E1D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6746-C27E-421F-87E3-6A4BAEEC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8477-7783-49F4-84A5-24836DB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D3B9-6DC4-408F-9F43-63EE068B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9003-2E77-4A62-8672-B323E0D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7BB2-8708-4119-A630-A3C26FEF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E2FD-E2F5-47E0-BC4B-08798C2B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967D-F416-4ACF-81F9-9436B12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43B-B247-4CB8-92C3-BB90526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F836-A4B2-418B-BB0A-6B9351D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E3F6-A73D-4900-BA63-9F16469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E22C-EF91-49BD-872D-453027E7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F780-9B8C-4FAC-BCD6-AEB114D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9FB9-F59F-43CE-9DE8-80C5179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B74C-9466-45E7-8810-F994163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A4FF-64AB-4588-A6C5-98080DD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E3CE-6827-4773-9EF0-581BB2F6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901B-E072-41FB-8738-26F3E6C4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BAB1-C62B-4300-B836-EBEDD15F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A94-4E59-4B61-B7FA-0D859104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5EF8-0696-41D0-94E1-C5BFB0B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50B3-C2F1-490C-89CA-BFA95DE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F059-0C59-464E-B2B1-3837D2D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3DA3D-927F-4A74-BF4A-52D2C20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9399-3662-4401-AEA8-827C9CA2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F3FB-014E-43DB-8A03-E04A0C2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79AF-917F-428E-967D-67034F9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5AE21-57CA-40FA-AC34-A0AACD6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AD7F-13F8-4692-8A48-1DC4EE74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99D5-0432-44F2-8232-05D9BD01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B53-453E-4F7A-924F-8A793D08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8DDC-2CF1-4CFA-93C2-1AAAF161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493-F5E2-4A07-9422-773FEBF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4AE-63E1-4F75-9120-9852FF2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F8F-F914-41D9-9309-ACE7C5A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BA0B-FE85-4D9A-8140-B5D7F420F8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AF12-6FCD-462E-A282-3B629C18BBA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61E-016B-4CA5-AFFF-4B9DF260964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66F-EC2C-4629-A216-D46D08B609B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F0D1-50D7-4ECC-8D85-2F7F3FB0E14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Verdana"/>
              </a:rPr>
              <a:t>Они сражались за Родину.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143000" cy="8967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71320" y="3929040"/>
            <a:ext cx="385092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857160" y="500040"/>
            <a:ext cx="7500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516720" y="5084640"/>
            <a:ext cx="208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подготовила учитель МКОУ ООШ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бунина О.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825480" y="457200"/>
            <a:ext cx="714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143000" cy="8967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4211640" y="62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ни тысяч тружеников Челябинской обл. изъявили желание вступить в ряды защитников Родины. В числе добровольцев было немало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84360" y="2781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амять о погибших создана Книг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ов Велик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1-1945 гг. – жителей Челябинской област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611280" y="1268280"/>
            <a:ext cx="76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марта 2015 года на дне озера Увильды - самого красивого на Южном Урале – был установлен подводный мемориал, посвященный морякам-подводникам и всем, погибшим на фронтах Великой Отечественной Войны. Этот памятник безвозмездно изготовили мастера Златоустовской оружейной компании.  В годы В О В на деньги жителей Челябинской области были построены две современные на тот момент подводные лодки – «Ленинский комсомол» и «Челябинский комсомолец». Тысячи южноуральцев сражались в рядах военно-морских сил страны. Многие не вернулись на малую родину, отдав жизни на благо будущих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630360" y="47628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елябинской области на дне озера Увиль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ли памятник героям 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information_items_129232.jpg"/>
          <p:cNvPicPr/>
          <p:nvPr/>
        </p:nvPicPr>
        <p:blipFill>
          <a:blip r:embed="rId1"/>
          <a:stretch/>
        </p:blipFill>
        <p:spPr>
          <a:xfrm>
            <a:off x="2627280" y="4078440"/>
            <a:ext cx="3657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164268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Ни кто не забыт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ни что не забыто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Кобзон Иосиф - Журавли  (audiopoisk.com).mp3" descr=""/>
          <p:cNvPicPr/>
          <p:nvPr/>
        </p:nvPicPr>
        <p:blipFill>
          <a:blip r:embed="rId1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334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1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peoples.ru/state/citizen/kosmodemianskaya/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2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zanimatika.narod.ru/RF34_2_1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3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otvoyna.ru/deti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4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fresher.ru/manager_content/images/deti-vojny/14.jpg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5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otvoyna.ru/geroy.htm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6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province.ru/chelyabinsk/news/item/1655-v-chelyabinskoy</a:t>
            </a:r>
            <a:br>
              <a:rPr sz="1300"/>
            </a:br>
            <a:r>
              <a:rPr b="1" lang="ru-RU" sz="1300" spc="-1" strike="noStrike">
                <a:solidFill>
                  <a:srgbClr val="3b6431"/>
                </a:solidFill>
                <a:latin typeface="Verdana"/>
              </a:rPr>
              <a:t>7. </a:t>
            </a:r>
            <a:r>
              <a:rPr b="1" lang="en-US" sz="1300" spc="-1" strike="noStrike">
                <a:solidFill>
                  <a:srgbClr val="3b6431"/>
                </a:solidFill>
                <a:latin typeface="Verdana"/>
              </a:rPr>
              <a:t>http://www.chebarcul.ru/interactive/official-announcements/official-announcements_286.html</a:t>
            </a:r>
            <a:endParaRPr b="1" lang="en-US" sz="13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500800" y="3332520"/>
            <a:ext cx="32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567520" y="981000"/>
            <a:ext cx="3489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б ни шёл, ни ехал ты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десь остановись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иле этой дорогой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сердцем поклонись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б ни был ты — рыба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хтё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ёный иль пастух, —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ек запомни: здесь лежит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вой самый лучший друг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ля тебя, и для меня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делал все, что мог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бя в бою не пожалел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Родину сберё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. Иса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4788000" y="1052640"/>
            <a:ext cx="3571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т далекий летний день 22 июня 1941 года люди занимались обычными для себя делами. Школьники готовились к выпускному вечеру. Девчонки строили шалаши и играли в "дочки-матери", непоседливые мальчишки скакали верхом на деревянных лошадках, представляя себя красноармейцами. И никто не подозревал, что и приятные хлопоты, и задорные игры, и многие жизни перечеркнет одно страшное слово – война. У целого поколения, рожденного с 1928 по 1945 год, украли детств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928800" y="57168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и – 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5" descr="14 (1).jpg"/>
          <p:cNvPicPr/>
          <p:nvPr/>
        </p:nvPicPr>
        <p:blipFill>
          <a:blip r:embed="rId2"/>
          <a:stretch/>
        </p:blipFill>
        <p:spPr>
          <a:xfrm>
            <a:off x="324000" y="1773360"/>
            <a:ext cx="439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995640" y="476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яли родителей, братьев и сестер. Иногда напуганные дети по нескольку дней сидели рядом с холодными телами погибших матерей, ожидая решения своей участи. В лучшем случае их ждал советский детдом, в худшем – в фашистские застенки. Но многие боролись с фашизмом с оружием в руках, становясь сыновьями и дочерями полк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8" descr="99.jpg"/>
          <p:cNvPicPr/>
          <p:nvPr/>
        </p:nvPicPr>
        <p:blipFill>
          <a:blip r:embed="rId1"/>
          <a:stretch/>
        </p:blipFill>
        <p:spPr>
          <a:xfrm>
            <a:off x="395280" y="3357720"/>
            <a:ext cx="424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611280" y="981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 потребовала от народа величайшего напряжения сил и огромных жертв в общенациональном масштабе, раскрыла стойкость и мужество советского человека, способность к самопожертвованию во имя свободы и независимости Родины. В годы войны героизм стал массовым, стал нормой поведения советских людей. Тысячи солдат и офицеров обессмертили свои имена при обороне Брестской крепости, Одессы, Севастополя, Киева, Ленинграда, Новороссийска, в битве под Москвой, Сталинградом, Курском, на Северном Кавказе, Днепре, в предгорьях Карпат, при штурме Берлина и в других сра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338560" y="5493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оизм во время 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01840" y="40680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ктор Васильевич Талалих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4088520" y="4076640"/>
            <a:ext cx="4510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ях Великой Отечественной вой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юня 194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ёл более 60-и боевых выл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и осенью 1941 года, сражал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Москв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 боевые отличия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ждён орденами Красного Зна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41) и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7" descr="tal.jpg"/>
          <p:cNvPicPr/>
          <p:nvPr/>
        </p:nvPicPr>
        <p:blipFill>
          <a:blip r:embed="rId2"/>
          <a:stretch/>
        </p:blipFill>
        <p:spPr>
          <a:xfrm>
            <a:off x="826920" y="1341360"/>
            <a:ext cx="3024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286240" y="39063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01880" cy="7858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2064960" y="54936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Никитович Коже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421164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й Советского Союза (1944 – дважды; 1945). В Великую Отечественную войну в истребительной авиации, командир эскадрильи, заместитель командира полка, провёл 120 воздушных боёв; сбил 62 самолё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7" descr="kogedub.jpg"/>
          <p:cNvPicPr/>
          <p:nvPr/>
        </p:nvPicPr>
        <p:blipFill>
          <a:blip r:embed="rId2"/>
          <a:stretch/>
        </p:blipFill>
        <p:spPr>
          <a:xfrm>
            <a:off x="539640" y="981000"/>
            <a:ext cx="51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182320" y="502200"/>
            <a:ext cx="49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Космодемья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000760" y="1455120"/>
            <a:ext cx="3786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илась в сентябре 1923 года в Тамбовской области. Два раза Зоя была в тылу врага. В ноябре 1941 года в деревне Петрищево Московской области ее схватили нем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ы выведать секретную информацию, ее подвергали различным пыткам. Но Зоя молчала, не сказав ничего, даже имени и фамилии. После тяжелых пыток Зоя Космодемьянская была казнена на сельской площади деревни Петрищево 29 ноября 194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6 февраля 1942 года Зое Космодемьянской посмертно присудили звание Героя Советского Союза и наградили орденом Ленина. Ее героический подвиг служил примером во время войны для многи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214280" cy="952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Фотография Зоя Космодемьянская (photo Zoya Kosmodemianskaya)"/>
          <p:cNvPicPr/>
          <p:nvPr/>
        </p:nvPicPr>
        <p:blipFill>
          <a:blip r:embed="rId2"/>
          <a:stretch/>
        </p:blipFill>
        <p:spPr>
          <a:xfrm>
            <a:off x="755640" y="1413000"/>
            <a:ext cx="360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273400" y="430920"/>
            <a:ext cx="45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колай Гасте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3419640" y="1291680"/>
            <a:ext cx="5222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ю Гастелло было суждено совершить бессмертный подвиг, который остался в памяти народа. Николай родился в Москве в 1907 году.  26 июня 1941 года экипаж ДБ-3ф состоящий из Анатолия Бурденюка, Григория Скоробогатого и Алексея Калинина  вышел на боевое задание. Командовал самолетом капитан Гастелло. Летчикам предстояло бомбить немецкую колонну на дороге Молодечно-Радошковичи. Вскоре летчики заметили врага, отбомбившись, самолет взял курс на базу, как вдруг в машину попала зенитная немецкая ракета. У команды был шанс спастись, но ребята решили сделать по-другому. Горящий самолет, Гастелло и его товарищи отправили на колонну немецкой техники…      Врагу был нанесен серьезный уро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9 мая"/>
          <p:cNvPicPr/>
          <p:nvPr/>
        </p:nvPicPr>
        <p:blipFill>
          <a:blip r:embed="rId1"/>
          <a:stretch/>
        </p:blipFill>
        <p:spPr>
          <a:xfrm>
            <a:off x="0" y="0"/>
            <a:ext cx="1071720" cy="8413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5" descr="Gastello100.JPG"/>
          <p:cNvPicPr/>
          <p:nvPr/>
        </p:nvPicPr>
        <p:blipFill>
          <a:blip r:embed="rId2"/>
          <a:stretch/>
        </p:blipFill>
        <p:spPr>
          <a:xfrm>
            <a:off x="395280" y="1268280"/>
            <a:ext cx="2808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15-04-15T13:13:19Z</dcterms:modified>
  <cp:revision>46</cp:revision>
  <dc:subject/>
  <dc:title>Слайд 1</dc:title>
</cp:coreProperties>
</file>