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672-DABE-4499-9BA4-207BB553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F12-BD3F-46CB-89DC-0FDEE83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6CF-B98A-4620-90F3-D9BE718F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2AE-B561-4AAA-977F-2FBE670C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5D491-D811-4C30-AC9F-77D2DB92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77148-47EE-4751-9E35-B30795CC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DF377-CEF4-431A-8651-CD973AD9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6BBD4-CE49-48A7-A266-D0F75639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F51E9-6482-4832-95AA-18E894C0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E937A-60DA-4774-9846-2806C3D4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01FDE-99C1-47D9-A8E9-3FD8404B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024-0CA1-44E3-87A3-5347DAF0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63454-648E-46E0-B24A-D89D113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31298-9BF4-4243-AAE4-0CFFF0C0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F9229-D2BE-4D5A-98F1-06D66E57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AA540-211F-4002-858E-3B1DC73A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28CE9-8D8E-41D4-853A-A495FAC3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5AE-7104-4A7A-93D7-B20E2760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42F-8594-42DC-91BA-475FDEDA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D03-ECFB-46C4-B0BA-B30DF37B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E90-C1CC-424A-8ACD-8764F0AE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60B-52F5-4A5E-B436-FC1B80E4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057-163C-4057-9BB3-ABDEABD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28B-C8E9-49FF-B816-9C9A34E5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AD84-8B41-441D-A303-7B1C0B96F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D172-2A7C-41DC-82B8-6DE8B56213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xy10.media.online.ua/uol/r2-d23e0f88ea/5285841a8e61d.j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268360" y="2133720"/>
            <a:ext cx="475164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зёр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6669000" y="479736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у подготов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ООШ№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бунина О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 Найдите озеро Байкал на карте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 Где отмечена  максимальная глубина озер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зерные котловины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углубления, в которых находятся озер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зерные котловины очень разнообразны. Изучение причин их образования позволяет выяснить происхождение озер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77480" y="32130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ктон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059920" y="479736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нико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461920" y="47242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сто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963120" y="357336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аточ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Прямая со стрелкой 7"/>
          <p:cNvCxnSpPr/>
          <p:nvPr/>
        </p:nvCxnSpPr>
        <p:spPr>
          <a:xfrm flipH="1">
            <a:off x="1763280" y="2708280"/>
            <a:ext cx="1008720" cy="50544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17" name="Прямая со стрелкой 9"/>
          <p:cNvCxnSpPr/>
          <p:nvPr/>
        </p:nvCxnSpPr>
        <p:spPr>
          <a:xfrm flipH="1">
            <a:off x="3418920" y="3068280"/>
            <a:ext cx="361080" cy="165636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18" name="Прямая со стрелкой 11"/>
          <p:cNvCxnSpPr/>
          <p:nvPr/>
        </p:nvCxnSpPr>
        <p:spPr>
          <a:xfrm>
            <a:off x="5508360" y="3141720"/>
            <a:ext cx="648360" cy="15120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19" name="Прямая со стрелкой 13"/>
          <p:cNvCxnSpPr/>
          <p:nvPr/>
        </p:nvCxnSpPr>
        <p:spPr>
          <a:xfrm>
            <a:off x="6659640" y="2492280"/>
            <a:ext cx="792720" cy="10087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5"/>
          <p:cNvSpPr/>
          <p:nvPr/>
        </p:nvSpPr>
        <p:spPr>
          <a:xfrm>
            <a:off x="3995640" y="404640"/>
            <a:ext cx="4897440" cy="1944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амые большие и самые глубо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озёра образуются в результат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тектонических движений земной ко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При медленном опускании обшир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частков или в трещинах земной ко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98440" y="907920"/>
            <a:ext cx="34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ктон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2" descr="http://www.rg.ru/i/gallery/9d26cca9/ddf8b760.jpg"/>
          <p:cNvPicPr/>
          <p:nvPr/>
        </p:nvPicPr>
        <p:blipFill>
          <a:blip r:embed="rId2"/>
          <a:stretch/>
        </p:blipFill>
        <p:spPr>
          <a:xfrm>
            <a:off x="0" y="2959200"/>
            <a:ext cx="4714920" cy="389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http://eikenclub.ru/uploads/posts/2013-03/1362857816_uzohkfb7pyk.jpg"/>
          <p:cNvPicPr/>
          <p:nvPr/>
        </p:nvPicPr>
        <p:blipFill>
          <a:blip r:embed="rId3"/>
          <a:stretch/>
        </p:blipFill>
        <p:spPr>
          <a:xfrm>
            <a:off x="4859280" y="2962440"/>
            <a:ext cx="4284720" cy="3895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3"/>
          <p:cNvSpPr/>
          <p:nvPr/>
        </p:nvSpPr>
        <p:spPr>
          <a:xfrm>
            <a:off x="6141960" y="306864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Каспийское море-озе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1622160" y="314172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Аральское море - озе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ловина озера Байкал образовалась в результате опускания участков земной коры по разло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http://g-class.ru/forum/uploads/2367/baikal23_640x480.jpg"/>
          <p:cNvPicPr/>
          <p:nvPr/>
        </p:nvPicPr>
        <p:blipFill>
          <a:blip r:embed="rId1"/>
          <a:stretch/>
        </p:blipFill>
        <p:spPr>
          <a:xfrm>
            <a:off x="1403280" y="19162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003640" y="206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зеро Байк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дников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Скругленный прямоугольник 2"/>
          <p:cNvSpPr/>
          <p:nvPr/>
        </p:nvSpPr>
        <p:spPr>
          <a:xfrm>
            <a:off x="4643280" y="333360"/>
            <a:ext cx="3924360" cy="19432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дниковые озёра заполняют котловины, которые сформировались в результате деятельности ледника. Двигаясь, ледник выпахивал более мягкий грунт, создавая понижения в рельеф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http://publicatom.ru/uploads/images/00/02/14/2013/07/10/43762c.jpg"/>
          <p:cNvPicPr/>
          <p:nvPr/>
        </p:nvPicPr>
        <p:blipFill>
          <a:blip r:embed="rId1"/>
          <a:stretch/>
        </p:blipFill>
        <p:spPr>
          <a:xfrm>
            <a:off x="0" y="3019320"/>
            <a:ext cx="4572000" cy="38386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http://900igr.net/datas/geografija/Onezhskoe-ozero/0004-004-Onezhskoe-ozero.jpg"/>
          <p:cNvPicPr/>
          <p:nvPr/>
        </p:nvPicPr>
        <p:blipFill>
          <a:blip r:embed="rId2"/>
          <a:stretch/>
        </p:blipFill>
        <p:spPr>
          <a:xfrm>
            <a:off x="4643280" y="2997360"/>
            <a:ext cx="4356360" cy="3860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2289600" y="314172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Ладожское озе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964920" y="306864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нежское озе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683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улкан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Скругленный прямоугольник 2"/>
          <p:cNvSpPr/>
          <p:nvPr/>
        </p:nvSpPr>
        <p:spPr>
          <a:xfrm>
            <a:off x="4572000" y="476280"/>
            <a:ext cx="4248000" cy="1368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улканические занимают кратеры потухших вулка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" descr="http://photokamchatka.ru/upload/iblock/52a/52af91df7ace594d77859e7212b2f8d0.jpg"/>
          <p:cNvPicPr/>
          <p:nvPr/>
        </p:nvPicPr>
        <p:blipFill>
          <a:blip r:embed="rId1"/>
          <a:stretch/>
        </p:blipFill>
        <p:spPr>
          <a:xfrm>
            <a:off x="539640" y="1916280"/>
            <a:ext cx="8064720" cy="4797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4997520" y="206064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Курильское озеро. Камчат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538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рстов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3995640" y="260280"/>
            <a:ext cx="4824360" cy="1584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зёра образующиеся в результате вымывания подземными водами легкорастворимых пород и провала верхнего слоя. В результате провала верхнего слоя образуется озёрная котловина, которая заполняется вод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http://s004.radikal.ru/i206/1106/b8/2bb1bff2c421.jpg"/>
          <p:cNvPicPr/>
          <p:nvPr/>
        </p:nvPicPr>
        <p:blipFill>
          <a:blip r:embed="rId1"/>
          <a:stretch/>
        </p:blipFill>
        <p:spPr>
          <a:xfrm>
            <a:off x="900000" y="1989000"/>
            <a:ext cx="7315200" cy="4869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3008160" y="2060640"/>
            <a:ext cx="541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Таких озер большое множество, как правил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ни малы по своим размер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03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о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Скругленный прямоугольник 2"/>
          <p:cNvSpPr/>
          <p:nvPr/>
        </p:nvSpPr>
        <p:spPr>
          <a:xfrm>
            <a:off x="4427640" y="476280"/>
            <a:ext cx="3889440" cy="13460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ера, из которых вытекают реки (Оз. Байкал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94080" y="450864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ссто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Скругленный прямоугольник 4"/>
          <p:cNvSpPr/>
          <p:nvPr/>
        </p:nvSpPr>
        <p:spPr>
          <a:xfrm>
            <a:off x="4427640" y="4005360"/>
            <a:ext cx="3960720" cy="14396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 таких озер не вытекают реки (Каспийское, Аральско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2195640" y="0"/>
            <a:ext cx="4752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233640" y="404640"/>
            <a:ext cx="32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ртвое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Скругленный прямоугольник 6"/>
          <p:cNvSpPr/>
          <p:nvPr/>
        </p:nvSpPr>
        <p:spPr>
          <a:xfrm>
            <a:off x="4284720" y="0"/>
            <a:ext cx="4319640" cy="17002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а некоторых озёр содержит много солей. Солёность Мёртвого моря-озера около 27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‰. В этом море невозможно утонуть, в нём почти отсутствуют организ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http://s012.radikal.ru/i321/1011/9a/4f7e53a4be74.jpg"/>
          <p:cNvPicPr/>
          <p:nvPr/>
        </p:nvPicPr>
        <p:blipFill>
          <a:blip r:embed="rId1"/>
          <a:stretch/>
        </p:blipFill>
        <p:spPr>
          <a:xfrm>
            <a:off x="1835280" y="2133720"/>
            <a:ext cx="7308720" cy="47242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6990840" y="22050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з. Баскунч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ипы озерных котлов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http://shools-geograf.at.ua/ozera/0001.jpg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и и задачи :</a:t>
            </a:r>
            <a:br>
              <a:rPr sz="18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ть понятия «озеро», «сточное озеро», «бессточное озеро»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казать о происхождение озерных котловин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вать умения работать с физической картой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ять географическое положение оз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Болото"/>
          <p:cNvPicPr/>
          <p:nvPr/>
        </p:nvPicPr>
        <p:blipFill>
          <a:blip r:embed="rId1"/>
          <a:stretch/>
        </p:blipFill>
        <p:spPr>
          <a:xfrm>
            <a:off x="4859280" y="3141720"/>
            <a:ext cx="4105440" cy="3168720"/>
          </a:xfrm>
          <a:prstGeom prst="rect">
            <a:avLst/>
          </a:prstGeom>
          <a:ln w="0">
            <a:noFill/>
          </a:ln>
        </p:spPr>
      </p:pic>
      <p:sp>
        <p:nvSpPr>
          <p:cNvPr id="159" name="WordArt 4"/>
          <p:cNvSpPr txBox="1"/>
          <p:nvPr/>
        </p:nvSpPr>
        <p:spPr>
          <a:xfrm>
            <a:off x="2195640" y="0"/>
            <a:ext cx="4752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Жизнь озер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60" name="Скругленный прямоугольник 6"/>
          <p:cNvSpPr/>
          <p:nvPr/>
        </p:nvSpPr>
        <p:spPr>
          <a:xfrm>
            <a:off x="2268360" y="981000"/>
            <a:ext cx="4751640" cy="17780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ие озёра со временем мелеют, зарастают. Озеро превращается в болото. Болото – сильно увлажнённый участок земной поверх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8" descr="http://megabook.ru/stream/mediapreview?Height=654&amp;Key=%d0%a2%d0%b0%d0%bc%d0%b1%d0%be%d0%b2%20(%d0%be%d0%b7%d0%b5%d1%80%d0%be)%20(2)&amp;Width=654"/>
          <p:cNvPicPr/>
          <p:nvPr/>
        </p:nvPicPr>
        <p:blipFill>
          <a:blip r:embed="rId2"/>
          <a:stretch/>
        </p:blipFill>
        <p:spPr>
          <a:xfrm>
            <a:off x="250920" y="3141720"/>
            <a:ext cx="4356000" cy="3233520"/>
          </a:xfrm>
          <a:prstGeom prst="rect">
            <a:avLst/>
          </a:prstGeom>
          <a:ln w="0">
            <a:noFill/>
          </a:ln>
        </p:spPr>
      </p:pic>
      <p:sp>
        <p:nvSpPr>
          <p:cNvPr id="162" name="Выгнутая вниз стрелка 8"/>
          <p:cNvSpPr/>
          <p:nvPr/>
        </p:nvSpPr>
        <p:spPr>
          <a:xfrm>
            <a:off x="3419640" y="5877000"/>
            <a:ext cx="2657160" cy="731880"/>
          </a:xfrm>
          <a:custGeom>
            <a:avLst/>
            <a:gdLst>
              <a:gd name="textAreaLeft" fmla="*/ 595440 w 2657160"/>
              <a:gd name="textAreaRight" fmla="*/ 1970280 w 26571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85" hR="21600" stAng="10800000" swAng="-5400000"/>
                <a:lnTo>
                  <a:pt x="11173" y="21600"/>
                </a:lnTo>
                <a:arcTo wR="9685" hR="21600" stAng="5400000" swAng="-3603797"/>
                <a:lnTo>
                  <a:pt x="21292" y="5400"/>
                </a:lnTo>
                <a:lnTo>
                  <a:pt x="20113" y="0"/>
                </a:lnTo>
                <a:lnTo>
                  <a:pt x="18318" y="5400"/>
                </a:lnTo>
                <a:lnTo>
                  <a:pt x="19061" y="5400"/>
                </a:lnTo>
                <a:arcTo wR="9685" hR="21600" stAng="1796203" swAng="3485082"/>
                <a:lnTo>
                  <a:pt x="10429" y="21536"/>
                </a:lnTo>
                <a:arcTo wR="9685" hR="21600" stAng="5518715" swAng="5281285"/>
                <a:close/>
              </a:path>
              <a:path fill="darkenLess" w="21600" h="21600">
                <a:moveTo>
                  <a:pt x="0" y="0"/>
                </a:moveTo>
                <a:arcTo wR="9685" hR="21600" stAng="10800000" swAng="-5400000"/>
                <a:lnTo>
                  <a:pt x="11173" y="21600"/>
                </a:lnTo>
                <a:arcTo wR="9685" hR="21600" stAng="5400000" swAng="118715"/>
                <a:lnTo>
                  <a:pt x="10429" y="21536"/>
                </a:lnTo>
                <a:arcTo wR="9685" hR="21600" stAng="5518715" swAng="5281285"/>
                <a:close/>
              </a:path>
            </a:pathLst>
          </a:custGeom>
          <a:solidFill>
            <a:srgbClr val="ffffff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124000" y="0"/>
            <a:ext cx="5040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опросы и задания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50920" y="4221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амое большое море-озер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5280" y="2852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амое глубокое озер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68360" y="5877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амое солёное озер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372600" y="148428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Что называют озеро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Скругленный прямоугольник 11"/>
          <p:cNvSpPr/>
          <p:nvPr/>
        </p:nvSpPr>
        <p:spPr>
          <a:xfrm>
            <a:off x="4932360" y="981000"/>
            <a:ext cx="3672000" cy="12240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мкнутый водоем, образовавшийся на поверхности суши в природном углубл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Скругленный прямоугольник 12"/>
          <p:cNvSpPr/>
          <p:nvPr/>
        </p:nvSpPr>
        <p:spPr>
          <a:xfrm>
            <a:off x="5219640" y="2565360"/>
            <a:ext cx="331308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йк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Скругленный прямоугольник 13"/>
          <p:cNvSpPr/>
          <p:nvPr/>
        </p:nvSpPr>
        <p:spPr>
          <a:xfrm>
            <a:off x="5219640" y="400536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спий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Скругленный прямоугольник 14"/>
          <p:cNvSpPr/>
          <p:nvPr/>
        </p:nvSpPr>
        <p:spPr>
          <a:xfrm>
            <a:off x="5219640" y="5589720"/>
            <a:ext cx="338472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рт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6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76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333360"/>
            <a:ext cx="649116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кую форму имеют озера вулканического происхожден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кое происхождение имеют озера, образовавшиеся в результате движения земной кор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Скругленный прямоугольник 3"/>
          <p:cNvSpPr/>
          <p:nvPr/>
        </p:nvSpPr>
        <p:spPr>
          <a:xfrm>
            <a:off x="6875640" y="549360"/>
            <a:ext cx="201744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гл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Скругленный прямоугольник 4"/>
          <p:cNvSpPr/>
          <p:nvPr/>
        </p:nvSpPr>
        <p:spPr>
          <a:xfrm>
            <a:off x="6875640" y="1989000"/>
            <a:ext cx="1995480" cy="914400"/>
          </a:xfrm>
          <a:prstGeom prst="roundRect">
            <a:avLst>
              <a:gd name="adj" fmla="val 16667"/>
            </a:avLst>
          </a:prstGeom>
          <a:solidFill>
            <a:srgbClr val="0101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ктоническ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376560" y="1628640"/>
            <a:ext cx="7651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proxy10.media.online.ua/uol/r2-d23e0f88ea/5285841a8e61d.j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70240" y="1989000"/>
            <a:ext cx="55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rg.ru/i/gallery/9d26cca9/ddf8b760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474120" y="2349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geoglobus.ru/earth/geo7/earth08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96080" y="285264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shools-geograf.at.ua/ozera/0001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90040" y="476280"/>
            <a:ext cx="84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.П. Герасимова, Н.П. Неклюкова. География. Начальный курс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ква. ДРОФА 20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А. Никитина, Е.А.Жижина. Поурочные разработки погеографии 6 клас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ква. ВАКО 201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ДЗ.</a:t>
            </a:r>
            <a:br>
              <a:rPr sz="4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Исток – это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Устье – это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окажите самые крупные реки материков, назовите их и покажите, где у этих рек исток и усть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Назовите истоки и устья этих рек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57640" y="270828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вопросы отвечать «да» или  «н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209160" y="3284640"/>
            <a:ext cx="64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Может ли река брать начало из озер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7091280" y="32130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02040" y="400536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Может ли река впадать в озер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7162560" y="4149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358920" y="472428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ожет ли река вытекать из мор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7155720" y="47242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96640" y="5516640"/>
            <a:ext cx="65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Внезапный подъем уровня воды в рек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половодь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7227360" y="55166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074960" y="0"/>
            <a:ext cx="675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Озеро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– замкнутый водоём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образовавшийся на поверхност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суши в природном углубле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http://proxy10.media.online.ua/uol/r2-d23e0f88ea/5285841a8e61d.jpg"/>
          <p:cNvPicPr/>
          <p:nvPr/>
        </p:nvPicPr>
        <p:blipFill>
          <a:blip r:embed="rId1"/>
          <a:stretch/>
        </p:blipFill>
        <p:spPr>
          <a:xfrm>
            <a:off x="1476360" y="1916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ем озеро отличается от мор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(Озеро не является частью океана, оно относится к суше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ем озеро отличается от ре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(В озере вода не течёт, как поток в русле реки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сскажите об озере, которое Вы видели.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озера Вы знаете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звания каких озер Вы слышал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79280" y="0"/>
            <a:ext cx="8713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ое большое озеро на Земле - Каспийское 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02" name="Picture 7" descr="http://sitewater.ru/images/caspian_sea_sm1.jpg"/>
          <p:cNvPicPr/>
          <p:nvPr/>
        </p:nvPicPr>
        <p:blipFill>
          <a:blip r:embed="rId1"/>
          <a:stretch/>
        </p:blipFill>
        <p:spPr>
          <a:xfrm>
            <a:off x="468360" y="3357720"/>
            <a:ext cx="3240000" cy="35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http://kazhydromet.kz/files/files/20110815162242.jpeg"/>
          <p:cNvPicPr/>
          <p:nvPr/>
        </p:nvPicPr>
        <p:blipFill>
          <a:blip r:embed="rId2"/>
          <a:stretch/>
        </p:blipFill>
        <p:spPr>
          <a:xfrm>
            <a:off x="5364000" y="3429000"/>
            <a:ext cx="302904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21240" y="1341360"/>
            <a:ext cx="93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В прошлом это озеро соединялось с океаном и было мор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За размеры и  соленость  его называют мор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56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 Найдите его на карте России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 Какие реки в него впадают?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. Чему равна наибольшая глубина этого озера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0" y="0"/>
            <a:ext cx="914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ое глубокое озеро нашей планеты -  Байка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82040" y="836640"/>
            <a:ext cx="761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Его глубина составляет 1620 м. В нем содержи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1/10 запасов пресной воды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http://www.chopper-bike.ru/images_for_articles/2011/8/10/1.jpg"/>
          <p:cNvPicPr/>
          <p:nvPr/>
        </p:nvPicPr>
        <p:blipFill>
          <a:blip r:embed="rId1"/>
          <a:stretch/>
        </p:blipFill>
        <p:spPr>
          <a:xfrm>
            <a:off x="324000" y="2133720"/>
            <a:ext cx="449892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larece.ru/wp-content/uploads/2010/04/baykal1.jpg"/>
          <p:cNvPicPr/>
          <p:nvPr/>
        </p:nvPicPr>
        <p:blipFill>
          <a:blip r:embed="rId2"/>
          <a:stretch/>
        </p:blipFill>
        <p:spPr>
          <a:xfrm>
            <a:off x="5364000" y="2205000"/>
            <a:ext cx="3348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6:53:33Z</dcterms:created>
  <dc:creator>User</dc:creator>
  <dc:description/>
  <dc:language>en-US</dc:language>
  <cp:lastModifiedBy>оксана</cp:lastModifiedBy>
  <dcterms:modified xsi:type="dcterms:W3CDTF">2015-04-17T14:59:17Z</dcterms:modified>
  <cp:revision>33</cp:revision>
  <dc:subject/>
  <dc:title>Слайд 1</dc:title>
</cp:coreProperties>
</file>