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881A-6A32-4944-AA95-65F29031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9528-3439-4E87-ADD6-6B0D6041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19ED-93A3-4CC3-AEE0-050F5621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CAD6-6B09-45FF-9D37-202BE0AA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5520D-1DAB-4174-A653-EEA1275C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9552E-F6F9-4A52-B731-05EEE157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D8F2F-23B6-4AA7-9419-1A7CC87A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A4D77-AFE1-465F-A76E-A51532B2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2DF40-182B-424C-8C44-E5251F62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F2A33-9B44-4DCD-B64E-82A40E8A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A90D5-DA04-4468-BBB2-60D2CEA6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5822-0C70-45F6-B274-AA808B60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F1DB4-3581-43C5-BAAA-703DE718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3887A-8FCF-4D55-A3D2-8A158BF9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F7536-77ED-4BC0-BD40-228C69BB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7772F-D27C-4A56-A744-C8461056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47E85-875E-4EFF-8FD0-38F0CCF4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6F4D-8621-4DF5-B453-3BB67817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4284-6613-4BBE-A314-65C1BA2C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8974-D932-4D98-B20A-A03F2B01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52E5-2D58-4BCC-AFB6-F6B331EF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8783-DA17-412F-877D-5F0FD794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510E-81D5-46B7-91E6-492DF779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F59F-AB64-49BE-A880-254F1122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DDDD-2157-4EF3-93E2-D9E5C85CA2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741F-FAB2-4A0F-B085-35B39024871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roxy10.media.online.ua/uol/r2-d23e0f88ea/5285841a8e61d.j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2268360" y="2133720"/>
            <a:ext cx="4751640" cy="15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Озёра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6669000" y="4797360"/>
            <a:ext cx="244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боту подготови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географ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КОУ ООШ№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рбунина О.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5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. Найдите озеро Байкал на карте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2. Где отмечена  максимальная глубина озера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Озерные котловины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углубления, в которых находятся озера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Озерные котловины очень разнообразны. Изучение причин их образования позволяет выяснить происхождение озер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77480" y="3213000"/>
            <a:ext cx="24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ктониче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2059920" y="479736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дников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5461920" y="47242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рстов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6963120" y="357336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таточ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6" name="Прямая со стрелкой 7"/>
          <p:cNvCxnSpPr/>
          <p:nvPr/>
        </p:nvCxnSpPr>
        <p:spPr>
          <a:xfrm flipH="1">
            <a:off x="1763280" y="2708280"/>
            <a:ext cx="1008720" cy="50544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117" name="Прямая со стрелкой 9"/>
          <p:cNvCxnSpPr/>
          <p:nvPr/>
        </p:nvCxnSpPr>
        <p:spPr>
          <a:xfrm flipH="1">
            <a:off x="3418920" y="3068280"/>
            <a:ext cx="361080" cy="165636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118" name="Прямая со стрелкой 11"/>
          <p:cNvCxnSpPr/>
          <p:nvPr/>
        </p:nvCxnSpPr>
        <p:spPr>
          <a:xfrm>
            <a:off x="5508360" y="3141720"/>
            <a:ext cx="648360" cy="151200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119" name="Прямая со стрелкой 13"/>
          <p:cNvCxnSpPr/>
          <p:nvPr/>
        </p:nvCxnSpPr>
        <p:spPr>
          <a:xfrm>
            <a:off x="6659640" y="2492280"/>
            <a:ext cx="792720" cy="100872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5"/>
          <p:cNvSpPr/>
          <p:nvPr/>
        </p:nvSpPr>
        <p:spPr>
          <a:xfrm>
            <a:off x="3995640" y="404640"/>
            <a:ext cx="4897440" cy="1944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Самые большие и самые глубок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озёра образуются в результат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тектонических движений земной кор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При медленном опускании обширны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участков или в трещинах земной ко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298440" y="907920"/>
            <a:ext cx="344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ектоническ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12" descr="http://www.rg.ru/i/gallery/9d26cca9/ddf8b760.jpg"/>
          <p:cNvPicPr/>
          <p:nvPr/>
        </p:nvPicPr>
        <p:blipFill>
          <a:blip r:embed="rId2"/>
          <a:stretch/>
        </p:blipFill>
        <p:spPr>
          <a:xfrm>
            <a:off x="0" y="2959200"/>
            <a:ext cx="4714920" cy="3898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http://eikenclub.ru/uploads/posts/2013-03/1362857816_uzohkfb7pyk.jpg"/>
          <p:cNvPicPr/>
          <p:nvPr/>
        </p:nvPicPr>
        <p:blipFill>
          <a:blip r:embed="rId3"/>
          <a:stretch/>
        </p:blipFill>
        <p:spPr>
          <a:xfrm>
            <a:off x="4859280" y="2962440"/>
            <a:ext cx="4284720" cy="38955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3"/>
          <p:cNvSpPr/>
          <p:nvPr/>
        </p:nvSpPr>
        <p:spPr>
          <a:xfrm>
            <a:off x="6141960" y="306864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Каспийское море-озе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Box 14"/>
          <p:cNvSpPr/>
          <p:nvPr/>
        </p:nvSpPr>
        <p:spPr>
          <a:xfrm>
            <a:off x="1622160" y="3141720"/>
            <a:ext cx="28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Аральское море - озе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ловина озера Байкал образовалась в результате опускания участков земной коры по разлом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2" descr="http://g-class.ru/forum/uploads/2367/baikal23_640x480.jpg"/>
          <p:cNvPicPr/>
          <p:nvPr/>
        </p:nvPicPr>
        <p:blipFill>
          <a:blip r:embed="rId1"/>
          <a:stretch/>
        </p:blipFill>
        <p:spPr>
          <a:xfrm>
            <a:off x="1403280" y="191628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"/>
          <p:cNvSpPr/>
          <p:nvPr/>
        </p:nvSpPr>
        <p:spPr>
          <a:xfrm>
            <a:off x="5003640" y="2060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Озеро Байка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едников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Скругленный прямоугольник 2"/>
          <p:cNvSpPr/>
          <p:nvPr/>
        </p:nvSpPr>
        <p:spPr>
          <a:xfrm>
            <a:off x="4643280" y="333360"/>
            <a:ext cx="3924360" cy="19432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дниковые озёра заполняют котловины, которые сформировались в результате деятельности ледника. Двигаясь, ледник выпахивал более мягкий грунт, создавая понижения в рельеф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2" descr="http://publicatom.ru/uploads/images/00/02/14/2013/07/10/43762c.jpg"/>
          <p:cNvPicPr/>
          <p:nvPr/>
        </p:nvPicPr>
        <p:blipFill>
          <a:blip r:embed="rId1"/>
          <a:stretch/>
        </p:blipFill>
        <p:spPr>
          <a:xfrm>
            <a:off x="0" y="3019320"/>
            <a:ext cx="4572000" cy="383868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4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8" descr="http://900igr.net/datas/geografija/Onezhskoe-ozero/0004-004-Onezhskoe-ozero.jpg"/>
          <p:cNvPicPr/>
          <p:nvPr/>
        </p:nvPicPr>
        <p:blipFill>
          <a:blip r:embed="rId2"/>
          <a:stretch/>
        </p:blipFill>
        <p:spPr>
          <a:xfrm>
            <a:off x="4643280" y="2997360"/>
            <a:ext cx="4356360" cy="38606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7"/>
          <p:cNvSpPr/>
          <p:nvPr/>
        </p:nvSpPr>
        <p:spPr>
          <a:xfrm>
            <a:off x="2289600" y="3141720"/>
            <a:ext cx="21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Ладожское озе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6964920" y="306864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Онежское озе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3683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улканическ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Скругленный прямоугольник 2"/>
          <p:cNvSpPr/>
          <p:nvPr/>
        </p:nvSpPr>
        <p:spPr>
          <a:xfrm>
            <a:off x="4572000" y="476280"/>
            <a:ext cx="4248000" cy="13683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улканические занимают кратеры потухших вулкан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2" descr="http://photokamchatka.ru/upload/iblock/52a/52af91df7ace594d77859e7212b2f8d0.jpg"/>
          <p:cNvPicPr/>
          <p:nvPr/>
        </p:nvPicPr>
        <p:blipFill>
          <a:blip r:embed="rId1"/>
          <a:stretch/>
        </p:blipFill>
        <p:spPr>
          <a:xfrm>
            <a:off x="539640" y="1916280"/>
            <a:ext cx="8064720" cy="47973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4997520" y="2060640"/>
            <a:ext cx="34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Курильское озеро. Камчат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3538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Карстовы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Скругленный прямоугольник 2"/>
          <p:cNvSpPr/>
          <p:nvPr/>
        </p:nvSpPr>
        <p:spPr>
          <a:xfrm>
            <a:off x="3995640" y="260280"/>
            <a:ext cx="4824360" cy="15843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зёра образующиеся в результате вымывания подземными водами легкорастворимых пород и провала верхнего слоя. В результате провала верхнего слоя образуется озёрная котловина, которая заполняется вод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2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http://s004.radikal.ru/i206/1106/b8/2bb1bff2c421.jpg"/>
          <p:cNvPicPr/>
          <p:nvPr/>
        </p:nvPicPr>
        <p:blipFill>
          <a:blip r:embed="rId1"/>
          <a:stretch/>
        </p:blipFill>
        <p:spPr>
          <a:xfrm>
            <a:off x="900000" y="1989000"/>
            <a:ext cx="7315200" cy="48690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5"/>
          <p:cNvSpPr/>
          <p:nvPr/>
        </p:nvSpPr>
        <p:spPr>
          <a:xfrm>
            <a:off x="3008160" y="2060640"/>
            <a:ext cx="541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Таких озер большое множество, как правило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они малы по своим размера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3035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точ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Скругленный прямоугольник 2"/>
          <p:cNvSpPr/>
          <p:nvPr/>
        </p:nvSpPr>
        <p:spPr>
          <a:xfrm>
            <a:off x="4427640" y="476280"/>
            <a:ext cx="3889440" cy="134604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ера, из которых вытекают реки (Оз. Байкал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694080" y="4508640"/>
            <a:ext cx="26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ессточ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Скругленный прямоугольник 4"/>
          <p:cNvSpPr/>
          <p:nvPr/>
        </p:nvSpPr>
        <p:spPr>
          <a:xfrm>
            <a:off x="4427640" y="4005360"/>
            <a:ext cx="3960720" cy="143964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 таких озер не вытекают реки (Каспийское, Аральское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4"/>
          <p:cNvSpPr txBox="1"/>
          <p:nvPr/>
        </p:nvSpPr>
        <p:spPr>
          <a:xfrm>
            <a:off x="2195640" y="0"/>
            <a:ext cx="4752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233640" y="404640"/>
            <a:ext cx="323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ертвое мо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Скругленный прямоугольник 6"/>
          <p:cNvSpPr/>
          <p:nvPr/>
        </p:nvSpPr>
        <p:spPr>
          <a:xfrm>
            <a:off x="4284720" y="0"/>
            <a:ext cx="4319640" cy="17002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да некоторых озёр содержит много солей. Солёность Мёртвого моря-озера около 27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‰. В этом море невозможно утонуть, в нём почти отсутствуют организм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6" descr="http://s012.radikal.ru/i321/1011/9a/4f7e53a4be74.jpg"/>
          <p:cNvPicPr/>
          <p:nvPr/>
        </p:nvPicPr>
        <p:blipFill>
          <a:blip r:embed="rId1"/>
          <a:stretch/>
        </p:blipFill>
        <p:spPr>
          <a:xfrm>
            <a:off x="1835280" y="2133720"/>
            <a:ext cx="7308720" cy="472428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6990840" y="220500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Оз. Баскунча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ипы озерных котлови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AutoShape 2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4" descr="http://shools-geograf.at.ua/ozera/0001.jpg"/>
          <p:cNvPicPr/>
          <p:nvPr/>
        </p:nvPicPr>
        <p:blipFill>
          <a:blip r:embed="rId1"/>
          <a:stretch/>
        </p:blipFill>
        <p:spPr>
          <a:xfrm>
            <a:off x="468360" y="1341360"/>
            <a:ext cx="82803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и и задачи :</a:t>
            </a:r>
            <a:br>
              <a:rPr sz="18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формировать понятия «озеро», «сточное озеро», «бессточное озеро»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сказать о происхождение озерных котловин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вать умения работать с физической картой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ределять географическое положение озе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7" descr="Болото"/>
          <p:cNvPicPr/>
          <p:nvPr/>
        </p:nvPicPr>
        <p:blipFill>
          <a:blip r:embed="rId1"/>
          <a:stretch/>
        </p:blipFill>
        <p:spPr>
          <a:xfrm>
            <a:off x="4859280" y="3141720"/>
            <a:ext cx="4105440" cy="3168720"/>
          </a:xfrm>
          <a:prstGeom prst="rect">
            <a:avLst/>
          </a:prstGeom>
          <a:ln w="0">
            <a:noFill/>
          </a:ln>
        </p:spPr>
      </p:pic>
      <p:sp>
        <p:nvSpPr>
          <p:cNvPr id="159" name="WordArt 4"/>
          <p:cNvSpPr txBox="1"/>
          <p:nvPr/>
        </p:nvSpPr>
        <p:spPr>
          <a:xfrm>
            <a:off x="2195640" y="0"/>
            <a:ext cx="4752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Жизнь озера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160" name="Скругленный прямоугольник 6"/>
          <p:cNvSpPr/>
          <p:nvPr/>
        </p:nvSpPr>
        <p:spPr>
          <a:xfrm>
            <a:off x="2268360" y="981000"/>
            <a:ext cx="4751640" cy="177804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большие озёра со временем мелеют, зарастают. Озеро превращается в болото. Болото – сильно увлажнённый участок земной поверх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8" descr="http://megabook.ru/stream/mediapreview?Height=654&amp;Key=%d0%a2%d0%b0%d0%bc%d0%b1%d0%be%d0%b2%20(%d0%be%d0%b7%d0%b5%d1%80%d0%be)%20(2)&amp;Width=654"/>
          <p:cNvPicPr/>
          <p:nvPr/>
        </p:nvPicPr>
        <p:blipFill>
          <a:blip r:embed="rId2"/>
          <a:stretch/>
        </p:blipFill>
        <p:spPr>
          <a:xfrm>
            <a:off x="250920" y="3141720"/>
            <a:ext cx="4356000" cy="3233520"/>
          </a:xfrm>
          <a:prstGeom prst="rect">
            <a:avLst/>
          </a:prstGeom>
          <a:ln w="0">
            <a:noFill/>
          </a:ln>
        </p:spPr>
      </p:pic>
      <p:sp>
        <p:nvSpPr>
          <p:cNvPr id="162" name="Выгнутая вниз стрелка 8"/>
          <p:cNvSpPr/>
          <p:nvPr/>
        </p:nvSpPr>
        <p:spPr>
          <a:xfrm>
            <a:off x="3419640" y="5877000"/>
            <a:ext cx="2657160" cy="731880"/>
          </a:xfrm>
          <a:custGeom>
            <a:avLst/>
            <a:gdLst>
              <a:gd name="textAreaLeft" fmla="*/ 595440 w 2657160"/>
              <a:gd name="textAreaRight" fmla="*/ 1970280 w 2657160"/>
              <a:gd name="textAreaTop" fmla="*/ 97920 h 731880"/>
              <a:gd name="textAreaBottom" fmla="*/ 633960 h 73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85" hR="21600" stAng="10800000" swAng="-5400000"/>
                <a:lnTo>
                  <a:pt x="11173" y="21600"/>
                </a:lnTo>
                <a:arcTo wR="9685" hR="21600" stAng="5400000" swAng="-3603797"/>
                <a:lnTo>
                  <a:pt x="21292" y="5400"/>
                </a:lnTo>
                <a:lnTo>
                  <a:pt x="20113" y="0"/>
                </a:lnTo>
                <a:lnTo>
                  <a:pt x="18318" y="5400"/>
                </a:lnTo>
                <a:lnTo>
                  <a:pt x="19061" y="5400"/>
                </a:lnTo>
                <a:arcTo wR="9685" hR="21600" stAng="1796203" swAng="3485082"/>
                <a:lnTo>
                  <a:pt x="10429" y="21536"/>
                </a:lnTo>
                <a:arcTo wR="9685" hR="21600" stAng="5518715" swAng="5281285"/>
                <a:close/>
              </a:path>
              <a:path fill="darkenLess" w="21600" h="21600">
                <a:moveTo>
                  <a:pt x="0" y="0"/>
                </a:moveTo>
                <a:arcTo wR="9685" hR="21600" stAng="10800000" swAng="-5400000"/>
                <a:lnTo>
                  <a:pt x="11173" y="21600"/>
                </a:lnTo>
                <a:arcTo wR="9685" hR="21600" stAng="5400000" swAng="118715"/>
                <a:lnTo>
                  <a:pt x="10429" y="21536"/>
                </a:lnTo>
                <a:arcTo wR="9685" hR="21600" stAng="5518715" swAng="5281285"/>
                <a:close/>
              </a:path>
            </a:pathLst>
          </a:custGeom>
          <a:solidFill>
            <a:srgbClr val="ffffff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2124000" y="0"/>
            <a:ext cx="504036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Вопросы и задания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250920" y="422100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Самое большое море-озер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395280" y="2852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Самое глубокое озер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468360" y="58770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Самое солёное озер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Box 10"/>
          <p:cNvSpPr/>
          <p:nvPr/>
        </p:nvSpPr>
        <p:spPr>
          <a:xfrm>
            <a:off x="372600" y="1484280"/>
            <a:ext cx="36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Что называют озеро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Скругленный прямоугольник 11"/>
          <p:cNvSpPr/>
          <p:nvPr/>
        </p:nvSpPr>
        <p:spPr>
          <a:xfrm>
            <a:off x="4932360" y="981000"/>
            <a:ext cx="3672000" cy="1224000"/>
          </a:xfrm>
          <a:prstGeom prst="roundRect">
            <a:avLst>
              <a:gd name="adj" fmla="val 16667"/>
            </a:avLst>
          </a:prstGeom>
          <a:solidFill>
            <a:srgbClr val="0101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мкнутый водоем, образовавшийся на поверхности суши в природном углублен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Скругленный прямоугольник 12"/>
          <p:cNvSpPr/>
          <p:nvPr/>
        </p:nvSpPr>
        <p:spPr>
          <a:xfrm>
            <a:off x="5219640" y="2565360"/>
            <a:ext cx="3313080" cy="914400"/>
          </a:xfrm>
          <a:prstGeom prst="roundRect">
            <a:avLst>
              <a:gd name="adj" fmla="val 16667"/>
            </a:avLst>
          </a:prstGeom>
          <a:solidFill>
            <a:srgbClr val="0101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айка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Скругленный прямоугольник 13"/>
          <p:cNvSpPr/>
          <p:nvPr/>
        </p:nvSpPr>
        <p:spPr>
          <a:xfrm>
            <a:off x="5219640" y="4005360"/>
            <a:ext cx="3240000" cy="914400"/>
          </a:xfrm>
          <a:prstGeom prst="roundRect">
            <a:avLst>
              <a:gd name="adj" fmla="val 16667"/>
            </a:avLst>
          </a:prstGeom>
          <a:solidFill>
            <a:srgbClr val="0101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спийск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Скругленный прямоугольник 14"/>
          <p:cNvSpPr/>
          <p:nvPr/>
        </p:nvSpPr>
        <p:spPr>
          <a:xfrm>
            <a:off x="5219640" y="5589720"/>
            <a:ext cx="3384720" cy="914400"/>
          </a:xfrm>
          <a:prstGeom prst="roundRect">
            <a:avLst>
              <a:gd name="adj" fmla="val 16667"/>
            </a:avLst>
          </a:prstGeom>
          <a:solidFill>
            <a:srgbClr val="0101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ртв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6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76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333360"/>
            <a:ext cx="649116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Какую форму имеют озера вулканического происхождени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Какое происхождение имеют озера, образовавшиеся в результате движения земной кор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Скругленный прямоугольник 3"/>
          <p:cNvSpPr/>
          <p:nvPr/>
        </p:nvSpPr>
        <p:spPr>
          <a:xfrm>
            <a:off x="6875640" y="549360"/>
            <a:ext cx="2017440" cy="914400"/>
          </a:xfrm>
          <a:prstGeom prst="roundRect">
            <a:avLst>
              <a:gd name="adj" fmla="val 16667"/>
            </a:avLst>
          </a:prstGeom>
          <a:solidFill>
            <a:srgbClr val="0101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углу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Скругленный прямоугольник 4"/>
          <p:cNvSpPr/>
          <p:nvPr/>
        </p:nvSpPr>
        <p:spPr>
          <a:xfrm>
            <a:off x="6875640" y="1989000"/>
            <a:ext cx="1995480" cy="914400"/>
          </a:xfrm>
          <a:prstGeom prst="roundRect">
            <a:avLst>
              <a:gd name="adj" fmla="val 16667"/>
            </a:avLst>
          </a:prstGeom>
          <a:solidFill>
            <a:srgbClr val="0101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ктоническ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3"/>
          <p:cNvSpPr/>
          <p:nvPr/>
        </p:nvSpPr>
        <p:spPr>
          <a:xfrm>
            <a:off x="376560" y="1628640"/>
            <a:ext cx="76514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http://proxy10.media.online.ua/uol/r2-d23e0f88ea/5285841a8e61d.j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570240" y="1989000"/>
            <a:ext cx="55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rg.ru/i/gallery/9d26cca9/ddf8b760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474120" y="2349360"/>
            <a:ext cx="49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geoglobus.ru/earth/geo7/earth08.ph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496080" y="2852640"/>
            <a:ext cx="47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shools-geograf.at.ua/ozera/0001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590040" y="476280"/>
            <a:ext cx="84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.П. Герасимова, Н.П. Неклюкова. География. Начальный курс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сква. ДРОФА 20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.А. Никитина, Е.А.Жижина. Поурочные разработки погеографии 6 клас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сква. ВАКО 2013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90792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ДЗ.</a:t>
            </a:r>
            <a:br>
              <a:rPr sz="4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Исток – это…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Устье – это…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Покажите самые крупные реки материков, назовите их и покажите, где у этих рек исток и усть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Назовите истоки и устья этих рек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1457640" y="270828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 вопросы отвечать «да» или  «нет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209160" y="3284640"/>
            <a:ext cx="64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Может ли река брать начало из озера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7091280" y="32130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302040" y="4005360"/>
            <a:ext cx="53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Может ли река впадать в озер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7162560" y="414972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358920" y="472428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Может ли река вытекать из мор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7155720" y="472428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296640" y="5516640"/>
            <a:ext cx="656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Внезапный подъем уровня воды в рек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половодь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7227360" y="551664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4"/>
          <p:cNvSpPr/>
          <p:nvPr/>
        </p:nvSpPr>
        <p:spPr>
          <a:xfrm>
            <a:off x="1074960" y="0"/>
            <a:ext cx="675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Озеро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 – замкнутый водоём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образовавшийся на поверхност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суши в природном углублени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6" descr="http://proxy10.media.online.ua/uol/r2-d23e0f88ea/5285841a8e61d.jpg"/>
          <p:cNvPicPr/>
          <p:nvPr/>
        </p:nvPicPr>
        <p:blipFill>
          <a:blip r:embed="rId1"/>
          <a:stretch/>
        </p:blipFill>
        <p:spPr>
          <a:xfrm>
            <a:off x="1476360" y="1916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Чем озеро отличается от моря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(Озеро не является частью океана, оно относится к суше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Чем озеро отличается от рек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(В озере вода не течёт, как поток в русле реки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сскажите об озере, которое Вы видели.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кие озера Вы знаете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звания каких озер Вы слышали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"/>
          <p:cNvSpPr txBox="1"/>
          <p:nvPr/>
        </p:nvSpPr>
        <p:spPr>
          <a:xfrm>
            <a:off x="179280" y="0"/>
            <a:ext cx="8713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Самое большое озеро на Земле - Каспийское 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pic>
        <p:nvPicPr>
          <p:cNvPr id="102" name="Picture 7" descr="http://sitewater.ru/images/caspian_sea_sm1.jpg"/>
          <p:cNvPicPr/>
          <p:nvPr/>
        </p:nvPicPr>
        <p:blipFill>
          <a:blip r:embed="rId1"/>
          <a:stretch/>
        </p:blipFill>
        <p:spPr>
          <a:xfrm>
            <a:off x="468360" y="3357720"/>
            <a:ext cx="3240000" cy="350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http://kazhydromet.kz/files/files/20110815162242.jpeg"/>
          <p:cNvPicPr/>
          <p:nvPr/>
        </p:nvPicPr>
        <p:blipFill>
          <a:blip r:embed="rId2"/>
          <a:stretch/>
        </p:blipFill>
        <p:spPr>
          <a:xfrm>
            <a:off x="5364000" y="3429000"/>
            <a:ext cx="3029040" cy="3429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8"/>
          <p:cNvSpPr/>
          <p:nvPr/>
        </p:nvSpPr>
        <p:spPr>
          <a:xfrm>
            <a:off x="21240" y="1341360"/>
            <a:ext cx="938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ahoma"/>
              </a:rPr>
              <a:t>В прошлом это озеро соединялось с океаном и было море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ahoma"/>
              </a:rPr>
              <a:t>За размеры и  соленость  его называют мор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56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. Найдите его на карте России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2. Какие реки в него впадают?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3. Чему равна наибольшая глубина этого озера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0" y="0"/>
            <a:ext cx="914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Самое глубокое озеро нашей планеты -  Байка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82040" y="836640"/>
            <a:ext cx="761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ahoma"/>
              </a:rPr>
              <a:t>Его глубина составляет 1620 м. В нем содержи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ahoma"/>
              </a:rPr>
              <a:t>1/10 запасов пресной воды Зем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7" descr="http://www.chopper-bike.ru/images_for_articles/2011/8/10/1.jpg"/>
          <p:cNvPicPr/>
          <p:nvPr/>
        </p:nvPicPr>
        <p:blipFill>
          <a:blip r:embed="rId1"/>
          <a:stretch/>
        </p:blipFill>
        <p:spPr>
          <a:xfrm>
            <a:off x="324000" y="2133720"/>
            <a:ext cx="4498920" cy="4724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http://larece.ru/wp-content/uploads/2010/04/baykal1.jpg"/>
          <p:cNvPicPr/>
          <p:nvPr/>
        </p:nvPicPr>
        <p:blipFill>
          <a:blip r:embed="rId2"/>
          <a:stretch/>
        </p:blipFill>
        <p:spPr>
          <a:xfrm>
            <a:off x="5364000" y="2205000"/>
            <a:ext cx="33483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6:53:33Z</dcterms:created>
  <dc:creator>User</dc:creator>
  <dc:description/>
  <dc:language>en-US</dc:language>
  <cp:lastModifiedBy>оксана</cp:lastModifiedBy>
  <dcterms:modified xsi:type="dcterms:W3CDTF">2015-04-17T14:59:17Z</dcterms:modified>
  <cp:revision>33</cp:revision>
  <dc:subject/>
  <dc:title>Слайд 1</dc:title>
</cp:coreProperties>
</file>