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187-EA31-4B22-A75F-787089CC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45F-76E2-493D-850E-3EA0842B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970-3B4E-4661-8D72-310EC96A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1DD-D86D-4734-A1A6-96C50FDC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7E9-6747-42CD-878B-748AB6D3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E20-49FB-4845-BE43-DD69E094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BB7-EF01-425C-8762-EEEB1570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90D-33DC-473B-B5AD-CAF3E5F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BBF-B25C-47BA-84DD-DD150D3B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677-097F-475F-8968-A58A48A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8F0-4BAF-4D00-B541-5E2EBE23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DE5-84BD-4C6A-8085-EB06B533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DC04-A150-48CE-A312-E54059E45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ОКИ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по технологии (индустриальные технолог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учитель МБОУ «Б-ГСОШ № 1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ькеев Витали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3964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РАТИВНЫЙ ВАЗОН ДЛЯ Ц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:\Users\Школа\Pictures\3.gif"/>
          <p:cNvPicPr/>
          <p:nvPr/>
        </p:nvPicPr>
        <p:blipFill>
          <a:blip r:embed="rId1"/>
          <a:stretch/>
        </p:blipFill>
        <p:spPr>
          <a:xfrm>
            <a:off x="928800" y="1428840"/>
            <a:ext cx="7304040" cy="416232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ТРЕЩ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характерны как для растущего дерева, так и для мертвой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Школа\Pictures\4.gif"/>
          <p:cNvPicPr/>
          <p:nvPr/>
        </p:nvPicPr>
        <p:blipFill>
          <a:blip r:embed="rId1"/>
          <a:stretch/>
        </p:blipFill>
        <p:spPr>
          <a:xfrm>
            <a:off x="4643280" y="1714680"/>
            <a:ext cx="4019760" cy="36194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ОВРЕЖДЕНИЕ НАСЕКОМЫМИ (ЧЕРВОТОЧ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Школа\Pictures\6.gif"/>
          <p:cNvPicPr/>
          <p:nvPr/>
        </p:nvPicPr>
        <p:blipFill>
          <a:blip r:embed="rId1"/>
          <a:stretch/>
        </p:blipFill>
        <p:spPr>
          <a:xfrm>
            <a:off x="214200" y="2071800"/>
            <a:ext cx="4143600" cy="37144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67" name="Picture 7" descr="C:\Users\Школа\Pictures\7.gif"/>
          <p:cNvPicPr/>
          <p:nvPr/>
        </p:nvPicPr>
        <p:blipFill>
          <a:blip r:embed="rId2"/>
          <a:stretch/>
        </p:blipFill>
        <p:spPr>
          <a:xfrm>
            <a:off x="4629240" y="2071800"/>
            <a:ext cx="4371840" cy="37144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ОРОКИ ФОРМЫ СТВ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0" y="1628640"/>
            <a:ext cx="42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отклонения ее от нормальной формы – этот вид порока можно отнести к значительно распространенным порокам древес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:\Users\Школа\Pictures\8.gif"/>
          <p:cNvPicPr/>
          <p:nvPr/>
        </p:nvPicPr>
        <p:blipFill>
          <a:blip r:embed="rId1"/>
          <a:stretch/>
        </p:blipFill>
        <p:spPr>
          <a:xfrm>
            <a:off x="285840" y="1357200"/>
            <a:ext cx="4937040" cy="5143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Порода дарева Вишня Сиам паркет"/>
          <p:cNvPicPr/>
          <p:nvPr/>
        </p:nvPicPr>
        <p:blipFill>
          <a:blip r:embed="rId1"/>
          <a:stretch/>
        </p:blipFill>
        <p:spPr>
          <a:xfrm>
            <a:off x="500040" y="1785960"/>
            <a:ext cx="3600360" cy="3530520"/>
          </a:xfrm>
          <a:prstGeom prst="rect">
            <a:avLst/>
          </a:prstGeom>
          <a:ln w="6480">
            <a:solidFill>
              <a:srgbClr val="993300"/>
            </a:solidFill>
            <a:miter/>
          </a:ln>
        </p:spPr>
      </p:pic>
      <p:sp>
        <p:nvSpPr>
          <p:cNvPr id="72" name="Text Box 6"/>
          <p:cNvSpPr/>
          <p:nvPr/>
        </p:nvSpPr>
        <p:spPr>
          <a:xfrm>
            <a:off x="4356000" y="213372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отлич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о выраженной свилеват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ламутровым отливом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метр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дерева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шня Сиам парк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ло-коричне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619280" y="40464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АРК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ороки строения древе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000160" y="1214280"/>
            <a:ext cx="3400560" cy="3811680"/>
          </a:xfrm>
          <a:prstGeom prst="rect">
            <a:avLst/>
          </a:prstGeom>
          <a:ln w="6480">
            <a:solidFill>
              <a:srgbClr val="993300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0552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клон волокон (косослой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волокна располагаются не параллельно оси ствола, а винтообразно, по спи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ослой оказывает отрицательное влияние на качество древес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Файл:Naturskog.JPG"/>
          <p:cNvPicPr/>
          <p:nvPr/>
        </p:nvPicPr>
        <p:blipFill>
          <a:blip r:embed="rId2"/>
          <a:stretch/>
        </p:blipFill>
        <p:spPr>
          <a:xfrm>
            <a:off x="357120" y="2786040"/>
            <a:ext cx="31687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76720" y="1413000"/>
            <a:ext cx="359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 - это доброкачественное образование на дереве представляющий собой пучок тонких веточек растущих из каплевидного (чаще всего) нароста. При поперечном разрезе имеет текстуру с ярко выраженными сердцевинами сучков. Обрабатывается сложно из-за сильно свилеватой текстуры и огромного количества сучков. Крайне красив, прочен, прекрасно шлифуется и полируетс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C:\Users\Школа\Pictures\9.gif"/>
          <p:cNvPicPr/>
          <p:nvPr/>
        </p:nvPicPr>
        <p:blipFill>
          <a:blip r:embed="rId1"/>
          <a:stretch/>
        </p:blipFill>
        <p:spPr>
          <a:xfrm>
            <a:off x="285840" y="1500120"/>
            <a:ext cx="4657680" cy="4000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Users\Школа\Pictures\0.gif"/>
          <p:cNvPicPr/>
          <p:nvPr/>
        </p:nvPicPr>
        <p:blipFill>
          <a:blip r:embed="rId1"/>
          <a:stretch/>
        </p:blipFill>
        <p:spPr>
          <a:xfrm>
            <a:off x="468360" y="333360"/>
            <a:ext cx="5295960" cy="39909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82" name="Picture 7" descr="Изображение"/>
          <p:cNvPicPr/>
          <p:nvPr/>
        </p:nvPicPr>
        <p:blipFill>
          <a:blip r:embed="rId2"/>
          <a:stretch/>
        </p:blipFill>
        <p:spPr>
          <a:xfrm>
            <a:off x="4356000" y="3645000"/>
            <a:ext cx="3810240" cy="30477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6156360" y="404640"/>
            <a:ext cx="26636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ЕЛКИ И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В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495680" cy="43610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sp>
        <p:nvSpPr>
          <p:cNvPr id="86" name="Text Box 7"/>
          <p:cNvSpPr/>
          <p:nvPr/>
        </p:nvSpPr>
        <p:spPr>
          <a:xfrm>
            <a:off x="4788000" y="2060640"/>
            <a:ext cx="410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вель представляет собой каплевидный или шарообразный нарост на дереве , растет обычно быстрее самого дерева раза в 2-3. При распиле имеет текстуру близкую по рисунку к мрамору и перламутру (это основной признак отличия от КАП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ЕЛКИ ИЗ СУВЕЛИ БЕРЕ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Школа\Pictures\10.gif"/>
          <p:cNvPicPr/>
          <p:nvPr/>
        </p:nvPicPr>
        <p:blipFill>
          <a:blip r:embed="rId1"/>
          <a:stretch/>
        </p:blipFill>
        <p:spPr>
          <a:xfrm>
            <a:off x="285840" y="1428840"/>
            <a:ext cx="4048200" cy="45813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89" name="Picture 4" descr="C:\Users\Школа\Pictures\11.gif"/>
          <p:cNvPicPr/>
          <p:nvPr/>
        </p:nvPicPr>
        <p:blipFill>
          <a:blip r:embed="rId2"/>
          <a:stretch/>
        </p:blipFill>
        <p:spPr>
          <a:xfrm>
            <a:off x="4786200" y="1428840"/>
            <a:ext cx="3733920" cy="452412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28760" y="733680"/>
            <a:ext cx="8429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определение понят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читься распознавать основные пороки древесины по внешнему вид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ть технологическую культур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248_12"/>
          <p:cNvPicPr/>
          <p:nvPr/>
        </p:nvPicPr>
        <p:blipFill>
          <a:blip r:embed="rId1"/>
          <a:stretch/>
        </p:blipFill>
        <p:spPr>
          <a:xfrm>
            <a:off x="285840" y="142920"/>
            <a:ext cx="4968720" cy="38210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572000" y="2071800"/>
            <a:ext cx="4330800" cy="45370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547640" y="333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АК И ГНИ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19280" y="486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C:\Users\Школа\Pictures\12.gif"/>
          <p:cNvPicPr/>
          <p:nvPr/>
        </p:nvPicPr>
        <p:blipFill>
          <a:blip r:embed="rId1"/>
          <a:stretch/>
        </p:blipFill>
        <p:spPr>
          <a:xfrm>
            <a:off x="4214880" y="1071720"/>
            <a:ext cx="4667040" cy="52005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95" name="Picture 7" descr="C:\Users\Школа\Pictures\13.gif"/>
          <p:cNvPicPr/>
          <p:nvPr/>
        </p:nvPicPr>
        <p:blipFill>
          <a:blip r:embed="rId2"/>
          <a:stretch/>
        </p:blipFill>
        <p:spPr>
          <a:xfrm>
            <a:off x="214200" y="2286000"/>
            <a:ext cx="3819600" cy="24004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ни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ется под действием древоразрушающих грибов, с течением времени древесина превращается в тру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57200" y="35712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ВАЙТЕ ВСПОМНИ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Объект 5" descr=""/>
          <p:cNvPicPr/>
          <p:nvPr/>
        </p:nvPicPr>
        <p:blipFill>
          <a:blip r:embed="rId1"/>
          <a:stretch/>
        </p:blipFill>
        <p:spPr>
          <a:xfrm>
            <a:off x="0" y="2349360"/>
            <a:ext cx="2500200" cy="2814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2643120" y="1452600"/>
            <a:ext cx="6000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виды продукции получают в лесхоза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занимается деревообрабатывающая промышленнос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зовите рабочие профессии, применяемые в лесной промышленн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ороками древес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ывают различные отклонения от нормы, существенно изменяющие и понижающие качество древесины, ограничивающие ее использова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ороки делят на девять груп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щ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воточины (повреждения насекомым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оки формы ство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оки строения древес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ие окрас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бные пора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родные включения и дефек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У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45003" t="9145" r="3794" b="8559"/>
          <a:stretch/>
        </p:blipFill>
        <p:spPr>
          <a:xfrm>
            <a:off x="2124000" y="907920"/>
            <a:ext cx="4683240" cy="5143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СУ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разновидности суч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- кругл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- овальн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- продолговат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- пластев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- кромочн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- ребровы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- сшивн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- группов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- разветвлё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Школа\Pictures\5.gif"/>
          <p:cNvPicPr/>
          <p:nvPr/>
        </p:nvPicPr>
        <p:blipFill>
          <a:blip r:embed="rId1"/>
          <a:stretch/>
        </p:blipFill>
        <p:spPr>
          <a:xfrm>
            <a:off x="214200" y="1643040"/>
            <a:ext cx="4550040" cy="424800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ДРЕВЕСИНЫ С СУЧКАМИ  В ПОДЕЛ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C:\Users\Школа\Pictures\Часы.jpg"/>
          <p:cNvPicPr/>
          <p:nvPr/>
        </p:nvPicPr>
        <p:blipFill>
          <a:blip r:embed="rId1"/>
          <a:stretch/>
        </p:blipFill>
        <p:spPr>
          <a:xfrm>
            <a:off x="1214280" y="1928880"/>
            <a:ext cx="2914920" cy="42098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56" name="Picture 11" descr="C:\Users\Школа\Pictures\Подставка.jpg"/>
          <p:cNvPicPr/>
          <p:nvPr/>
        </p:nvPicPr>
        <p:blipFill>
          <a:blip r:embed="rId2"/>
          <a:stretch/>
        </p:blipFill>
        <p:spPr>
          <a:xfrm>
            <a:off x="4857840" y="1928880"/>
            <a:ext cx="3343320" cy="41907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ТАВКА ПОД ГОРЯЧ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Школа\Pictures\1jpg.jpg"/>
          <p:cNvPicPr/>
          <p:nvPr/>
        </p:nvPicPr>
        <p:blipFill>
          <a:blip r:embed="rId1"/>
          <a:stretch/>
        </p:blipFill>
        <p:spPr>
          <a:xfrm>
            <a:off x="493560" y="1643040"/>
            <a:ext cx="4007160" cy="448632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59" name="Picture 3" descr="C:\Users\Школа\Pictures\2jpg.gif"/>
          <p:cNvPicPr/>
          <p:nvPr/>
        </p:nvPicPr>
        <p:blipFill>
          <a:blip r:embed="rId2"/>
          <a:stretch/>
        </p:blipFill>
        <p:spPr>
          <a:xfrm>
            <a:off x="4724280" y="1662120"/>
            <a:ext cx="3886200" cy="44006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6:34:13Z</dcterms:created>
  <dc:creator>User</dc:creator>
  <dc:description/>
  <dc:language>en-US</dc:language>
  <cp:lastModifiedBy>Uzver</cp:lastModifiedBy>
  <dcterms:modified xsi:type="dcterms:W3CDTF">2015-04-17T19:26:55Z</dcterms:modified>
  <cp:revision>154</cp:revision>
  <dc:subject/>
  <dc:title>Пороками древесины называют различные отклонения от нормы, существенно изменяющие и, как правило, понижающие качество древесины, ограничивающие ее использование.</dc:title>
</cp:coreProperties>
</file>