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5CB4-A650-40F0-91D9-CF29559D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6076-5E78-45CE-A9AD-B12EBB95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6ED-F21F-4449-A526-06CECAD0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4A6-1561-43D0-A13E-68E4E481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6511-F7EF-42A9-890D-427FF035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A8C-DC83-46EC-B40D-92E8E659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4962-E081-4272-914D-E29F8AA5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27CF-41DD-4539-AA00-7E1D18E8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4F62-F46F-4EED-98DE-4643C833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9E5B-70AF-4AA1-8E41-0477235E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BCB0-5273-455B-96B4-84E2F25C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BC6-2683-4EE0-A127-AD8FA4A9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7E86-EE75-4EEA-8879-B497434910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РОКИ ДРЕВЕС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по технологии (индустриальные технолог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: учитель МБОУ «Б-ГСОШ № 1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лькеев Виталий Ю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539640" y="260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КОРАТИВНЫЙ ВАЗОН ДЛЯ ЦВЕ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C:\Users\Школа\Pictures\3.gif"/>
          <p:cNvPicPr/>
          <p:nvPr/>
        </p:nvPicPr>
        <p:blipFill>
          <a:blip r:embed="rId1"/>
          <a:stretch/>
        </p:blipFill>
        <p:spPr>
          <a:xfrm>
            <a:off x="928800" y="1428840"/>
            <a:ext cx="7304040" cy="416232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ТРЕЩ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ни характерны как для растущего дерева, так и для мертвой древес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:\Users\Школа\Pictures\4.gif"/>
          <p:cNvPicPr/>
          <p:nvPr/>
        </p:nvPicPr>
        <p:blipFill>
          <a:blip r:embed="rId1"/>
          <a:stretch/>
        </p:blipFill>
        <p:spPr>
          <a:xfrm>
            <a:off x="4643280" y="1714680"/>
            <a:ext cx="4019760" cy="361944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ОВРЕЖДЕНИЕ НАСЕКОМЫМИ (ЧЕРВОТОЧИН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C:\Users\Школа\Pictures\6.gif"/>
          <p:cNvPicPr/>
          <p:nvPr/>
        </p:nvPicPr>
        <p:blipFill>
          <a:blip r:embed="rId1"/>
          <a:stretch/>
        </p:blipFill>
        <p:spPr>
          <a:xfrm>
            <a:off x="214200" y="2071800"/>
            <a:ext cx="4143600" cy="371448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pic>
        <p:nvPicPr>
          <p:cNvPr id="67" name="Picture 7" descr="C:\Users\Школа\Pictures\7.gif"/>
          <p:cNvPicPr/>
          <p:nvPr/>
        </p:nvPicPr>
        <p:blipFill>
          <a:blip r:embed="rId2"/>
          <a:stretch/>
        </p:blipFill>
        <p:spPr>
          <a:xfrm>
            <a:off x="4629240" y="2071800"/>
            <a:ext cx="4371840" cy="371448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ОРОКИ ФОРМЫ СТВ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32000" y="1628640"/>
            <a:ext cx="421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отклонения ее от нормальной формы – этот вид порока можно отнести к значительно распространенным порокам древеси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C:\Users\Школа\Pictures\8.gif"/>
          <p:cNvPicPr/>
          <p:nvPr/>
        </p:nvPicPr>
        <p:blipFill>
          <a:blip r:embed="rId1"/>
          <a:stretch/>
        </p:blipFill>
        <p:spPr>
          <a:xfrm>
            <a:off x="285840" y="1357200"/>
            <a:ext cx="4937040" cy="514368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Порода дарева Вишня Сиам паркет"/>
          <p:cNvPicPr/>
          <p:nvPr/>
        </p:nvPicPr>
        <p:blipFill>
          <a:blip r:embed="rId1"/>
          <a:stretch/>
        </p:blipFill>
        <p:spPr>
          <a:xfrm>
            <a:off x="500040" y="1785960"/>
            <a:ext cx="3600360" cy="3530520"/>
          </a:xfrm>
          <a:prstGeom prst="rect">
            <a:avLst/>
          </a:prstGeom>
          <a:ln w="6480">
            <a:solidFill>
              <a:srgbClr val="993300"/>
            </a:solidFill>
            <a:miter/>
          </a:ln>
        </p:spPr>
      </p:pic>
      <p:sp>
        <p:nvSpPr>
          <p:cNvPr id="72" name="Text Box 6"/>
          <p:cNvSpPr/>
          <p:nvPr/>
        </p:nvSpPr>
        <p:spPr>
          <a:xfrm>
            <a:off x="4356000" y="2133720"/>
            <a:ext cx="45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есина отлич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рко выраженной свилевато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перламутровым отливом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аметр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дерева: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шня Сиам парк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дость: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: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тло-коричнев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619280" y="404640"/>
            <a:ext cx="62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АРК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ороки строения древес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2000160" y="1214280"/>
            <a:ext cx="3400560" cy="3811680"/>
          </a:xfrm>
          <a:prstGeom prst="rect">
            <a:avLst/>
          </a:prstGeom>
          <a:ln w="6480">
            <a:solidFill>
              <a:srgbClr val="993300"/>
            </a:solidFill>
            <a:miter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05520" y="121392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клон волокон (косослой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волокна располагаются не параллельно оси ствола, а винтообразно, по спир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ослой оказывает отрицательное влияние на качество древес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Файл:Naturskog.JPG"/>
          <p:cNvPicPr/>
          <p:nvPr/>
        </p:nvPicPr>
        <p:blipFill>
          <a:blip r:embed="rId2"/>
          <a:stretch/>
        </p:blipFill>
        <p:spPr>
          <a:xfrm>
            <a:off x="357120" y="2786040"/>
            <a:ext cx="316872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076720" y="1413000"/>
            <a:ext cx="3598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П - это доброкачественное образование на дереве представляющий собой пучок тонких веточек растущих из каплевидного (чаще всего) нароста. При поперечном разрезе имеет текстуру с ярко выраженными сердцевинами сучков. Обрабатывается сложно из-за сильно свилеватой текстуры и огромного количества сучков. Крайне красив, прочен, прекрасно шлифуется и полируетс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C:\Users\Школа\Pictures\9.gif"/>
          <p:cNvPicPr/>
          <p:nvPr/>
        </p:nvPicPr>
        <p:blipFill>
          <a:blip r:embed="rId1"/>
          <a:stretch/>
        </p:blipFill>
        <p:spPr>
          <a:xfrm>
            <a:off x="285840" y="1500120"/>
            <a:ext cx="4657680" cy="400068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C:\Users\Школа\Pictures\0.gif"/>
          <p:cNvPicPr/>
          <p:nvPr/>
        </p:nvPicPr>
        <p:blipFill>
          <a:blip r:embed="rId1"/>
          <a:stretch/>
        </p:blipFill>
        <p:spPr>
          <a:xfrm>
            <a:off x="468360" y="333360"/>
            <a:ext cx="5295960" cy="399096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pic>
        <p:nvPicPr>
          <p:cNvPr id="82" name="Picture 7" descr="Изображение"/>
          <p:cNvPicPr/>
          <p:nvPr/>
        </p:nvPicPr>
        <p:blipFill>
          <a:blip r:embed="rId2"/>
          <a:stretch/>
        </p:blipFill>
        <p:spPr>
          <a:xfrm>
            <a:off x="4356000" y="3645000"/>
            <a:ext cx="3810240" cy="304776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sp>
        <p:nvSpPr>
          <p:cNvPr id="83" name="Text Box 5"/>
          <p:cNvSpPr/>
          <p:nvPr/>
        </p:nvSpPr>
        <p:spPr>
          <a:xfrm>
            <a:off x="6156360" y="404640"/>
            <a:ext cx="26636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ЕЛКИ ИЗ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В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495680" cy="436104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sp>
        <p:nvSpPr>
          <p:cNvPr id="86" name="Text Box 7"/>
          <p:cNvSpPr/>
          <p:nvPr/>
        </p:nvSpPr>
        <p:spPr>
          <a:xfrm>
            <a:off x="4788000" y="2060640"/>
            <a:ext cx="4103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вель представляет собой каплевидный или шарообразный нарост на дереве , растет обычно быстрее самого дерева раза в 2-3. При распиле имеет текстуру близкую по рисунку к мрамору и перламутру (это основной признак отличия от КАПА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ЕЛКИ ИЗ СУВЕЛИ БЕРЕ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Users\Школа\Pictures\10.gif"/>
          <p:cNvPicPr/>
          <p:nvPr/>
        </p:nvPicPr>
        <p:blipFill>
          <a:blip r:embed="rId1"/>
          <a:stretch/>
        </p:blipFill>
        <p:spPr>
          <a:xfrm>
            <a:off x="285840" y="1428840"/>
            <a:ext cx="4048200" cy="458136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pic>
        <p:nvPicPr>
          <p:cNvPr id="89" name="Picture 4" descr="C:\Users\Школа\Pictures\11.gif"/>
          <p:cNvPicPr/>
          <p:nvPr/>
        </p:nvPicPr>
        <p:blipFill>
          <a:blip r:embed="rId2"/>
          <a:stretch/>
        </p:blipFill>
        <p:spPr>
          <a:xfrm>
            <a:off x="4786200" y="1428840"/>
            <a:ext cx="3733920" cy="452412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428760" y="733680"/>
            <a:ext cx="8429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ать определение понятию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учиться распознавать основные пороки древесины по внешнему вид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ировать технологическую культур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248_12"/>
          <p:cNvPicPr/>
          <p:nvPr/>
        </p:nvPicPr>
        <p:blipFill>
          <a:blip r:embed="rId1"/>
          <a:stretch/>
        </p:blipFill>
        <p:spPr>
          <a:xfrm>
            <a:off x="285840" y="142920"/>
            <a:ext cx="4968720" cy="382104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4572000" y="2071800"/>
            <a:ext cx="4330800" cy="453708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547640" y="333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РАК И ГНИЛ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619280" y="486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C:\Users\Школа\Pictures\12.gif"/>
          <p:cNvPicPr/>
          <p:nvPr/>
        </p:nvPicPr>
        <p:blipFill>
          <a:blip r:embed="rId1"/>
          <a:stretch/>
        </p:blipFill>
        <p:spPr>
          <a:xfrm>
            <a:off x="4214880" y="1071720"/>
            <a:ext cx="4667040" cy="520056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pic>
        <p:nvPicPr>
          <p:cNvPr id="95" name="Picture 7" descr="C:\Users\Школа\Pictures\13.gif"/>
          <p:cNvPicPr/>
          <p:nvPr/>
        </p:nvPicPr>
        <p:blipFill>
          <a:blip r:embed="rId2"/>
          <a:stretch/>
        </p:blipFill>
        <p:spPr>
          <a:xfrm>
            <a:off x="214200" y="2286000"/>
            <a:ext cx="3819600" cy="240048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Гни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уется под действием древоразрушающих грибов, с течением времени древесина превращается в тру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038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357200" y="35712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АВАЙТЕ ВСПОМНИМ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Объект 5" descr=""/>
          <p:cNvPicPr/>
          <p:nvPr/>
        </p:nvPicPr>
        <p:blipFill>
          <a:blip r:embed="rId1"/>
          <a:stretch/>
        </p:blipFill>
        <p:spPr>
          <a:xfrm>
            <a:off x="0" y="2349360"/>
            <a:ext cx="2500200" cy="2814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"/>
          <p:cNvSpPr/>
          <p:nvPr/>
        </p:nvSpPr>
        <p:spPr>
          <a:xfrm>
            <a:off x="2643120" y="1452600"/>
            <a:ext cx="6000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ие виды продукции получают в лесхозах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 занимается деревообрабатывающая промышленнос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Назовите рабочие профессии, применяемые в лесной промышленност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Пороками древеси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зывают различные отклонения от нормы, существенно изменяющие и понижающие качество древесины, ограничивающие ее использовани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ороки делят на девять групп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ч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щин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воточины (повреждения насекомыми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оки формы ствол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оки строения древес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мические окрас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ибные пораж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ородные включения и дефек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СУ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45003" t="9145" r="3794" b="8559"/>
          <a:stretch/>
        </p:blipFill>
        <p:spPr>
          <a:xfrm>
            <a:off x="2124000" y="907920"/>
            <a:ext cx="4683240" cy="514368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СУ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разновидности сучков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- круглы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- овальны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- продолговаты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- пластево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- кромочны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 - ребровы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 - сшивные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 - групповые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 - разветвлё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Школа\Pictures\5.gif"/>
          <p:cNvPicPr/>
          <p:nvPr/>
        </p:nvPicPr>
        <p:blipFill>
          <a:blip r:embed="rId1"/>
          <a:stretch/>
        </p:blipFill>
        <p:spPr>
          <a:xfrm>
            <a:off x="214200" y="1643040"/>
            <a:ext cx="4550040" cy="424800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ДРЕВЕСИНЫ С СУЧКАМИ  В ПОДЕЛ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C:\Users\Школа\Pictures\Часы.jpg"/>
          <p:cNvPicPr/>
          <p:nvPr/>
        </p:nvPicPr>
        <p:blipFill>
          <a:blip r:embed="rId1"/>
          <a:stretch/>
        </p:blipFill>
        <p:spPr>
          <a:xfrm>
            <a:off x="1214280" y="1928880"/>
            <a:ext cx="2914920" cy="420984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pic>
        <p:nvPicPr>
          <p:cNvPr id="56" name="Picture 11" descr="C:\Users\Школа\Pictures\Подставка.jpg"/>
          <p:cNvPicPr/>
          <p:nvPr/>
        </p:nvPicPr>
        <p:blipFill>
          <a:blip r:embed="rId2"/>
          <a:stretch/>
        </p:blipFill>
        <p:spPr>
          <a:xfrm>
            <a:off x="4857840" y="1928880"/>
            <a:ext cx="3343320" cy="419076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СТАВКА ПОД ГОРЯЧ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Школа\Pictures\1jpg.jpg"/>
          <p:cNvPicPr/>
          <p:nvPr/>
        </p:nvPicPr>
        <p:blipFill>
          <a:blip r:embed="rId1"/>
          <a:stretch/>
        </p:blipFill>
        <p:spPr>
          <a:xfrm>
            <a:off x="493560" y="1643040"/>
            <a:ext cx="4007160" cy="448632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pic>
        <p:nvPicPr>
          <p:cNvPr id="59" name="Picture 3" descr="C:\Users\Школа\Pictures\2jpg.gif"/>
          <p:cNvPicPr/>
          <p:nvPr/>
        </p:nvPicPr>
        <p:blipFill>
          <a:blip r:embed="rId2"/>
          <a:stretch/>
        </p:blipFill>
        <p:spPr>
          <a:xfrm>
            <a:off x="4724280" y="1662120"/>
            <a:ext cx="3886200" cy="440064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6:34:13Z</dcterms:created>
  <dc:creator>User</dc:creator>
  <dc:description/>
  <dc:language>en-US</dc:language>
  <cp:lastModifiedBy>Uzver</cp:lastModifiedBy>
  <dcterms:modified xsi:type="dcterms:W3CDTF">2015-04-17T19:26:55Z</dcterms:modified>
  <cp:revision>154</cp:revision>
  <dc:subject/>
  <dc:title>Пороками древесины называют различные отклонения от нормы, существенно изменяющие и, как правило, понижающие качество древесины, ограничивающие ее использование.</dc:title>
</cp:coreProperties>
</file>