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BC6-F724-4511-B279-93440B43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1D1-7A55-45DC-A278-1718778B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7F8-8969-4C57-9263-9994DCD1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D9E-16E9-4F5F-8AFD-04D5C850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CC71-BC26-48DD-9F24-3DF8D261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D0FC-94DC-4DA7-A1E6-7377D55F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E4A8-6581-484F-931D-C2097A14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85F5-27E6-4861-ADBE-3E43EF46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BE23-9221-40D4-9EBA-DDBCC7A9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C148-5CDA-4BE3-B5F3-2874CBD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D225-A003-452E-89E1-40078AD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3DB-E5A9-4115-8A0D-5AABA27C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82FA-EC83-4C4B-AB90-907FA0D3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7D33-722B-4F11-9D5D-9F5C111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B27D-A5D7-4B9D-B319-DC28AABC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3D1C-300A-43D5-ABEA-CF6C1F33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BCB7-4640-455E-A6A3-26254FEA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729-BA06-4C2D-8AB8-B29AF328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B54-AC82-4565-A001-4C68EACE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55B-4B49-4570-B502-5EB8B2B6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4AF-CB43-4ACB-9683-448BAEE6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04B-67F0-4175-967A-3BEC398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0E4-781A-4608-A3AD-71BCE98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771-45D3-48BF-9C9D-F53FEFF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3190-34D3-43DE-B1C1-DCD18E70B99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2B12-7271-4FCB-B67F-FCE20D3DBC90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1" i="1" lang="ru-RU" sz="9600" spc="-1" strike="noStrike">
                <a:solidFill>
                  <a:srgbClr val="00cc00"/>
                </a:solidFill>
                <a:latin typeface="Times New Roman"/>
              </a:rPr>
              <a:t>Н</a:t>
            </a:r>
            <a:r>
              <a:rPr b="1" i="1" lang="ru-RU" sz="96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1" i="1" lang="ru-RU" sz="9600" spc="-1" strike="noStrike">
                <a:solidFill>
                  <a:srgbClr val="ffff00"/>
                </a:solidFill>
                <a:latin typeface="Times New Roman"/>
              </a:rPr>
              <a:t>Й</a:t>
            </a:r>
            <a:r>
              <a:rPr b="1" i="1" lang="ru-RU" sz="9600" spc="-1" strike="noStrike">
                <a:solidFill>
                  <a:srgbClr val="9933ff"/>
                </a:solidFill>
                <a:latin typeface="Times New Roman"/>
              </a:rPr>
              <a:t>К</a:t>
            </a:r>
            <a:r>
              <a:rPr b="1" i="1" lang="ru-RU" sz="96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Правила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по русскому языку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для начальных классов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СОСТАВ СЛО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Корень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ая часть родственных слов.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Приставка и суффикс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-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имые част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, образуют новые слова.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Окончание</a:t>
            </a:r>
            <a:r>
              <a:rPr b="1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яемая  часть слова,  служит для связи слов в предложении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ень, приставка и суффикс – это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основа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ЗАПОМН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четаниях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ЧК   ЧН   НЧ   НЩ   РЩ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ягкий знак не пишется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ч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       каме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щ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к        спо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щ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делительный мягкий знак пишется после согласных перед гласными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Е  Ё  И  Ю  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ать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ручь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обезь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делительный твердый знак пишется после приставки, оканчивающейся на согласную перед гласными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Е   Ё   Ю   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д      под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         об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нени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Tahoma"/>
              </a:rPr>
              <a:t>ПРАВОПИСАНИЕ ПРИСТАВОК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ставки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без-   воз-   вз-  из-   низ-  раз-   чрез-   через-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ишутся перед гласными и звонкими согласными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з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т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без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ный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раз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ать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ставки 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бес-   вос-   вс-   ис-   нис-  рас-   чрез-   через-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ишутся перед глухими согласными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о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итание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нить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и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гать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Tahom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Приставка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часть слова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слит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Предлог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часть речи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отд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С глаголами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ги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е употребляют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бята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ились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на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улк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ЧАСТИ  РЕ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МЯ СУЩЕСТВИТЕЛЬНОЕ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чает на вопросы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то?  что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значае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предме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МЯ ПРИЛАГАТЕЛЬНОЕ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чает на вопросы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акой? какая? какое? какие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значае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признак предмета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ГЛАГОЛ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чает на вопрос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что делать? что сделать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значае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действие предмета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МЕСТОИМЕНИЕ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казывает на предметы, но не называет их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ИМЯ СУЩЕСТВИТЕЛЬНО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РОД ИМЁН СУЩЕСТВИТЕЛЬНЫХ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мужской 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н    мой – лев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женский 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на   моя – кошка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средний 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но   моё – животно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ЧИСЛО ИМЁН СУЩЕСТВИТЕЛЬНЫХ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единственное числ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берёз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рбуз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множественное числ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берёз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рбуз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57204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cc"/>
                </a:solidFill>
                <a:latin typeface="Tahoma"/>
              </a:rPr>
              <a:t>ПАДЕЖИ ИМЁН СУЩЕСТВИТЕЛЬНЫХ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762120"/>
          <a:ext cx="8305920" cy="5418000"/>
        </p:xfrm>
        <a:graphic>
          <a:graphicData uri="http://schemas.openxmlformats.org/drawingml/2006/table">
            <a:tbl>
              <a:tblPr/>
              <a:tblGrid>
                <a:gridCol w="1447920"/>
                <a:gridCol w="2361960"/>
                <a:gridCol w="1600200"/>
                <a:gridCol w="2895840"/>
              </a:tblGrid>
              <a:tr h="77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падежа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помогательные слова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дежные вопрос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лог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И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ст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т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т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Р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ог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ег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з, возле, до, из, около, от, подле, с, у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ть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ойти к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ому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ему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, п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жу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ог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т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, за, про, через, в, на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волен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ем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ем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, между, над, под, с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ворить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 ком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 чем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, о, об, на, пр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ТРИ СКЛОНЕНИЯ ИМЁН СУЩЕСТВИТЕЛЬНЫХ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981080"/>
          <a:ext cx="6934320" cy="412596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76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ЕРВОЕ СКЛОНЕНИЕ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ЖСКО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НСКИ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- А, - Я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НОШ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А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ЯД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Я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ТИЦ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А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МЛ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Я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ТОРОЕ СКЛОНЕНИЕ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ЖСКО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- О, - 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ЕЦ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Ь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РН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О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ЧАСТЬ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Е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РЕТЬЕ СКЛОНЕНИЕ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НСКИ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- Ь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Ч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Ь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Ж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Ь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50"/>
          <p:cNvSpPr/>
          <p:nvPr/>
        </p:nvSpPr>
        <p:spPr>
          <a:xfrm>
            <a:off x="2895480" y="2743200"/>
            <a:ext cx="16765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74" name="Line 53"/>
          <p:cNvSpPr/>
          <p:nvPr/>
        </p:nvSpPr>
        <p:spPr>
          <a:xfrm>
            <a:off x="2895480" y="4343400"/>
            <a:ext cx="3429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75" name="Line 63"/>
          <p:cNvSpPr/>
          <p:nvPr/>
        </p:nvSpPr>
        <p:spPr>
          <a:xfrm>
            <a:off x="6400800" y="2743200"/>
            <a:ext cx="1600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76" name="Line 64"/>
          <p:cNvSpPr/>
          <p:nvPr/>
        </p:nvSpPr>
        <p:spPr>
          <a:xfrm>
            <a:off x="6095880" y="4343400"/>
            <a:ext cx="198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РОД ИМЁН ПРИЛАГАТЕЛЬНЫХ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д имён прилагательных определяется по роду имён существительных, с которыми они употребляются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3880" y="3200400"/>
          <a:ext cx="6096240" cy="3090960"/>
        </p:xfrm>
        <a:graphic>
          <a:graphicData uri="http://schemas.openxmlformats.org/drawingml/2006/table">
            <a:tbl>
              <a:tblPr/>
              <a:tblGrid>
                <a:gridCol w="2743200"/>
                <a:gridCol w="33530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ужской род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к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й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улок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ый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урок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Женский род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упн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рыба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евн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яя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ория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редний род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о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ечо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сн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солнц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ЧИСЛО ИМЁН ПРИЛАГАТЕЛЬНЫХ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исло имён прилагательных определяется по числу имени существительного, с которым оно употреблено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3048120"/>
          <a:ext cx="7162920" cy="3170160"/>
        </p:xfrm>
        <a:graphic>
          <a:graphicData uri="http://schemas.openxmlformats.org/drawingml/2006/table">
            <a:tbl>
              <a:tblPr/>
              <a:tblGrid>
                <a:gridCol w="1600200"/>
                <a:gridCol w="2743200"/>
                <a:gridCol w="281952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исл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динственно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ножественно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жской р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л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ы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ок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отолок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л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од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ок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отолк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нский р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ов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ита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н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я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блузка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ов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ит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н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блузк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й р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отк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о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расстояни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тн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е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ать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отк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расстояния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тн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атья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Line 51"/>
          <p:cNvSpPr/>
          <p:nvPr/>
        </p:nvSpPr>
        <p:spPr>
          <a:xfrm>
            <a:off x="1066680" y="3048120"/>
            <a:ext cx="1676520" cy="9144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cc"/>
                </a:solidFill>
                <a:latin typeface="Tahoma"/>
              </a:rPr>
              <a:t>Дружок!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cc"/>
                </a:solidFill>
                <a:latin typeface="Tahoma"/>
              </a:rPr>
              <a:t>Данное пособие содержит все основные правила по русскому языку и составлено таким образом, чтобы тебе было легче и интереснее усвоить школьную программу.</a:t>
            </a:r>
            <a:endParaRPr b="0" lang="en-US" sz="4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НЕОПРЕДЕЛЁННАЯ ФОРМА ГЛАГОЛ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голы бывают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совершенно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есовершенно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ида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овершенный ви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ействие уже сделано, закончено, то есть совершенно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Что сделал?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написал, выучил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есовершенный ви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ействие еще незакончено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Что делает?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ишет, учи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ЗАПОМН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Частица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н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глаголами пишется всегда отдельно: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учил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ИЗМЕНЕНИЕ ГЛАГОЛОВ ПО ВРЕМЕНА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1905120"/>
          <a:ext cx="7925040" cy="4343400"/>
        </p:xfrm>
        <a:graphic>
          <a:graphicData uri="http://schemas.openxmlformats.org/drawingml/2006/table">
            <a:tbl>
              <a:tblPr/>
              <a:tblGrid>
                <a:gridCol w="2590920"/>
                <a:gridCol w="2819520"/>
                <a:gridCol w="2514600"/>
              </a:tblGrid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астоящее время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делает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мотри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ли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е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рошедшее время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делал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сделал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мотрел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лил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овал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Будущее время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будет делать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сделал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дет смотрет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мотри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дет рисоват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исуе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ИЗМЕНЕНИЕ ГЛАГОЛОВ ПО ЧИСЛАМ И ЛИЦА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09480" y="2209680"/>
          <a:ext cx="7696440" cy="3886200"/>
        </p:xfrm>
        <a:graphic>
          <a:graphicData uri="http://schemas.openxmlformats.org/drawingml/2006/table">
            <a:tbl>
              <a:tblPr/>
              <a:tblGrid>
                <a:gridCol w="2438640"/>
                <a:gridCol w="1600200"/>
                <a:gridCol w="1600200"/>
                <a:gridCol w="20574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Лиц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исл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 – е  лиц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 – е  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лицо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 – е 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лиц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динственно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Я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аю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ш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н, она,он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ножественно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м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т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н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ю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Line 61"/>
          <p:cNvSpPr/>
          <p:nvPr/>
        </p:nvSpPr>
        <p:spPr>
          <a:xfrm>
            <a:off x="685800" y="2286000"/>
            <a:ext cx="2362320" cy="10666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СПРЯЖЕНИЕ ГЛАГОЛО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2133720"/>
          <a:ext cx="7239240" cy="4038480"/>
        </p:xfrm>
        <a:graphic>
          <a:graphicData uri="http://schemas.openxmlformats.org/drawingml/2006/table">
            <a:tbl>
              <a:tblPr/>
              <a:tblGrid>
                <a:gridCol w="3505320"/>
                <a:gridCol w="3733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пряжени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пряжени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 глаголы на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ть, -ать, оть,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уть, -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кроме 11 глаголов исключений), а также глаголы на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и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рить, зиждиться, стелит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голы на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–и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в неопределенной форме), а также 11 глаголов: гнать, дышать, держать, зависеть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еть, слышать и  обидеть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 ещё терпеть, вертеть,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навидеть и смотреть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ЛИЧНЫЕ ОКОНЧАНИЯ ГЛАГОЛОВ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948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3962520"/>
                <a:gridCol w="3809880"/>
              </a:tblGrid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пряжени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пряжени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. ч.           мн. ч  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. ч.        мн. ч.                     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У (- Ю)   - ЕМ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ЕШЬ       - ЕТ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ЕТ           - УТ (-ЮТ)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         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У (Ю)    - ИМ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ИШЬ     - ИТ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ИТ         - АТ (-ЯТ)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Line 52"/>
          <p:cNvSpPr/>
          <p:nvPr/>
        </p:nvSpPr>
        <p:spPr>
          <a:xfrm>
            <a:off x="6172200" y="2895480"/>
            <a:ext cx="0" cy="2971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96" name="Line 59"/>
          <p:cNvSpPr/>
          <p:nvPr/>
        </p:nvSpPr>
        <p:spPr>
          <a:xfrm>
            <a:off x="2362320" y="2895480"/>
            <a:ext cx="0" cy="2971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МЕСТОИМ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тоимения указывают на предметы, признаки и качества, но не называют их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Лич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, мы, ты, вы, он, она, оно, они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Указатель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тот, это, эта, эти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Вопроситель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то, что, какой, который, чей, сколько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Отрицатель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кто, ничто, никакой, ничей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Неопределен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то-то, что-то, кто-нибудь, что-нибудь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е-что, кое-кто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ИМЯ ЧИСЛИТЕЛЬНО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а числительные обозначают количество или порядок предметов при счет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Числительные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Количественные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ять книг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)      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Порядковые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ятый этаж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Числительные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остые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ложные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Составные 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Дробные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емь)           (тридцать)          (тридцать два)         (три пятых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Line 26"/>
          <p:cNvSpPr/>
          <p:nvPr/>
        </p:nvSpPr>
        <p:spPr>
          <a:xfrm flipH="1">
            <a:off x="1980720" y="2666880"/>
            <a:ext cx="25146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4495680" y="2666880"/>
            <a:ext cx="152424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3" name="Line 30"/>
          <p:cNvSpPr/>
          <p:nvPr/>
        </p:nvSpPr>
        <p:spPr>
          <a:xfrm flipH="1">
            <a:off x="1142640" y="4724280"/>
            <a:ext cx="350532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3047760" y="4724280"/>
            <a:ext cx="16002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5" name="Line 34"/>
          <p:cNvSpPr/>
          <p:nvPr/>
        </p:nvSpPr>
        <p:spPr>
          <a:xfrm>
            <a:off x="4572000" y="4724280"/>
            <a:ext cx="38088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6" name="Line 36"/>
          <p:cNvSpPr/>
          <p:nvPr/>
        </p:nvSpPr>
        <p:spPr>
          <a:xfrm>
            <a:off x="4648320" y="4724280"/>
            <a:ext cx="22860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НАРЕЧ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речие – неизменяемая часть речи, обозначающая признак действия или качество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речия, образованные от кратких прилагательных с приставками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конце наречий после шипящих пишется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: настеж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проч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 (кроме: замуж, невтерпеж, уж)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2971800"/>
          <a:ext cx="7315200" cy="2133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-, за-, на-</a:t>
                      </a: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еют на конце букву</a:t>
                      </a: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о-, из-, с-</a:t>
                      </a: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еют на конце букву</a:t>
                      </a: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а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и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н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а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л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а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СОЮЗ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юзы – это служебные части речи,которые связывают однородные члены в составе простого предложения и простые предложения в составе сложного предложения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зошло солнце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осветило все вокру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альчик побежал за собакой,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не догнал ее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идит око,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д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зуб нейме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лесу растут грибы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ягоды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ВИДЫ ПРЕДЛОЖЕНИ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1397160"/>
          <a:ext cx="8305920" cy="4771800"/>
        </p:xfrm>
        <a:graphic>
          <a:graphicData uri="http://schemas.openxmlformats.org/drawingml/2006/table">
            <a:tbl>
              <a:tblPr/>
              <a:tblGrid>
                <a:gridCol w="3124440"/>
                <a:gridCol w="1028520"/>
                <a:gridCol w="1638360"/>
                <a:gridCol w="25146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 интонации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осклицательно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евосклицательно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е подарили щенка!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е подарили щенка.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 цели высказывания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вествовательное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опросительное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будительное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дворе прекрасная погода.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вы не гуляете?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дите скорее.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 наличию второстепенных членов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ераспространённо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Распространённо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сна пришла.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шла долгожданная весна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Tahoma"/>
              </a:rPr>
              <a:t>Гласные  буквы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А   Е   Ё   И   О   У   Ы   Э   Ю   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А   О   У   Ы   Э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и гласные обозначают твёрдость согласных звуков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значает мягкость согласных звуков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Е   Ё   Ю   Я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и гласные обозначают мягкость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гласных звуков, а в начале слова или после другой гласной – два звука.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ЧЛЕНЫ ПРЕДЛОЖ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397160"/>
          <a:ext cx="8153280" cy="4868640"/>
        </p:xfrm>
        <a:graphic>
          <a:graphicData uri="http://schemas.openxmlformats.org/drawingml/2006/table">
            <a:tbl>
              <a:tblPr/>
              <a:tblGrid>
                <a:gridCol w="2816280"/>
                <a:gridCol w="1407960"/>
                <a:gridCol w="1038240"/>
                <a:gridCol w="2890800"/>
              </a:tblGrid>
              <a:tr h="57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Главны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длежаще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казуемо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? Что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существительное, местоимение)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делает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глагол)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льчик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ет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торостепенны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пределени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ополнени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бстоятельство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лагательно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ущест-о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аречие, сущ-о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Я читаю интересную книгу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Я встретил друга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ы пошли быстро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cc"/>
                </a:solidFill>
                <a:latin typeface="Tahoma"/>
              </a:rPr>
              <a:t>Согласные звуки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вонкие   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Б   В    Г   Д   Ж   З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Парные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                  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ухие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П   Ф   К   Т   Ш    С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вонкие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Л   М   Н   Р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Непарные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ухие   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Х   Ц   Ч   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гда тверды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Ж   Ш   Ц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гда мягки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Й   Ч   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уквы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Ь, Ъ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вуков не дают, а обозначают мягкость или твердость согласной, после которой они стоят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1981080" y="2057040"/>
            <a:ext cx="1219320" cy="304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1981080" y="2362320"/>
            <a:ext cx="1219320" cy="4572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286000" y="3505320"/>
            <a:ext cx="914400" cy="3045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286000" y="3809880"/>
            <a:ext cx="990720" cy="3812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ФОНЕТИЧЕСКИЙ РАЗБОР СЛОВ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ом – пью – тер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-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 звуков, 9 букв, 3 слога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К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твердый, парный  глухо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гласный, безударны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твердый, непарный звонки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П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мягкий, парный глухо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Ь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Ю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гласный, ударны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твердый, парный глухо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гласный, безударны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Р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твердый, непарный звонкий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Tahoma"/>
              </a:rPr>
              <a:t>ПРАВОПИСАНИЕ ПАРНЫХ СОГЛАСНЫХ НА КОНЦЕ СЛ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онце слов парные согласные надо писать так же, как они пишутся в однокоренных словах или в другом падеже перед гласной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дубо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луговой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рога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р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грузить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БЕЗУДАРНЫЕ ГЛАСНЫЕ В КОРН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ударные гласные в корне проверяются ударением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ы – с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– ст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 – з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ний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я – м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я – п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 - к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ЗАПОМН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ЖИ – ШИ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пиши с буквой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ш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уж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лыж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ш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ЧА – ЩА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пиши с буквой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ту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све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саран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ЧУ – ЩУ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пиши с буквой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щ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к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са 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ище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ПРОПИСНАЯ БУК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омни: пишутся всегда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 большой буквы города,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еки, страны и моря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И фамилия твоя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рана</a:t>
            </a:r>
            <a:r>
              <a:rPr b="1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бекистан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ород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кус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ека </a:t>
            </a:r>
            <a:r>
              <a:rPr b="1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ударь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льское 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ре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06:56:00Z</dcterms:created>
  <dc:creator>Андрей</dc:creator>
  <dc:description/>
  <dc:language>en-US</dc:language>
  <cp:lastModifiedBy>Nabster</cp:lastModifiedBy>
  <dcterms:modified xsi:type="dcterms:W3CDTF">2015-04-13T15:26:19Z</dcterms:modified>
  <cp:revision>221</cp:revision>
  <dc:subject/>
  <dc:title>ДРУЖОК</dc:title>
</cp:coreProperties>
</file>