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BAE-4F5F-4FA8-B0AF-B27FF806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6AB-7E4B-48FD-A24C-4844D9EC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B60-8F77-468C-B66A-70FF1ACA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FB4-B448-4981-A6B2-F9B3FBFC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4B62-42FC-4C98-B5C9-BD79D906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7FE7-9DAD-4C6F-AAC6-821BF2F4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156B-61D9-4F73-A01C-6EF108B3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49CE-B35E-4DC2-AE2E-BA5565F0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550D-C46A-4CE3-8103-33691275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DF40-B5A9-4B73-B5AC-0FB84467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0DB9-27FD-4F35-AE5F-794E3A2D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2D5-BDA7-4044-A0C8-E0BC42A4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EB4A-7A09-467F-874C-1CECCF04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9160-F5B8-4FF8-8D7F-037EFFB8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8CCA-595F-4087-8C0F-42580D67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679E-569D-425A-A9EC-3B948472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D5A4-DCBD-41EA-B1B5-0734E0E2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277-EDAB-4F6F-90F9-584923BE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607-5660-473D-85A9-E7080107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C67-E8FF-4AA4-9E80-0F24B351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993-1FAE-4422-BE51-D3692061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ADE-D278-4121-9E9F-C98B7E72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862-CF65-4785-ACCF-0BD19E19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8A4-02D4-4453-9342-3B41360F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9C50-383E-4989-8B46-13795B844E27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200" spc="-1" strike="noStrike">
                <a:solidFill>
                  <a:srgbClr val="cc00cc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2488-1E0B-4E9E-B5D0-E2848B2D80DD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3300"/>
                </a:solidFill>
                <a:latin typeface="Times New Roman"/>
              </a:rPr>
              <a:t>З</a:t>
            </a:r>
            <a:r>
              <a:rPr b="1" i="1" lang="ru-RU" sz="9600" spc="-1" strike="noStrike">
                <a:solidFill>
                  <a:srgbClr val="00cc00"/>
                </a:solidFill>
                <a:latin typeface="Times New Roman"/>
              </a:rPr>
              <a:t>Н</a:t>
            </a:r>
            <a:r>
              <a:rPr b="1" i="1" lang="ru-RU" sz="96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1" i="1" lang="ru-RU" sz="9600" spc="-1" strike="noStrike">
                <a:solidFill>
                  <a:srgbClr val="ffff00"/>
                </a:solidFill>
                <a:latin typeface="Times New Roman"/>
              </a:rPr>
              <a:t>Й</a:t>
            </a:r>
            <a:r>
              <a:rPr b="1" i="1" lang="ru-RU" sz="9600" spc="-1" strike="noStrike">
                <a:solidFill>
                  <a:srgbClr val="9933ff"/>
                </a:solidFill>
                <a:latin typeface="Times New Roman"/>
              </a:rPr>
              <a:t>К</a:t>
            </a:r>
            <a:r>
              <a:rPr b="1" i="1" lang="ru-RU" sz="96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Правила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по русскому языку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для начальных классов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СОСТАВ СЛО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Корень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щая часть родственных слов.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Приставка и суффикс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-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имые части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в, образуют новые слова.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Окончание</a:t>
            </a:r>
            <a:r>
              <a:rPr b="1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яемая  часть слова,  служит для связи слов в предложении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рень, приставка и суффикс – это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основа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ЗАПОМН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очетаниях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ЧК   ЧН   НЧ   НЩ   РЩ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ягкий знак не пишется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ч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       каме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щ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к        спо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щ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делительный мягкий знак пишется после согласных перед гласными 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Е  Ё  И  Ю  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ать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ручь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обезь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делительный твердый знак пишется после приставки, оканчивающейся на согласную перед гласными  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Е   Ё   Ю   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д      под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         об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cc00cc"/>
                </a:solidFill>
                <a:latin typeface="Tahoma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нение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Tahoma"/>
              </a:rPr>
              <a:t>ПРАВОПИСАНИЕ ПРИСТАВОК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ставки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без-   воз-   вз-  из-   низ-  раз-   чрез-   через-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ишутся перед гласными и звонкими согласными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з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т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без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ный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раз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ать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ставки 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бес-   вос-   вс-   ис-   нис-  рас-   чрез-   через-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ишутся перед глухими согласными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о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итание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нить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и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гать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Tahoma"/>
              </a:rPr>
              <a:t>ПРАВОПИСАНИЕ ПРИСТАВОК И ПРЕДЛОГОВ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Приставка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часть слова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слит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Предлог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часть речи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отд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С глаголами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ги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е употребляют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бята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ились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на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улк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ЧАСТИ  РЕ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МЯ СУЩЕСТВИТЕЛЬНОЕ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чает на вопросы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то?  что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означает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предмет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МЯ ПРИЛАГАТЕЛЬНОЕ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чает на вопросы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акой? какая? какое? какие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означает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признак предмета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ГЛАГОЛ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чает на вопрос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что делать? что сделать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означает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действие предмета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МЕСТОИМЕНИЕ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казывает на предметы, но не называет их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ИМЯ СУЩЕСТВИТЕЛЬНО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РОД ИМЁН СУЩЕСТВИТЕЛЬНЫХ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мужской р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н    мой – лев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женский р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на   моя – кошка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средний ро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но   моё – животное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ЧИСЛО ИМЁН СУЩЕСТВИТЕЛЬНЫХ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единственное числ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берёз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арбуз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множественное числ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берёз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арбуз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57204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cc"/>
                </a:solidFill>
                <a:latin typeface="Tahoma"/>
              </a:rPr>
              <a:t>ПАДЕЖИ ИМЁН СУЩЕСТВИТЕЛЬНЫХ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762120"/>
          <a:ext cx="8305920" cy="5418000"/>
        </p:xfrm>
        <a:graphic>
          <a:graphicData uri="http://schemas.openxmlformats.org/drawingml/2006/table">
            <a:tbl>
              <a:tblPr/>
              <a:tblGrid>
                <a:gridCol w="1447920"/>
                <a:gridCol w="2361960"/>
                <a:gridCol w="1600200"/>
                <a:gridCol w="2895840"/>
              </a:tblGrid>
              <a:tr h="77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падежа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помогательные слова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дежные вопрос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логи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И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сть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т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т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Р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ог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ег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з, возле, до, из, около, от, подле, с, у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Д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ть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ойти к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ому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ему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, п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жу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ог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то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, за, про, через, в, на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волен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ем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ем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, между, над, под, с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.  п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ворить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 ком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 чем?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, о, об, на, при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ТРИ СКЛОНЕНИЯ ИМЁН СУЩЕСТВИТЕЛЬНЫХ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981080"/>
          <a:ext cx="6934320" cy="412596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76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ЕРВОЕ СКЛОНЕНИЕ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ЖСКОЙ РОД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НСКИЙ РОД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- А, - Я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НОШ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А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ЯД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Я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ТИЦ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А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МЛ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Я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ТОРОЕ СКЛОНЕНИЕ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ЖСКОЙ РОД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ИЙ РОД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- О, - 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ЕЦ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Ь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РН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О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ЧАСТЬ</a:t>
                      </a: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Е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РЕТЬЕ СКЛОНЕНИЕ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НСКИЙ РОД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- Ь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Ч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Ь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Ж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Ь</a:t>
                      </a:r>
                      <a:endParaRPr b="1" i="1" lang="en-US" sz="1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50"/>
          <p:cNvSpPr/>
          <p:nvPr/>
        </p:nvSpPr>
        <p:spPr>
          <a:xfrm>
            <a:off x="2895480" y="2743200"/>
            <a:ext cx="16765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74" name="Line 53"/>
          <p:cNvSpPr/>
          <p:nvPr/>
        </p:nvSpPr>
        <p:spPr>
          <a:xfrm>
            <a:off x="2895480" y="4343400"/>
            <a:ext cx="3429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75" name="Line 63"/>
          <p:cNvSpPr/>
          <p:nvPr/>
        </p:nvSpPr>
        <p:spPr>
          <a:xfrm>
            <a:off x="6400800" y="2743200"/>
            <a:ext cx="16002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76" name="Line 64"/>
          <p:cNvSpPr/>
          <p:nvPr/>
        </p:nvSpPr>
        <p:spPr>
          <a:xfrm>
            <a:off x="6095880" y="4343400"/>
            <a:ext cx="198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РОД ИМЁН ПРИЛАГАТЕЛЬНЫХ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д имён прилагательных определяется по роду имён существительных, с которыми они употребляются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3880" y="3200400"/>
          <a:ext cx="6096240" cy="3090960"/>
        </p:xfrm>
        <a:graphic>
          <a:graphicData uri="http://schemas.openxmlformats.org/drawingml/2006/table">
            <a:tbl>
              <a:tblPr/>
              <a:tblGrid>
                <a:gridCol w="2743200"/>
                <a:gridCol w="33530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Мужской род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зк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й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улок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в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ый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урок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Женский род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упн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рыба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ревн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яя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ория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редний род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ав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ое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ечо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сн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солнц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ЧИСЛО ИМЁН ПРИЛАГАТЕЛЬНЫХ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исло имён прилагательных определяется по числу имени существительного, с которым оно употреблено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3048120"/>
          <a:ext cx="7162920" cy="3170160"/>
        </p:xfrm>
        <a:graphic>
          <a:graphicData uri="http://schemas.openxmlformats.org/drawingml/2006/table">
            <a:tbl>
              <a:tblPr/>
              <a:tblGrid>
                <a:gridCol w="1600200"/>
                <a:gridCol w="2743200"/>
                <a:gridCol w="281952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исл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динственно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Множественно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жской род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л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ы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од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ок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отолок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л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од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ок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отолки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нский род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зов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ита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н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я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блузка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зов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ит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н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блузки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ий род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ротк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о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расстояни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тн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е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ать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ротк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расстояния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тн</a:t>
                      </a:r>
                      <a:r>
                        <a:rPr b="0" lang="ru-RU" sz="20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латья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Line 51"/>
          <p:cNvSpPr/>
          <p:nvPr/>
        </p:nvSpPr>
        <p:spPr>
          <a:xfrm>
            <a:off x="1066680" y="3048120"/>
            <a:ext cx="1676520" cy="9144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cc"/>
                </a:solidFill>
                <a:latin typeface="Tahoma"/>
              </a:rPr>
              <a:t>Дружок!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cc"/>
                </a:solidFill>
                <a:latin typeface="Tahoma"/>
              </a:rPr>
              <a:t>Данное пособие содержит все основные правила по русскому языку и составлено таким образом, чтобы тебе было легче и интереснее усвоить школьную программу.</a:t>
            </a:r>
            <a:endParaRPr b="0" lang="en-US" sz="4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НЕОПРЕДЕЛЁННАЯ ФОРМА ГЛАГОЛ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голы бывают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совершенно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несовершенно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ида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овершенный ви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ействие уже сделано, закончено, то есть совершенно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Что сделал?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написал, выучил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Несовершенный вид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действие еще незакончено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Что делает?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пишет, учи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ЗАПОМН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Частица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н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глаголами пишется всегда отдельно: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ыучил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ИЗМЕНЕНИЕ ГЛАГОЛОВ ПО ВРЕМЕНА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1905120"/>
          <a:ext cx="7925040" cy="4343400"/>
        </p:xfrm>
        <a:graphic>
          <a:graphicData uri="http://schemas.openxmlformats.org/drawingml/2006/table">
            <a:tbl>
              <a:tblPr/>
              <a:tblGrid>
                <a:gridCol w="2590920"/>
                <a:gridCol w="2819520"/>
                <a:gridCol w="2514600"/>
              </a:tblGrid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астоящее время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делает?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мотри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ли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е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рошедшее время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делал?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сделал?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мотрел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лил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овал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Будущее время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будет делать?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сделал?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дет смотреть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мотри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дет рисовать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исуе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ИЗМЕНЕНИЕ ГЛАГОЛОВ ПО ЧИСЛАМ И ЛИЦА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09480" y="2209680"/>
          <a:ext cx="7696440" cy="3886200"/>
        </p:xfrm>
        <a:graphic>
          <a:graphicData uri="http://schemas.openxmlformats.org/drawingml/2006/table">
            <a:tbl>
              <a:tblPr/>
              <a:tblGrid>
                <a:gridCol w="2438640"/>
                <a:gridCol w="1600200"/>
                <a:gridCol w="1600200"/>
                <a:gridCol w="20574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Лиц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Числ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 – е  лиц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 – е  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лицо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 – е 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лиц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динственно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Я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аю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шь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н, она,оно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Множественно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М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м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ы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те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ни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ют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Line 61"/>
          <p:cNvSpPr/>
          <p:nvPr/>
        </p:nvSpPr>
        <p:spPr>
          <a:xfrm>
            <a:off x="685800" y="2286000"/>
            <a:ext cx="2362320" cy="10666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СПРЯЖЕНИЕ ГЛАГОЛО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2133720"/>
          <a:ext cx="7239240" cy="4038480"/>
        </p:xfrm>
        <a:graphic>
          <a:graphicData uri="http://schemas.openxmlformats.org/drawingml/2006/table">
            <a:tbl>
              <a:tblPr/>
              <a:tblGrid>
                <a:gridCol w="3505320"/>
                <a:gridCol w="3733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пряжени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пряжени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 глаголы на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еть, -ать, оть,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уть, -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кроме 11 глаголов исключений), а также глаголы на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и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рить, зиждиться, стелить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голы на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–и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в неопределенной форме), а также 11 глаголов: гнать, дышать, держать, зависеть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еть, слышать и  обидеть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 ещё терпеть, вертеть, 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навидеть и смотреть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ЛИЧНЫЕ ОКОНЧАНИЯ ГЛАГОЛОВ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9480" y="2209680"/>
          <a:ext cx="7772400" cy="3657600"/>
        </p:xfrm>
        <a:graphic>
          <a:graphicData uri="http://schemas.openxmlformats.org/drawingml/2006/table">
            <a:tbl>
              <a:tblPr/>
              <a:tblGrid>
                <a:gridCol w="3962520"/>
                <a:gridCol w="3809880"/>
              </a:tblGrid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пряжени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пряжени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д. ч.           мн. ч   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д. ч.        мн. ч.                      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У (- Ю)   - ЕМ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ЕШЬ       - ЕТ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ЕТ           - УТ (-ЮТ)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          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У (Ю)    - ИМ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ИШЬ     - ИТ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- ИТ         - АТ (-ЯТ) 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Line 52"/>
          <p:cNvSpPr/>
          <p:nvPr/>
        </p:nvSpPr>
        <p:spPr>
          <a:xfrm>
            <a:off x="6172200" y="2895480"/>
            <a:ext cx="0" cy="2971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96" name="Line 59"/>
          <p:cNvSpPr/>
          <p:nvPr/>
        </p:nvSpPr>
        <p:spPr>
          <a:xfrm>
            <a:off x="2362320" y="2895480"/>
            <a:ext cx="0" cy="2971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МЕСТОИМ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тоимения указывают на предметы, признаки и качества, но не называют их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Личные местоимения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, мы, ты, вы, он, она, оно, они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Указательные местоимения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тот, это, эта, эти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Вопросительные местоимения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то, что, какой, который, чей, сколько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Отрицательные местоимения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кто, ничто, никакой, ничей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Неопределенные местоимения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то-то, что-то, кто-нибудь, что-нибудь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е-что, кое-кто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ИМЯ ЧИСЛИТЕЛЬНО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а числительные обозначают количество или порядок предметов при счете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Числительные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Количественные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ять книг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)      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Порядковые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ятый этаж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Числительные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остые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Сложные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Составные  </a:t>
            </a:r>
            <a:r>
              <a:rPr b="0" lang="ru-RU" sz="18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Дробные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емь)           (тридцать)          (тридцать два)         (три пятых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Line 26"/>
          <p:cNvSpPr/>
          <p:nvPr/>
        </p:nvSpPr>
        <p:spPr>
          <a:xfrm flipH="1">
            <a:off x="1980720" y="2666880"/>
            <a:ext cx="25146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4495680" y="2666880"/>
            <a:ext cx="152424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203" name="Line 30"/>
          <p:cNvSpPr/>
          <p:nvPr/>
        </p:nvSpPr>
        <p:spPr>
          <a:xfrm flipH="1">
            <a:off x="1142640" y="4724280"/>
            <a:ext cx="350532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3047760" y="4724280"/>
            <a:ext cx="16002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205" name="Line 34"/>
          <p:cNvSpPr/>
          <p:nvPr/>
        </p:nvSpPr>
        <p:spPr>
          <a:xfrm>
            <a:off x="4572000" y="4724280"/>
            <a:ext cx="38088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206" name="Line 36"/>
          <p:cNvSpPr/>
          <p:nvPr/>
        </p:nvSpPr>
        <p:spPr>
          <a:xfrm>
            <a:off x="4648320" y="4724280"/>
            <a:ext cx="22860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НАРЕЧ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речие – неизменяемая часть речи, обозначающая признак действия или качество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речия, образованные от кратких прилагательных с приставками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конце наречий после шипящих пишется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: настеж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 проч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 (кроме: замуж, невтерпеж, уж)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2971800"/>
          <a:ext cx="7315200" cy="2133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-, за-, на-</a:t>
                      </a: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еют на конце букву</a:t>
                      </a: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до-, из-, с-</a:t>
                      </a: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еют на конце букву</a:t>
                      </a: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а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а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и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н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а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д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л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а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СОЮЗ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юзы – это служебные части речи,которые связывают однородные члены в составе простого предложения и простые предложения в составе сложного предложения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зошло солнце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осветило все вокру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альчик побежал за собакой,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н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не догнал ее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идит око,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да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зуб нейме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лесу растут грибы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ягоды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ВИДЫ ПРЕДЛОЖЕНИ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1397160"/>
          <a:ext cx="8305920" cy="4771800"/>
        </p:xfrm>
        <a:graphic>
          <a:graphicData uri="http://schemas.openxmlformats.org/drawingml/2006/table">
            <a:tbl>
              <a:tblPr/>
              <a:tblGrid>
                <a:gridCol w="3124440"/>
                <a:gridCol w="1028520"/>
                <a:gridCol w="1638360"/>
                <a:gridCol w="251460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 интонации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осклицательно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евосклицательно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не подарили щенка!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не подарили щенка.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 цели высказывания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вествовательное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опросительное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будительное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дворе прекрасная погода.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вы не гуляете?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дите скорее.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 наличию второстепенных членов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ераспространённо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Распространённое</a:t>
                      </a:r>
                      <a:endParaRPr b="1" i="1" lang="en-US" sz="28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сна пришла.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шла долгожданная весна</a:t>
                      </a:r>
                      <a:endParaRPr b="1" i="1" lang="en-US" sz="2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cc"/>
                </a:solidFill>
                <a:latin typeface="Tahoma"/>
              </a:rPr>
              <a:t>Гласные  буквы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А   Е   Ё   И   О   У   Ы   Э   Ю   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А   О   У   Ы   Э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и гласные обозначают твёрдость согласных звуков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значает мягкость согласных звуков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Tahoma"/>
              </a:rPr>
              <a:t>Е   Ё   Ю   Я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и гласные обозначают мягкость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гласных звуков, а в начале слова или после другой гласной – два звука.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ЧЛЕНЫ ПРЕДЛОЖ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397160"/>
          <a:ext cx="8153280" cy="4868640"/>
        </p:xfrm>
        <a:graphic>
          <a:graphicData uri="http://schemas.openxmlformats.org/drawingml/2006/table">
            <a:tbl>
              <a:tblPr/>
              <a:tblGrid>
                <a:gridCol w="2816280"/>
                <a:gridCol w="1407960"/>
                <a:gridCol w="1038240"/>
                <a:gridCol w="2890800"/>
              </a:tblGrid>
              <a:tr h="57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Главны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Подлежаще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казуемо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? Что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существительное, местоимение)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делает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глагол)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льчик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ет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Второстепенны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пределени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Дополнени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Обстоятельство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лагательно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ущест-о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наречие, сущ-ое</a:t>
                      </a:r>
                      <a:endParaRPr b="1" i="1" lang="en-US" sz="24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Я читаю интересную книгу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Я встретил друга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2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ы пошли быстро.</a:t>
                      </a:r>
                      <a:endParaRPr b="1" i="1" lang="en-US" sz="2000" spc="-1" strike="noStrike">
                        <a:solidFill>
                          <a:srgbClr val="cc00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cc"/>
                </a:solidFill>
                <a:latin typeface="Tahoma"/>
              </a:rPr>
              <a:t>Согласные звуки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вонкие   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Б   В    Г   Д   Ж   З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Парные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                      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ухие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П   Ф   К   Т   Ш    С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вонкие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Л   М   Н   Р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ahoma"/>
              </a:rPr>
              <a:t>Непарные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ухие    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Х   Ц   Ч   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гда тверды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Ж   Ш   Ц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гда мягкие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Й   Ч   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уквы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Ь, Ъ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вуков не дают, а обозначают мягкость или твердость согласной, после которой они стоят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1981080" y="2057040"/>
            <a:ext cx="1219320" cy="304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1981080" y="2362320"/>
            <a:ext cx="1219320" cy="4572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286000" y="3505320"/>
            <a:ext cx="914400" cy="3045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286000" y="3809880"/>
            <a:ext cx="990720" cy="3812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cc00cc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Tahoma"/>
              </a:rPr>
              <a:t>ФОНЕТИЧЕСКИЙ РАЗБОР СЛОВ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ом – пью – тер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-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 звуков, 9 букв, 3 слога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К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гласный, твердый, парный  глухо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гласный, безударны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гласный, твердый, непарный звонки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П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гласный, мягкий, парный глухо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Ь</a:t>
            </a: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Ю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гласный, ударны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Т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гласный, твердый, парный глухо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гласный, безударны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ahoma"/>
              </a:rPr>
              <a:t>Р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согласный, твердый, непарный звонкий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Tahoma"/>
              </a:rPr>
              <a:t>ПРАВОПИСАНИЕ ПАРНЫХ СОГЛАСНЫХ НА КОНЦЕ СЛО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онце слов парные согласные надо писать так же, как они пишутся в однокоренных словах или в другом падеже перед гласной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дубо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луговой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рога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р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грузить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БЕЗУДАРНЫЕ ГЛАСНЫЕ В КОРН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зударные гласные в корне проверяются ударением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ы – с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– ст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 – з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ний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я – м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я – п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 - к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ЗАПОМН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ЖИ – ШИ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пиши с буквой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ш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уж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лыж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ш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ЧА – ЩА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 пиши с буквой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ту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све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саран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ЧУ – ЩУ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 пиши с буквой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щ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к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са 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ище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ahoma"/>
              </a:rPr>
              <a:t>ПРОПИСНАЯ БУК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омни: пишутся всегда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 большой буквы города,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Реки, страны и моря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И фамилия твоя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трана</a:t>
            </a:r>
            <a:r>
              <a:rPr b="1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бекистан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ород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кус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ека </a:t>
            </a:r>
            <a:r>
              <a:rPr b="1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ударь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Tahoma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льское 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ре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06:56:00Z</dcterms:created>
  <dc:creator>Андрей</dc:creator>
  <dc:description/>
  <dc:language>en-US</dc:language>
  <cp:lastModifiedBy>Nabster</cp:lastModifiedBy>
  <dcterms:modified xsi:type="dcterms:W3CDTF">2015-04-13T15:26:19Z</dcterms:modified>
  <cp:revision>221</cp:revision>
  <dc:subject/>
  <dc:title>ДРУЖОК</dc:title>
</cp:coreProperties>
</file>