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F2C-C035-40A9-9C94-753579B1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304-CF39-40C2-8BEF-003E91A2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28A-7107-4FE5-BC40-2A509B75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2FC-BA9C-4630-B406-F8F687B9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C1CD-021F-4975-A15D-C2A4BF68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385B-8EFE-4C46-93EE-3AFF575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9FE2-B9E2-4122-9DB5-F8ABB903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2845-A7A2-4E2E-887C-D229F021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BA2A-22A9-426F-AD93-3D43C454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3623-FF84-4670-976C-9FD9DF3D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2E21-BE5D-4934-AA35-C9433F78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225-71F6-4415-A10D-0816D1A0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C317-2B4C-4D6F-93CD-4D2478A5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7276-88B6-4425-975B-A46B4E10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1ADE-B558-4A9F-B9C5-B0082A46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5220-1B9F-4103-B89D-23275A6E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F473-9B31-4AF3-9AF3-61F3DAFF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E8C3-E083-4D8E-A089-303E2182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EDDCF-A846-4F63-9EBD-FBB44AB5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19370-9057-477C-B52D-15CE2FD6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87CA-6960-4EEF-A0BF-02295EE5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DE113-BAE4-49A0-AC27-BB7386AD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A00-79F7-4200-8D3F-5359FE02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D7A7-F16C-4CAE-B76A-B3A4F311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612C-FA04-47F7-9061-A7121DC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9E3B-2431-431E-8B4B-894A6BE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24E3-07A1-417A-9C6D-5B46045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1AB4-3F8A-4F9D-93EF-E681F403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D844-137E-49B5-A711-00F8C4F5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EEAC-71A8-40BB-9C4A-4DA1F654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01E0A-4154-4D4B-8111-9E5D8996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937D-8CC5-4692-ABF7-5F2B5264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310DD-E1B6-49EB-8557-3A63B54D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166-2243-4E26-A868-C5CF0388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DEF8-95DB-4628-B799-E1ECAB59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D01A-CE86-4AF3-8A69-04F6A7BE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E37C7-A13E-41E7-9BE0-BDBCF837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FBE9-4DC2-4F17-8915-46BCC10B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F7F66-5248-4357-9A2C-6EA4C699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81E4-4602-4B2B-A6D5-ADEA7A9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6A05-D881-479C-B540-89BD448C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4C6B9-E0F9-4F8A-9A80-EAB10D3C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861B-2EA5-4AC1-9910-72829F66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7DEF9-06CD-4048-BC1F-CD49F2EA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638-C19F-4DA2-AA2B-ACCE0C94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CDED-072E-4956-8DB1-F1A1C1B5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1457-570B-48F4-A83F-5A49CD8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8316A-222D-4A60-9D9C-58CEB40C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4A2A9-1772-442C-8135-D347D076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16CE0-D16C-48B3-9431-71BEB8F0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51E4-80AE-44D2-A515-168F840C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EFEA-D736-4CBE-8929-E01E28BC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A9C3D-3F4E-4126-BF40-0C150D1A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F811-6F36-4153-800B-16F77FFD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2504-52FA-4B11-8790-83350E14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994-B5CC-4FFE-A9A9-045FE8EE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55165-7AE5-4288-B60D-7AEE1FE3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51C8E-44F7-44A8-8D01-3151A025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785F3-D4A9-4249-9AEA-3B978C47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37226-96E7-4C99-B967-32AF5B88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1945B-B5E5-4A32-BFF2-5B2D2BD9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885B-0E82-46FC-A014-F17615C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20D6F-F3FE-4670-BD5B-BC6FFA86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914B1-5E37-4D3A-A581-EC1720F0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8324-7F78-4152-A498-97DAF8DA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AA5DB-FCAC-4ABF-B711-3AB3A077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F03-6234-43A5-B70F-E84FD8FC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3845-FC11-4EFB-90A1-AC441202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03293-EA95-43D6-8B3C-EB16ECD1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EF368-04ED-4562-9016-8D12CDF0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7DD-699C-45C7-BF40-2447A16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A75-4A18-4D22-B33B-3A25CA52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2F60-8782-48E3-8FFC-8EAC15FF1AB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78AC-8F0A-48D1-9C83-3459B3FDF57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082D-65B8-4712-8D6B-60045B2CE9F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3D28-1CAB-4B71-A92E-8F7F593BAE0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E7D4-D247-43F2-B31A-76E1DD76980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7C3B-7F99-40B9-B0F2-A32314210E7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5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822240" y="1871640"/>
            <a:ext cx="694368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Zweiter Stoc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Содержимое 3" descr="_MG_8016.JPG"/>
          <p:cNvPicPr/>
          <p:nvPr/>
        </p:nvPicPr>
        <p:blipFill>
          <a:blip r:embed="rId1"/>
          <a:stretch/>
        </p:blipFill>
        <p:spPr>
          <a:xfrm>
            <a:off x="2627280" y="1616040"/>
            <a:ext cx="3800520" cy="5052960"/>
          </a:xfrm>
          <a:prstGeom prst="rect">
            <a:avLst/>
          </a:prstGeom>
          <a:ln w="0">
            <a:noFill/>
          </a:ln>
        </p:spPr>
      </p:pic>
      <p:pic>
        <p:nvPicPr>
          <p:cNvPr id="279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Zweiter Stoc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 gibt es Biologie-  und Englischräu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Прямоугольник 3" descr=""/>
          <p:cNvPicPr/>
          <p:nvPr/>
        </p:nvPicPr>
        <p:blipFill>
          <a:blip r:embed="rId1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4" descr=""/>
          <p:cNvPicPr/>
          <p:nvPr/>
        </p:nvPicPr>
        <p:blipFill>
          <a:blip r:embed="rId2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as ist unsere Biologielehrerin. Sie heißt Elena Viktorovn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6" name="Содержимое 5" descr="IMG_5350.jpg"/>
          <p:cNvPicPr/>
          <p:nvPr/>
        </p:nvPicPr>
        <p:blipFill>
          <a:blip r:embed="rId1"/>
          <a:stretch/>
        </p:blipFill>
        <p:spPr>
          <a:xfrm>
            <a:off x="1403280" y="2852640"/>
            <a:ext cx="5689800" cy="38322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3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4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as ist unsere Englischlehrerin. Sie heißt Olga Ilyinischna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0" name="Содержимое 5" descr="IMG_5310.jpg"/>
          <p:cNvPicPr/>
          <p:nvPr/>
        </p:nvPicPr>
        <p:blipFill>
          <a:blip r:embed="rId1"/>
          <a:stretch/>
        </p:blipFill>
        <p:spPr>
          <a:xfrm>
            <a:off x="1835280" y="2709720"/>
            <a:ext cx="5532480" cy="414828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3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4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Dritter Sctoc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 gibt  Russischraum und Physikraum in diesem Stoc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Прямоугольник 3" descr=""/>
          <p:cNvPicPr/>
          <p:nvPr/>
        </p:nvPicPr>
        <p:blipFill>
          <a:blip r:embed="rId1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4" descr=""/>
          <p:cNvPicPr/>
          <p:nvPr/>
        </p:nvPicPr>
        <p:blipFill>
          <a:blip r:embed="rId2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  <p:pic>
        <p:nvPicPr>
          <p:cNvPr id="297" name="Содержимое 3" descr="_MG_8019.JPG"/>
          <p:cNvPicPr/>
          <p:nvPr/>
        </p:nvPicPr>
        <p:blipFill>
          <a:blip r:embed="rId3"/>
          <a:stretch/>
        </p:blipFill>
        <p:spPr>
          <a:xfrm>
            <a:off x="5857920" y="2205000"/>
            <a:ext cx="328608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Vierter Stock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Содержимое 3" descr="_MG_8031.JPG"/>
          <p:cNvPicPr/>
          <p:nvPr/>
        </p:nvPicPr>
        <p:blipFill>
          <a:blip r:embed="rId1"/>
          <a:stretch/>
        </p:blipFill>
        <p:spPr>
          <a:xfrm>
            <a:off x="797040" y="1600200"/>
            <a:ext cx="6788160" cy="452592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Vierter Stock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diesem Stock befinden sich Mathematikraum, Deutschraum und Erdkunde Kabinet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Прямоугольник 3" descr=""/>
          <p:cNvPicPr/>
          <p:nvPr/>
        </p:nvPicPr>
        <p:blipFill>
          <a:blip r:embed="rId1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4" descr=""/>
          <p:cNvPicPr/>
          <p:nvPr/>
        </p:nvPicPr>
        <p:blipFill>
          <a:blip r:embed="rId2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as ist unsere Erdkunde Lehrerin. Sie heisst Oksana Mikhailovna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7" name="Содержимое 7" descr="IMG_5333.jpg"/>
          <p:cNvPicPr/>
          <p:nvPr/>
        </p:nvPicPr>
        <p:blipFill>
          <a:blip r:embed="rId1"/>
          <a:stretch/>
        </p:blipFill>
        <p:spPr>
          <a:xfrm>
            <a:off x="1692360" y="2805120"/>
            <a:ext cx="5398920" cy="405288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3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4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Unser Sportplatz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1" name="Содержимое 3" descr="_MG_7959.JPG"/>
          <p:cNvPicPr/>
          <p:nvPr/>
        </p:nvPicPr>
        <p:blipFill>
          <a:blip r:embed="rId1"/>
          <a:stretch/>
        </p:blipFill>
        <p:spPr>
          <a:xfrm>
            <a:off x="2916360" y="1197000"/>
            <a:ext cx="3671640" cy="508464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7"/>
          <p:cNvSpPr/>
          <p:nvPr/>
        </p:nvSpPr>
        <p:spPr>
          <a:xfrm>
            <a:off x="2793240" y="623736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chmal haben wir Wettbewer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e Mensa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ir essen hier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6" name="Содержимое 3" descr="IMG_5360.jpg"/>
          <p:cNvPicPr/>
          <p:nvPr/>
        </p:nvPicPr>
        <p:blipFill>
          <a:blip r:embed="rId1"/>
          <a:stretch/>
        </p:blipFill>
        <p:spPr>
          <a:xfrm>
            <a:off x="1403280" y="2133720"/>
            <a:ext cx="6037200" cy="452592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der Schule lernt man vi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sen, rechnen, Sport und Spi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teln, singen, turnen, schreib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emand will ein Dummkopf bleib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e Bibliothe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0" name="Picture 6" descr="PA050124"/>
          <p:cNvPicPr/>
          <p:nvPr/>
        </p:nvPicPr>
        <p:blipFill>
          <a:blip r:embed="rId1"/>
          <a:stretch/>
        </p:blipFill>
        <p:spPr>
          <a:xfrm>
            <a:off x="755640" y="1341360"/>
            <a:ext cx="72723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e Klassenr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äu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2" name="Picture 7" descr="PA050110"/>
          <p:cNvPicPr/>
          <p:nvPr/>
        </p:nvPicPr>
        <p:blipFill>
          <a:blip r:embed="rId1"/>
          <a:stretch/>
        </p:blipFill>
        <p:spPr>
          <a:xfrm>
            <a:off x="0" y="1628640"/>
            <a:ext cx="4114800" cy="4680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PA050091"/>
          <p:cNvPicPr/>
          <p:nvPr/>
        </p:nvPicPr>
        <p:blipFill>
          <a:blip r:embed="rId2"/>
          <a:stretch/>
        </p:blipFill>
        <p:spPr>
          <a:xfrm>
            <a:off x="4267080" y="1628640"/>
            <a:ext cx="48769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P410021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e Ekelf</a:t>
            </a:r>
            <a:r>
              <a:rPr b="0" lang="de-DE" sz="4100" spc="-1" strike="noStrike">
                <a:solidFill>
                  <a:srgbClr val="ffffff"/>
                </a:solidFill>
                <a:latin typeface="Franklin Gothic Book"/>
              </a:rPr>
              <a:t>ä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cher </a:t>
            </a:r>
            <a:r>
              <a:rPr b="0" lang="en-US" sz="41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6" name="Содержимое 3"/>
          <p:cNvGraphicFramePr/>
          <p:nvPr/>
        </p:nvGraphicFramePr>
        <p:xfrm>
          <a:off x="611280" y="1197000"/>
          <a:ext cx="740412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74041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Lieblingsfächer </a:t>
            </a:r>
            <a:r>
              <a:rPr b="0" lang="en-US" sz="41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3" descr=""/>
          <p:cNvPicPr/>
          <p:nvPr/>
        </p:nvPicPr>
        <p:blipFill>
          <a:blip r:embed="rId1"/>
          <a:stretch/>
        </p:blipFill>
        <p:spPr>
          <a:xfrm>
            <a:off x="2309760" y="2749680"/>
            <a:ext cx="4541760" cy="114588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5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6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s ist unsere Schu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Содержимое 3" descr="_MG_7947.JPG"/>
          <p:cNvPicPr/>
          <p:nvPr/>
        </p:nvPicPr>
        <p:blipFill>
          <a:blip r:embed="rId1"/>
          <a:stretch/>
        </p:blipFill>
        <p:spPr>
          <a:xfrm>
            <a:off x="268128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as ist unser Schulhof, wo wir Fussball spiele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0" name="Содержимое 3" descr="_MG_7968.JPG"/>
          <p:cNvPicPr/>
          <p:nvPr/>
        </p:nvPicPr>
        <p:blipFill>
          <a:blip r:embed="rId1"/>
          <a:stretch/>
        </p:blipFill>
        <p:spPr>
          <a:xfrm>
            <a:off x="79704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e Schule ist ein modernes fünfstöckiges Gebäud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Содержимое 3" descr="_MG_7961.JPG"/>
          <p:cNvPicPr/>
          <p:nvPr/>
        </p:nvPicPr>
        <p:blipFill>
          <a:blip r:embed="rId1"/>
          <a:stretch/>
        </p:blipFill>
        <p:spPr>
          <a:xfrm>
            <a:off x="2682720" y="1600200"/>
            <a:ext cx="3016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Unsere Schu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Das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Erdgescho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Ers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Zwei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1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3" action="ppaction://hlinksldjump"/>
              </a:rPr>
              <a:t>Drit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4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5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6" action="ppaction://hlinksldjump"/>
              </a:rPr>
              <a:t> 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7" action="ppaction://hlinksldjump"/>
              </a:rPr>
              <a:t>Vier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8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9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0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1" action="ppaction://hlinksldjump"/>
              </a:rPr>
              <a:t>Fünf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2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3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5" action="ppaction://hlinksldjump"/>
              </a:rPr>
              <a:t>Sportplat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Erdgeschoss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Im Erd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choss haben wir  die 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Mens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und die Garderob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Прямоугольник 5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7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Erster Stock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Содержимое 3" descr="IMG_8012.JPG"/>
          <p:cNvPicPr/>
          <p:nvPr/>
        </p:nvPicPr>
        <p:blipFill>
          <a:blip r:embed="rId1"/>
          <a:stretch/>
        </p:blipFill>
        <p:spPr>
          <a:xfrm>
            <a:off x="797040" y="1600200"/>
            <a:ext cx="678816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Erster Stoc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 gibt hier Kanzlei. Die Grundschule befindet sich auch in diesem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Прямоугольник 3" descr=""/>
          <p:cNvPicPr/>
          <p:nvPr/>
        </p:nvPicPr>
        <p:blipFill>
          <a:blip r:embed="rId1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4" descr=""/>
          <p:cNvPicPr/>
          <p:nvPr/>
        </p:nvPicPr>
        <p:blipFill>
          <a:blip r:embed="rId2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37:27Z</dcterms:created>
  <dc:creator>Егор</dc:creator>
  <dc:description/>
  <dc:language>en-US</dc:language>
  <cp:lastModifiedBy>hoff</cp:lastModifiedBy>
  <dcterms:modified xsi:type="dcterms:W3CDTF">2015-04-17T18:44:15Z</dcterms:modified>
  <cp:revision>54</cp:revision>
  <dc:subject/>
  <dc:title>Unser</dc:title>
</cp:coreProperties>
</file>