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05F-C6C2-4113-9CEA-C0C41AC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289-1DE1-4F80-874E-9AF16D16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4D-A512-47A8-90CC-24C6766B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DCC-45FF-4208-9784-48F41893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EB0C-3131-4D44-8ED9-76639FB7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D3D3-88C5-4FF2-96AC-60779AC0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60B-FBF2-4380-BDAA-0E9F80F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3273-D6BB-485B-A5EB-3731BAA3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D45D-7D18-4CCB-BA1F-1FF7C160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F1D5-60B1-4CF5-8E4D-998EFDAF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04C5-7024-4650-904D-7A5C5EF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C60-96D1-4913-9DC3-21C30F6E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038-CA60-4F51-93CB-3BD2B21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B3CE-55BC-4EB8-91AF-D801BB8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0B49-07DC-4F5C-91CE-5F711B7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B29-CF56-4076-B718-82E83C3E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DBC1-21F9-4E3F-AB95-0E80E8A2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6083B-1A2B-416F-8D89-CC37D7E4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723A-056C-4F9F-99FA-976869F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208F-25EF-4AC1-BF6D-60DEC64E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E49D-8D97-4D94-ACEF-026DBA09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90BA-6D50-449F-9E3B-72478DF9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CA9-B5E5-4BFA-B47C-C6F49D2D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7D08-D46B-4F03-86E0-68BFFA02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C049-18CB-41B5-AA12-4D1B019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CC69-C97C-43E4-8C70-1187DDC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2B6F-D6C7-43FF-82BE-ED5E797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FAEB-FEFD-46FC-88E4-C2F33F3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939E-DE1E-45AF-A3B4-7029D7E9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1662-2CA7-4087-9858-1F2BC7FE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611A-53B0-4789-8A5A-54C2BAA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6ED0-B5F3-4158-A889-5CE73A30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E352-0066-45C4-831D-7596F548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1DA-B245-4035-B519-C802794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12152-8ED8-484B-A881-E9D369A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878C-0836-47A7-96CB-CC4BDE25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0011-85CF-447A-B168-CB3B0D7D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9AE5-017C-4A7D-9FC3-D764FF6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D4FD-B056-40AC-BDDE-345EEA5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7452-6323-4544-9F68-DE611C6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BFD0-2841-4C20-ADD5-5650C4D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C860-4CFB-4EEE-B16B-A0E123A5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3C5A-B005-4BC1-86EF-F0672682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66B6-193C-490F-BB5B-C299B84B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A17-A237-4272-963B-CC7995B9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F27A9-D1DC-4291-AC46-68419247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EF98D-A413-4487-83D1-C77BFAC5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AA27-B96D-46FC-80B3-B931AAC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F36F-18A8-477C-BB0D-B6DA85B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FEDB-588C-4B60-AF9C-E07B36A8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718D-F638-4BA4-8B16-DBE172F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541B-7CF7-466F-BC73-D26CBDA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7BEF-68B1-439C-8ACF-94BEB60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9D1B-E454-4CBB-BBF4-4471BB22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C3F1-7D95-4CC6-9AA9-0DEF9048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414-FCEC-467D-891A-359E4A8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AED3-667E-4A28-85CA-981853E6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F3915-9718-4C10-8994-9C283D95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7DD3-41BE-4063-830B-2C51B834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7145-33CA-41D6-BE73-6D6CF8F4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88764-0E7B-4650-A978-6EEB830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537C-7361-410D-88D7-6CF2D540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4D3B-4876-44CF-8854-B87312C5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4EC7-BD49-4E2C-88BC-9A5891A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CB09-B803-4196-96B6-F71D6814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C9D8-1DD4-4B5D-8712-7457A4E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9A8-212C-44AA-AC3C-3A063DD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E2AD7-A9EF-4BA4-B793-B400FE0D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6B531-20BC-49C6-B89B-A7E49073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CDD29-D2BF-4A9A-9C3A-8AD4E24F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B2F-063A-4443-9B67-15B3C38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92D-DCB6-4869-8B99-8A876E3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CF09-C10C-4914-B315-7D33F14E1D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FE0-6399-4767-AAB4-E334011666D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F02-A8B5-4A5F-8582-F3F9321595D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4B93-FC91-4175-AEAE-BC45FD956EC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769-777D-449A-9C40-E0A8EACFD7C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584-EF6C-4935-8F1D-5D2DBDDA0F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822240" y="1871640"/>
            <a:ext cx="694368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Zweiter S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Содержимое 3" descr="_MG_8016.JPG"/>
          <p:cNvPicPr/>
          <p:nvPr/>
        </p:nvPicPr>
        <p:blipFill>
          <a:blip r:embed="rId1"/>
          <a:stretch/>
        </p:blipFill>
        <p:spPr>
          <a:xfrm>
            <a:off x="2627280" y="1616040"/>
            <a:ext cx="3800520" cy="505296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Zweiter S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 gibt es Biologie-  und Englischräu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e Biologielehrerin. Sie heißt Elena Viktorovn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6" name="Содержимое 5" descr="IMG_5350.jpg"/>
          <p:cNvPicPr/>
          <p:nvPr/>
        </p:nvPicPr>
        <p:blipFill>
          <a:blip r:embed="rId1"/>
          <a:stretch/>
        </p:blipFill>
        <p:spPr>
          <a:xfrm>
            <a:off x="1403280" y="2852640"/>
            <a:ext cx="5689800" cy="38322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3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4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e Englischlehrerin. Sie heißt Olga Ilyinischna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0" name="Содержимое 5" descr="IMG_5310.jpg"/>
          <p:cNvPicPr/>
          <p:nvPr/>
        </p:nvPicPr>
        <p:blipFill>
          <a:blip r:embed="rId1"/>
          <a:stretch/>
        </p:blipFill>
        <p:spPr>
          <a:xfrm>
            <a:off x="1835280" y="2709720"/>
            <a:ext cx="5532480" cy="414828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3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4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Dritter Sc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 gibt  Russischraum und Physikraum in diesem Stoc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  <p:pic>
        <p:nvPicPr>
          <p:cNvPr id="297" name="Содержимое 3" descr="_MG_8019.JPG"/>
          <p:cNvPicPr/>
          <p:nvPr/>
        </p:nvPicPr>
        <p:blipFill>
          <a:blip r:embed="rId3"/>
          <a:stretch/>
        </p:blipFill>
        <p:spPr>
          <a:xfrm>
            <a:off x="5857920" y="2205000"/>
            <a:ext cx="328608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Vierter Stock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Содержимое 3" descr="_MG_8031.JPG"/>
          <p:cNvPicPr/>
          <p:nvPr/>
        </p:nvPicPr>
        <p:blipFill>
          <a:blip r:embed="rId1"/>
          <a:stretch/>
        </p:blipFill>
        <p:spPr>
          <a:xfrm>
            <a:off x="79704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Vierter Stock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diesem Stock befinden sich Mathematikraum, Deutschraum und Erdkunde Kabinet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e Erdkunde Lehrerin. Sie heisst Oksana Mikhailovna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7" name="Содержимое 7" descr="IMG_5333.jpg"/>
          <p:cNvPicPr/>
          <p:nvPr/>
        </p:nvPicPr>
        <p:blipFill>
          <a:blip r:embed="rId1"/>
          <a:stretch/>
        </p:blipFill>
        <p:spPr>
          <a:xfrm>
            <a:off x="1692360" y="2805120"/>
            <a:ext cx="5398920" cy="40528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3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4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Unser Sportplatz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1" name="Содержимое 3" descr="_MG_7959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71640" cy="508464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7"/>
          <p:cNvSpPr/>
          <p:nvPr/>
        </p:nvSpPr>
        <p:spPr>
          <a:xfrm>
            <a:off x="2793240" y="623736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chmal haben wir Wettbewer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e Mensa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ir essen hier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6" name="Содержимое 3" descr="IMG_5360.jpg"/>
          <p:cNvPicPr/>
          <p:nvPr/>
        </p:nvPicPr>
        <p:blipFill>
          <a:blip r:embed="rId1"/>
          <a:stretch/>
        </p:blipFill>
        <p:spPr>
          <a:xfrm>
            <a:off x="1403280" y="2133720"/>
            <a:ext cx="6037200" cy="452592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der Schule lernt man vi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sen, rechnen, Sport und Spi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teln, singen, turnen, schreib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emand will ein Dummkopf bleib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e Bibliothe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0" name="Picture 6" descr="PA050124"/>
          <p:cNvPicPr/>
          <p:nvPr/>
        </p:nvPicPr>
        <p:blipFill>
          <a:blip r:embed="rId1"/>
          <a:stretch/>
        </p:blipFill>
        <p:spPr>
          <a:xfrm>
            <a:off x="755640" y="1341360"/>
            <a:ext cx="7272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e Klassenr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  <a:ea typeface="Arial"/>
              </a:rPr>
              <a:t>äu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Picture 7" descr="PA050110"/>
          <p:cNvPicPr/>
          <p:nvPr/>
        </p:nvPicPr>
        <p:blipFill>
          <a:blip r:embed="rId1"/>
          <a:stretch/>
        </p:blipFill>
        <p:spPr>
          <a:xfrm>
            <a:off x="0" y="1628640"/>
            <a:ext cx="4114800" cy="4680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PA050091"/>
          <p:cNvPicPr/>
          <p:nvPr/>
        </p:nvPicPr>
        <p:blipFill>
          <a:blip r:embed="rId2"/>
          <a:stretch/>
        </p:blipFill>
        <p:spPr>
          <a:xfrm>
            <a:off x="4267080" y="1628640"/>
            <a:ext cx="48769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P410021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e Ekelf</a:t>
            </a:r>
            <a:r>
              <a:rPr b="0" lang="de-DE" sz="4100" spc="-1" strike="noStrike">
                <a:solidFill>
                  <a:srgbClr val="ffffff"/>
                </a:solidFill>
                <a:latin typeface="Franklin Gothic Book"/>
              </a:rPr>
              <a:t>ä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cher </a:t>
            </a:r>
            <a:r>
              <a:rPr b="0" lang="en-US" sz="41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6" name="Содержимое 3"/>
          <p:cNvGraphicFramePr/>
          <p:nvPr/>
        </p:nvGraphicFramePr>
        <p:xfrm>
          <a:off x="611280" y="1197000"/>
          <a:ext cx="740412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74041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Lieblingsfächer </a:t>
            </a:r>
            <a:r>
              <a:rPr b="0" lang="en-US" sz="41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3" descr=""/>
          <p:cNvPicPr/>
          <p:nvPr/>
        </p:nvPicPr>
        <p:blipFill>
          <a:blip r:embed="rId1"/>
          <a:stretch/>
        </p:blipFill>
        <p:spPr>
          <a:xfrm>
            <a:off x="2309760" y="2749680"/>
            <a:ext cx="4541760" cy="114588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5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6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as ist unsere Schu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Содержимое 3" descr="_MG_7947.JPG"/>
          <p:cNvPicPr/>
          <p:nvPr/>
        </p:nvPicPr>
        <p:blipFill>
          <a:blip r:embed="rId1"/>
          <a:stretch/>
        </p:blipFill>
        <p:spPr>
          <a:xfrm>
            <a:off x="268128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Das ist unser Schulhof, wo wir Fussball spiele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Содержимое 3" descr="_MG_7968.JPG"/>
          <p:cNvPicPr/>
          <p:nvPr/>
        </p:nvPicPr>
        <p:blipFill>
          <a:blip r:embed="rId1"/>
          <a:stretch/>
        </p:blipFill>
        <p:spPr>
          <a:xfrm>
            <a:off x="79704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e Schule ist ein modernes fünfstöckiges Gebäud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Содержимое 3" descr="_MG_7961.JPG"/>
          <p:cNvPicPr/>
          <p:nvPr/>
        </p:nvPicPr>
        <p:blipFill>
          <a:blip r:embed="rId1"/>
          <a:stretch/>
        </p:blipFill>
        <p:spPr>
          <a:xfrm>
            <a:off x="2682720" y="1600200"/>
            <a:ext cx="3016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Unsere Schu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Da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Erdgescho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Ers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Zwei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3" action="ppaction://hlinksldjump"/>
              </a:rPr>
              <a:t>Drit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4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5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6" action="ppaction://hlinksldjump"/>
              </a:rPr>
              <a:t> 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7" action="ppaction://hlinksldjump"/>
              </a:rPr>
              <a:t>Vier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8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9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0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1" action="ppaction://hlinksldjump"/>
              </a:rPr>
              <a:t>Fünfte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2" action="ppaction://hlinksldjump"/>
              </a:rPr>
              <a:t>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3" action="ppaction://hlinksldjump"/>
              </a:rPr>
              <a:t>Der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5" action="ppaction://hlinksldjump"/>
              </a:rPr>
              <a:t>Sportplat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Erdgeschoss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Im Erd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choss haben wir  die 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Mens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und die Garderob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Прямоугольник 5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7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Erster Stock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Содержимое 3" descr="IMG_8012.JPG"/>
          <p:cNvPicPr/>
          <p:nvPr/>
        </p:nvPicPr>
        <p:blipFill>
          <a:blip r:embed="rId1"/>
          <a:stretch/>
        </p:blipFill>
        <p:spPr>
          <a:xfrm>
            <a:off x="79704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4" descr=""/>
          <p:cNvPicPr/>
          <p:nvPr/>
        </p:nvPicPr>
        <p:blipFill>
          <a:blip r:embed="rId2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5" descr=""/>
          <p:cNvPicPr/>
          <p:nvPr/>
        </p:nvPicPr>
        <p:blipFill>
          <a:blip r:embed="rId3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Unser Erster Stoc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 gibt hier Kanzlei. Die Grundschule befindet sich auch in diesem Sto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Прямоугольник 3" descr=""/>
          <p:cNvPicPr/>
          <p:nvPr/>
        </p:nvPicPr>
        <p:blipFill>
          <a:blip r:embed="rId1"/>
          <a:stretch/>
        </p:blipFill>
        <p:spPr>
          <a:xfrm>
            <a:off x="-450720" y="-212760"/>
            <a:ext cx="3217680" cy="113976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4" descr=""/>
          <p:cNvPicPr/>
          <p:nvPr/>
        </p:nvPicPr>
        <p:blipFill>
          <a:blip r:embed="rId2"/>
          <a:stretch/>
        </p:blipFill>
        <p:spPr>
          <a:xfrm>
            <a:off x="6400800" y="-212760"/>
            <a:ext cx="3273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37:27Z</dcterms:created>
  <dc:creator>Егор</dc:creator>
  <dc:description/>
  <dc:language>en-US</dc:language>
  <cp:lastModifiedBy>hoff</cp:lastModifiedBy>
  <dcterms:modified xsi:type="dcterms:W3CDTF">2015-04-17T18:44:15Z</dcterms:modified>
  <cp:revision>54</cp:revision>
  <dc:subject/>
  <dc:title>Unser</dc:title>
</cp:coreProperties>
</file>