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5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29.jpeg" ContentType="image/jpeg"/>
  <Override PartName="/ppt/media/image8.jpeg" ContentType="image/jpeg"/>
  <Override PartName="/ppt/media/image13.jpeg" ContentType="image/jpeg"/>
  <Override PartName="/ppt/media/image20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9C57-FFB0-4619-A61A-5A67F786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EE82-AD26-4838-874C-2BF7A3A9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FAFE-501C-40BC-9BE7-97FF470E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FCEC-94F4-4EBB-AF2F-DCE1FED1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FA1-36C3-43F4-9694-FAD22109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B957-0E4B-4ABD-B97E-3A14C751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708-5C74-48A3-A2E5-282797B3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EED5-F2F0-465E-9A1B-65D3712A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9326-F5A3-4884-802D-1D106EA7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269-87F7-4E92-92B4-A3E381E6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E8F-6CBD-48B1-A967-DD630F76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739-7B66-4AC0-9B1B-3A65B548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DC5D-F702-4F5C-B032-A62A5520D9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ПСИХОСОМАТИЧЕСКАЯ ПАТОЛОГ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4" descr="психосоматика.jpg"/>
          <p:cNvPicPr/>
          <p:nvPr/>
        </p:nvPicPr>
        <p:blipFill>
          <a:blip r:embed="rId1"/>
          <a:stretch/>
        </p:blipFill>
        <p:spPr>
          <a:xfrm>
            <a:off x="2124000" y="1600200"/>
            <a:ext cx="4969080" cy="492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ЕФЛЕК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4200" y="114300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332640" indent="-33264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безусловны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– контролируются подкоркой, врожденны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условны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– контролируются корой и являются результатом научения. Это элементарное предметное мышление, которое служит адаптации организма к окружающему мир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ОЛТЕР КЭННОН- реакции в экстремальных ситуация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У. Кэннон.jpg"/>
          <p:cNvPicPr/>
          <p:nvPr/>
        </p:nvPicPr>
        <p:blipFill>
          <a:blip r:embed="rId1"/>
          <a:stretch/>
        </p:blipFill>
        <p:spPr>
          <a:xfrm>
            <a:off x="214200" y="1500120"/>
            <a:ext cx="3857760" cy="4786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214880" y="1500120"/>
            <a:ext cx="4643280" cy="478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ЖИВАНИЕ ЧУВСТ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АХА И ГНЕ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ЗЫВАЕТ ВЕГЕТАТИВНЫЕ СДВИ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АНС СЕЛ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selye_gans.jpg"/>
          <p:cNvPicPr/>
          <p:nvPr/>
        </p:nvPicPr>
        <p:blipFill>
          <a:blip r:embed="rId1"/>
          <a:stretch/>
        </p:blipFill>
        <p:spPr>
          <a:xfrm>
            <a:off x="142920" y="1428840"/>
            <a:ext cx="3576600" cy="4786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786120" y="1428480"/>
            <a:ext cx="514368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ИТЕЛЬНЫЙ ИЛИ ИНТЕНСИВНЫЙ СТРЕСС СОЗДАЕТ ПРЕДРАСПОЛОЖЕННОСТЬ К СОМАТИЧЕСКИМ РАССТРОЙСТВ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РЕ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2920" y="785880"/>
            <a:ext cx="8786880" cy="59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I.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Реакция тревоги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Мобилизация защитных и адаптационных механизмов на психическом и физиологическом уровне. Стрессор перестает действовать - организм возвращается к нормальному функционированию без потерь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II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. Стадия сопротивления.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даптация к стрессору. Внешнее поведение демонстрирует нормальные реакции, но это достигается за счет напряженного расходования адаптационных ресурсов. На этой стадии организм готовится к борьбе или бегству. Эту стадию У. Кэннон назвал эустресс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III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. Стадия истощения.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лом регулирующих механизмов  с необратимыми соматическими последствиями, вплоть до смерти. Эта стадия названа дистрессом  (дис – отрицание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РАНЦ АЛЕКСАНД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franc_aleksander.jpg"/>
          <p:cNvPicPr/>
          <p:nvPr/>
        </p:nvPicPr>
        <p:blipFill>
          <a:blip r:embed="rId1"/>
          <a:stretch/>
        </p:blipFill>
        <p:spPr>
          <a:xfrm>
            <a:off x="214200" y="1500120"/>
            <a:ext cx="3500640" cy="4857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928680" y="1428840"/>
            <a:ext cx="500076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ЕКТОРНАЯ КОНЦЕП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АССИФИКАЦИЯ РАССТРОЙСТ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УРОВНЮ ВЫТЕС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"/>
          <p:cNvPicPr/>
          <p:nvPr/>
        </p:nvPicPr>
        <p:blipFill>
          <a:blip r:embed="rId1"/>
          <a:stretch/>
        </p:blipFill>
        <p:spPr>
          <a:xfrm>
            <a:off x="195120" y="1195560"/>
            <a:ext cx="875376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КТОРНАЯ КОНЦЕП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Векторы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динамические силы биологических структур организма и, одновременно психодинамические тенденции переживаний и повед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КТОРНАЯ КОНЦЕП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"/>
          <p:cNvPicPr/>
          <p:nvPr/>
        </p:nvPicPr>
        <p:blipFill>
          <a:blip r:embed="rId1"/>
          <a:stretch/>
        </p:blipFill>
        <p:spPr>
          <a:xfrm>
            <a:off x="103320" y="920880"/>
            <a:ext cx="892476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ИКАГСКАЯ СЕМЕ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ссенциальная гиперто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ронхиальная аст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звенная болезнь 12-перстной киш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харный диаб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вматоидный артр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специфический язвенный кол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йродерм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ВУХФАЗНОЕ ВЫТЕСНЕНИЕ. А. Митчерли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6" descr=""/>
          <p:cNvPicPr/>
          <p:nvPr/>
        </p:nvPicPr>
        <p:blipFill>
          <a:blip r:embed="rId1"/>
          <a:stretch/>
        </p:blipFill>
        <p:spPr>
          <a:xfrm>
            <a:off x="341280" y="487440"/>
            <a:ext cx="8680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вицен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avicenna.jpg"/>
          <p:cNvPicPr/>
          <p:nvPr/>
        </p:nvPicPr>
        <p:blipFill>
          <a:blip r:embed="rId1"/>
          <a:stretch/>
        </p:blipFill>
        <p:spPr>
          <a:xfrm>
            <a:off x="2428920" y="1785960"/>
            <a:ext cx="42861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временные исследования психосоматических расстройств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776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ЕЛЬМУТ ФРЕЙБЕРГ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2920" y="1071360"/>
            <a:ext cx="8858160" cy="55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сиходинамические факторы психосоматических больных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епрессивность после потери объекта и нарциссической обид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рально-агрессивные чер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грессивная защит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граничение способности к интроспекц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ифференциально-диагностические критерии психосоматоз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4200" y="1356840"/>
            <a:ext cx="8715600" cy="52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усковое звено – психог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личие ослабленного органа или систем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Характерные личностные особен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лительность течения заболевания с постепенным снижением роли психогенных фактор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личие вегетативных расстройст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ЕНЕ ШПИ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shpic.jpg"/>
          <p:cNvPicPr/>
          <p:nvPr/>
        </p:nvPicPr>
        <p:blipFill>
          <a:blip r:embed="rId1"/>
          <a:stretch/>
        </p:blipFill>
        <p:spPr>
          <a:xfrm>
            <a:off x="285840" y="1571760"/>
            <a:ext cx="3689280" cy="4714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071600" y="1599840"/>
            <a:ext cx="4614840" cy="46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СИХОСОМАТИКА МЛАДЕНЧЕСТ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Т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ене Шпи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3" descr=""/>
          <p:cNvPicPr/>
          <p:nvPr/>
        </p:nvPicPr>
        <p:blipFill>
          <a:blip r:embed="rId1"/>
          <a:stretch/>
        </p:blipFill>
        <p:spPr>
          <a:xfrm>
            <a:off x="237960" y="1122480"/>
            <a:ext cx="88027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сихосоматические эволюционные лин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3" descr=""/>
          <p:cNvPicPr/>
          <p:nvPr/>
        </p:nvPicPr>
        <p:blipFill>
          <a:blip r:embed="rId1"/>
          <a:stretch/>
        </p:blipFill>
        <p:spPr>
          <a:xfrm>
            <a:off x="152280" y="1390680"/>
            <a:ext cx="88329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АЛЬВАДОР МИНУХ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3" descr="minuhin.jpg"/>
          <p:cNvPicPr/>
          <p:nvPr/>
        </p:nvPicPr>
        <p:blipFill>
          <a:blip r:embed="rId1"/>
          <a:stretch/>
        </p:blipFill>
        <p:spPr>
          <a:xfrm>
            <a:off x="2050920" y="1413000"/>
            <a:ext cx="49690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СИХОСОМАТОГЕННА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4200" y="107172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емейный «клубок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резмерно выраженная заботливость друг о друге, особенно в отношении здоровь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Жесткая модель семь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ти семьи мало способны к преодолению и социально ригид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Г. СТАЙЕРЛИ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4200" y="135720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«Связывание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«Отвержение» 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«Делегирование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игмунд Фрей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freud.jpg"/>
          <p:cNvPicPr/>
          <p:nvPr/>
        </p:nvPicPr>
        <p:blipFill>
          <a:blip r:embed="rId1"/>
          <a:stretch/>
        </p:blipFill>
        <p:spPr>
          <a:xfrm>
            <a:off x="3065400" y="1600200"/>
            <a:ext cx="301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РТИНА БОЛЕ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49120" y="1214280"/>
            <a:ext cx="8645760" cy="542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ормонозогноз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ипернозогноз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ипонозогноз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иснозогноз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нозогноз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ИП РЕАГИРОВАНИЯ НА БОЛЕЗ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4200" y="142884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ревожно-депрессивный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стимический тип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обическая реакц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похондрическое переживани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тероидный вариант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йфорически-анозогностический тип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СТЕМНАЯ МОДЕЛЬ АНАЛИЗА ПАТОГЕННЫХ ФАКТОРОВ ПСИХОСОМАТ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4200" y="1428480"/>
            <a:ext cx="871560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реда. Социальный стресс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емья – семейный стресс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го. Недостаточная устойчивос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сиходинамика. Внутрипсихический конфлик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ичность. Дефек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ло. Чрезмерное возбужд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АСТНАЯ ПСИХОСОМ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сиховегетативный синдро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4200" y="114264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ароксизмальные вегетативные расстройства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эндокринные наруш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УСКОВЫЕ ФАКТОРЫ ПВ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920" y="571680"/>
            <a:ext cx="86421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рушения рит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коренный темп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лыв раздраж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тущая утрата идеа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нансовые з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оляция, утрата корней, недостаточность человеческого конта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фликты, связанные с любовью, признанием, сексуальнос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напряжение, связанное с двойной нагрузкой: профессиональной и в бы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напряжение при воспитании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фликты в профессиональной сфе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оголиз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СИХАЛ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одержимое 5" descr="ГОЛОВ БОЛЬ.jpg"/>
          <p:cNvPicPr/>
          <p:nvPr/>
        </p:nvPicPr>
        <p:blipFill>
          <a:blip r:embed="rId1"/>
          <a:stretch/>
        </p:blipFill>
        <p:spPr>
          <a:xfrm>
            <a:off x="5435640" y="1071720"/>
            <a:ext cx="3600360" cy="5094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785520"/>
            <a:ext cx="52927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оль — плач — утешение любимым человеком — устранение бо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оль — наказан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оль рано сочетается с агрессивными стремлениями и стремлением к вла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ществует определенная связь между болью и истинной или воображаемой потерей любимых ли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оль может сочетаться с половым чувств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СИХАЛ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5480" y="114264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39480" indent="-3394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еобладание вины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зохистические тенденции, склонность переносить боль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ильные агрессивные тенденци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звитие боли, когда какая-нибудь связь потеряна или под угрозо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окализация боли определяется бессознательной идентификацией с объектом любви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ЕРДЕЧНО-СОСУДИСТАЯ СИСТЕ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560" y="1143000"/>
            <a:ext cx="5869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ШЕМИЧЕСКАЯ БОЛЕЗНЬ СЕРДЦА И ИНФАРКТ МИОКАРД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ССЕНЦИАЛЬНАЯ ГИПЕРТОН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РДИОФОБИЧЕСКИЙ НЕВРОЗ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РУШЕНИЯ СЕРДЕЧНОГО РИТМ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одержимое 10" descr="ССС.jpg"/>
          <p:cNvPicPr/>
          <p:nvPr/>
        </p:nvPicPr>
        <p:blipFill>
          <a:blip r:embed="rId1"/>
          <a:stretch/>
        </p:blipFill>
        <p:spPr>
          <a:xfrm>
            <a:off x="6227640" y="1484280"/>
            <a:ext cx="2665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ШЕМИЧЕСКАЯ БОЛЕЗНЬ СЕРДЦА, ИНФАР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Содержимое 4" descr="infarkti-1.jpg"/>
          <p:cNvPicPr/>
          <p:nvPr/>
        </p:nvPicPr>
        <p:blipFill>
          <a:blip r:embed="rId1"/>
          <a:stretch/>
        </p:blipFill>
        <p:spPr>
          <a:xfrm>
            <a:off x="5929200" y="1357200"/>
            <a:ext cx="3071880" cy="3600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840" y="1000080"/>
            <a:ext cx="564336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 3 года – пик стрессовых ситуац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 один год – пик соматических симптомо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 2-3 месяца – пик психоневрологической симптомати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 2 недели – 1 месяц – второй пик стрессовых ситуаци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льгельм Штек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stekel_wilhelm.jpg"/>
          <p:cNvPicPr/>
          <p:nvPr/>
        </p:nvPicPr>
        <p:blipFill>
          <a:blip r:embed="rId1"/>
          <a:stretch/>
        </p:blipFill>
        <p:spPr>
          <a:xfrm>
            <a:off x="2643120" y="1714680"/>
            <a:ext cx="37148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ИП 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14200" y="99972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удолюбивые, работоспособные, обладают здоровым карьеризмом, враждебностью по отношению к другим. Активны, честолюбивы и не умеют отдых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нешний вид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ешка, нетерпение, постоянно напряженная лицевая мускулатура, чувство цейтнота. Мания работы, перенапряжение. Они часто недостаточно квалифицированны для выполняем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ИП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14200" y="1142640"/>
            <a:ext cx="87156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обродушны, философски настроены, контролируют себя, неагрессивны, нечестолюбивы, прощают, доверчивы, часто имеют хобби, которое более значимо, чем работа. У типа В в 2.5 реже развивается инфаркт, чем у типа 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21844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ИПЕРТО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одержимое 4" descr="гипертония.jpg"/>
          <p:cNvPicPr/>
          <p:nvPr/>
        </p:nvPicPr>
        <p:blipFill>
          <a:blip r:embed="rId1"/>
          <a:stretch/>
        </p:blipFill>
        <p:spPr>
          <a:xfrm>
            <a:off x="6000840" y="1484280"/>
            <a:ext cx="2892240" cy="34574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561816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ННИЕ ПСИХОСОМАТИКИ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рытос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рямств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удовлетворенность собой и окружение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раждебная настроенность, сочетающиеся с выраженным контролем и подавлением агрессивных тенденций повед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82580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ИПЕРТО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2560" y="928800"/>
            <a:ext cx="5786280" cy="56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ЗДНЕЙШИЕ ИССЛЕДОВ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увереннос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ичностная несостоятельнос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увствительность к критик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нденция обнаруживать интенсивную реакцию в форме депрессии на психологический стрессор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Содержимое 4" descr="гипертония.jpg"/>
          <p:cNvPicPr/>
          <p:nvPr/>
        </p:nvPicPr>
        <p:blipFill>
          <a:blip r:embed="rId1"/>
          <a:stretch/>
        </p:blipFill>
        <p:spPr>
          <a:xfrm>
            <a:off x="6068880" y="1428840"/>
            <a:ext cx="29322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507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БОЛЕВАНИЯ ЖЕЛУДОЧНО-КИШЕЧНОГО ТРА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Содержимое 4" descr="ЖКТ.jpg"/>
          <p:cNvPicPr/>
          <p:nvPr/>
        </p:nvPicPr>
        <p:blipFill>
          <a:blip r:embed="rId1"/>
          <a:stretch/>
        </p:blipFill>
        <p:spPr>
          <a:xfrm>
            <a:off x="5580000" y="1484280"/>
            <a:ext cx="3384720" cy="4681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3840" y="1434600"/>
            <a:ext cx="529452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ЗВА ЖЕЛУДКА И ДВЕНАДЦАТИПЕРСТНОЙ КИШ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ПОР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МОЦИОНАЛЬНАЯ ДИАРЕ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НДРОМ РАЗДРАЖЕННОЙ КИШ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ЗВЕННЫЙ КОЛ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РУШЕНИЯ ГЛО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1844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ЫХАТЕЛЬНАЯСИСТЕ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Содержимое 4" descr="dihanie_prirodi.jpg"/>
          <p:cNvPicPr/>
          <p:nvPr/>
        </p:nvPicPr>
        <p:blipFill>
          <a:blip r:embed="rId1"/>
          <a:stretch/>
        </p:blipFill>
        <p:spPr>
          <a:xfrm>
            <a:off x="4859280" y="1413000"/>
            <a:ext cx="4033800" cy="4895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330800" cy="49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РОНХИАЛЬНАЯ АСТМ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ИНДРОМ ГИПЕРВЕНТИЛЯ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972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РУШЕНИЯ ПИЩЕВОГО П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4" descr="ПИТАНИЕ.jpg"/>
          <p:cNvPicPr/>
          <p:nvPr/>
        </p:nvPicPr>
        <p:blipFill>
          <a:blip r:embed="rId1"/>
          <a:stretch/>
        </p:blipFill>
        <p:spPr>
          <a:xfrm>
            <a:off x="5429160" y="1413000"/>
            <a:ext cx="3571920" cy="49687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4200" y="1434960"/>
            <a:ext cx="5214960" cy="50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РВНАЯ АНОРЕКСИЯ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УЛИМИЯ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СИХОГЕННОЕ ОЖИР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82184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НОРЕКСИЯ.ПРИЗНА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Содержимое 4" descr="Анорексия.jpg"/>
          <p:cNvPicPr/>
          <p:nvPr/>
        </p:nvPicPr>
        <p:blipFill>
          <a:blip r:embed="rId1"/>
          <a:stretch/>
        </p:blipFill>
        <p:spPr>
          <a:xfrm>
            <a:off x="5786280" y="1413000"/>
            <a:ext cx="3214800" cy="51116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2920" y="642600"/>
            <a:ext cx="55720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редевшие волос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омкие ногт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хая кож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абый пульс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верхностное дыхани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пресс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лишняя обеспокоенность своим вес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ниженная температура тел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изкое давл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362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УЛИМ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Содержимое 4" descr="bulimia(ris.1).jpg"/>
          <p:cNvPicPr/>
          <p:nvPr/>
        </p:nvPicPr>
        <p:blipFill>
          <a:blip r:embed="rId1"/>
          <a:stretch/>
        </p:blipFill>
        <p:spPr>
          <a:xfrm>
            <a:off x="5435640" y="1413000"/>
            <a:ext cx="3384360" cy="4680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560" y="981000"/>
            <a:ext cx="5357880" cy="566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рушение питания. Чередование периодов переедания, вызванных резко усиливающимся чувством голода, и приступов самоиндуцированной рвоты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9152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НДОКРИННАЯ СИСТЕ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Содержимое 4" descr="metabolism_big_fire.jpg"/>
          <p:cNvPicPr/>
          <p:nvPr/>
        </p:nvPicPr>
        <p:blipFill>
          <a:blip r:embed="rId1"/>
          <a:stretch/>
        </p:blipFill>
        <p:spPr>
          <a:xfrm>
            <a:off x="5435640" y="1413000"/>
            <a:ext cx="3384360" cy="4824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4835520" cy="48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ИПОТИРЕОЗ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ИПЕРТИРЕОЗ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АХАРНЫЙ ДИАБЕ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ЭТАПЫ ПСИХОСОМАТИЧЕСКОЙ АДАПТАЦИИ (по В. Гарбузову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2920" y="1571400"/>
            <a:ext cx="8786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нозологическ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– плохое настроение, озлобленность, неприятные ощущения со стороны внутренних орган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ункциональные наруш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сиховегетативный синдр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рушения в комплексе тонкого кишечни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атология желчного пузыря, вплоть до желчекаменной болезни, психастенический синдр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еходны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выраженный психастенический синдром, патология репродуктивной систем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вернутая капитулятивно-депрессивная реакц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выраженная патология волос и ногтей, хроническая патология опорно-двигательного аппара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тология комплекса толстого кишечни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чрезвычайно выраженные проявления преждевременной инволюции, соматической депресс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тастрофическ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атология системы почек, селезенки, поджелудочной железы, иммунодепрессии, иммунодефициты, психастенический синдром выражен тяжело, патология необратима, угроза онкологического процесс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1844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ИАБ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Содержимое 4" descr="САХАР.jpg"/>
          <p:cNvPicPr/>
          <p:nvPr/>
        </p:nvPicPr>
        <p:blipFill>
          <a:blip r:embed="rId1"/>
          <a:stretch/>
        </p:blipFill>
        <p:spPr>
          <a:xfrm>
            <a:off x="5867280" y="1413000"/>
            <a:ext cx="2952720" cy="4968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907560"/>
            <a:ext cx="5643360" cy="573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сихологические конфликты и различные потребности удовлетворяются с помощью е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оянное приравнивание друг к другу еды и любви при отсутствии любв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храняющийся в течение всей жизни стра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1844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ОЖНЫЕ ЗАБОЛЕ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Содержимое 4" descr="КОЖА.jpg"/>
          <p:cNvPicPr/>
          <p:nvPr/>
        </p:nvPicPr>
        <p:blipFill>
          <a:blip r:embed="rId1"/>
          <a:stretch/>
        </p:blipFill>
        <p:spPr>
          <a:xfrm>
            <a:off x="5072040" y="928800"/>
            <a:ext cx="3929040" cy="51642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857160"/>
            <a:ext cx="511956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ПИВНИЦ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ЖНЫЙ ЗУ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ТОПИЧЕСКИЙ НЕЙРОДЕРМ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НОГЕНИТАЛЬНЫЙ ЗУ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СОРИАЗ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ОЛОРОТОВОЙ ДЕРМАТИ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ОБЕННОСТИ ЛИЧ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4200" y="928800"/>
            <a:ext cx="8715600" cy="56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мкнут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езэмоциональность, которая сочетается с богатым миром фантаз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держанность и самоконтрол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ассив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лонность к депресси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1844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ТОРАЯ ПОЛОВИНА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Содержимое 4" descr="СТАРОСТЬ.jpeg"/>
          <p:cNvPicPr/>
          <p:nvPr/>
        </p:nvPicPr>
        <p:blipFill>
          <a:blip r:embed="rId1"/>
          <a:stretch/>
        </p:blipFill>
        <p:spPr>
          <a:xfrm>
            <a:off x="5364000" y="1484280"/>
            <a:ext cx="3672000" cy="4681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2560" y="1052640"/>
            <a:ext cx="5149800" cy="55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нижение физической продуктивност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. Разделение поколен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. Окончание профессиональной деятельност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ИП 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56760" y="999720"/>
            <a:ext cx="8572680" cy="564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прессия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ученная беспомощность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достаточная эмоциональная экспрессивность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авление негативных эмоций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сутствие социальной поддержки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азы переживания приближения смер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42920" y="1600200"/>
            <a:ext cx="8786880" cy="50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рицание и изоляц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нев и отверг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аза торг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пресс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мирение с судьбо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НТЕРВЬЮ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В ПСИХОСОМАТИЧЕСКОЙ КЛИНИ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Содержимое 3" descr=""/>
          <p:cNvPicPr/>
          <p:nvPr/>
        </p:nvPicPr>
        <p:blipFill>
          <a:blip r:embed="rId1"/>
          <a:stretch/>
        </p:blipFill>
        <p:spPr>
          <a:xfrm>
            <a:off x="133200" y="1200240"/>
            <a:ext cx="8517240" cy="5676840"/>
          </a:xfrm>
          <a:prstGeom prst="rect">
            <a:avLst/>
          </a:prstGeom>
          <a:ln w="0">
            <a:noFill/>
          </a:ln>
        </p:spPr>
      </p:pic>
      <p:sp>
        <p:nvSpPr>
          <p:cNvPr id="172" name="Выноска 1 4"/>
          <p:cNvSpPr/>
          <p:nvPr/>
        </p:nvSpPr>
        <p:spPr>
          <a:xfrm>
            <a:off x="7072200" y="4429080"/>
            <a:ext cx="2071800" cy="1000080"/>
          </a:xfrm>
          <a:prstGeom prst="borderCallout1">
            <a:avLst>
              <a:gd name="adj1" fmla="val 18750"/>
              <a:gd name="adj2" fmla="val -8333"/>
              <a:gd name="adj3" fmla="val 43810"/>
              <a:gd name="adj4" fmla="val -116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оматическое 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СИХОДИНАМИЧЕСКИЙ ДИАГНО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Содержимое 3" descr=""/>
          <p:cNvPicPr/>
          <p:nvPr/>
        </p:nvPicPr>
        <p:blipFill>
          <a:blip r:embed="rId1"/>
          <a:stretch/>
        </p:blipFill>
        <p:spPr>
          <a:xfrm>
            <a:off x="92160" y="1066680"/>
            <a:ext cx="900900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ультимодальный профиль Лазарус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14200" y="928440"/>
            <a:ext cx="8786880" cy="578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ецифически организованный вариант системного анализа, проводимый по семи направлениям —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I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о первым английским букв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havio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atio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aginatio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gnitio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person relatio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ugs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поведение, аффект, ощущения, представления, когниции, интерперсональные отношения, лекарства и биологические факторы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900108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ультимодальный профиль Лазару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42920" y="999720"/>
            <a:ext cx="8858160" cy="564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актике это необходимо для планирования вариантов психотерапии и для обучения начинающих психологов методам интегративной психотерапии. Использование мультимодального профиля позволяет лучше понять проблему пациента; он соотносится с многоосевой диагностикой психических расстройств, дает возможность одновременно наметить варианты психотерапевтической рабо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ПСИХОСОМАТИ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рмин «психосоматика» включает в себя ряд содержательных феноменов среди которых выделяют 2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сихосоматическое заболевание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сихосоматическая медицин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ультимодальный профиль Лазару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42920" y="928800"/>
          <a:ext cx="8858160" cy="5715000"/>
        </p:xfrm>
        <a:graphic>
          <a:graphicData uri="http://schemas.openxmlformats.org/drawingml/2006/table">
            <a:tbl>
              <a:tblPr/>
              <a:tblGrid>
                <a:gridCol w="3143160"/>
                <a:gridCol w="2762280"/>
                <a:gridCol w="295272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РИАНТЫ ПСИХОТЕРАП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Д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МО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ЩУЩ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СТ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НИ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ЛИЧНОСТ-НЫЕ ОТНОШ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К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2920" y="142920"/>
          <a:ext cx="8858160" cy="6775560"/>
        </p:xfrm>
        <a:graphic>
          <a:graphicData uri="http://schemas.openxmlformats.org/drawingml/2006/table">
            <a:tbl>
              <a:tblPr/>
              <a:tblGrid>
                <a:gridCol w="2143080"/>
                <a:gridCol w="3000240"/>
                <a:gridCol w="3714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ИС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РИАНТЫ ПСИХОТЕРАП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Застенчив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Повед. анализ, индивид.  тренинг увер. поведения, групп.психоте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МО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Обида на отца, ненависть к мате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На индивид. сеансах психотер. и кратк. групп. психоте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ЩУ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Скованность при разговоре с незнакомыми девуш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Вторич.тел. проявл. устран. в ходе психотер., приемы телесно-ориент. психотер. на отдельных занят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СТА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Повтор. сон об аварии и картины смерти  дру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Прораб.в гештальт- экспериментах, клинич. ролевых иг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НИ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Иррац. установка генерализации: «всегда надо мстить за униж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Замена на рациональные, позитивные устано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ЛИЧНОСТНЫЕ ОТНО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Отриц. отношение отца к быв. жене, вовлеч. сына в коал.: конфл. с сестр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Семейные сессии с каждым членом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КАР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Антимикробные сре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Отмена по мере улучш. Физ. Сост. и при отриц. лабор. проб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ЭКСПЕРИМЕНТАЛЬНО-ПСИХОЛОГИЧЕСКАЯ ДИАГНОСТИ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Ы ДИАГНОСТИКИ ЛИЧ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2920" y="714240"/>
          <a:ext cx="8858160" cy="6131160"/>
        </p:xfrm>
        <a:graphic>
          <a:graphicData uri="http://schemas.openxmlformats.org/drawingml/2006/table">
            <a:tbl>
              <a:tblPr/>
              <a:tblGrid>
                <a:gridCol w="2500200"/>
                <a:gridCol w="6357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ФЕРА ДИАГНО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ТОД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РОЙСТВА ЭМОЦИЙ И НАСТРО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сиходинамическая диагностика аффектов, тест Люшера, ПЧН (Куликов), арт-анали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НИТИВНАЯ 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вью, метю диагностики склонности к аддикции (Орел), тест аддиктивных установок Мак-Маллана-Гейлхар (МОА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РОЙСТВА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сихоаналит. диагностика уровня развития личности, опросник выраженности психопатол. симптоматки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L-9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незаконч. предложения (Сакса-Леви), Мультимодал. опросник,  СМИ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СТЕМА ЦЕН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вью, тест цвет. метафор (Соломин), методика диагностики ценностей (Шварц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КТНЫЕ ОТНО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вью,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V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тест цвет. Метафор, опросник «Субъективная оценка межличн. отношений (СОМО, Духновский), проективные метод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сиходинамический диагноз и возможные диагностические методы для исследования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142920" y="142920"/>
          <a:ext cx="8858160" cy="6753240"/>
        </p:xfrm>
        <a:graphic>
          <a:graphicData uri="http://schemas.openxmlformats.org/drawingml/2006/table">
            <a:tbl>
              <a:tblPr/>
              <a:tblGrid>
                <a:gridCol w="2286000"/>
                <a:gridCol w="3619440"/>
                <a:gridCol w="2952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 ДИАГН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-1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-15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ВЛЕЧ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гра, рассказывание историй по Р. Гарднеру, проективные рису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каз о конфл. сит., тест Розенцвейга, пиктограммы, рису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АЦИОННО-ПОТРЕБНОСТНАЯ 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просы: Что ты любишь делать...?, ситуации выбора между хочу, могу и н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 рисунок «Мой мир», «Моя жизнь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КТНЫЕ ОТНО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унок семьи и его модифик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унок семьи, рассказ о семейной обстановке, метаф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ТИРОВАНИЕ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дение во время интервью, адекватность восприятия себя и мира, наличие психотической симптома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ЩИТНЫЕ МЕХАНИЗ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ика Никольской И. М., Грановской Р.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речевых высказы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К БОЛЕ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унок «Болезнь». «Я и моя болезнь», «Моя семья и болезн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законч. предложения, интерв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ГРАЦИЯ И ЗРЕЛОСТЬ Э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унок человека, ДД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 же тесты, семант. дифф., рассказ о се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ГРАЦИЯ И ЗРЕЛОСТЬ СУПЕР-Э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к запретам и правилам, способность к переживанию стыда и в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8760" y="6000480"/>
            <a:ext cx="850104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ФИЛЬ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MPI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ХАРАКТЕРНЫЙ ДЛЯ ПСИХОСОМАТИЧЕСКОГО БОЛЬ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440" y="6126120"/>
            <a:ext cx="54864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Рисунок 1" descr=""/>
          <p:cNvPicPr/>
          <p:nvPr/>
        </p:nvPicPr>
        <p:blipFill>
          <a:blip r:embed="rId1"/>
          <a:srcRect l="21" t="0" r="21" b="0"/>
          <a:stretch/>
        </p:blipFill>
        <p:spPr>
          <a:xfrm>
            <a:off x="142920" y="142920"/>
            <a:ext cx="87868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СИХОСОМАТИЧСЕСКИЕ РАССТРОЙ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2920" y="1599840"/>
            <a:ext cx="8786880" cy="49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3 группы явлений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онверсионные расстройства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функциональные синдромы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сихосоматические заболевания (психосоматозы)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. П. ПАВ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pavlov1.jpg"/>
          <p:cNvPicPr/>
          <p:nvPr/>
        </p:nvPicPr>
        <p:blipFill>
          <a:blip r:embed="rId1"/>
          <a:stretch/>
        </p:blipFill>
        <p:spPr>
          <a:xfrm>
            <a:off x="2214720" y="1714680"/>
            <a:ext cx="4286160" cy="464328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3" descr="pavlov1.jpg"/>
          <p:cNvPicPr/>
          <p:nvPr/>
        </p:nvPicPr>
        <p:blipFill>
          <a:blip r:embed="rId2"/>
          <a:stretch/>
        </p:blipFill>
        <p:spPr>
          <a:xfrm>
            <a:off x="2286000" y="1714680"/>
            <a:ext cx="40006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СИХОФИЗИОЛОГИЧЕСКИЕ СВЯ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2920" y="1600200"/>
            <a:ext cx="8786880" cy="50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2 вида нервной деятельност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ятельность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низшей нервной системы.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дача – интеграция связей отдельных частей организма между собо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ысшая нервная деятельност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Задача – гарантировать нормальные сложные взаимосвязи всего организма с окружающим мир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09:14:49Z</dcterms:created>
  <dc:creator>Admin</dc:creator>
  <dc:description/>
  <dc:language>en-US</dc:language>
  <cp:lastModifiedBy>Admin</cp:lastModifiedBy>
  <dcterms:modified xsi:type="dcterms:W3CDTF">2012-03-28T12:29:35Z</dcterms:modified>
  <cp:revision>91</cp:revision>
  <dc:subject/>
  <dc:title>ПСИХОСОМАТИЧЕСКАЯ ПАТОЛОГИЯ</dc:title>
</cp:coreProperties>
</file>